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6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48488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80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3320" y="2754000"/>
            <a:ext cx="6019560" cy="6010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3381480" y="692280"/>
            <a:ext cx="2533680" cy="190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8320" y="384120"/>
            <a:ext cx="1819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50409E-C189-4C18-AFBC-22BA03230138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6F86A98B-6CF7-4A3E-BFB8-0B9FE0AC92FF}" type="datetime10">
              <a:rPr b="1" lang="en-US" sz="1000" spc="-1" strike="noStrike">
                <a:solidFill>
                  <a:srgbClr val="000000"/>
                </a:solidFill>
                <a:latin typeface="Arial"/>
              </a:rPr>
              <a:t>08:59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7300D5C8-9894-4581-93E7-5782EF92C8A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3320" y="2176560"/>
            <a:ext cx="894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3320" y="384120"/>
            <a:ext cx="101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name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"/>
          <p:cNvSpPr/>
          <p:nvPr/>
        </p:nvSpPr>
        <p:spPr>
          <a:xfrm>
            <a:off x="393876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393876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936960" y="9520200"/>
            <a:ext cx="300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083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3040" cy="6405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SLIDE 3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body"/>
          </p:nvPr>
        </p:nvSpPr>
        <p:spPr>
          <a:xfrm>
            <a:off x="1093680" y="3807000"/>
            <a:ext cx="488016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sldImg"/>
          </p:nvPr>
        </p:nvSpPr>
        <p:spPr>
          <a:xfrm>
            <a:off x="984240" y="77940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4093" name="PlaceHolder 2"/>
          <p:cNvSpPr>
            <a:spLocks noGrp="1"/>
          </p:cNvSpPr>
          <p:nvPr>
            <p:ph type="body"/>
          </p:nvPr>
        </p:nvSpPr>
        <p:spPr>
          <a:xfrm>
            <a:off x="1106280" y="3819600"/>
            <a:ext cx="4717800" cy="381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89640" rIns="89640" tIns="45360" bIns="45360" anchor="t">
            <a:noAutofit/>
          </a:bodyPr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body"/>
          </p:nvPr>
        </p:nvSpPr>
        <p:spPr>
          <a:xfrm>
            <a:off x="1095480" y="3807000"/>
            <a:ext cx="481176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-28584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body"/>
          </p:nvPr>
        </p:nvSpPr>
        <p:spPr>
          <a:xfrm>
            <a:off x="-360" y="4763880"/>
            <a:ext cx="6886440" cy="513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body"/>
          </p:nvPr>
        </p:nvSpPr>
        <p:spPr>
          <a:xfrm>
            <a:off x="1164960" y="3807000"/>
            <a:ext cx="522900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1104480" y="3817440"/>
            <a:ext cx="4716360" cy="38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89640" rIns="89640" tIns="43920" bIns="43920" anchor="t">
            <a:noAutofit/>
          </a:bodyPr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05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lvl="1" marL="68580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13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/>
          <p:nvPr/>
        </p:nvSpPr>
        <p:spPr>
          <a:xfrm>
            <a:off x="393876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393876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3936960" y="9520200"/>
            <a:ext cx="300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3040" cy="6405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SLIDE 3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"/>
          <p:cNvSpPr/>
          <p:nvPr/>
        </p:nvSpPr>
        <p:spPr>
          <a:xfrm>
            <a:off x="3935520" y="7920"/>
            <a:ext cx="3012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3935520" y="9542520"/>
            <a:ext cx="3012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-1440" y="9542520"/>
            <a:ext cx="3009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-1440" y="7920"/>
            <a:ext cx="300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1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089" name="PlaceHolder 2"/>
          <p:cNvSpPr>
            <a:spLocks noGrp="1"/>
          </p:cNvSpPr>
          <p:nvPr>
            <p:ph type="body"/>
          </p:nvPr>
        </p:nvSpPr>
        <p:spPr>
          <a:xfrm>
            <a:off x="884160" y="4549680"/>
            <a:ext cx="514512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034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9800" y="304560"/>
            <a:ext cx="8204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73080"/>
            <a:ext cx="9132840" cy="117360"/>
            <a:chOff x="0" y="973080"/>
            <a:chExt cx="9132840" cy="117360"/>
          </a:xfrm>
        </p:grpSpPr>
        <p:sp>
          <p:nvSpPr>
            <p:cNvPr id="1" name=""/>
            <p:cNvSpPr/>
            <p:nvPr/>
          </p:nvSpPr>
          <p:spPr>
            <a:xfrm>
              <a:off x="3240" y="1031760"/>
              <a:ext cx="9129600" cy="58680"/>
            </a:xfrm>
            <a:prstGeom prst="rect">
              <a:avLst/>
            </a:prstGeom>
            <a:gradFill rotWithShape="0">
              <a:gsLst>
                <a:gs pos="0">
                  <a:srgbClr val="00304b"/>
                </a:gs>
                <a:gs pos="100000">
                  <a:srgbClr val="01a4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73080"/>
              <a:ext cx="9132840" cy="58680"/>
            </a:xfrm>
            <a:prstGeom prst="rect">
              <a:avLst/>
            </a:prstGeom>
            <a:gradFill rotWithShape="0">
              <a:gsLst>
                <a:gs pos="0">
                  <a:srgbClr val="01a4ff"/>
                </a:gs>
                <a:gs pos="100000">
                  <a:srgbClr val="0030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81760" y="6459480"/>
            <a:ext cx="1057320" cy="18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826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181720" y="6613560"/>
            <a:ext cx="135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F63-C3F9-4F47-84AE-310956B86AC7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29000" y="6553080"/>
            <a:ext cx="2362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mpaq Computer Corporation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9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553080"/>
            <a:ext cx="2362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US/Eureka Fall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9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4480" y="266688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c0128"/>
                </a:solidFill>
                <a:latin typeface="Arial"/>
              </a:rPr>
              <a:t>IPv6</a:t>
            </a:r>
            <a:br>
              <a:rPr sz="4500"/>
            </a:br>
            <a:r>
              <a:rPr b="0" lang="en-GB" sz="2600" spc="-1" strike="noStrike">
                <a:solidFill>
                  <a:srgbClr val="fc0128"/>
                </a:solidFill>
                <a:latin typeface="Arial"/>
              </a:rPr>
              <a:t>IP - The Next Generation</a:t>
            </a:r>
            <a:br>
              <a:rPr sz="2600"/>
            </a:br>
            <a:r>
              <a:rPr b="0" lang="en-GB" sz="2600" spc="-1" strike="noStrike">
                <a:solidFill>
                  <a:srgbClr val="fc0128"/>
                </a:solidFill>
                <a:latin typeface="Arial"/>
              </a:rPr>
              <a:t>Technology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40" y="4943520"/>
            <a:ext cx="30135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ert Wat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q Computer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European Technical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phia Antipol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: +33.4.92.95.51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sonRob@digita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66640" y="3999240"/>
            <a:ext cx="266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US US FALL 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dnesday 7th Oct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-1520 Session Code: UN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30-1050 Session Code: NE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973080"/>
            <a:ext cx="9132840" cy="117360"/>
            <a:chOff x="0" y="973080"/>
            <a:chExt cx="9132840" cy="117360"/>
          </a:xfrm>
        </p:grpSpPr>
        <p:sp>
          <p:nvSpPr>
            <p:cNvPr id="55" name=""/>
            <p:cNvSpPr/>
            <p:nvPr/>
          </p:nvSpPr>
          <p:spPr>
            <a:xfrm>
              <a:off x="3240" y="1031760"/>
              <a:ext cx="9129600" cy="58680"/>
            </a:xfrm>
            <a:prstGeom prst="rect">
              <a:avLst/>
            </a:prstGeom>
            <a:gradFill rotWithShape="0">
              <a:gsLst>
                <a:gs pos="0">
                  <a:srgbClr val="00304b"/>
                </a:gs>
                <a:gs pos="100000">
                  <a:srgbClr val="01a4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73080"/>
              <a:ext cx="9132840" cy="58680"/>
            </a:xfrm>
            <a:prstGeom prst="rect">
              <a:avLst/>
            </a:prstGeom>
            <a:gradFill rotWithShape="0">
              <a:gsLst>
                <a:gs pos="0">
                  <a:srgbClr val="01a4ff"/>
                </a:gs>
                <a:gs pos="100000">
                  <a:srgbClr val="0030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81760" y="6459480"/>
            <a:ext cx="105732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35880" y="5657760"/>
            <a:ext cx="1290600" cy="92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Growing World-wide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2 Registered IPv6 Sites on the 6Bone (August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 and Canad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9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87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28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 Pacif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4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2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in Americ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0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nti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ed Contac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32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2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  ) Values in March 19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7240" y="6308640"/>
            <a:ext cx="55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6bone.net/6bone_countri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35 Countries on the 6Bo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56960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-Austr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U-Austral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-Belgi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G-Bulgar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-Braz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-Canad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-Switzer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N-Chin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Z-Czech Republic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-German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K-Denmar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-Spai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-Fin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-Fran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B-Great Britai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-Gree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K-Hong Kong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U-Hungar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E-Irel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05160" y="1569600"/>
            <a:ext cx="3276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T-Ital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P-Jap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R-Kore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Z-Kazakhst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T-Lithua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X-Mexic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L-Netherlan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-Norwa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-Po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T-Portug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-Roma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-Russian Federatio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-Swede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G-Singapo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-Slove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-Slovak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W-Taiw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-United Sta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28+ Implementations on the 6Bon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S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aq’s OpenV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aq’s Digital UN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TP Software Win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tachi NR6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ria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CS HP-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n Sola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H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RL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Hydrange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ZET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v6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blet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jitsu LR5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tachi NR6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ria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rit M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RL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leb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Hydrange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ZET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v6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echnical Chang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Head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 Philosop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Extension H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on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er Performance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7480" y="3054240"/>
            <a:ext cx="7169040" cy="331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4240" y="3556080"/>
            <a:ext cx="71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2320" y="2681280"/>
            <a:ext cx="730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9948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30481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2800" y="411480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0481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198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2800" y="525780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3129120"/>
            <a:ext cx="616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4320" y="3129120"/>
            <a:ext cx="553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62440" y="3129120"/>
            <a:ext cx="1559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8960" y="3662280"/>
            <a:ext cx="115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9560" y="3662280"/>
            <a:ext cx="782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5680" y="3662280"/>
            <a:ext cx="1949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1000" y="4759200"/>
            <a:ext cx="2597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Sourc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1400" y="5338800"/>
            <a:ext cx="3068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Destinatio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71640" y="2681280"/>
            <a:ext cx="311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681280"/>
            <a:ext cx="311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872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348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920" y="3129120"/>
            <a:ext cx="1593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586728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1240" y="5948280"/>
            <a:ext cx="2489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s and 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2800" y="464832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86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2680" y="4195800"/>
            <a:ext cx="1519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8880" y="4195800"/>
            <a:ext cx="217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56840" y="4195800"/>
            <a:ext cx="1113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04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 Header 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20 octets + options : 13 fields, including 3 flag bit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0481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49400" y="2330640"/>
            <a:ext cx="6102000" cy="4047840"/>
            <a:chOff x="1949400" y="2330640"/>
            <a:chExt cx="6102000" cy="4047840"/>
          </a:xfrm>
        </p:grpSpPr>
        <p:sp>
          <p:nvSpPr>
            <p:cNvPr id="143" name=""/>
            <p:cNvSpPr/>
            <p:nvPr/>
          </p:nvSpPr>
          <p:spPr>
            <a:xfrm>
              <a:off x="1949400" y="3095640"/>
              <a:ext cx="750600" cy="38736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34000" y="3610080"/>
              <a:ext cx="1563480" cy="4222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23400" y="3629160"/>
              <a:ext cx="88596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0400" y="3629160"/>
              <a:ext cx="224100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5560" y="4162320"/>
              <a:ext cx="2444400" cy="4636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01040" y="5915160"/>
              <a:ext cx="312156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9960" y="3095640"/>
              <a:ext cx="1634040" cy="4222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57040" y="2330640"/>
              <a:ext cx="119088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33"/>
                  </a:solidFill>
                  <a:latin typeface="Arial"/>
                </a:rPr>
                <a:t>Remo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36520" y="2329200"/>
            <a:ext cx="6305400" cy="3439800"/>
            <a:chOff x="1136520" y="2329200"/>
            <a:chExt cx="6305400" cy="3439800"/>
          </a:xfrm>
        </p:grpSpPr>
        <p:sp>
          <p:nvSpPr>
            <p:cNvPr id="152" name=""/>
            <p:cNvSpPr/>
            <p:nvPr/>
          </p:nvSpPr>
          <p:spPr>
            <a:xfrm>
              <a:off x="5403960" y="3095640"/>
              <a:ext cx="203796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6520" y="4162320"/>
              <a:ext cx="163152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3360" y="4162320"/>
              <a:ext cx="136044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65320" y="5305320"/>
              <a:ext cx="325728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8720" y="4695840"/>
              <a:ext cx="2986200" cy="53964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95920" y="2329200"/>
              <a:ext cx="11894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1f03f1"/>
                  </a:solidFill>
                  <a:latin typeface="Arial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69880" y="2338560"/>
            <a:ext cx="8064360" cy="39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3081240"/>
            <a:ext cx="80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00" y="19051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996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7280" y="23194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82480" y="2319480"/>
            <a:ext cx="180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360" y="3843360"/>
            <a:ext cx="80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37000" y="3081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35800" y="3081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5200" y="5075280"/>
            <a:ext cx="8075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3760" y="25909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2590920"/>
            <a:ext cx="15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60200" y="2590920"/>
            <a:ext cx="14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ow 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1920" y="327672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9760" y="327672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0960" y="3276720"/>
            <a:ext cx="124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05000" y="4313160"/>
            <a:ext cx="27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8 bit Sourc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58760" y="5410080"/>
            <a:ext cx="319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8 bit Destinatio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38280" y="19051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720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920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489880" y="5380200"/>
            <a:ext cx="150840" cy="609480"/>
            <a:chOff x="8489880" y="5380200"/>
            <a:chExt cx="150840" cy="609480"/>
          </a:xfrm>
        </p:grpSpPr>
        <p:sp>
          <p:nvSpPr>
            <p:cNvPr id="181" name=""/>
            <p:cNvSpPr/>
            <p:nvPr/>
          </p:nvSpPr>
          <p:spPr>
            <a:xfrm>
              <a:off x="8489880" y="53802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9880" y="568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89880" y="59896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65200" y="5380200"/>
            <a:ext cx="150840" cy="609480"/>
            <a:chOff x="565200" y="5380200"/>
            <a:chExt cx="150840" cy="609480"/>
          </a:xfrm>
        </p:grpSpPr>
        <p:sp>
          <p:nvSpPr>
            <p:cNvPr id="185" name=""/>
            <p:cNvSpPr/>
            <p:nvPr/>
          </p:nvSpPr>
          <p:spPr>
            <a:xfrm>
              <a:off x="565200" y="53802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200" y="568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200" y="59896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489880" y="4160880"/>
            <a:ext cx="150840" cy="609480"/>
            <a:chOff x="8489880" y="4160880"/>
            <a:chExt cx="150840" cy="609480"/>
          </a:xfrm>
        </p:grpSpPr>
        <p:sp>
          <p:nvSpPr>
            <p:cNvPr id="189" name=""/>
            <p:cNvSpPr/>
            <p:nvPr/>
          </p:nvSpPr>
          <p:spPr>
            <a:xfrm>
              <a:off x="8489880" y="41608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89880" y="4465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89880" y="47703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5200" y="4160880"/>
            <a:ext cx="150840" cy="609480"/>
            <a:chOff x="565200" y="4160880"/>
            <a:chExt cx="150840" cy="609480"/>
          </a:xfrm>
        </p:grpSpPr>
        <p:sp>
          <p:nvSpPr>
            <p:cNvPr id="193" name=""/>
            <p:cNvSpPr/>
            <p:nvPr/>
          </p:nvSpPr>
          <p:spPr>
            <a:xfrm>
              <a:off x="565200" y="41608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200" y="4465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200" y="47703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40 Octets, 8 field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Extension Header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p-by-Hop Op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mbo Pay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tin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bile Binding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ycast Address Dynamic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FC 182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apsulating Security Payloa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FC 182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Next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Arial"/>
              </a:rPr>
              <a:t>**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 Router is likely to need to process only these Extension Hea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xtension Head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2280" y="221616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320" y="2239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1640" y="265104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30640" y="223992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3980000">
            <a:off x="1271520" y="212796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2280" y="366408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8640" y="368784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5880" y="4098960"/>
            <a:ext cx="167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8040" y="368784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3980000">
            <a:off x="1345320" y="357912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919429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91942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7600" y="3687840"/>
            <a:ext cx="1655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ing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44120" y="409896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3980000">
            <a:off x="3404880" y="349956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280" y="511164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8640" y="513540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5880" y="5546880"/>
            <a:ext cx="167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88240" y="513540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1640" y="5135400"/>
            <a:ext cx="1655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ing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65280" y="5546880"/>
            <a:ext cx="135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F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3980000">
            <a:off x="1345320" y="502704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919429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91942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3980000">
            <a:off x="3404880" y="502380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3800" y="223992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 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04880" y="368784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 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3120" y="5135400"/>
            <a:ext cx="185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ment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4320" y="554688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3980000">
            <a:off x="5081400" y="502380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31080" y="5135400"/>
            <a:ext cx="73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40640" y="3664080"/>
            <a:ext cx="216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4680" y="2216160"/>
            <a:ext cx="215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40640" y="5111640"/>
            <a:ext cx="2923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 Performance Wins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ayou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xed Size IPv6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ike IPv4 - Options not limited at 40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wer fields in basic head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er processing of basic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4 Bit Alignment Header/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icient option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 fields processed only when the option pres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ing of most options limited performed only at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 Performance Win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ve Checksum from Network La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links are more reliable these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per Layer (e.g. TCP, UDP, ICMPv6) Checksums are now Manda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Fragmentation in th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router cycles available for forwarding packe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ier to implement in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for Layer 3 Switching of 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800" y="2666880"/>
            <a:ext cx="8204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is IPv6?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y is it needed?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is it’s Status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048120"/>
            <a:ext cx="77054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ing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44880" y="2444760"/>
            <a:ext cx="5002200" cy="19684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00640" y="2673360"/>
            <a:ext cx="3646440" cy="151128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2825640"/>
            <a:ext cx="1954080" cy="1130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2040" y="3247920"/>
            <a:ext cx="164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k-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8560" y="3260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te-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36760" y="3260880"/>
            <a:ext cx="106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 Scop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k Loc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e Lo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RFC 237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for a Single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of a Set of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acket is delivered to ALL interfaces identified by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efin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l Nodes, All Routers, DHCP Server/Relay-Agent, Solicited-Nod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of a Set of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acket is delivered to ONE OF the interfaces ident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Mobile Any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ext Representation of Address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ic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 groups of 16 bit Hex Values Separated by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5F15:ABCD:1234:5678:9ABC:0123:4567:89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1080:0:0:0:8:800:200C:417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ressed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ress Leading 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: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places multiple groups of 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ly one :: permitted per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0000:0000:0000:0000:0000:0000:4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  </a:t>
            </a: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0:0:0:0:0:0:4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  </a:t>
            </a: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:4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534320" y="3672000"/>
            <a:ext cx="3348000" cy="1129680"/>
            <a:chOff x="1534320" y="3672000"/>
            <a:chExt cx="3348000" cy="1129680"/>
          </a:xfrm>
        </p:grpSpPr>
        <p:sp>
          <p:nvSpPr>
            <p:cNvPr id="257" name=""/>
            <p:cNvSpPr/>
            <p:nvPr/>
          </p:nvSpPr>
          <p:spPr>
            <a:xfrm>
              <a:off x="1534320" y="4343400"/>
              <a:ext cx="334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1a4ff"/>
                  </a:solidFill>
                  <a:uFillTx/>
                  <a:latin typeface="Arial"/>
                </a:rPr>
                <a:t>3FFE:0301:DEC1: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66040" y="3672000"/>
              <a:ext cx="1764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3672000"/>
            <a:ext cx="3922560" cy="1129680"/>
            <a:chOff x="4202280" y="3672000"/>
            <a:chExt cx="3922560" cy="1129680"/>
          </a:xfrm>
        </p:grpSpPr>
        <p:sp>
          <p:nvSpPr>
            <p:cNvPr id="260" name=""/>
            <p:cNvSpPr/>
            <p:nvPr/>
          </p:nvSpPr>
          <p:spPr>
            <a:xfrm>
              <a:off x="4202280" y="4343400"/>
              <a:ext cx="392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a4ff"/>
                  </a:solidFill>
                  <a:latin typeface="Arial"/>
                </a:rPr>
                <a:t>0A00:2BFF:FE36:701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71920" y="3672000"/>
              <a:ext cx="2714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Interface 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52480" y="5249880"/>
            <a:ext cx="563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ix Representation </a:t>
            </a:r>
            <a:r>
              <a:rPr b="0" lang="en-GB" sz="1800" spc="-1" strike="noStrike" u="sng">
                <a:solidFill>
                  <a:srgbClr val="01a4ff"/>
                </a:solidFill>
                <a:uFillTx/>
                <a:latin typeface="Arial"/>
              </a:rPr>
              <a:t>3FFE:0301:DEC1::/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 Stru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Pv6 Address is formed from a combination of t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894960" y="3322800"/>
            <a:ext cx="7334640" cy="3381480"/>
            <a:chOff x="894960" y="3322800"/>
            <a:chExt cx="7334640" cy="3381480"/>
          </a:xfrm>
        </p:grpSpPr>
        <p:grpSp>
          <p:nvGrpSpPr>
            <p:cNvPr id="266" name=""/>
            <p:cNvGrpSpPr/>
            <p:nvPr/>
          </p:nvGrpSpPr>
          <p:grpSpPr>
            <a:xfrm>
              <a:off x="894960" y="3322800"/>
              <a:ext cx="7334640" cy="2240640"/>
              <a:chOff x="894960" y="3322800"/>
              <a:chExt cx="7334640" cy="22406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94960" y="3322800"/>
                <a:ext cx="7334640" cy="1494360"/>
                <a:chOff x="894960" y="3322800"/>
                <a:chExt cx="7334640" cy="1494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941400" y="3657600"/>
                  <a:ext cx="7282080" cy="59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7236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67760" y="3780000"/>
                  <a:ext cx="1366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rface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13408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9180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7236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32120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39680" y="3780000"/>
                  <a:ext cx="9090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S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520720" y="3780000"/>
                  <a:ext cx="921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N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301040" y="3780000"/>
                  <a:ext cx="89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4960" y="3780000"/>
                  <a:ext cx="4777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F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055520" y="3322800"/>
                  <a:ext cx="3114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53036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4932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488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3172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16200" y="4511520"/>
                  <a:ext cx="128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(001  + 1FFE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22840" y="4282920"/>
                  <a:ext cx="619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3FF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3408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57236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69180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22960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76080" y="4282920"/>
                  <a:ext cx="1105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301:DEC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898080" y="4282920"/>
                  <a:ext cx="581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53280" y="4267080"/>
                  <a:ext cx="2027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A00:2BFF:FE36:701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2033640" y="5257800"/>
                <a:ext cx="451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3FFE:0301:DEC1:0000:0A00:2BFF:FE36:701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910760" y="4495320"/>
                <a:ext cx="13543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894840" y="4495320"/>
                <a:ext cx="27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2946240" y="4495320"/>
                <a:ext cx="27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524240" y="4800600"/>
                <a:ext cx="10832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4602600" y="5881680"/>
              <a:ext cx="3474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FP  = Format Pref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TLA = Top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NLA = Next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SLA = Site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5791320"/>
              <a:ext cx="270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4120" y="5791320"/>
              <a:ext cx="9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8880" y="5867280"/>
              <a:ext cx="2044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 Top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1080" y="5867280"/>
              <a:ext cx="1866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te Top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ggregatable Global Unicast Address Stru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format proposed for IPv6 nodes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ed to support address aggreg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5012640" y="2962440"/>
            <a:ext cx="3822120" cy="1153080"/>
            <a:chOff x="5012640" y="2962440"/>
            <a:chExt cx="3822120" cy="1153080"/>
          </a:xfrm>
        </p:grpSpPr>
        <p:sp>
          <p:nvSpPr>
            <p:cNvPr id="306" name=""/>
            <p:cNvSpPr/>
            <p:nvPr/>
          </p:nvSpPr>
          <p:spPr>
            <a:xfrm>
              <a:off x="5254560" y="3733920"/>
              <a:ext cx="3240000" cy="37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742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06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816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1636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126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212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2840" y="3809880"/>
              <a:ext cx="99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380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8240" y="3809880"/>
              <a:ext cx="99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798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7320" y="2962440"/>
              <a:ext cx="306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EEE 48Bit MAC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200" y="3360600"/>
              <a:ext cx="176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pany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81160" y="3360600"/>
              <a:ext cx="225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ufactur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74200" y="342252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24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76160" y="4191120"/>
            <a:ext cx="7104960" cy="991440"/>
            <a:chOff x="1676160" y="4191120"/>
            <a:chExt cx="7104960" cy="991440"/>
          </a:xfrm>
        </p:grpSpPr>
        <p:sp>
          <p:nvSpPr>
            <p:cNvPr id="323" name=""/>
            <p:cNvSpPr/>
            <p:nvPr/>
          </p:nvSpPr>
          <p:spPr>
            <a:xfrm>
              <a:off x="6874560" y="44132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928680" y="4794120"/>
              <a:ext cx="4852440" cy="388440"/>
              <a:chOff x="3928680" y="4794120"/>
              <a:chExt cx="4852440" cy="388440"/>
            </a:xfrm>
          </p:grpSpPr>
          <p:sp>
            <p:nvSpPr>
              <p:cNvPr id="325" name=""/>
              <p:cNvSpPr/>
              <p:nvPr/>
            </p:nvSpPr>
            <p:spPr>
              <a:xfrm>
                <a:off x="4170960" y="4800600"/>
                <a:ext cx="4323240" cy="37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742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6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324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578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160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286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0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704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11200" y="4876920"/>
                <a:ext cx="99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3804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87880" y="4876920"/>
                <a:ext cx="99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1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794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070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88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53360" y="4876920"/>
                <a:ext cx="99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62120" y="4876920"/>
                <a:ext cx="100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flipH="1">
              <a:off x="5113080" y="4191120"/>
              <a:ext cx="9478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87080" y="4191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6160" y="4791240"/>
              <a:ext cx="2658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pand to an EUI-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681560" y="5181480"/>
            <a:ext cx="7099560" cy="1067760"/>
            <a:chOff x="1681560" y="5181480"/>
            <a:chExt cx="7099560" cy="1067760"/>
          </a:xfrm>
        </p:grpSpPr>
        <p:grpSp>
          <p:nvGrpSpPr>
            <p:cNvPr id="345" name=""/>
            <p:cNvGrpSpPr/>
            <p:nvPr/>
          </p:nvGrpSpPr>
          <p:grpSpPr>
            <a:xfrm>
              <a:off x="3926880" y="5181480"/>
              <a:ext cx="4854240" cy="1067760"/>
              <a:chOff x="3926880" y="5181480"/>
              <a:chExt cx="4854240" cy="10677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3926880" y="5861160"/>
                <a:ext cx="4854240" cy="388080"/>
                <a:chOff x="3926880" y="5861160"/>
                <a:chExt cx="4854240" cy="388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70960" y="5867280"/>
                  <a:ext cx="4323240" cy="37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8742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906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324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9578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160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26880" y="5943600"/>
                  <a:ext cx="1002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7048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011200" y="5943600"/>
                  <a:ext cx="99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2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3804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787880" y="5943600"/>
                  <a:ext cx="99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1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17948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7070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88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53360" y="5943600"/>
                  <a:ext cx="991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F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62120" y="5943600"/>
                  <a:ext cx="1002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4435920" y="5181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681560" y="5857920"/>
              <a:ext cx="255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vert the Global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UI-64 Based Interface ID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Interface ID’s based on EUI-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d on UniCast and Any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Format Prefix range 001 thru 1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ructed from a Global To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.g. IEEE 48bit MAC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the “global” bit inve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Renumber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umbering IPv6 Hosts is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 a new Prefix to the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duce the Lifetime of the old pref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nodes depreciate the old prefix the new Prefix will start to be used for new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Renumbering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often will this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quickly will this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act on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es in DNS need to be updated following 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 lived TCP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ould they survive renumbering of the source or destination h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rison with IPv4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ighbor Discovery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IPv4 ARP +  ICMP Router Discovery + ICMP Redi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s improvements over IPv4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Discovery is part of the base protocol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carry link-layer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carry prefixes for 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enable Address Autoconfigu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s can advertise an MTU for hosts to use on the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ighbor Unreachability Detection is part of the b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cing address resolution at the ICMP layer makes it possible to use standard IP authentication and security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14400" y="6248520"/>
            <a:ext cx="6019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RFC 1886 </a:t>
            </a:r>
            <a:r>
              <a:rPr b="0" lang="en-GB" sz="2000" spc="-1" strike="noStrike">
                <a:solidFill>
                  <a:srgbClr val="01a4ff"/>
                </a:solidFill>
                <a:latin typeface="Arial"/>
              </a:rPr>
              <a:t>DNS Extensions to support IP vers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NS changes for IPv6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S AAAA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Resource Record Type to store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 Lookups based on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erse lookup (Address -&gt; Host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Rooted at IP6.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&lt;nibble&gt;.&lt;nibble&gt;....IP6.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 : The Internet Protoco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“Language” of the Internet :  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(v4) : 4th Version of the Internet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+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dibly Success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ing its 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391440" y="5867280"/>
            <a:ext cx="231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349ef"/>
                </a:solidFill>
                <a:latin typeface="Arial"/>
              </a:rPr>
              <a:t>RFC2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ynamic Update to D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s the ability for hosts and servers to dynamically update resource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is Import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NS now has Secure Recor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namic DNS can be used for both IPv4 and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NS AAAA Record : New Proposa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NS name and address record can be distributed based on the canonical parts of the address for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a DNS name like foo@company.count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ly has 2 DNS zones associated i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country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  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zone has its own record for the name and is defined as a DNAME rec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one wants the IPv6 address for foo@company.country you must request the entry for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.count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address for machine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fo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.comp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ncatenate the records to obtain the actual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“who you are” from “where are you connected to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renumbering e.g. when changing I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Pv6 - IPv4 Interwork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Pv4 Address Mapp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Compatible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an IPv6/IPv4 node that supports automatic tunne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0000:0000:0000:0000:0000:0000:0000:&lt;IPv4 Addres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::12.22.33.4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Translatable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an IPv6-capable node that does not support automatic tunne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0000:0000:0000:0000:0000:FFFF:0000:&lt;IPv4 Addres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::FFFF:0:10.21.32.4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Mapped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de that is not IPv6-cap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0000:0000:0000:0000:0000:0000:FFFF:&lt;IPv4 Address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::FFFF:10.21.32.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934320" y="228600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679880" y="1530360"/>
            <a:ext cx="924120" cy="444600"/>
            <a:chOff x="7679880" y="1530360"/>
            <a:chExt cx="924120" cy="444600"/>
          </a:xfrm>
        </p:grpSpPr>
        <p:sp>
          <p:nvSpPr>
            <p:cNvPr id="384" name=""/>
            <p:cNvSpPr/>
            <p:nvPr/>
          </p:nvSpPr>
          <p:spPr>
            <a:xfrm>
              <a:off x="7701120" y="1530360"/>
              <a:ext cx="902880" cy="444600"/>
            </a:xfrm>
            <a:prstGeom prst="rect">
              <a:avLst/>
            </a:prstGeom>
            <a:solidFill>
              <a:srgbClr val="99ffff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9880" y="1538280"/>
              <a:ext cx="70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254640" y="1530360"/>
            <a:ext cx="901800" cy="444600"/>
            <a:chOff x="6254640" y="1530360"/>
            <a:chExt cx="901800" cy="444600"/>
          </a:xfrm>
        </p:grpSpPr>
        <p:sp>
          <p:nvSpPr>
            <p:cNvPr id="387" name=""/>
            <p:cNvSpPr/>
            <p:nvPr/>
          </p:nvSpPr>
          <p:spPr>
            <a:xfrm>
              <a:off x="6254640" y="1530360"/>
              <a:ext cx="901800" cy="44460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09360" y="15382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18480" y="768240"/>
            <a:ext cx="923400" cy="444600"/>
            <a:chOff x="6918480" y="768240"/>
            <a:chExt cx="923400" cy="444600"/>
          </a:xfrm>
        </p:grpSpPr>
        <p:sp>
          <p:nvSpPr>
            <p:cNvPr id="390" name=""/>
            <p:cNvSpPr/>
            <p:nvPr/>
          </p:nvSpPr>
          <p:spPr>
            <a:xfrm>
              <a:off x="6939360" y="768240"/>
              <a:ext cx="902520" cy="444600"/>
            </a:xfrm>
            <a:prstGeom prst="rect">
              <a:avLst/>
            </a:prstGeom>
            <a:solidFill>
              <a:srgbClr val="0baca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18480" y="77616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102360" y="615960"/>
            <a:ext cx="2654280" cy="2349360"/>
          </a:xfrm>
          <a:prstGeom prst="rect">
            <a:avLst/>
          </a:prstGeom>
          <a:noFill/>
          <a:ln w="12600">
            <a:solidFill>
              <a:srgbClr val="fa356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620000">
            <a:off x="-2226960" y="1034280"/>
            <a:ext cx="8969400" cy="434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594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59489"/>
              </a:path>
            </a:pathLst>
          </a:custGeom>
          <a:noFill/>
          <a:ln cap="rnd" w="507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9960" y="762120"/>
            <a:ext cx="165996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14504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RFC 19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2292480"/>
            <a:ext cx="901800" cy="444240"/>
          </a:xfrm>
          <a:prstGeom prst="rect">
            <a:avLst/>
          </a:prstGeom>
          <a:solidFill>
            <a:srgbClr val="0093e6"/>
          </a:solidFill>
          <a:ln w="12600">
            <a:solidFill>
              <a:srgbClr val="fa3563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338880" y="4197240"/>
            <a:ext cx="1208160" cy="2273400"/>
            <a:chOff x="6338880" y="4197240"/>
            <a:chExt cx="1208160" cy="2273400"/>
          </a:xfrm>
        </p:grpSpPr>
        <p:sp>
          <p:nvSpPr>
            <p:cNvPr id="398" name=""/>
            <p:cNvSpPr/>
            <p:nvPr/>
          </p:nvSpPr>
          <p:spPr>
            <a:xfrm>
              <a:off x="6401160" y="5791320"/>
              <a:ext cx="914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8880" y="4197240"/>
              <a:ext cx="1208160" cy="2273400"/>
            </a:xfrm>
            <a:prstGeom prst="rect">
              <a:avLst/>
            </a:prstGeom>
            <a:noFill/>
            <a:ln w="12600">
              <a:solidFill>
                <a:srgbClr val="fa35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460560" y="5111640"/>
              <a:ext cx="924840" cy="444600"/>
              <a:chOff x="6460560" y="5111640"/>
              <a:chExt cx="924840" cy="444600"/>
            </a:xfrm>
          </p:grpSpPr>
          <p:sp>
            <p:nvSpPr>
              <p:cNvPr id="401" name=""/>
              <p:cNvSpPr/>
              <p:nvPr/>
            </p:nvSpPr>
            <p:spPr>
              <a:xfrm>
                <a:off x="6482520" y="5111640"/>
                <a:ext cx="902880" cy="44460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fa3563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60560" y="5119560"/>
                <a:ext cx="707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444720" y="4349880"/>
              <a:ext cx="924120" cy="444240"/>
              <a:chOff x="6444720" y="4349880"/>
              <a:chExt cx="924120" cy="44424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5600" y="4349880"/>
                <a:ext cx="903240" cy="444240"/>
              </a:xfrm>
              <a:prstGeom prst="rect">
                <a:avLst/>
              </a:prstGeom>
              <a:solidFill>
                <a:srgbClr val="0baca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44720" y="435780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74240" y="5797440"/>
              <a:ext cx="902880" cy="444600"/>
            </a:xfrm>
            <a:prstGeom prst="rect">
              <a:avLst/>
            </a:prstGeom>
            <a:solidFill>
              <a:srgbClr val="0093e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82800" y="579132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880" y="4197240"/>
            <a:ext cx="1206360" cy="2273400"/>
          </a:xfrm>
          <a:prstGeom prst="rect">
            <a:avLst/>
          </a:prstGeom>
          <a:noFill/>
          <a:ln w="12600">
            <a:solidFill>
              <a:srgbClr val="fa356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25640" y="4349880"/>
            <a:ext cx="923400" cy="444240"/>
            <a:chOff x="1025640" y="4349880"/>
            <a:chExt cx="923400" cy="444240"/>
          </a:xfrm>
        </p:grpSpPr>
        <p:sp>
          <p:nvSpPr>
            <p:cNvPr id="410" name=""/>
            <p:cNvSpPr/>
            <p:nvPr/>
          </p:nvSpPr>
          <p:spPr>
            <a:xfrm>
              <a:off x="1046520" y="4349880"/>
              <a:ext cx="902520" cy="444240"/>
            </a:xfrm>
            <a:prstGeom prst="rect">
              <a:avLst/>
            </a:prstGeom>
            <a:solidFill>
              <a:srgbClr val="0baca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25640" y="435780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055520" y="5797440"/>
            <a:ext cx="903600" cy="444600"/>
          </a:xfrm>
          <a:prstGeom prst="rect">
            <a:avLst/>
          </a:prstGeom>
          <a:solidFill>
            <a:srgbClr val="0093e6"/>
          </a:solidFill>
          <a:ln w="12600">
            <a:solidFill>
              <a:srgbClr val="fa3563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38240" y="5111640"/>
            <a:ext cx="903240" cy="444600"/>
            <a:chOff x="1038240" y="5111640"/>
            <a:chExt cx="903240" cy="444600"/>
          </a:xfrm>
        </p:grpSpPr>
        <p:sp>
          <p:nvSpPr>
            <p:cNvPr id="414" name=""/>
            <p:cNvSpPr/>
            <p:nvPr/>
          </p:nvSpPr>
          <p:spPr>
            <a:xfrm>
              <a:off x="1038240" y="5111640"/>
              <a:ext cx="903240" cy="44460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92960" y="5119560"/>
              <a:ext cx="795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Hybrid IP Stac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4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ed to IPv4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ion with IPv4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Stack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657600" y="2895480"/>
            <a:ext cx="327672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01960" y="5111640"/>
            <a:ext cx="90180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4760" y="52117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94760" y="56689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56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306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944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5104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13360" y="394668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7360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359160"/>
            <a:ext cx="9014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00280" y="34592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00280" y="39164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01000" y="3809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0100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0400" y="432756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040" y="3511440"/>
            <a:ext cx="90180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200" y="36115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3505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3962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3960" y="40226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11440" y="29019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53341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457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462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4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03240" y="2597040"/>
            <a:ext cx="166536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84240" y="2803680"/>
            <a:ext cx="145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1160000">
            <a:off x="552600" y="4161240"/>
            <a:ext cx="392976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92" y="57"/>
                </a:moveTo>
                <a:arcTo wR="10800" hR="10800" stAng="-5753276" swAng="5753276"/>
                <a:lnTo>
                  <a:pt x="10800" y="10800"/>
                </a:lnTo>
                <a:close/>
              </a:path>
              <a:path fill="none" w="21600" h="21600">
                <a:moveTo>
                  <a:pt x="9692" y="57"/>
                </a:moveTo>
                <a:arcTo wR="10800" hR="10800" stAng="-5753276" swAng="5753276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78600" y="5592600"/>
            <a:ext cx="128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71920" y="5516640"/>
            <a:ext cx="128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utomatic Tunnel (1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471760" y="2895480"/>
            <a:ext cx="426708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4560" y="2444760"/>
            <a:ext cx="1663560" cy="8254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6880" y="5111640"/>
            <a:ext cx="90360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200" y="518148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200" y="563868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2200" y="556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220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160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08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06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944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39625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1128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7360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36600" y="5334120"/>
            <a:ext cx="678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550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554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7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236600" y="5715000"/>
            <a:ext cx="678996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51040" y="394668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utomatic Tunnel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7702560" y="3435480"/>
            <a:ext cx="90180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79520" y="34592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9608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9608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55480" y="394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4080" y="5111640"/>
            <a:ext cx="10540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40320" y="5211720"/>
            <a:ext cx="109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17360" y="56689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5562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57600" y="6019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268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592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104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8968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/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1280" y="341316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73600" y="341316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1040" y="3435480"/>
            <a:ext cx="90180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4320" y="353520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960" y="40226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86200" y="464832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647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651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652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4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352680" y="3048120"/>
            <a:ext cx="190512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11640" y="30542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5334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57913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82840" y="30542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8240" y="2444760"/>
            <a:ext cx="166392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2376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85000" y="2651040"/>
            <a:ext cx="130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nfigured Tunne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’ification of IPv4 Application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al </a:t>
            </a: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RFC 213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gives changes to socket library for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imal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4/IPv6 transpar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’s Chang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ockaddr_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ockaddr_in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to Address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gethostbyname &amp; gethostbyad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ill Ex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gethostbyname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ed to support new Address Fami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Other ways of getting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here from He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re there Problems to Solve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9720" y="1522080"/>
            <a:ext cx="8391600" cy="48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Running out of Internet addresses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ops Internet growth for existing us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vents use of the Internet for new us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Routing today is inefficient for ISPs and N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ystem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bour intensive, complex, slow &amp; error pr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 dynamic configuration for users  (Mobile especiall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 security needs have grown beyond the IPv4 infrastructure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Bandwidth Reservation / Resource Met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video conferencing and other high bandwidth applic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 to schedule bandwidth for select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y or Charge only for what is u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/IPv6 Interworking Tool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ipulates Addres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s use of IPv4 / IPv6 End-to-End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eaks current Mobile-IP Mechani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Layer Gateways (AL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uires knowledge of applications which use addr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Applications may require ALG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predictable Application Fail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lex :  but under consid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-N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new Sugge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AT: Network Address Transl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N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no changes on host or internal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train network administrator on new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of N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h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 router / gateway has to rewrite addre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ransport checksums and applications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 box needs prior knowl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address-carrying applications and protoc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 on new application introd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use more than one site entrance/exit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s IP mobility, end-to-end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espite all this - NAT is widely use toda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T vs SII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IPv4/IPv6 hos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need to interoperate with both dual and IPv4-only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Pv4 and IPv6 addresses are assigned to the dual stack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pool of globally unique IPv4 addresses becomes smaller and the Internet grows lar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ill probably be a strong need to take advantage of the large IPv6 address space while avoiding that every new node has to have a permanently assigned IPv4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IT solves this dilemm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tateless IP/ICMP Translator  (SIIT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IT specifies a mechanism by which IPv6-only nodes can inter-operate with IPv4-only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having the IPv6-only nodes acquire a temporary IPv4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Pv4 address is used as an IPv4-compatible IPv6 addr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ckets travel through a stateless IP/ICMP transl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teless IP/ICMP translator w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the packet headers between IPv4 and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the addresses in the headers between IPv4 addresses on one side and IPv4-compatible or IPv4-mapped IPv6 addresses on the other 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474840" y="2048760"/>
            <a:ext cx="3557880" cy="4535280"/>
            <a:chOff x="474840" y="2048760"/>
            <a:chExt cx="3557880" cy="4535280"/>
          </a:xfrm>
        </p:grpSpPr>
        <p:sp>
          <p:nvSpPr>
            <p:cNvPr id="731" name=""/>
            <p:cNvSpPr/>
            <p:nvPr/>
          </p:nvSpPr>
          <p:spPr>
            <a:xfrm>
              <a:off x="474840" y="2048760"/>
              <a:ext cx="355788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82" y="18288"/>
                  </a:moveTo>
                  <a:arcTo wR="10800" hR="10800" stAng="2633813" swAng="9841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82" y="18288"/>
                  </a:moveTo>
                  <a:arcTo wR="10800" hR="10800" stAng="2633813" swAng="9841948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9080" y="5639040"/>
              <a:ext cx="3098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Pv4 Host looks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IPv4 address of the tar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hich currently has only IPv6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650880" y="2935440"/>
            <a:ext cx="844560" cy="12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4983120" y="2633760"/>
            <a:ext cx="7747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92960" y="3568680"/>
            <a:ext cx="87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27520" y="4138560"/>
            <a:ext cx="0" cy="9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76600" y="4137120"/>
            <a:ext cx="263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994640" y="3075480"/>
            <a:ext cx="1245600" cy="2030040"/>
            <a:chOff x="4994640" y="3075480"/>
            <a:chExt cx="1245600" cy="2030040"/>
          </a:xfrm>
        </p:grpSpPr>
        <p:sp>
          <p:nvSpPr>
            <p:cNvPr id="739" name=""/>
            <p:cNvSpPr/>
            <p:nvPr/>
          </p:nvSpPr>
          <p:spPr>
            <a:xfrm rot="21480000">
              <a:off x="5587920" y="4485960"/>
              <a:ext cx="157320" cy="20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1480000">
              <a:off x="5721480" y="4461840"/>
              <a:ext cx="1285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1480000">
              <a:off x="5852880" y="463032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1480000">
              <a:off x="5459760" y="4768560"/>
              <a:ext cx="234000" cy="303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1480000">
              <a:off x="5794920" y="4789440"/>
              <a:ext cx="17316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1480000">
              <a:off x="5397840" y="4825440"/>
              <a:ext cx="12672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1480000">
              <a:off x="5377320" y="469224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1480000">
              <a:off x="5437080" y="4530600"/>
              <a:ext cx="2012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1480000">
              <a:off x="5627160" y="4836600"/>
              <a:ext cx="2084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1480000">
              <a:off x="5878080" y="4533840"/>
              <a:ext cx="1562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1480000">
              <a:off x="5830200" y="4453920"/>
              <a:ext cx="14508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28800" y="4503600"/>
              <a:ext cx="594720" cy="522360"/>
            </a:xfrm>
            <a:custGeom>
              <a:avLst/>
              <a:gdLst/>
              <a:ahLst/>
              <a:rect l="l" t="t" r="r" b="b"/>
              <a:pathLst>
                <a:path w="422" h="329">
                  <a:moveTo>
                    <a:pt x="126" y="37"/>
                  </a:moveTo>
                  <a:lnTo>
                    <a:pt x="143" y="14"/>
                  </a:lnTo>
                  <a:lnTo>
                    <a:pt x="221" y="13"/>
                  </a:lnTo>
                  <a:lnTo>
                    <a:pt x="276" y="0"/>
                  </a:lnTo>
                  <a:lnTo>
                    <a:pt x="348" y="36"/>
                  </a:lnTo>
                  <a:lnTo>
                    <a:pt x="382" y="23"/>
                  </a:lnTo>
                  <a:lnTo>
                    <a:pt x="401" y="28"/>
                  </a:lnTo>
                  <a:lnTo>
                    <a:pt x="408" y="124"/>
                  </a:lnTo>
                  <a:lnTo>
                    <a:pt x="421" y="139"/>
                  </a:lnTo>
                  <a:lnTo>
                    <a:pt x="390" y="214"/>
                  </a:lnTo>
                  <a:lnTo>
                    <a:pt x="353" y="164"/>
                  </a:lnTo>
                  <a:lnTo>
                    <a:pt x="344" y="190"/>
                  </a:lnTo>
                  <a:lnTo>
                    <a:pt x="298" y="295"/>
                  </a:lnTo>
                  <a:lnTo>
                    <a:pt x="134" y="328"/>
                  </a:lnTo>
                  <a:lnTo>
                    <a:pt x="47" y="311"/>
                  </a:lnTo>
                  <a:lnTo>
                    <a:pt x="17" y="249"/>
                  </a:lnTo>
                  <a:lnTo>
                    <a:pt x="15" y="185"/>
                  </a:lnTo>
                  <a:lnTo>
                    <a:pt x="0" y="130"/>
                  </a:lnTo>
                  <a:lnTo>
                    <a:pt x="126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480000">
              <a:off x="5274720" y="4081320"/>
              <a:ext cx="15912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1480000">
              <a:off x="5410080" y="405720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1480000">
              <a:off x="5538240" y="4225320"/>
              <a:ext cx="20448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480000">
              <a:off x="5146200" y="4357440"/>
              <a:ext cx="23688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480000">
              <a:off x="5482080" y="4387680"/>
              <a:ext cx="17316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1480000">
              <a:off x="5081760" y="4420800"/>
              <a:ext cx="1285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1480000">
              <a:off x="5066280" y="4284000"/>
              <a:ext cx="12672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1480000">
              <a:off x="5125320" y="412380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480000">
              <a:off x="5318280" y="44319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1480000">
              <a:off x="5568120" y="413064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1480000">
              <a:off x="5518440" y="4050720"/>
              <a:ext cx="142560" cy="18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14520" y="4100400"/>
              <a:ext cx="59616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127" y="37"/>
                  </a:moveTo>
                  <a:lnTo>
                    <a:pt x="144" y="13"/>
                  </a:lnTo>
                  <a:lnTo>
                    <a:pt x="222" y="12"/>
                  </a:lnTo>
                  <a:lnTo>
                    <a:pt x="277" y="0"/>
                  </a:lnTo>
                  <a:lnTo>
                    <a:pt x="349" y="35"/>
                  </a:lnTo>
                  <a:lnTo>
                    <a:pt x="385" y="24"/>
                  </a:lnTo>
                  <a:lnTo>
                    <a:pt x="404" y="27"/>
                  </a:lnTo>
                  <a:lnTo>
                    <a:pt x="411" y="124"/>
                  </a:lnTo>
                  <a:lnTo>
                    <a:pt x="422" y="139"/>
                  </a:lnTo>
                  <a:lnTo>
                    <a:pt x="392" y="213"/>
                  </a:lnTo>
                  <a:lnTo>
                    <a:pt x="356" y="164"/>
                  </a:lnTo>
                  <a:lnTo>
                    <a:pt x="347" y="190"/>
                  </a:lnTo>
                  <a:lnTo>
                    <a:pt x="300" y="294"/>
                  </a:lnTo>
                  <a:lnTo>
                    <a:pt x="135" y="329"/>
                  </a:lnTo>
                  <a:lnTo>
                    <a:pt x="47" y="311"/>
                  </a:lnTo>
                  <a:lnTo>
                    <a:pt x="17" y="249"/>
                  </a:lnTo>
                  <a:lnTo>
                    <a:pt x="15" y="184"/>
                  </a:lnTo>
                  <a:lnTo>
                    <a:pt x="0" y="131"/>
                  </a:lnTo>
                  <a:lnTo>
                    <a:pt x="127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1480000">
              <a:off x="5260320" y="357012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1480000">
              <a:off x="5396400" y="3544560"/>
              <a:ext cx="12672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1480000">
              <a:off x="5525640" y="3717360"/>
              <a:ext cx="20592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1480000">
              <a:off x="5129640" y="3851280"/>
              <a:ext cx="235440" cy="30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1480000">
              <a:off x="5465160" y="3878280"/>
              <a:ext cx="173160" cy="22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1480000">
              <a:off x="5070600" y="3912840"/>
              <a:ext cx="12672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1480000">
              <a:off x="5046480" y="377604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1480000">
              <a:off x="5106960" y="3615840"/>
              <a:ext cx="2041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1480000">
              <a:off x="5303160" y="3920760"/>
              <a:ext cx="20592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1480000">
              <a:off x="5551560" y="3614760"/>
              <a:ext cx="15624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1480000">
              <a:off x="5501880" y="3536280"/>
              <a:ext cx="14220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98680" y="3589200"/>
              <a:ext cx="597600" cy="523800"/>
            </a:xfrm>
            <a:custGeom>
              <a:avLst/>
              <a:gdLst/>
              <a:ahLst/>
              <a:rect l="l" t="t" r="r" b="b"/>
              <a:pathLst>
                <a:path w="424" h="330">
                  <a:moveTo>
                    <a:pt x="127" y="38"/>
                  </a:moveTo>
                  <a:lnTo>
                    <a:pt x="144" y="13"/>
                  </a:lnTo>
                  <a:lnTo>
                    <a:pt x="223" y="13"/>
                  </a:lnTo>
                  <a:lnTo>
                    <a:pt x="278" y="0"/>
                  </a:lnTo>
                  <a:lnTo>
                    <a:pt x="350" y="35"/>
                  </a:lnTo>
                  <a:lnTo>
                    <a:pt x="385" y="24"/>
                  </a:lnTo>
                  <a:lnTo>
                    <a:pt x="404" y="27"/>
                  </a:lnTo>
                  <a:lnTo>
                    <a:pt x="411" y="123"/>
                  </a:lnTo>
                  <a:lnTo>
                    <a:pt x="423" y="139"/>
                  </a:lnTo>
                  <a:lnTo>
                    <a:pt x="393" y="214"/>
                  </a:lnTo>
                  <a:lnTo>
                    <a:pt x="356" y="164"/>
                  </a:lnTo>
                  <a:lnTo>
                    <a:pt x="347" y="191"/>
                  </a:lnTo>
                  <a:lnTo>
                    <a:pt x="300" y="295"/>
                  </a:lnTo>
                  <a:lnTo>
                    <a:pt x="135" y="329"/>
                  </a:lnTo>
                  <a:lnTo>
                    <a:pt x="47" y="311"/>
                  </a:lnTo>
                  <a:lnTo>
                    <a:pt x="18" y="250"/>
                  </a:lnTo>
                  <a:lnTo>
                    <a:pt x="16" y="184"/>
                  </a:lnTo>
                  <a:lnTo>
                    <a:pt x="0" y="130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1480000">
              <a:off x="5205600" y="3106440"/>
              <a:ext cx="1594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1480000">
              <a:off x="5345280" y="3082320"/>
              <a:ext cx="12672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1480000">
              <a:off x="5473440" y="325224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1480000">
              <a:off x="5077080" y="338760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1480000">
              <a:off x="5415840" y="3415680"/>
              <a:ext cx="17172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1480000">
              <a:off x="5018040" y="345384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1480000">
              <a:off x="4997160" y="331416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1480000">
              <a:off x="5056200" y="315396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1480000">
              <a:off x="5248080" y="3457080"/>
              <a:ext cx="2041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1480000">
              <a:off x="5499000" y="3157560"/>
              <a:ext cx="156240" cy="20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1480000">
              <a:off x="5452200" y="3078000"/>
              <a:ext cx="14076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6480" y="3125520"/>
              <a:ext cx="597600" cy="525600"/>
            </a:xfrm>
            <a:custGeom>
              <a:avLst/>
              <a:gdLst/>
              <a:ahLst/>
              <a:rect l="l" t="t" r="r" b="b"/>
              <a:pathLst>
                <a:path w="424" h="331">
                  <a:moveTo>
                    <a:pt x="127" y="38"/>
                  </a:moveTo>
                  <a:lnTo>
                    <a:pt x="144" y="15"/>
                  </a:lnTo>
                  <a:lnTo>
                    <a:pt x="223" y="14"/>
                  </a:lnTo>
                  <a:lnTo>
                    <a:pt x="278" y="0"/>
                  </a:lnTo>
                  <a:lnTo>
                    <a:pt x="350" y="37"/>
                  </a:lnTo>
                  <a:lnTo>
                    <a:pt x="385" y="24"/>
                  </a:lnTo>
                  <a:lnTo>
                    <a:pt x="404" y="29"/>
                  </a:lnTo>
                  <a:lnTo>
                    <a:pt x="411" y="125"/>
                  </a:lnTo>
                  <a:lnTo>
                    <a:pt x="423" y="140"/>
                  </a:lnTo>
                  <a:lnTo>
                    <a:pt x="393" y="215"/>
                  </a:lnTo>
                  <a:lnTo>
                    <a:pt x="356" y="165"/>
                  </a:lnTo>
                  <a:lnTo>
                    <a:pt x="347" y="192"/>
                  </a:lnTo>
                  <a:lnTo>
                    <a:pt x="301" y="297"/>
                  </a:lnTo>
                  <a:lnTo>
                    <a:pt x="135" y="330"/>
                  </a:lnTo>
                  <a:lnTo>
                    <a:pt x="47" y="313"/>
                  </a:lnTo>
                  <a:lnTo>
                    <a:pt x="18" y="250"/>
                  </a:lnTo>
                  <a:lnTo>
                    <a:pt x="16" y="186"/>
                  </a:lnTo>
                  <a:lnTo>
                    <a:pt x="0" y="132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1480000">
              <a:off x="5551200" y="3279600"/>
              <a:ext cx="1576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1480000">
              <a:off x="5685480" y="325224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1480000">
              <a:off x="5816160" y="342684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1480000">
              <a:off x="5423040" y="3560760"/>
              <a:ext cx="23400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1480000">
              <a:off x="5761080" y="3588840"/>
              <a:ext cx="1717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1480000">
              <a:off x="5360760" y="3622320"/>
              <a:ext cx="1263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1480000">
              <a:off x="5343840" y="3485520"/>
              <a:ext cx="12384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1480000">
              <a:off x="5400360" y="3324240"/>
              <a:ext cx="2016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1480000">
              <a:off x="5589000" y="3628440"/>
              <a:ext cx="2098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1480000">
              <a:off x="5841360" y="3327120"/>
              <a:ext cx="1576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1480000">
              <a:off x="5793840" y="3245760"/>
              <a:ext cx="145440" cy="19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92080" y="3297240"/>
              <a:ext cx="594720" cy="525240"/>
            </a:xfrm>
            <a:custGeom>
              <a:avLst/>
              <a:gdLst/>
              <a:ahLst/>
              <a:rect l="l" t="t" r="r" b="b"/>
              <a:pathLst>
                <a:path w="422" h="331">
                  <a:moveTo>
                    <a:pt x="126" y="39"/>
                  </a:moveTo>
                  <a:lnTo>
                    <a:pt x="143" y="15"/>
                  </a:lnTo>
                  <a:lnTo>
                    <a:pt x="221" y="14"/>
                  </a:lnTo>
                  <a:lnTo>
                    <a:pt x="276" y="0"/>
                  </a:lnTo>
                  <a:lnTo>
                    <a:pt x="348" y="36"/>
                  </a:lnTo>
                  <a:lnTo>
                    <a:pt x="382" y="25"/>
                  </a:lnTo>
                  <a:lnTo>
                    <a:pt x="401" y="28"/>
                  </a:lnTo>
                  <a:lnTo>
                    <a:pt x="408" y="125"/>
                  </a:lnTo>
                  <a:lnTo>
                    <a:pt x="421" y="139"/>
                  </a:lnTo>
                  <a:lnTo>
                    <a:pt x="390" y="216"/>
                  </a:lnTo>
                  <a:lnTo>
                    <a:pt x="353" y="166"/>
                  </a:lnTo>
                  <a:lnTo>
                    <a:pt x="344" y="193"/>
                  </a:lnTo>
                  <a:lnTo>
                    <a:pt x="298" y="297"/>
                  </a:lnTo>
                  <a:lnTo>
                    <a:pt x="134" y="330"/>
                  </a:lnTo>
                  <a:lnTo>
                    <a:pt x="47" y="313"/>
                  </a:lnTo>
                  <a:lnTo>
                    <a:pt x="17" y="251"/>
                  </a:lnTo>
                  <a:lnTo>
                    <a:pt x="15" y="186"/>
                  </a:lnTo>
                  <a:lnTo>
                    <a:pt x="0" y="132"/>
                  </a:lnTo>
                  <a:lnTo>
                    <a:pt x="126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1480000">
              <a:off x="5677920" y="3744720"/>
              <a:ext cx="15768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1480000">
              <a:off x="5813640" y="371736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1480000">
              <a:off x="5943240" y="389052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1480000">
              <a:off x="5549400" y="4022640"/>
              <a:ext cx="23400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1480000">
              <a:off x="5888160" y="4050720"/>
              <a:ext cx="1717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1480000">
              <a:off x="5484960" y="408744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1480000">
              <a:off x="5468400" y="3950640"/>
              <a:ext cx="1252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1480000">
              <a:off x="5524200" y="378900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1480000">
              <a:off x="5717520" y="4095360"/>
              <a:ext cx="20448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1480000">
              <a:off x="5965560" y="3790800"/>
              <a:ext cx="1594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1480000">
              <a:off x="5922000" y="3712680"/>
              <a:ext cx="14328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17720" y="3768480"/>
              <a:ext cx="596160" cy="520920"/>
            </a:xfrm>
            <a:custGeom>
              <a:avLst/>
              <a:gdLst/>
              <a:ahLst/>
              <a:rect l="l" t="t" r="r" b="b"/>
              <a:pathLst>
                <a:path w="423" h="328">
                  <a:moveTo>
                    <a:pt x="127" y="36"/>
                  </a:moveTo>
                  <a:lnTo>
                    <a:pt x="144" y="13"/>
                  </a:lnTo>
                  <a:lnTo>
                    <a:pt x="222" y="12"/>
                  </a:lnTo>
                  <a:lnTo>
                    <a:pt x="277" y="0"/>
                  </a:lnTo>
                  <a:lnTo>
                    <a:pt x="349" y="35"/>
                  </a:lnTo>
                  <a:lnTo>
                    <a:pt x="384" y="23"/>
                  </a:lnTo>
                  <a:lnTo>
                    <a:pt x="403" y="27"/>
                  </a:lnTo>
                  <a:lnTo>
                    <a:pt x="411" y="123"/>
                  </a:lnTo>
                  <a:lnTo>
                    <a:pt x="422" y="138"/>
                  </a:lnTo>
                  <a:lnTo>
                    <a:pt x="392" y="213"/>
                  </a:lnTo>
                  <a:lnTo>
                    <a:pt x="356" y="163"/>
                  </a:lnTo>
                  <a:lnTo>
                    <a:pt x="346" y="189"/>
                  </a:lnTo>
                  <a:lnTo>
                    <a:pt x="300" y="293"/>
                  </a:lnTo>
                  <a:lnTo>
                    <a:pt x="135" y="327"/>
                  </a:lnTo>
                  <a:lnTo>
                    <a:pt x="46" y="310"/>
                  </a:lnTo>
                  <a:lnTo>
                    <a:pt x="17" y="248"/>
                  </a:lnTo>
                  <a:lnTo>
                    <a:pt x="15" y="183"/>
                  </a:lnTo>
                  <a:lnTo>
                    <a:pt x="0" y="130"/>
                  </a:lnTo>
                  <a:lnTo>
                    <a:pt x="127" y="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1480000">
              <a:off x="5762520" y="410832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1480000">
              <a:off x="5897880" y="408096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1480000">
              <a:off x="6029280" y="425088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1480000">
              <a:off x="5634360" y="4389120"/>
              <a:ext cx="235080" cy="30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1480000">
              <a:off x="5971320" y="4410000"/>
              <a:ext cx="17460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1480000">
              <a:off x="5573520" y="4449240"/>
              <a:ext cx="12960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1480000">
              <a:off x="5552280" y="4312800"/>
              <a:ext cx="1296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21480000">
              <a:off x="5610240" y="4150800"/>
              <a:ext cx="2041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21480000">
              <a:off x="5803560" y="4457160"/>
              <a:ext cx="2059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480000">
              <a:off x="6055920" y="4155840"/>
              <a:ext cx="15732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21480000">
              <a:off x="6003720" y="4076280"/>
              <a:ext cx="142560" cy="18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03760" y="4127400"/>
              <a:ext cx="59616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127" y="38"/>
                  </a:moveTo>
                  <a:lnTo>
                    <a:pt x="144" y="14"/>
                  </a:lnTo>
                  <a:lnTo>
                    <a:pt x="222" y="13"/>
                  </a:lnTo>
                  <a:lnTo>
                    <a:pt x="277" y="0"/>
                  </a:lnTo>
                  <a:lnTo>
                    <a:pt x="349" y="36"/>
                  </a:lnTo>
                  <a:lnTo>
                    <a:pt x="384" y="23"/>
                  </a:lnTo>
                  <a:lnTo>
                    <a:pt x="403" y="28"/>
                  </a:lnTo>
                  <a:lnTo>
                    <a:pt x="411" y="123"/>
                  </a:lnTo>
                  <a:lnTo>
                    <a:pt x="422" y="138"/>
                  </a:lnTo>
                  <a:lnTo>
                    <a:pt x="392" y="213"/>
                  </a:lnTo>
                  <a:lnTo>
                    <a:pt x="355" y="164"/>
                  </a:lnTo>
                  <a:lnTo>
                    <a:pt x="346" y="190"/>
                  </a:lnTo>
                  <a:lnTo>
                    <a:pt x="300" y="294"/>
                  </a:lnTo>
                  <a:lnTo>
                    <a:pt x="134" y="329"/>
                  </a:lnTo>
                  <a:lnTo>
                    <a:pt x="46" y="312"/>
                  </a:lnTo>
                  <a:lnTo>
                    <a:pt x="17" y="249"/>
                  </a:lnTo>
                  <a:lnTo>
                    <a:pt x="15" y="185"/>
                  </a:lnTo>
                  <a:lnTo>
                    <a:pt x="0" y="130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457960" y="2860560"/>
            <a:ext cx="837720" cy="690480"/>
            <a:chOff x="5457960" y="2860560"/>
            <a:chExt cx="837720" cy="690480"/>
          </a:xfrm>
        </p:grpSpPr>
        <p:grpSp>
          <p:nvGrpSpPr>
            <p:cNvPr id="824" name=""/>
            <p:cNvGrpSpPr/>
            <p:nvPr/>
          </p:nvGrpSpPr>
          <p:grpSpPr>
            <a:xfrm>
              <a:off x="5457960" y="2860560"/>
              <a:ext cx="837720" cy="690480"/>
              <a:chOff x="5457960" y="2860560"/>
              <a:chExt cx="837720" cy="690480"/>
            </a:xfrm>
          </p:grpSpPr>
          <p:sp>
            <p:nvSpPr>
              <p:cNvPr id="825" name=""/>
              <p:cNvSpPr/>
              <p:nvPr/>
            </p:nvSpPr>
            <p:spPr>
              <a:xfrm>
                <a:off x="5721480" y="2881080"/>
                <a:ext cx="1976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92480" y="286056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43320" y="30542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550840" y="317952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67360" y="3220920"/>
                <a:ext cx="21420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475960" y="324468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57960" y="309384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33920" y="2925720"/>
                <a:ext cx="25236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59640" y="326520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81480" y="294480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25320" y="2860560"/>
                <a:ext cx="17748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521320" y="2911320"/>
                <a:ext cx="73224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635440" y="3028680"/>
              <a:ext cx="537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776920" y="3314880"/>
            <a:ext cx="837720" cy="690480"/>
            <a:chOff x="5776920" y="3314880"/>
            <a:chExt cx="837720" cy="690480"/>
          </a:xfrm>
        </p:grpSpPr>
        <p:grpSp>
          <p:nvGrpSpPr>
            <p:cNvPr id="839" name=""/>
            <p:cNvGrpSpPr/>
            <p:nvPr/>
          </p:nvGrpSpPr>
          <p:grpSpPr>
            <a:xfrm>
              <a:off x="5776920" y="3314880"/>
              <a:ext cx="837720" cy="690480"/>
              <a:chOff x="5776920" y="3314880"/>
              <a:chExt cx="837720" cy="690480"/>
            </a:xfrm>
          </p:grpSpPr>
          <p:sp>
            <p:nvSpPr>
              <p:cNvPr id="840" name=""/>
              <p:cNvSpPr/>
              <p:nvPr/>
            </p:nvSpPr>
            <p:spPr>
              <a:xfrm>
                <a:off x="6040800" y="3335400"/>
                <a:ext cx="19728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11440" y="331488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62280" y="350856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69800" y="363384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85960" y="3675240"/>
                <a:ext cx="214560" cy="2462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795280" y="3699000"/>
                <a:ext cx="16056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76920" y="3548160"/>
                <a:ext cx="15948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53240" y="33800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078600" y="3719880"/>
                <a:ext cx="25380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00440" y="3399120"/>
                <a:ext cx="19440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343920" y="331488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40280" y="3365640"/>
                <a:ext cx="731880" cy="55584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5954760" y="3483360"/>
              <a:ext cx="53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920960" y="4093920"/>
            <a:ext cx="619200" cy="14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2367000" y="3233880"/>
          <a:ext cx="50472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3233880"/>
                    <a:ext cx="5047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6" name=""/>
          <p:cNvGrpSpPr/>
          <p:nvPr/>
        </p:nvGrpSpPr>
        <p:grpSpPr>
          <a:xfrm>
            <a:off x="1698480" y="4295880"/>
            <a:ext cx="1055880" cy="1092960"/>
            <a:chOff x="1698480" y="4295880"/>
            <a:chExt cx="1055880" cy="1092960"/>
          </a:xfrm>
        </p:grpSpPr>
        <p:grpSp>
          <p:nvGrpSpPr>
            <p:cNvPr id="857" name=""/>
            <p:cNvGrpSpPr/>
            <p:nvPr/>
          </p:nvGrpSpPr>
          <p:grpSpPr>
            <a:xfrm>
              <a:off x="1698480" y="4295880"/>
              <a:ext cx="1055880" cy="848880"/>
              <a:chOff x="1698480" y="4295880"/>
              <a:chExt cx="1055880" cy="848880"/>
            </a:xfrm>
          </p:grpSpPr>
          <p:sp>
            <p:nvSpPr>
              <p:cNvPr id="858" name=""/>
              <p:cNvSpPr/>
              <p:nvPr/>
            </p:nvSpPr>
            <p:spPr>
              <a:xfrm>
                <a:off x="1698480" y="4343400"/>
                <a:ext cx="1055880" cy="777240"/>
              </a:xfrm>
              <a:custGeom>
                <a:avLst/>
                <a:gdLst/>
                <a:ahLst/>
                <a:rect l="l" t="t" r="r" b="b"/>
                <a:pathLst>
                  <a:path w="748" h="490">
                    <a:moveTo>
                      <a:pt x="411" y="471"/>
                    </a:moveTo>
                    <a:lnTo>
                      <a:pt x="226" y="489"/>
                    </a:lnTo>
                    <a:lnTo>
                      <a:pt x="389" y="467"/>
                    </a:lnTo>
                    <a:lnTo>
                      <a:pt x="389" y="461"/>
                    </a:lnTo>
                    <a:lnTo>
                      <a:pt x="0" y="411"/>
                    </a:lnTo>
                    <a:lnTo>
                      <a:pt x="378" y="448"/>
                    </a:lnTo>
                    <a:lnTo>
                      <a:pt x="394" y="430"/>
                    </a:lnTo>
                    <a:lnTo>
                      <a:pt x="19" y="0"/>
                    </a:lnTo>
                    <a:lnTo>
                      <a:pt x="375" y="390"/>
                    </a:lnTo>
                    <a:lnTo>
                      <a:pt x="345" y="322"/>
                    </a:lnTo>
                    <a:lnTo>
                      <a:pt x="410" y="406"/>
                    </a:lnTo>
                    <a:lnTo>
                      <a:pt x="418" y="425"/>
                    </a:lnTo>
                    <a:lnTo>
                      <a:pt x="444" y="81"/>
                    </a:lnTo>
                    <a:lnTo>
                      <a:pt x="433" y="436"/>
                    </a:lnTo>
                    <a:lnTo>
                      <a:pt x="455" y="251"/>
                    </a:lnTo>
                    <a:lnTo>
                      <a:pt x="466" y="405"/>
                    </a:lnTo>
                    <a:lnTo>
                      <a:pt x="747" y="102"/>
                    </a:lnTo>
                    <a:lnTo>
                      <a:pt x="450" y="443"/>
                    </a:lnTo>
                    <a:lnTo>
                      <a:pt x="449" y="454"/>
                    </a:lnTo>
                    <a:lnTo>
                      <a:pt x="747" y="363"/>
                    </a:lnTo>
                    <a:lnTo>
                      <a:pt x="451" y="461"/>
                    </a:lnTo>
                    <a:lnTo>
                      <a:pt x="449" y="468"/>
                    </a:lnTo>
                    <a:lnTo>
                      <a:pt x="416" y="474"/>
                    </a:lnTo>
                    <a:lnTo>
                      <a:pt x="411" y="47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913040" y="4295880"/>
                <a:ext cx="713520" cy="848880"/>
                <a:chOff x="1913040" y="4295880"/>
                <a:chExt cx="713520" cy="84888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25280" y="4300560"/>
                  <a:ext cx="701280" cy="844200"/>
                </a:xfrm>
                <a:custGeom>
                  <a:avLst/>
                  <a:gdLst/>
                  <a:ahLst/>
                  <a:rect l="l" t="t" r="r" b="b"/>
                  <a:pathLst>
                    <a:path w="497" h="532">
                      <a:moveTo>
                        <a:pt x="307" y="526"/>
                      </a:moveTo>
                      <a:lnTo>
                        <a:pt x="328" y="523"/>
                      </a:lnTo>
                      <a:lnTo>
                        <a:pt x="359" y="514"/>
                      </a:lnTo>
                      <a:lnTo>
                        <a:pt x="383" y="502"/>
                      </a:lnTo>
                      <a:lnTo>
                        <a:pt x="397" y="488"/>
                      </a:lnTo>
                      <a:lnTo>
                        <a:pt x="408" y="473"/>
                      </a:lnTo>
                      <a:lnTo>
                        <a:pt x="415" y="459"/>
                      </a:lnTo>
                      <a:lnTo>
                        <a:pt x="423" y="440"/>
                      </a:lnTo>
                      <a:lnTo>
                        <a:pt x="427" y="416"/>
                      </a:lnTo>
                      <a:lnTo>
                        <a:pt x="430" y="390"/>
                      </a:lnTo>
                      <a:lnTo>
                        <a:pt x="431" y="373"/>
                      </a:lnTo>
                      <a:lnTo>
                        <a:pt x="434" y="358"/>
                      </a:lnTo>
                      <a:lnTo>
                        <a:pt x="437" y="349"/>
                      </a:lnTo>
                      <a:lnTo>
                        <a:pt x="443" y="338"/>
                      </a:lnTo>
                      <a:lnTo>
                        <a:pt x="450" y="325"/>
                      </a:lnTo>
                      <a:lnTo>
                        <a:pt x="456" y="316"/>
                      </a:lnTo>
                      <a:lnTo>
                        <a:pt x="461" y="308"/>
                      </a:lnTo>
                      <a:lnTo>
                        <a:pt x="468" y="301"/>
                      </a:lnTo>
                      <a:lnTo>
                        <a:pt x="478" y="293"/>
                      </a:lnTo>
                      <a:lnTo>
                        <a:pt x="496" y="281"/>
                      </a:lnTo>
                      <a:lnTo>
                        <a:pt x="468" y="290"/>
                      </a:lnTo>
                      <a:lnTo>
                        <a:pt x="455" y="296"/>
                      </a:lnTo>
                      <a:lnTo>
                        <a:pt x="443" y="304"/>
                      </a:lnTo>
                      <a:lnTo>
                        <a:pt x="430" y="312"/>
                      </a:lnTo>
                      <a:lnTo>
                        <a:pt x="418" y="321"/>
                      </a:lnTo>
                      <a:lnTo>
                        <a:pt x="408" y="332"/>
                      </a:lnTo>
                      <a:lnTo>
                        <a:pt x="396" y="346"/>
                      </a:lnTo>
                      <a:lnTo>
                        <a:pt x="386" y="358"/>
                      </a:lnTo>
                      <a:lnTo>
                        <a:pt x="377" y="370"/>
                      </a:lnTo>
                      <a:lnTo>
                        <a:pt x="386" y="352"/>
                      </a:lnTo>
                      <a:lnTo>
                        <a:pt x="391" y="337"/>
                      </a:lnTo>
                      <a:lnTo>
                        <a:pt x="395" y="321"/>
                      </a:lnTo>
                      <a:lnTo>
                        <a:pt x="397" y="299"/>
                      </a:lnTo>
                      <a:lnTo>
                        <a:pt x="397" y="277"/>
                      </a:lnTo>
                      <a:lnTo>
                        <a:pt x="392" y="257"/>
                      </a:lnTo>
                      <a:lnTo>
                        <a:pt x="388" y="237"/>
                      </a:lnTo>
                      <a:lnTo>
                        <a:pt x="384" y="219"/>
                      </a:lnTo>
                      <a:lnTo>
                        <a:pt x="377" y="203"/>
                      </a:lnTo>
                      <a:lnTo>
                        <a:pt x="369" y="186"/>
                      </a:lnTo>
                      <a:lnTo>
                        <a:pt x="355" y="165"/>
                      </a:lnTo>
                      <a:lnTo>
                        <a:pt x="346" y="152"/>
                      </a:lnTo>
                      <a:lnTo>
                        <a:pt x="332" y="131"/>
                      </a:lnTo>
                      <a:lnTo>
                        <a:pt x="319" y="109"/>
                      </a:lnTo>
                      <a:lnTo>
                        <a:pt x="310" y="89"/>
                      </a:lnTo>
                      <a:lnTo>
                        <a:pt x="304" y="74"/>
                      </a:lnTo>
                      <a:lnTo>
                        <a:pt x="301" y="58"/>
                      </a:lnTo>
                      <a:lnTo>
                        <a:pt x="299" y="42"/>
                      </a:lnTo>
                      <a:lnTo>
                        <a:pt x="299" y="28"/>
                      </a:lnTo>
                      <a:lnTo>
                        <a:pt x="300" y="16"/>
                      </a:lnTo>
                      <a:lnTo>
                        <a:pt x="300" y="0"/>
                      </a:lnTo>
                      <a:lnTo>
                        <a:pt x="292" y="22"/>
                      </a:lnTo>
                      <a:lnTo>
                        <a:pt x="287" y="41"/>
                      </a:lnTo>
                      <a:lnTo>
                        <a:pt x="284" y="57"/>
                      </a:lnTo>
                      <a:lnTo>
                        <a:pt x="284" y="74"/>
                      </a:lnTo>
                      <a:lnTo>
                        <a:pt x="287" y="95"/>
                      </a:lnTo>
                      <a:lnTo>
                        <a:pt x="292" y="111"/>
                      </a:lnTo>
                      <a:lnTo>
                        <a:pt x="298" y="127"/>
                      </a:lnTo>
                      <a:lnTo>
                        <a:pt x="306" y="140"/>
                      </a:lnTo>
                      <a:lnTo>
                        <a:pt x="311" y="158"/>
                      </a:lnTo>
                      <a:lnTo>
                        <a:pt x="313" y="176"/>
                      </a:lnTo>
                      <a:lnTo>
                        <a:pt x="315" y="194"/>
                      </a:lnTo>
                      <a:lnTo>
                        <a:pt x="317" y="213"/>
                      </a:lnTo>
                      <a:lnTo>
                        <a:pt x="317" y="230"/>
                      </a:lnTo>
                      <a:lnTo>
                        <a:pt x="313" y="259"/>
                      </a:lnTo>
                      <a:lnTo>
                        <a:pt x="307" y="277"/>
                      </a:lnTo>
                      <a:lnTo>
                        <a:pt x="291" y="302"/>
                      </a:lnTo>
                      <a:lnTo>
                        <a:pt x="277" y="328"/>
                      </a:lnTo>
                      <a:lnTo>
                        <a:pt x="266" y="353"/>
                      </a:lnTo>
                      <a:lnTo>
                        <a:pt x="259" y="339"/>
                      </a:lnTo>
                      <a:lnTo>
                        <a:pt x="254" y="323"/>
                      </a:lnTo>
                      <a:lnTo>
                        <a:pt x="250" y="308"/>
                      </a:lnTo>
                      <a:lnTo>
                        <a:pt x="249" y="282"/>
                      </a:lnTo>
                      <a:lnTo>
                        <a:pt x="255" y="238"/>
                      </a:lnTo>
                      <a:lnTo>
                        <a:pt x="257" y="226"/>
                      </a:lnTo>
                      <a:lnTo>
                        <a:pt x="257" y="211"/>
                      </a:lnTo>
                      <a:lnTo>
                        <a:pt x="257" y="196"/>
                      </a:lnTo>
                      <a:lnTo>
                        <a:pt x="255" y="177"/>
                      </a:lnTo>
                      <a:lnTo>
                        <a:pt x="250" y="158"/>
                      </a:lnTo>
                      <a:lnTo>
                        <a:pt x="242" y="140"/>
                      </a:lnTo>
                      <a:lnTo>
                        <a:pt x="229" y="115"/>
                      </a:lnTo>
                      <a:lnTo>
                        <a:pt x="236" y="145"/>
                      </a:lnTo>
                      <a:lnTo>
                        <a:pt x="241" y="171"/>
                      </a:lnTo>
                      <a:lnTo>
                        <a:pt x="241" y="192"/>
                      </a:lnTo>
                      <a:lnTo>
                        <a:pt x="238" y="209"/>
                      </a:lnTo>
                      <a:lnTo>
                        <a:pt x="233" y="226"/>
                      </a:lnTo>
                      <a:lnTo>
                        <a:pt x="225" y="245"/>
                      </a:lnTo>
                      <a:lnTo>
                        <a:pt x="204" y="287"/>
                      </a:lnTo>
                      <a:lnTo>
                        <a:pt x="203" y="261"/>
                      </a:lnTo>
                      <a:lnTo>
                        <a:pt x="205" y="238"/>
                      </a:lnTo>
                      <a:lnTo>
                        <a:pt x="207" y="217"/>
                      </a:lnTo>
                      <a:lnTo>
                        <a:pt x="194" y="238"/>
                      </a:lnTo>
                      <a:lnTo>
                        <a:pt x="187" y="256"/>
                      </a:lnTo>
                      <a:lnTo>
                        <a:pt x="182" y="276"/>
                      </a:lnTo>
                      <a:lnTo>
                        <a:pt x="178" y="300"/>
                      </a:lnTo>
                      <a:lnTo>
                        <a:pt x="179" y="328"/>
                      </a:lnTo>
                      <a:lnTo>
                        <a:pt x="185" y="356"/>
                      </a:lnTo>
                      <a:lnTo>
                        <a:pt x="193" y="378"/>
                      </a:lnTo>
                      <a:lnTo>
                        <a:pt x="206" y="407"/>
                      </a:lnTo>
                      <a:lnTo>
                        <a:pt x="226" y="444"/>
                      </a:lnTo>
                      <a:lnTo>
                        <a:pt x="194" y="401"/>
                      </a:lnTo>
                      <a:lnTo>
                        <a:pt x="187" y="390"/>
                      </a:lnTo>
                      <a:lnTo>
                        <a:pt x="173" y="373"/>
                      </a:lnTo>
                      <a:lnTo>
                        <a:pt x="155" y="356"/>
                      </a:lnTo>
                      <a:lnTo>
                        <a:pt x="128" y="335"/>
                      </a:lnTo>
                      <a:lnTo>
                        <a:pt x="144" y="358"/>
                      </a:lnTo>
                      <a:lnTo>
                        <a:pt x="153" y="372"/>
                      </a:lnTo>
                      <a:lnTo>
                        <a:pt x="163" y="386"/>
                      </a:lnTo>
                      <a:lnTo>
                        <a:pt x="179" y="416"/>
                      </a:lnTo>
                      <a:lnTo>
                        <a:pt x="192" y="441"/>
                      </a:lnTo>
                      <a:lnTo>
                        <a:pt x="210" y="482"/>
                      </a:lnTo>
                      <a:lnTo>
                        <a:pt x="187" y="476"/>
                      </a:lnTo>
                      <a:lnTo>
                        <a:pt x="167" y="463"/>
                      </a:lnTo>
                      <a:lnTo>
                        <a:pt x="147" y="447"/>
                      </a:lnTo>
                      <a:lnTo>
                        <a:pt x="129" y="432"/>
                      </a:lnTo>
                      <a:lnTo>
                        <a:pt x="105" y="412"/>
                      </a:lnTo>
                      <a:lnTo>
                        <a:pt x="88" y="401"/>
                      </a:lnTo>
                      <a:lnTo>
                        <a:pt x="73" y="392"/>
                      </a:lnTo>
                      <a:lnTo>
                        <a:pt x="59" y="385"/>
                      </a:lnTo>
                      <a:lnTo>
                        <a:pt x="42" y="381"/>
                      </a:lnTo>
                      <a:lnTo>
                        <a:pt x="27" y="378"/>
                      </a:lnTo>
                      <a:lnTo>
                        <a:pt x="0" y="374"/>
                      </a:lnTo>
                      <a:lnTo>
                        <a:pt x="23" y="383"/>
                      </a:lnTo>
                      <a:lnTo>
                        <a:pt x="49" y="394"/>
                      </a:lnTo>
                      <a:lnTo>
                        <a:pt x="67" y="405"/>
                      </a:lnTo>
                      <a:lnTo>
                        <a:pt x="78" y="413"/>
                      </a:lnTo>
                      <a:lnTo>
                        <a:pt x="98" y="435"/>
                      </a:lnTo>
                      <a:lnTo>
                        <a:pt x="117" y="458"/>
                      </a:lnTo>
                      <a:lnTo>
                        <a:pt x="141" y="484"/>
                      </a:lnTo>
                      <a:lnTo>
                        <a:pt x="160" y="496"/>
                      </a:lnTo>
                      <a:lnTo>
                        <a:pt x="185" y="508"/>
                      </a:lnTo>
                      <a:lnTo>
                        <a:pt x="227" y="525"/>
                      </a:lnTo>
                      <a:lnTo>
                        <a:pt x="263" y="531"/>
                      </a:lnTo>
                      <a:lnTo>
                        <a:pt x="307" y="526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25280" y="4295880"/>
                  <a:ext cx="695520" cy="839520"/>
                </a:xfrm>
                <a:custGeom>
                  <a:avLst/>
                  <a:gdLst/>
                  <a:ahLst/>
                  <a:rect l="l" t="t" r="r" b="b"/>
                  <a:pathLst>
                    <a:path w="493" h="529">
                      <a:moveTo>
                        <a:pt x="301" y="524"/>
                      </a:moveTo>
                      <a:lnTo>
                        <a:pt x="321" y="520"/>
                      </a:lnTo>
                      <a:lnTo>
                        <a:pt x="352" y="512"/>
                      </a:lnTo>
                      <a:lnTo>
                        <a:pt x="375" y="500"/>
                      </a:lnTo>
                      <a:lnTo>
                        <a:pt x="388" y="485"/>
                      </a:lnTo>
                      <a:lnTo>
                        <a:pt x="399" y="470"/>
                      </a:lnTo>
                      <a:lnTo>
                        <a:pt x="406" y="457"/>
                      </a:lnTo>
                      <a:lnTo>
                        <a:pt x="413" y="438"/>
                      </a:lnTo>
                      <a:lnTo>
                        <a:pt x="417" y="414"/>
                      </a:lnTo>
                      <a:lnTo>
                        <a:pt x="421" y="388"/>
                      </a:lnTo>
                      <a:lnTo>
                        <a:pt x="421" y="371"/>
                      </a:lnTo>
                      <a:lnTo>
                        <a:pt x="424" y="356"/>
                      </a:lnTo>
                      <a:lnTo>
                        <a:pt x="427" y="347"/>
                      </a:lnTo>
                      <a:lnTo>
                        <a:pt x="433" y="336"/>
                      </a:lnTo>
                      <a:lnTo>
                        <a:pt x="440" y="324"/>
                      </a:lnTo>
                      <a:lnTo>
                        <a:pt x="447" y="315"/>
                      </a:lnTo>
                      <a:lnTo>
                        <a:pt x="454" y="305"/>
                      </a:lnTo>
                      <a:lnTo>
                        <a:pt x="460" y="300"/>
                      </a:lnTo>
                      <a:lnTo>
                        <a:pt x="469" y="293"/>
                      </a:lnTo>
                      <a:lnTo>
                        <a:pt x="492" y="286"/>
                      </a:lnTo>
                      <a:lnTo>
                        <a:pt x="465" y="290"/>
                      </a:lnTo>
                      <a:lnTo>
                        <a:pt x="449" y="294"/>
                      </a:lnTo>
                      <a:lnTo>
                        <a:pt x="433" y="302"/>
                      </a:lnTo>
                      <a:lnTo>
                        <a:pt x="421" y="309"/>
                      </a:lnTo>
                      <a:lnTo>
                        <a:pt x="409" y="319"/>
                      </a:lnTo>
                      <a:lnTo>
                        <a:pt x="400" y="330"/>
                      </a:lnTo>
                      <a:lnTo>
                        <a:pt x="387" y="344"/>
                      </a:lnTo>
                      <a:lnTo>
                        <a:pt x="378" y="355"/>
                      </a:lnTo>
                      <a:lnTo>
                        <a:pt x="369" y="367"/>
                      </a:lnTo>
                      <a:lnTo>
                        <a:pt x="377" y="350"/>
                      </a:lnTo>
                      <a:lnTo>
                        <a:pt x="382" y="335"/>
                      </a:lnTo>
                      <a:lnTo>
                        <a:pt x="387" y="319"/>
                      </a:lnTo>
                      <a:lnTo>
                        <a:pt x="388" y="297"/>
                      </a:lnTo>
                      <a:lnTo>
                        <a:pt x="388" y="275"/>
                      </a:lnTo>
                      <a:lnTo>
                        <a:pt x="384" y="255"/>
                      </a:lnTo>
                      <a:lnTo>
                        <a:pt x="380" y="235"/>
                      </a:lnTo>
                      <a:lnTo>
                        <a:pt x="375" y="218"/>
                      </a:lnTo>
                      <a:lnTo>
                        <a:pt x="370" y="202"/>
                      </a:lnTo>
                      <a:lnTo>
                        <a:pt x="361" y="185"/>
                      </a:lnTo>
                      <a:lnTo>
                        <a:pt x="348" y="164"/>
                      </a:lnTo>
                      <a:lnTo>
                        <a:pt x="338" y="151"/>
                      </a:lnTo>
                      <a:lnTo>
                        <a:pt x="324" y="130"/>
                      </a:lnTo>
                      <a:lnTo>
                        <a:pt x="313" y="108"/>
                      </a:lnTo>
                      <a:lnTo>
                        <a:pt x="304" y="88"/>
                      </a:lnTo>
                      <a:lnTo>
                        <a:pt x="298" y="74"/>
                      </a:lnTo>
                      <a:lnTo>
                        <a:pt x="295" y="58"/>
                      </a:lnTo>
                      <a:lnTo>
                        <a:pt x="293" y="42"/>
                      </a:lnTo>
                      <a:lnTo>
                        <a:pt x="293" y="28"/>
                      </a:lnTo>
                      <a:lnTo>
                        <a:pt x="293" y="16"/>
                      </a:lnTo>
                      <a:lnTo>
                        <a:pt x="295" y="0"/>
                      </a:lnTo>
                      <a:lnTo>
                        <a:pt x="287" y="22"/>
                      </a:lnTo>
                      <a:lnTo>
                        <a:pt x="282" y="40"/>
                      </a:lnTo>
                      <a:lnTo>
                        <a:pt x="279" y="58"/>
                      </a:lnTo>
                      <a:lnTo>
                        <a:pt x="278" y="74"/>
                      </a:lnTo>
                      <a:lnTo>
                        <a:pt x="280" y="94"/>
                      </a:lnTo>
                      <a:lnTo>
                        <a:pt x="286" y="110"/>
                      </a:lnTo>
                      <a:lnTo>
                        <a:pt x="293" y="125"/>
                      </a:lnTo>
                      <a:lnTo>
                        <a:pt x="299" y="139"/>
                      </a:lnTo>
                      <a:lnTo>
                        <a:pt x="305" y="157"/>
                      </a:lnTo>
                      <a:lnTo>
                        <a:pt x="307" y="175"/>
                      </a:lnTo>
                      <a:lnTo>
                        <a:pt x="309" y="193"/>
                      </a:lnTo>
                      <a:lnTo>
                        <a:pt x="310" y="211"/>
                      </a:lnTo>
                      <a:lnTo>
                        <a:pt x="310" y="230"/>
                      </a:lnTo>
                      <a:lnTo>
                        <a:pt x="307" y="258"/>
                      </a:lnTo>
                      <a:lnTo>
                        <a:pt x="300" y="275"/>
                      </a:lnTo>
                      <a:lnTo>
                        <a:pt x="285" y="301"/>
                      </a:lnTo>
                      <a:lnTo>
                        <a:pt x="272" y="326"/>
                      </a:lnTo>
                      <a:lnTo>
                        <a:pt x="262" y="351"/>
                      </a:lnTo>
                      <a:lnTo>
                        <a:pt x="254" y="337"/>
                      </a:lnTo>
                      <a:lnTo>
                        <a:pt x="249" y="321"/>
                      </a:lnTo>
                      <a:lnTo>
                        <a:pt x="246" y="305"/>
                      </a:lnTo>
                      <a:lnTo>
                        <a:pt x="244" y="281"/>
                      </a:lnTo>
                      <a:lnTo>
                        <a:pt x="250" y="237"/>
                      </a:lnTo>
                      <a:lnTo>
                        <a:pt x="252" y="224"/>
                      </a:lnTo>
                      <a:lnTo>
                        <a:pt x="252" y="209"/>
                      </a:lnTo>
                      <a:lnTo>
                        <a:pt x="252" y="195"/>
                      </a:lnTo>
                      <a:lnTo>
                        <a:pt x="250" y="176"/>
                      </a:lnTo>
                      <a:lnTo>
                        <a:pt x="246" y="157"/>
                      </a:lnTo>
                      <a:lnTo>
                        <a:pt x="238" y="140"/>
                      </a:lnTo>
                      <a:lnTo>
                        <a:pt x="224" y="115"/>
                      </a:lnTo>
                      <a:lnTo>
                        <a:pt x="232" y="144"/>
                      </a:lnTo>
                      <a:lnTo>
                        <a:pt x="236" y="170"/>
                      </a:lnTo>
                      <a:lnTo>
                        <a:pt x="236" y="191"/>
                      </a:lnTo>
                      <a:lnTo>
                        <a:pt x="233" y="208"/>
                      </a:lnTo>
                      <a:lnTo>
                        <a:pt x="228" y="224"/>
                      </a:lnTo>
                      <a:lnTo>
                        <a:pt x="221" y="243"/>
                      </a:lnTo>
                      <a:lnTo>
                        <a:pt x="201" y="285"/>
                      </a:lnTo>
                      <a:lnTo>
                        <a:pt x="199" y="259"/>
                      </a:lnTo>
                      <a:lnTo>
                        <a:pt x="202" y="237"/>
                      </a:lnTo>
                      <a:lnTo>
                        <a:pt x="203" y="215"/>
                      </a:lnTo>
                      <a:lnTo>
                        <a:pt x="191" y="237"/>
                      </a:lnTo>
                      <a:lnTo>
                        <a:pt x="184" y="255"/>
                      </a:lnTo>
                      <a:lnTo>
                        <a:pt x="179" y="275"/>
                      </a:lnTo>
                      <a:lnTo>
                        <a:pt x="176" y="297"/>
                      </a:lnTo>
                      <a:lnTo>
                        <a:pt x="177" y="326"/>
                      </a:lnTo>
                      <a:lnTo>
                        <a:pt x="181" y="353"/>
                      </a:lnTo>
                      <a:lnTo>
                        <a:pt x="190" y="376"/>
                      </a:lnTo>
                      <a:lnTo>
                        <a:pt x="203" y="405"/>
                      </a:lnTo>
                      <a:lnTo>
                        <a:pt x="222" y="441"/>
                      </a:lnTo>
                      <a:lnTo>
                        <a:pt x="191" y="398"/>
                      </a:lnTo>
                      <a:lnTo>
                        <a:pt x="183" y="387"/>
                      </a:lnTo>
                      <a:lnTo>
                        <a:pt x="170" y="371"/>
                      </a:lnTo>
                      <a:lnTo>
                        <a:pt x="153" y="353"/>
                      </a:lnTo>
                      <a:lnTo>
                        <a:pt x="126" y="333"/>
                      </a:lnTo>
                      <a:lnTo>
                        <a:pt x="142" y="356"/>
                      </a:lnTo>
                      <a:lnTo>
                        <a:pt x="151" y="370"/>
                      </a:lnTo>
                      <a:lnTo>
                        <a:pt x="160" y="384"/>
                      </a:lnTo>
                      <a:lnTo>
                        <a:pt x="177" y="414"/>
                      </a:lnTo>
                      <a:lnTo>
                        <a:pt x="189" y="439"/>
                      </a:lnTo>
                      <a:lnTo>
                        <a:pt x="206" y="480"/>
                      </a:lnTo>
                      <a:lnTo>
                        <a:pt x="185" y="473"/>
                      </a:lnTo>
                      <a:lnTo>
                        <a:pt x="165" y="461"/>
                      </a:lnTo>
                      <a:lnTo>
                        <a:pt x="144" y="444"/>
                      </a:lnTo>
                      <a:lnTo>
                        <a:pt x="127" y="429"/>
                      </a:lnTo>
                      <a:lnTo>
                        <a:pt x="104" y="410"/>
                      </a:lnTo>
                      <a:lnTo>
                        <a:pt x="87" y="398"/>
                      </a:lnTo>
                      <a:lnTo>
                        <a:pt x="74" y="390"/>
                      </a:lnTo>
                      <a:lnTo>
                        <a:pt x="59" y="383"/>
                      </a:lnTo>
                      <a:lnTo>
                        <a:pt x="43" y="379"/>
                      </a:lnTo>
                      <a:lnTo>
                        <a:pt x="28" y="376"/>
                      </a:lnTo>
                      <a:lnTo>
                        <a:pt x="0" y="374"/>
                      </a:lnTo>
                      <a:lnTo>
                        <a:pt x="25" y="380"/>
                      </a:lnTo>
                      <a:lnTo>
                        <a:pt x="50" y="391"/>
                      </a:lnTo>
                      <a:lnTo>
                        <a:pt x="67" y="402"/>
                      </a:lnTo>
                      <a:lnTo>
                        <a:pt x="78" y="411"/>
                      </a:lnTo>
                      <a:lnTo>
                        <a:pt x="98" y="432"/>
                      </a:lnTo>
                      <a:lnTo>
                        <a:pt x="116" y="456"/>
                      </a:lnTo>
                      <a:lnTo>
                        <a:pt x="139" y="482"/>
                      </a:lnTo>
                      <a:lnTo>
                        <a:pt x="157" y="493"/>
                      </a:lnTo>
                      <a:lnTo>
                        <a:pt x="181" y="506"/>
                      </a:lnTo>
                      <a:lnTo>
                        <a:pt x="223" y="522"/>
                      </a:lnTo>
                      <a:lnTo>
                        <a:pt x="259" y="528"/>
                      </a:lnTo>
                      <a:lnTo>
                        <a:pt x="301" y="524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28160" y="4317840"/>
                  <a:ext cx="675720" cy="825120"/>
                </a:xfrm>
                <a:custGeom>
                  <a:avLst/>
                  <a:gdLst/>
                  <a:ahLst/>
                  <a:rect l="l" t="t" r="r" b="b"/>
                  <a:pathLst>
                    <a:path w="479" h="520">
                      <a:moveTo>
                        <a:pt x="293" y="514"/>
                      </a:moveTo>
                      <a:lnTo>
                        <a:pt x="313" y="511"/>
                      </a:lnTo>
                      <a:lnTo>
                        <a:pt x="344" y="503"/>
                      </a:lnTo>
                      <a:lnTo>
                        <a:pt x="366" y="491"/>
                      </a:lnTo>
                      <a:lnTo>
                        <a:pt x="379" y="477"/>
                      </a:lnTo>
                      <a:lnTo>
                        <a:pt x="390" y="462"/>
                      </a:lnTo>
                      <a:lnTo>
                        <a:pt x="397" y="449"/>
                      </a:lnTo>
                      <a:lnTo>
                        <a:pt x="404" y="430"/>
                      </a:lnTo>
                      <a:lnTo>
                        <a:pt x="408" y="407"/>
                      </a:lnTo>
                      <a:lnTo>
                        <a:pt x="411" y="382"/>
                      </a:lnTo>
                      <a:lnTo>
                        <a:pt x="412" y="365"/>
                      </a:lnTo>
                      <a:lnTo>
                        <a:pt x="415" y="350"/>
                      </a:lnTo>
                      <a:lnTo>
                        <a:pt x="417" y="341"/>
                      </a:lnTo>
                      <a:lnTo>
                        <a:pt x="424" y="330"/>
                      </a:lnTo>
                      <a:lnTo>
                        <a:pt x="430" y="318"/>
                      </a:lnTo>
                      <a:lnTo>
                        <a:pt x="436" y="309"/>
                      </a:lnTo>
                      <a:lnTo>
                        <a:pt x="444" y="300"/>
                      </a:lnTo>
                      <a:lnTo>
                        <a:pt x="450" y="294"/>
                      </a:lnTo>
                      <a:lnTo>
                        <a:pt x="459" y="289"/>
                      </a:lnTo>
                      <a:lnTo>
                        <a:pt x="478" y="277"/>
                      </a:lnTo>
                      <a:lnTo>
                        <a:pt x="455" y="284"/>
                      </a:lnTo>
                      <a:lnTo>
                        <a:pt x="439" y="289"/>
                      </a:lnTo>
                      <a:lnTo>
                        <a:pt x="424" y="297"/>
                      </a:lnTo>
                      <a:lnTo>
                        <a:pt x="411" y="305"/>
                      </a:lnTo>
                      <a:lnTo>
                        <a:pt x="400" y="313"/>
                      </a:lnTo>
                      <a:lnTo>
                        <a:pt x="390" y="324"/>
                      </a:lnTo>
                      <a:lnTo>
                        <a:pt x="378" y="338"/>
                      </a:lnTo>
                      <a:lnTo>
                        <a:pt x="369" y="350"/>
                      </a:lnTo>
                      <a:lnTo>
                        <a:pt x="360" y="361"/>
                      </a:lnTo>
                      <a:lnTo>
                        <a:pt x="369" y="344"/>
                      </a:lnTo>
                      <a:lnTo>
                        <a:pt x="374" y="329"/>
                      </a:lnTo>
                      <a:lnTo>
                        <a:pt x="378" y="313"/>
                      </a:lnTo>
                      <a:lnTo>
                        <a:pt x="379" y="292"/>
                      </a:lnTo>
                      <a:lnTo>
                        <a:pt x="379" y="271"/>
                      </a:lnTo>
                      <a:lnTo>
                        <a:pt x="376" y="251"/>
                      </a:lnTo>
                      <a:lnTo>
                        <a:pt x="371" y="231"/>
                      </a:lnTo>
                      <a:lnTo>
                        <a:pt x="367" y="214"/>
                      </a:lnTo>
                      <a:lnTo>
                        <a:pt x="360" y="198"/>
                      </a:lnTo>
                      <a:lnTo>
                        <a:pt x="353" y="182"/>
                      </a:lnTo>
                      <a:lnTo>
                        <a:pt x="340" y="161"/>
                      </a:lnTo>
                      <a:lnTo>
                        <a:pt x="330" y="148"/>
                      </a:lnTo>
                      <a:lnTo>
                        <a:pt x="317" y="128"/>
                      </a:lnTo>
                      <a:lnTo>
                        <a:pt x="305" y="107"/>
                      </a:lnTo>
                      <a:lnTo>
                        <a:pt x="296" y="87"/>
                      </a:lnTo>
                      <a:lnTo>
                        <a:pt x="292" y="73"/>
                      </a:lnTo>
                      <a:lnTo>
                        <a:pt x="287" y="57"/>
                      </a:lnTo>
                      <a:lnTo>
                        <a:pt x="286" y="41"/>
                      </a:lnTo>
                      <a:lnTo>
                        <a:pt x="286" y="28"/>
                      </a:lnTo>
                      <a:lnTo>
                        <a:pt x="286" y="16"/>
                      </a:lnTo>
                      <a:lnTo>
                        <a:pt x="287" y="0"/>
                      </a:lnTo>
                      <a:lnTo>
                        <a:pt x="280" y="22"/>
                      </a:lnTo>
                      <a:lnTo>
                        <a:pt x="275" y="40"/>
                      </a:lnTo>
                      <a:lnTo>
                        <a:pt x="272" y="57"/>
                      </a:lnTo>
                      <a:lnTo>
                        <a:pt x="271" y="73"/>
                      </a:lnTo>
                      <a:lnTo>
                        <a:pt x="274" y="92"/>
                      </a:lnTo>
                      <a:lnTo>
                        <a:pt x="279" y="109"/>
                      </a:lnTo>
                      <a:lnTo>
                        <a:pt x="285" y="124"/>
                      </a:lnTo>
                      <a:lnTo>
                        <a:pt x="292" y="137"/>
                      </a:lnTo>
                      <a:lnTo>
                        <a:pt x="297" y="154"/>
                      </a:lnTo>
                      <a:lnTo>
                        <a:pt x="300" y="172"/>
                      </a:lnTo>
                      <a:lnTo>
                        <a:pt x="301" y="190"/>
                      </a:lnTo>
                      <a:lnTo>
                        <a:pt x="302" y="209"/>
                      </a:lnTo>
                      <a:lnTo>
                        <a:pt x="302" y="225"/>
                      </a:lnTo>
                      <a:lnTo>
                        <a:pt x="299" y="253"/>
                      </a:lnTo>
                      <a:lnTo>
                        <a:pt x="293" y="271"/>
                      </a:lnTo>
                      <a:lnTo>
                        <a:pt x="278" y="295"/>
                      </a:lnTo>
                      <a:lnTo>
                        <a:pt x="265" y="320"/>
                      </a:lnTo>
                      <a:lnTo>
                        <a:pt x="255" y="345"/>
                      </a:lnTo>
                      <a:lnTo>
                        <a:pt x="248" y="331"/>
                      </a:lnTo>
                      <a:lnTo>
                        <a:pt x="242" y="316"/>
                      </a:lnTo>
                      <a:lnTo>
                        <a:pt x="239" y="301"/>
                      </a:lnTo>
                      <a:lnTo>
                        <a:pt x="238" y="276"/>
                      </a:lnTo>
                      <a:lnTo>
                        <a:pt x="244" y="233"/>
                      </a:lnTo>
                      <a:lnTo>
                        <a:pt x="246" y="221"/>
                      </a:lnTo>
                      <a:lnTo>
                        <a:pt x="246" y="206"/>
                      </a:lnTo>
                      <a:lnTo>
                        <a:pt x="246" y="192"/>
                      </a:lnTo>
                      <a:lnTo>
                        <a:pt x="244" y="173"/>
                      </a:lnTo>
                      <a:lnTo>
                        <a:pt x="239" y="155"/>
                      </a:lnTo>
                      <a:lnTo>
                        <a:pt x="232" y="137"/>
                      </a:lnTo>
                      <a:lnTo>
                        <a:pt x="219" y="113"/>
                      </a:lnTo>
                      <a:lnTo>
                        <a:pt x="226" y="142"/>
                      </a:lnTo>
                      <a:lnTo>
                        <a:pt x="230" y="167"/>
                      </a:lnTo>
                      <a:lnTo>
                        <a:pt x="230" y="187"/>
                      </a:lnTo>
                      <a:lnTo>
                        <a:pt x="228" y="205"/>
                      </a:lnTo>
                      <a:lnTo>
                        <a:pt x="223" y="220"/>
                      </a:lnTo>
                      <a:lnTo>
                        <a:pt x="215" y="239"/>
                      </a:lnTo>
                      <a:lnTo>
                        <a:pt x="195" y="281"/>
                      </a:lnTo>
                      <a:lnTo>
                        <a:pt x="194" y="255"/>
                      </a:lnTo>
                      <a:lnTo>
                        <a:pt x="196" y="233"/>
                      </a:lnTo>
                      <a:lnTo>
                        <a:pt x="198" y="212"/>
                      </a:lnTo>
                      <a:lnTo>
                        <a:pt x="185" y="233"/>
                      </a:lnTo>
                      <a:lnTo>
                        <a:pt x="179" y="251"/>
                      </a:lnTo>
                      <a:lnTo>
                        <a:pt x="175" y="270"/>
                      </a:lnTo>
                      <a:lnTo>
                        <a:pt x="171" y="293"/>
                      </a:lnTo>
                      <a:lnTo>
                        <a:pt x="172" y="320"/>
                      </a:lnTo>
                      <a:lnTo>
                        <a:pt x="177" y="348"/>
                      </a:lnTo>
                      <a:lnTo>
                        <a:pt x="185" y="370"/>
                      </a:lnTo>
                      <a:lnTo>
                        <a:pt x="197" y="398"/>
                      </a:lnTo>
                      <a:lnTo>
                        <a:pt x="216" y="434"/>
                      </a:lnTo>
                      <a:lnTo>
                        <a:pt x="185" y="392"/>
                      </a:lnTo>
                      <a:lnTo>
                        <a:pt x="179" y="381"/>
                      </a:lnTo>
                      <a:lnTo>
                        <a:pt x="166" y="364"/>
                      </a:lnTo>
                      <a:lnTo>
                        <a:pt x="148" y="348"/>
                      </a:lnTo>
                      <a:lnTo>
                        <a:pt x="122" y="328"/>
                      </a:lnTo>
                      <a:lnTo>
                        <a:pt x="138" y="350"/>
                      </a:lnTo>
                      <a:lnTo>
                        <a:pt x="147" y="364"/>
                      </a:lnTo>
                      <a:lnTo>
                        <a:pt x="156" y="378"/>
                      </a:lnTo>
                      <a:lnTo>
                        <a:pt x="172" y="407"/>
                      </a:lnTo>
                      <a:lnTo>
                        <a:pt x="183" y="431"/>
                      </a:lnTo>
                      <a:lnTo>
                        <a:pt x="201" y="471"/>
                      </a:lnTo>
                      <a:lnTo>
                        <a:pt x="180" y="465"/>
                      </a:lnTo>
                      <a:lnTo>
                        <a:pt x="160" y="453"/>
                      </a:lnTo>
                      <a:lnTo>
                        <a:pt x="140" y="437"/>
                      </a:lnTo>
                      <a:lnTo>
                        <a:pt x="123" y="422"/>
                      </a:lnTo>
                      <a:lnTo>
                        <a:pt x="101" y="403"/>
                      </a:lnTo>
                      <a:lnTo>
                        <a:pt x="85" y="392"/>
                      </a:lnTo>
                      <a:lnTo>
                        <a:pt x="71" y="383"/>
                      </a:lnTo>
                      <a:lnTo>
                        <a:pt x="56" y="376"/>
                      </a:lnTo>
                      <a:lnTo>
                        <a:pt x="41" y="373"/>
                      </a:lnTo>
                      <a:lnTo>
                        <a:pt x="26" y="370"/>
                      </a:lnTo>
                      <a:lnTo>
                        <a:pt x="0" y="367"/>
                      </a:lnTo>
                      <a:lnTo>
                        <a:pt x="23" y="374"/>
                      </a:lnTo>
                      <a:lnTo>
                        <a:pt x="48" y="385"/>
                      </a:lnTo>
                      <a:lnTo>
                        <a:pt x="64" y="396"/>
                      </a:lnTo>
                      <a:lnTo>
                        <a:pt x="75" y="404"/>
                      </a:lnTo>
                      <a:lnTo>
                        <a:pt x="95" y="425"/>
                      </a:lnTo>
                      <a:lnTo>
                        <a:pt x="112" y="448"/>
                      </a:lnTo>
                      <a:lnTo>
                        <a:pt x="135" y="474"/>
                      </a:lnTo>
                      <a:lnTo>
                        <a:pt x="153" y="485"/>
                      </a:lnTo>
                      <a:lnTo>
                        <a:pt x="177" y="497"/>
                      </a:lnTo>
                      <a:lnTo>
                        <a:pt x="217" y="513"/>
                      </a:lnTo>
                      <a:lnTo>
                        <a:pt x="252" y="519"/>
                      </a:lnTo>
                      <a:lnTo>
                        <a:pt x="293" y="51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17000" y="4321080"/>
                  <a:ext cx="675720" cy="810720"/>
                </a:xfrm>
                <a:custGeom>
                  <a:avLst/>
                  <a:gdLst/>
                  <a:ahLst/>
                  <a:rect l="l" t="t" r="r" b="b"/>
                  <a:pathLst>
                    <a:path w="479" h="511">
                      <a:moveTo>
                        <a:pt x="298" y="506"/>
                      </a:moveTo>
                      <a:lnTo>
                        <a:pt x="317" y="502"/>
                      </a:lnTo>
                      <a:lnTo>
                        <a:pt x="347" y="494"/>
                      </a:lnTo>
                      <a:lnTo>
                        <a:pt x="369" y="482"/>
                      </a:lnTo>
                      <a:lnTo>
                        <a:pt x="382" y="470"/>
                      </a:lnTo>
                      <a:lnTo>
                        <a:pt x="391" y="455"/>
                      </a:lnTo>
                      <a:lnTo>
                        <a:pt x="399" y="442"/>
                      </a:lnTo>
                      <a:lnTo>
                        <a:pt x="406" y="424"/>
                      </a:lnTo>
                      <a:lnTo>
                        <a:pt x="409" y="401"/>
                      </a:lnTo>
                      <a:lnTo>
                        <a:pt x="413" y="376"/>
                      </a:lnTo>
                      <a:lnTo>
                        <a:pt x="413" y="360"/>
                      </a:lnTo>
                      <a:lnTo>
                        <a:pt x="416" y="346"/>
                      </a:lnTo>
                      <a:lnTo>
                        <a:pt x="419" y="337"/>
                      </a:lnTo>
                      <a:lnTo>
                        <a:pt x="425" y="327"/>
                      </a:lnTo>
                      <a:lnTo>
                        <a:pt x="431" y="315"/>
                      </a:lnTo>
                      <a:lnTo>
                        <a:pt x="437" y="306"/>
                      </a:lnTo>
                      <a:lnTo>
                        <a:pt x="444" y="298"/>
                      </a:lnTo>
                      <a:lnTo>
                        <a:pt x="450" y="292"/>
                      </a:lnTo>
                      <a:lnTo>
                        <a:pt x="459" y="286"/>
                      </a:lnTo>
                      <a:lnTo>
                        <a:pt x="478" y="276"/>
                      </a:lnTo>
                      <a:lnTo>
                        <a:pt x="455" y="281"/>
                      </a:lnTo>
                      <a:lnTo>
                        <a:pt x="440" y="287"/>
                      </a:lnTo>
                      <a:lnTo>
                        <a:pt x="425" y="294"/>
                      </a:lnTo>
                      <a:lnTo>
                        <a:pt x="413" y="302"/>
                      </a:lnTo>
                      <a:lnTo>
                        <a:pt x="402" y="310"/>
                      </a:lnTo>
                      <a:lnTo>
                        <a:pt x="392" y="320"/>
                      </a:lnTo>
                      <a:lnTo>
                        <a:pt x="381" y="334"/>
                      </a:lnTo>
                      <a:lnTo>
                        <a:pt x="371" y="345"/>
                      </a:lnTo>
                      <a:lnTo>
                        <a:pt x="363" y="357"/>
                      </a:lnTo>
                      <a:lnTo>
                        <a:pt x="371" y="340"/>
                      </a:lnTo>
                      <a:lnTo>
                        <a:pt x="376" y="326"/>
                      </a:lnTo>
                      <a:lnTo>
                        <a:pt x="380" y="310"/>
                      </a:lnTo>
                      <a:lnTo>
                        <a:pt x="382" y="290"/>
                      </a:lnTo>
                      <a:lnTo>
                        <a:pt x="381" y="269"/>
                      </a:lnTo>
                      <a:lnTo>
                        <a:pt x="378" y="250"/>
                      </a:lnTo>
                      <a:lnTo>
                        <a:pt x="374" y="231"/>
                      </a:lnTo>
                      <a:lnTo>
                        <a:pt x="369" y="214"/>
                      </a:lnTo>
                      <a:lnTo>
                        <a:pt x="363" y="198"/>
                      </a:lnTo>
                      <a:lnTo>
                        <a:pt x="356" y="182"/>
                      </a:lnTo>
                      <a:lnTo>
                        <a:pt x="343" y="163"/>
                      </a:lnTo>
                      <a:lnTo>
                        <a:pt x="333" y="150"/>
                      </a:lnTo>
                      <a:lnTo>
                        <a:pt x="321" y="130"/>
                      </a:lnTo>
                      <a:lnTo>
                        <a:pt x="309" y="109"/>
                      </a:lnTo>
                      <a:lnTo>
                        <a:pt x="301" y="90"/>
                      </a:lnTo>
                      <a:lnTo>
                        <a:pt x="295" y="76"/>
                      </a:lnTo>
                      <a:lnTo>
                        <a:pt x="292" y="61"/>
                      </a:lnTo>
                      <a:lnTo>
                        <a:pt x="290" y="46"/>
                      </a:lnTo>
                      <a:lnTo>
                        <a:pt x="290" y="33"/>
                      </a:lnTo>
                      <a:lnTo>
                        <a:pt x="289" y="19"/>
                      </a:lnTo>
                      <a:lnTo>
                        <a:pt x="294" y="0"/>
                      </a:lnTo>
                      <a:lnTo>
                        <a:pt x="283" y="15"/>
                      </a:lnTo>
                      <a:lnTo>
                        <a:pt x="277" y="37"/>
                      </a:lnTo>
                      <a:lnTo>
                        <a:pt x="277" y="60"/>
                      </a:lnTo>
                      <a:lnTo>
                        <a:pt x="276" y="76"/>
                      </a:lnTo>
                      <a:lnTo>
                        <a:pt x="278" y="96"/>
                      </a:lnTo>
                      <a:lnTo>
                        <a:pt x="284" y="111"/>
                      </a:lnTo>
                      <a:lnTo>
                        <a:pt x="289" y="126"/>
                      </a:lnTo>
                      <a:lnTo>
                        <a:pt x="296" y="139"/>
                      </a:lnTo>
                      <a:lnTo>
                        <a:pt x="302" y="155"/>
                      </a:lnTo>
                      <a:lnTo>
                        <a:pt x="303" y="173"/>
                      </a:lnTo>
                      <a:lnTo>
                        <a:pt x="306" y="190"/>
                      </a:lnTo>
                      <a:lnTo>
                        <a:pt x="306" y="208"/>
                      </a:lnTo>
                      <a:lnTo>
                        <a:pt x="306" y="225"/>
                      </a:lnTo>
                      <a:lnTo>
                        <a:pt x="303" y="252"/>
                      </a:lnTo>
                      <a:lnTo>
                        <a:pt x="297" y="269"/>
                      </a:lnTo>
                      <a:lnTo>
                        <a:pt x="282" y="292"/>
                      </a:lnTo>
                      <a:lnTo>
                        <a:pt x="270" y="317"/>
                      </a:lnTo>
                      <a:lnTo>
                        <a:pt x="260" y="341"/>
                      </a:lnTo>
                      <a:lnTo>
                        <a:pt x="253" y="328"/>
                      </a:lnTo>
                      <a:lnTo>
                        <a:pt x="248" y="313"/>
                      </a:lnTo>
                      <a:lnTo>
                        <a:pt x="245" y="298"/>
                      </a:lnTo>
                      <a:lnTo>
                        <a:pt x="243" y="274"/>
                      </a:lnTo>
                      <a:lnTo>
                        <a:pt x="249" y="233"/>
                      </a:lnTo>
                      <a:lnTo>
                        <a:pt x="251" y="220"/>
                      </a:lnTo>
                      <a:lnTo>
                        <a:pt x="251" y="206"/>
                      </a:lnTo>
                      <a:lnTo>
                        <a:pt x="251" y="192"/>
                      </a:lnTo>
                      <a:lnTo>
                        <a:pt x="249" y="174"/>
                      </a:lnTo>
                      <a:lnTo>
                        <a:pt x="245" y="156"/>
                      </a:lnTo>
                      <a:lnTo>
                        <a:pt x="237" y="139"/>
                      </a:lnTo>
                      <a:lnTo>
                        <a:pt x="224" y="115"/>
                      </a:lnTo>
                      <a:lnTo>
                        <a:pt x="232" y="144"/>
                      </a:lnTo>
                      <a:lnTo>
                        <a:pt x="236" y="168"/>
                      </a:lnTo>
                      <a:lnTo>
                        <a:pt x="235" y="188"/>
                      </a:lnTo>
                      <a:lnTo>
                        <a:pt x="234" y="205"/>
                      </a:lnTo>
                      <a:lnTo>
                        <a:pt x="229" y="220"/>
                      </a:lnTo>
                      <a:lnTo>
                        <a:pt x="221" y="238"/>
                      </a:lnTo>
                      <a:lnTo>
                        <a:pt x="202" y="278"/>
                      </a:lnTo>
                      <a:lnTo>
                        <a:pt x="200" y="253"/>
                      </a:lnTo>
                      <a:lnTo>
                        <a:pt x="202" y="232"/>
                      </a:lnTo>
                      <a:lnTo>
                        <a:pt x="204" y="212"/>
                      </a:lnTo>
                      <a:lnTo>
                        <a:pt x="192" y="232"/>
                      </a:lnTo>
                      <a:lnTo>
                        <a:pt x="186" y="249"/>
                      </a:lnTo>
                      <a:lnTo>
                        <a:pt x="181" y="268"/>
                      </a:lnTo>
                      <a:lnTo>
                        <a:pt x="178" y="290"/>
                      </a:lnTo>
                      <a:lnTo>
                        <a:pt x="179" y="317"/>
                      </a:lnTo>
                      <a:lnTo>
                        <a:pt x="183" y="343"/>
                      </a:lnTo>
                      <a:lnTo>
                        <a:pt x="192" y="365"/>
                      </a:lnTo>
                      <a:lnTo>
                        <a:pt x="204" y="392"/>
                      </a:lnTo>
                      <a:lnTo>
                        <a:pt x="222" y="427"/>
                      </a:lnTo>
                      <a:lnTo>
                        <a:pt x="192" y="387"/>
                      </a:lnTo>
                      <a:lnTo>
                        <a:pt x="186" y="376"/>
                      </a:lnTo>
                      <a:lnTo>
                        <a:pt x="172" y="359"/>
                      </a:lnTo>
                      <a:lnTo>
                        <a:pt x="156" y="343"/>
                      </a:lnTo>
                      <a:lnTo>
                        <a:pt x="131" y="324"/>
                      </a:lnTo>
                      <a:lnTo>
                        <a:pt x="146" y="346"/>
                      </a:lnTo>
                      <a:lnTo>
                        <a:pt x="155" y="359"/>
                      </a:lnTo>
                      <a:lnTo>
                        <a:pt x="163" y="372"/>
                      </a:lnTo>
                      <a:lnTo>
                        <a:pt x="179" y="401"/>
                      </a:lnTo>
                      <a:lnTo>
                        <a:pt x="190" y="425"/>
                      </a:lnTo>
                      <a:lnTo>
                        <a:pt x="207" y="464"/>
                      </a:lnTo>
                      <a:lnTo>
                        <a:pt x="187" y="457"/>
                      </a:lnTo>
                      <a:lnTo>
                        <a:pt x="168" y="445"/>
                      </a:lnTo>
                      <a:lnTo>
                        <a:pt x="148" y="430"/>
                      </a:lnTo>
                      <a:lnTo>
                        <a:pt x="132" y="415"/>
                      </a:lnTo>
                      <a:lnTo>
                        <a:pt x="110" y="397"/>
                      </a:lnTo>
                      <a:lnTo>
                        <a:pt x="94" y="387"/>
                      </a:lnTo>
                      <a:lnTo>
                        <a:pt x="80" y="378"/>
                      </a:lnTo>
                      <a:lnTo>
                        <a:pt x="66" y="371"/>
                      </a:lnTo>
                      <a:lnTo>
                        <a:pt x="51" y="368"/>
                      </a:lnTo>
                      <a:lnTo>
                        <a:pt x="36" y="365"/>
                      </a:lnTo>
                      <a:lnTo>
                        <a:pt x="0" y="359"/>
                      </a:lnTo>
                      <a:lnTo>
                        <a:pt x="33" y="369"/>
                      </a:lnTo>
                      <a:lnTo>
                        <a:pt x="57" y="379"/>
                      </a:lnTo>
                      <a:lnTo>
                        <a:pt x="73" y="390"/>
                      </a:lnTo>
                      <a:lnTo>
                        <a:pt x="85" y="399"/>
                      </a:lnTo>
                      <a:lnTo>
                        <a:pt x="103" y="419"/>
                      </a:lnTo>
                      <a:lnTo>
                        <a:pt x="121" y="441"/>
                      </a:lnTo>
                      <a:lnTo>
                        <a:pt x="143" y="466"/>
                      </a:lnTo>
                      <a:lnTo>
                        <a:pt x="160" y="477"/>
                      </a:lnTo>
                      <a:lnTo>
                        <a:pt x="183" y="489"/>
                      </a:lnTo>
                      <a:lnTo>
                        <a:pt x="223" y="504"/>
                      </a:lnTo>
                      <a:lnTo>
                        <a:pt x="257" y="510"/>
                      </a:lnTo>
                      <a:lnTo>
                        <a:pt x="298" y="506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913040" y="4324320"/>
                  <a:ext cx="669960" cy="807480"/>
                </a:xfrm>
                <a:custGeom>
                  <a:avLst/>
                  <a:gdLst/>
                  <a:ahLst/>
                  <a:rect l="l" t="t" r="r" b="b"/>
                  <a:pathLst>
                    <a:path w="475" h="509">
                      <a:moveTo>
                        <a:pt x="291" y="504"/>
                      </a:moveTo>
                      <a:lnTo>
                        <a:pt x="311" y="500"/>
                      </a:lnTo>
                      <a:lnTo>
                        <a:pt x="341" y="492"/>
                      </a:lnTo>
                      <a:lnTo>
                        <a:pt x="363" y="480"/>
                      </a:lnTo>
                      <a:lnTo>
                        <a:pt x="376" y="465"/>
                      </a:lnTo>
                      <a:lnTo>
                        <a:pt x="386" y="450"/>
                      </a:lnTo>
                      <a:lnTo>
                        <a:pt x="394" y="436"/>
                      </a:lnTo>
                      <a:lnTo>
                        <a:pt x="400" y="418"/>
                      </a:lnTo>
                      <a:lnTo>
                        <a:pt x="404" y="393"/>
                      </a:lnTo>
                      <a:lnTo>
                        <a:pt x="407" y="368"/>
                      </a:lnTo>
                      <a:lnTo>
                        <a:pt x="407" y="350"/>
                      </a:lnTo>
                      <a:lnTo>
                        <a:pt x="411" y="336"/>
                      </a:lnTo>
                      <a:lnTo>
                        <a:pt x="414" y="326"/>
                      </a:lnTo>
                      <a:lnTo>
                        <a:pt x="419" y="316"/>
                      </a:lnTo>
                      <a:lnTo>
                        <a:pt x="426" y="303"/>
                      </a:lnTo>
                      <a:lnTo>
                        <a:pt x="432" y="294"/>
                      </a:lnTo>
                      <a:lnTo>
                        <a:pt x="440" y="284"/>
                      </a:lnTo>
                      <a:lnTo>
                        <a:pt x="446" y="280"/>
                      </a:lnTo>
                      <a:lnTo>
                        <a:pt x="454" y="275"/>
                      </a:lnTo>
                      <a:lnTo>
                        <a:pt x="474" y="268"/>
                      </a:lnTo>
                      <a:lnTo>
                        <a:pt x="450" y="272"/>
                      </a:lnTo>
                      <a:lnTo>
                        <a:pt x="435" y="276"/>
                      </a:lnTo>
                      <a:lnTo>
                        <a:pt x="419" y="283"/>
                      </a:lnTo>
                      <a:lnTo>
                        <a:pt x="407" y="290"/>
                      </a:lnTo>
                      <a:lnTo>
                        <a:pt x="396" y="298"/>
                      </a:lnTo>
                      <a:lnTo>
                        <a:pt x="386" y="309"/>
                      </a:lnTo>
                      <a:lnTo>
                        <a:pt x="374" y="324"/>
                      </a:lnTo>
                      <a:lnTo>
                        <a:pt x="365" y="335"/>
                      </a:lnTo>
                      <a:lnTo>
                        <a:pt x="357" y="347"/>
                      </a:lnTo>
                      <a:lnTo>
                        <a:pt x="365" y="329"/>
                      </a:lnTo>
                      <a:lnTo>
                        <a:pt x="370" y="315"/>
                      </a:lnTo>
                      <a:lnTo>
                        <a:pt x="374" y="298"/>
                      </a:lnTo>
                      <a:lnTo>
                        <a:pt x="376" y="276"/>
                      </a:lnTo>
                      <a:lnTo>
                        <a:pt x="375" y="254"/>
                      </a:lnTo>
                      <a:lnTo>
                        <a:pt x="372" y="235"/>
                      </a:lnTo>
                      <a:lnTo>
                        <a:pt x="368" y="214"/>
                      </a:lnTo>
                      <a:lnTo>
                        <a:pt x="363" y="197"/>
                      </a:lnTo>
                      <a:lnTo>
                        <a:pt x="357" y="180"/>
                      </a:lnTo>
                      <a:lnTo>
                        <a:pt x="350" y="163"/>
                      </a:lnTo>
                      <a:lnTo>
                        <a:pt x="336" y="143"/>
                      </a:lnTo>
                      <a:lnTo>
                        <a:pt x="327" y="129"/>
                      </a:lnTo>
                      <a:lnTo>
                        <a:pt x="314" y="109"/>
                      </a:lnTo>
                      <a:lnTo>
                        <a:pt x="302" y="87"/>
                      </a:lnTo>
                      <a:lnTo>
                        <a:pt x="294" y="67"/>
                      </a:lnTo>
                      <a:lnTo>
                        <a:pt x="289" y="52"/>
                      </a:lnTo>
                      <a:lnTo>
                        <a:pt x="285" y="36"/>
                      </a:lnTo>
                      <a:lnTo>
                        <a:pt x="286" y="21"/>
                      </a:lnTo>
                      <a:lnTo>
                        <a:pt x="288" y="13"/>
                      </a:lnTo>
                      <a:lnTo>
                        <a:pt x="295" y="0"/>
                      </a:lnTo>
                      <a:lnTo>
                        <a:pt x="283" y="14"/>
                      </a:lnTo>
                      <a:lnTo>
                        <a:pt x="277" y="24"/>
                      </a:lnTo>
                      <a:lnTo>
                        <a:pt x="274" y="32"/>
                      </a:lnTo>
                      <a:lnTo>
                        <a:pt x="271" y="42"/>
                      </a:lnTo>
                      <a:lnTo>
                        <a:pt x="271" y="54"/>
                      </a:lnTo>
                      <a:lnTo>
                        <a:pt x="271" y="73"/>
                      </a:lnTo>
                      <a:lnTo>
                        <a:pt x="277" y="89"/>
                      </a:lnTo>
                      <a:lnTo>
                        <a:pt x="283" y="104"/>
                      </a:lnTo>
                      <a:lnTo>
                        <a:pt x="290" y="118"/>
                      </a:lnTo>
                      <a:lnTo>
                        <a:pt x="295" y="136"/>
                      </a:lnTo>
                      <a:lnTo>
                        <a:pt x="297" y="153"/>
                      </a:lnTo>
                      <a:lnTo>
                        <a:pt x="299" y="172"/>
                      </a:lnTo>
                      <a:lnTo>
                        <a:pt x="300" y="191"/>
                      </a:lnTo>
                      <a:lnTo>
                        <a:pt x="300" y="208"/>
                      </a:lnTo>
                      <a:lnTo>
                        <a:pt x="297" y="237"/>
                      </a:lnTo>
                      <a:lnTo>
                        <a:pt x="291" y="254"/>
                      </a:lnTo>
                      <a:lnTo>
                        <a:pt x="275" y="280"/>
                      </a:lnTo>
                      <a:lnTo>
                        <a:pt x="263" y="305"/>
                      </a:lnTo>
                      <a:lnTo>
                        <a:pt x="253" y="330"/>
                      </a:lnTo>
                      <a:lnTo>
                        <a:pt x="246" y="316"/>
                      </a:lnTo>
                      <a:lnTo>
                        <a:pt x="241" y="301"/>
                      </a:lnTo>
                      <a:lnTo>
                        <a:pt x="237" y="285"/>
                      </a:lnTo>
                      <a:lnTo>
                        <a:pt x="236" y="260"/>
                      </a:lnTo>
                      <a:lnTo>
                        <a:pt x="241" y="216"/>
                      </a:lnTo>
                      <a:lnTo>
                        <a:pt x="244" y="204"/>
                      </a:lnTo>
                      <a:lnTo>
                        <a:pt x="244" y="188"/>
                      </a:lnTo>
                      <a:lnTo>
                        <a:pt x="244" y="174"/>
                      </a:lnTo>
                      <a:lnTo>
                        <a:pt x="241" y="155"/>
                      </a:lnTo>
                      <a:lnTo>
                        <a:pt x="237" y="136"/>
                      </a:lnTo>
                      <a:lnTo>
                        <a:pt x="230" y="118"/>
                      </a:lnTo>
                      <a:lnTo>
                        <a:pt x="217" y="93"/>
                      </a:lnTo>
                      <a:lnTo>
                        <a:pt x="224" y="123"/>
                      </a:lnTo>
                      <a:lnTo>
                        <a:pt x="228" y="148"/>
                      </a:lnTo>
                      <a:lnTo>
                        <a:pt x="228" y="169"/>
                      </a:lnTo>
                      <a:lnTo>
                        <a:pt x="226" y="187"/>
                      </a:lnTo>
                      <a:lnTo>
                        <a:pt x="221" y="203"/>
                      </a:lnTo>
                      <a:lnTo>
                        <a:pt x="214" y="222"/>
                      </a:lnTo>
                      <a:lnTo>
                        <a:pt x="194" y="264"/>
                      </a:lnTo>
                      <a:lnTo>
                        <a:pt x="195" y="239"/>
                      </a:lnTo>
                      <a:lnTo>
                        <a:pt x="201" y="217"/>
                      </a:lnTo>
                      <a:lnTo>
                        <a:pt x="205" y="201"/>
                      </a:lnTo>
                      <a:lnTo>
                        <a:pt x="190" y="220"/>
                      </a:lnTo>
                      <a:lnTo>
                        <a:pt x="182" y="234"/>
                      </a:lnTo>
                      <a:lnTo>
                        <a:pt x="175" y="254"/>
                      </a:lnTo>
                      <a:lnTo>
                        <a:pt x="170" y="276"/>
                      </a:lnTo>
                      <a:lnTo>
                        <a:pt x="171" y="305"/>
                      </a:lnTo>
                      <a:lnTo>
                        <a:pt x="176" y="333"/>
                      </a:lnTo>
                      <a:lnTo>
                        <a:pt x="184" y="356"/>
                      </a:lnTo>
                      <a:lnTo>
                        <a:pt x="196" y="384"/>
                      </a:lnTo>
                      <a:lnTo>
                        <a:pt x="215" y="421"/>
                      </a:lnTo>
                      <a:lnTo>
                        <a:pt x="185" y="378"/>
                      </a:lnTo>
                      <a:lnTo>
                        <a:pt x="177" y="367"/>
                      </a:lnTo>
                      <a:lnTo>
                        <a:pt x="164" y="350"/>
                      </a:lnTo>
                      <a:lnTo>
                        <a:pt x="148" y="333"/>
                      </a:lnTo>
                      <a:lnTo>
                        <a:pt x="122" y="313"/>
                      </a:lnTo>
                      <a:lnTo>
                        <a:pt x="138" y="336"/>
                      </a:lnTo>
                      <a:lnTo>
                        <a:pt x="146" y="349"/>
                      </a:lnTo>
                      <a:lnTo>
                        <a:pt x="155" y="364"/>
                      </a:lnTo>
                      <a:lnTo>
                        <a:pt x="171" y="394"/>
                      </a:lnTo>
                      <a:lnTo>
                        <a:pt x="182" y="419"/>
                      </a:lnTo>
                      <a:lnTo>
                        <a:pt x="199" y="460"/>
                      </a:lnTo>
                      <a:lnTo>
                        <a:pt x="178" y="452"/>
                      </a:lnTo>
                      <a:lnTo>
                        <a:pt x="160" y="440"/>
                      </a:lnTo>
                      <a:lnTo>
                        <a:pt x="140" y="424"/>
                      </a:lnTo>
                      <a:lnTo>
                        <a:pt x="123" y="408"/>
                      </a:lnTo>
                      <a:lnTo>
                        <a:pt x="101" y="389"/>
                      </a:lnTo>
                      <a:lnTo>
                        <a:pt x="85" y="378"/>
                      </a:lnTo>
                      <a:lnTo>
                        <a:pt x="71" y="369"/>
                      </a:lnTo>
                      <a:lnTo>
                        <a:pt x="57" y="362"/>
                      </a:lnTo>
                      <a:lnTo>
                        <a:pt x="41" y="359"/>
                      </a:lnTo>
                      <a:lnTo>
                        <a:pt x="27" y="357"/>
                      </a:lnTo>
                      <a:lnTo>
                        <a:pt x="0" y="357"/>
                      </a:lnTo>
                      <a:lnTo>
                        <a:pt x="23" y="361"/>
                      </a:lnTo>
                      <a:lnTo>
                        <a:pt x="34" y="364"/>
                      </a:lnTo>
                      <a:lnTo>
                        <a:pt x="48" y="371"/>
                      </a:lnTo>
                      <a:lnTo>
                        <a:pt x="65" y="382"/>
                      </a:lnTo>
                      <a:lnTo>
                        <a:pt x="76" y="391"/>
                      </a:lnTo>
                      <a:lnTo>
                        <a:pt x="95" y="412"/>
                      </a:lnTo>
                      <a:lnTo>
                        <a:pt x="112" y="435"/>
                      </a:lnTo>
                      <a:lnTo>
                        <a:pt x="135" y="461"/>
                      </a:lnTo>
                      <a:lnTo>
                        <a:pt x="152" y="473"/>
                      </a:lnTo>
                      <a:lnTo>
                        <a:pt x="176" y="485"/>
                      </a:lnTo>
                      <a:lnTo>
                        <a:pt x="216" y="502"/>
                      </a:lnTo>
                      <a:lnTo>
                        <a:pt x="249" y="508"/>
                      </a:lnTo>
                      <a:lnTo>
                        <a:pt x="291" y="504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36800" y="4357440"/>
                  <a:ext cx="631800" cy="765000"/>
                </a:xfrm>
                <a:custGeom>
                  <a:avLst/>
                  <a:gdLst/>
                  <a:ahLst/>
                  <a:rect l="l" t="t" r="r" b="b"/>
                  <a:pathLst>
                    <a:path w="448" h="482">
                      <a:moveTo>
                        <a:pt x="278" y="477"/>
                      </a:moveTo>
                      <a:lnTo>
                        <a:pt x="295" y="473"/>
                      </a:lnTo>
                      <a:lnTo>
                        <a:pt x="324" y="466"/>
                      </a:lnTo>
                      <a:lnTo>
                        <a:pt x="344" y="455"/>
                      </a:lnTo>
                      <a:lnTo>
                        <a:pt x="356" y="442"/>
                      </a:lnTo>
                      <a:lnTo>
                        <a:pt x="366" y="429"/>
                      </a:lnTo>
                      <a:lnTo>
                        <a:pt x="373" y="416"/>
                      </a:lnTo>
                      <a:lnTo>
                        <a:pt x="379" y="399"/>
                      </a:lnTo>
                      <a:lnTo>
                        <a:pt x="382" y="377"/>
                      </a:lnTo>
                      <a:lnTo>
                        <a:pt x="385" y="354"/>
                      </a:lnTo>
                      <a:lnTo>
                        <a:pt x="386" y="337"/>
                      </a:lnTo>
                      <a:lnTo>
                        <a:pt x="389" y="325"/>
                      </a:lnTo>
                      <a:lnTo>
                        <a:pt x="391" y="316"/>
                      </a:lnTo>
                      <a:lnTo>
                        <a:pt x="397" y="306"/>
                      </a:lnTo>
                      <a:lnTo>
                        <a:pt x="402" y="295"/>
                      </a:lnTo>
                      <a:lnTo>
                        <a:pt x="409" y="286"/>
                      </a:lnTo>
                      <a:lnTo>
                        <a:pt x="416" y="278"/>
                      </a:lnTo>
                      <a:lnTo>
                        <a:pt x="421" y="273"/>
                      </a:lnTo>
                      <a:lnTo>
                        <a:pt x="429" y="267"/>
                      </a:lnTo>
                      <a:lnTo>
                        <a:pt x="447" y="257"/>
                      </a:lnTo>
                      <a:lnTo>
                        <a:pt x="426" y="263"/>
                      </a:lnTo>
                      <a:lnTo>
                        <a:pt x="411" y="268"/>
                      </a:lnTo>
                      <a:lnTo>
                        <a:pt x="397" y="275"/>
                      </a:lnTo>
                      <a:lnTo>
                        <a:pt x="386" y="282"/>
                      </a:lnTo>
                      <a:lnTo>
                        <a:pt x="375" y="290"/>
                      </a:lnTo>
                      <a:lnTo>
                        <a:pt x="366" y="300"/>
                      </a:lnTo>
                      <a:lnTo>
                        <a:pt x="355" y="314"/>
                      </a:lnTo>
                      <a:lnTo>
                        <a:pt x="346" y="324"/>
                      </a:lnTo>
                      <a:lnTo>
                        <a:pt x="339" y="334"/>
                      </a:lnTo>
                      <a:lnTo>
                        <a:pt x="346" y="319"/>
                      </a:lnTo>
                      <a:lnTo>
                        <a:pt x="351" y="305"/>
                      </a:lnTo>
                      <a:lnTo>
                        <a:pt x="355" y="290"/>
                      </a:lnTo>
                      <a:lnTo>
                        <a:pt x="356" y="271"/>
                      </a:lnTo>
                      <a:lnTo>
                        <a:pt x="356" y="251"/>
                      </a:lnTo>
                      <a:lnTo>
                        <a:pt x="353" y="233"/>
                      </a:lnTo>
                      <a:lnTo>
                        <a:pt x="349" y="214"/>
                      </a:lnTo>
                      <a:lnTo>
                        <a:pt x="345" y="198"/>
                      </a:lnTo>
                      <a:lnTo>
                        <a:pt x="339" y="183"/>
                      </a:lnTo>
                      <a:lnTo>
                        <a:pt x="332" y="169"/>
                      </a:lnTo>
                      <a:lnTo>
                        <a:pt x="320" y="150"/>
                      </a:lnTo>
                      <a:lnTo>
                        <a:pt x="311" y="137"/>
                      </a:lnTo>
                      <a:lnTo>
                        <a:pt x="299" y="119"/>
                      </a:lnTo>
                      <a:lnTo>
                        <a:pt x="288" y="99"/>
                      </a:lnTo>
                      <a:lnTo>
                        <a:pt x="280" y="80"/>
                      </a:lnTo>
                      <a:lnTo>
                        <a:pt x="275" y="67"/>
                      </a:lnTo>
                      <a:lnTo>
                        <a:pt x="272" y="53"/>
                      </a:lnTo>
                      <a:lnTo>
                        <a:pt x="270" y="38"/>
                      </a:lnTo>
                      <a:lnTo>
                        <a:pt x="270" y="26"/>
                      </a:lnTo>
                      <a:lnTo>
                        <a:pt x="271" y="15"/>
                      </a:lnTo>
                      <a:lnTo>
                        <a:pt x="272" y="0"/>
                      </a:lnTo>
                      <a:lnTo>
                        <a:pt x="265" y="20"/>
                      </a:lnTo>
                      <a:lnTo>
                        <a:pt x="260" y="37"/>
                      </a:lnTo>
                      <a:lnTo>
                        <a:pt x="258" y="52"/>
                      </a:lnTo>
                      <a:lnTo>
                        <a:pt x="257" y="67"/>
                      </a:lnTo>
                      <a:lnTo>
                        <a:pt x="260" y="86"/>
                      </a:lnTo>
                      <a:lnTo>
                        <a:pt x="264" y="101"/>
                      </a:lnTo>
                      <a:lnTo>
                        <a:pt x="270" y="115"/>
                      </a:lnTo>
                      <a:lnTo>
                        <a:pt x="276" y="127"/>
                      </a:lnTo>
                      <a:lnTo>
                        <a:pt x="281" y="143"/>
                      </a:lnTo>
                      <a:lnTo>
                        <a:pt x="283" y="159"/>
                      </a:lnTo>
                      <a:lnTo>
                        <a:pt x="284" y="176"/>
                      </a:lnTo>
                      <a:lnTo>
                        <a:pt x="286" y="193"/>
                      </a:lnTo>
                      <a:lnTo>
                        <a:pt x="286" y="209"/>
                      </a:lnTo>
                      <a:lnTo>
                        <a:pt x="283" y="234"/>
                      </a:lnTo>
                      <a:lnTo>
                        <a:pt x="277" y="251"/>
                      </a:lnTo>
                      <a:lnTo>
                        <a:pt x="263" y="274"/>
                      </a:lnTo>
                      <a:lnTo>
                        <a:pt x="252" y="297"/>
                      </a:lnTo>
                      <a:lnTo>
                        <a:pt x="242" y="319"/>
                      </a:lnTo>
                      <a:lnTo>
                        <a:pt x="236" y="307"/>
                      </a:lnTo>
                      <a:lnTo>
                        <a:pt x="231" y="293"/>
                      </a:lnTo>
                      <a:lnTo>
                        <a:pt x="228" y="278"/>
                      </a:lnTo>
                      <a:lnTo>
                        <a:pt x="226" y="256"/>
                      </a:lnTo>
                      <a:lnTo>
                        <a:pt x="231" y="216"/>
                      </a:lnTo>
                      <a:lnTo>
                        <a:pt x="233" y="205"/>
                      </a:lnTo>
                      <a:lnTo>
                        <a:pt x="234" y="191"/>
                      </a:lnTo>
                      <a:lnTo>
                        <a:pt x="234" y="178"/>
                      </a:lnTo>
                      <a:lnTo>
                        <a:pt x="231" y="160"/>
                      </a:lnTo>
                      <a:lnTo>
                        <a:pt x="228" y="143"/>
                      </a:lnTo>
                      <a:lnTo>
                        <a:pt x="221" y="127"/>
                      </a:lnTo>
                      <a:lnTo>
                        <a:pt x="209" y="105"/>
                      </a:lnTo>
                      <a:lnTo>
                        <a:pt x="215" y="132"/>
                      </a:lnTo>
                      <a:lnTo>
                        <a:pt x="219" y="155"/>
                      </a:lnTo>
                      <a:lnTo>
                        <a:pt x="219" y="174"/>
                      </a:lnTo>
                      <a:lnTo>
                        <a:pt x="217" y="190"/>
                      </a:lnTo>
                      <a:lnTo>
                        <a:pt x="213" y="204"/>
                      </a:lnTo>
                      <a:lnTo>
                        <a:pt x="206" y="222"/>
                      </a:lnTo>
                      <a:lnTo>
                        <a:pt x="188" y="260"/>
                      </a:lnTo>
                      <a:lnTo>
                        <a:pt x="187" y="236"/>
                      </a:lnTo>
                      <a:lnTo>
                        <a:pt x="188" y="216"/>
                      </a:lnTo>
                      <a:lnTo>
                        <a:pt x="187" y="184"/>
                      </a:lnTo>
                      <a:lnTo>
                        <a:pt x="176" y="215"/>
                      </a:lnTo>
                      <a:lnTo>
                        <a:pt x="172" y="232"/>
                      </a:lnTo>
                      <a:lnTo>
                        <a:pt x="168" y="250"/>
                      </a:lnTo>
                      <a:lnTo>
                        <a:pt x="165" y="271"/>
                      </a:lnTo>
                      <a:lnTo>
                        <a:pt x="166" y="297"/>
                      </a:lnTo>
                      <a:lnTo>
                        <a:pt x="171" y="322"/>
                      </a:lnTo>
                      <a:lnTo>
                        <a:pt x="178" y="343"/>
                      </a:lnTo>
                      <a:lnTo>
                        <a:pt x="189" y="369"/>
                      </a:lnTo>
                      <a:lnTo>
                        <a:pt x="206" y="402"/>
                      </a:lnTo>
                      <a:lnTo>
                        <a:pt x="179" y="363"/>
                      </a:lnTo>
                      <a:lnTo>
                        <a:pt x="172" y="353"/>
                      </a:lnTo>
                      <a:lnTo>
                        <a:pt x="160" y="337"/>
                      </a:lnTo>
                      <a:lnTo>
                        <a:pt x="144" y="322"/>
                      </a:lnTo>
                      <a:lnTo>
                        <a:pt x="112" y="295"/>
                      </a:lnTo>
                      <a:lnTo>
                        <a:pt x="135" y="325"/>
                      </a:lnTo>
                      <a:lnTo>
                        <a:pt x="143" y="337"/>
                      </a:lnTo>
                      <a:lnTo>
                        <a:pt x="151" y="350"/>
                      </a:lnTo>
                      <a:lnTo>
                        <a:pt x="165" y="377"/>
                      </a:lnTo>
                      <a:lnTo>
                        <a:pt x="176" y="400"/>
                      </a:lnTo>
                      <a:lnTo>
                        <a:pt x="193" y="437"/>
                      </a:lnTo>
                      <a:lnTo>
                        <a:pt x="173" y="431"/>
                      </a:lnTo>
                      <a:lnTo>
                        <a:pt x="155" y="419"/>
                      </a:lnTo>
                      <a:lnTo>
                        <a:pt x="137" y="405"/>
                      </a:lnTo>
                      <a:lnTo>
                        <a:pt x="121" y="391"/>
                      </a:lnTo>
                      <a:lnTo>
                        <a:pt x="101" y="373"/>
                      </a:lnTo>
                      <a:lnTo>
                        <a:pt x="86" y="363"/>
                      </a:lnTo>
                      <a:lnTo>
                        <a:pt x="73" y="355"/>
                      </a:lnTo>
                      <a:lnTo>
                        <a:pt x="60" y="348"/>
                      </a:lnTo>
                      <a:lnTo>
                        <a:pt x="48" y="345"/>
                      </a:lnTo>
                      <a:lnTo>
                        <a:pt x="33" y="342"/>
                      </a:lnTo>
                      <a:lnTo>
                        <a:pt x="15" y="340"/>
                      </a:lnTo>
                      <a:lnTo>
                        <a:pt x="0" y="338"/>
                      </a:lnTo>
                      <a:lnTo>
                        <a:pt x="29" y="347"/>
                      </a:lnTo>
                      <a:lnTo>
                        <a:pt x="52" y="357"/>
                      </a:lnTo>
                      <a:lnTo>
                        <a:pt x="67" y="366"/>
                      </a:lnTo>
                      <a:lnTo>
                        <a:pt x="78" y="374"/>
                      </a:lnTo>
                      <a:lnTo>
                        <a:pt x="96" y="394"/>
                      </a:lnTo>
                      <a:lnTo>
                        <a:pt x="112" y="415"/>
                      </a:lnTo>
                      <a:lnTo>
                        <a:pt x="133" y="439"/>
                      </a:lnTo>
                      <a:lnTo>
                        <a:pt x="149" y="449"/>
                      </a:lnTo>
                      <a:lnTo>
                        <a:pt x="171" y="461"/>
                      </a:lnTo>
                      <a:lnTo>
                        <a:pt x="207" y="475"/>
                      </a:lnTo>
                      <a:lnTo>
                        <a:pt x="239" y="481"/>
                      </a:lnTo>
                      <a:lnTo>
                        <a:pt x="278" y="477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949400" y="4348080"/>
                  <a:ext cx="626400" cy="783720"/>
                </a:xfrm>
                <a:custGeom>
                  <a:avLst/>
                  <a:gdLst/>
                  <a:ahLst/>
                  <a:rect l="l" t="t" r="r" b="b"/>
                  <a:pathLst>
                    <a:path w="444" h="494">
                      <a:moveTo>
                        <a:pt x="262" y="488"/>
                      </a:moveTo>
                      <a:lnTo>
                        <a:pt x="279" y="485"/>
                      </a:lnTo>
                      <a:lnTo>
                        <a:pt x="307" y="478"/>
                      </a:lnTo>
                      <a:lnTo>
                        <a:pt x="327" y="466"/>
                      </a:lnTo>
                      <a:lnTo>
                        <a:pt x="338" y="453"/>
                      </a:lnTo>
                      <a:lnTo>
                        <a:pt x="347" y="439"/>
                      </a:lnTo>
                      <a:lnTo>
                        <a:pt x="354" y="426"/>
                      </a:lnTo>
                      <a:lnTo>
                        <a:pt x="360" y="409"/>
                      </a:lnTo>
                      <a:lnTo>
                        <a:pt x="364" y="387"/>
                      </a:lnTo>
                      <a:lnTo>
                        <a:pt x="366" y="362"/>
                      </a:lnTo>
                      <a:lnTo>
                        <a:pt x="367" y="346"/>
                      </a:lnTo>
                      <a:lnTo>
                        <a:pt x="370" y="333"/>
                      </a:lnTo>
                      <a:lnTo>
                        <a:pt x="372" y="324"/>
                      </a:lnTo>
                      <a:lnTo>
                        <a:pt x="378" y="313"/>
                      </a:lnTo>
                      <a:lnTo>
                        <a:pt x="383" y="302"/>
                      </a:lnTo>
                      <a:lnTo>
                        <a:pt x="389" y="294"/>
                      </a:lnTo>
                      <a:lnTo>
                        <a:pt x="395" y="285"/>
                      </a:lnTo>
                      <a:lnTo>
                        <a:pt x="401" y="280"/>
                      </a:lnTo>
                      <a:lnTo>
                        <a:pt x="409" y="274"/>
                      </a:lnTo>
                      <a:lnTo>
                        <a:pt x="443" y="256"/>
                      </a:lnTo>
                      <a:lnTo>
                        <a:pt x="423" y="261"/>
                      </a:lnTo>
                      <a:lnTo>
                        <a:pt x="405" y="268"/>
                      </a:lnTo>
                      <a:lnTo>
                        <a:pt x="391" y="275"/>
                      </a:lnTo>
                      <a:lnTo>
                        <a:pt x="378" y="282"/>
                      </a:lnTo>
                      <a:lnTo>
                        <a:pt x="367" y="289"/>
                      </a:lnTo>
                      <a:lnTo>
                        <a:pt x="357" y="297"/>
                      </a:lnTo>
                      <a:lnTo>
                        <a:pt x="348" y="308"/>
                      </a:lnTo>
                      <a:lnTo>
                        <a:pt x="337" y="321"/>
                      </a:lnTo>
                      <a:lnTo>
                        <a:pt x="329" y="332"/>
                      </a:lnTo>
                      <a:lnTo>
                        <a:pt x="322" y="343"/>
                      </a:lnTo>
                      <a:lnTo>
                        <a:pt x="329" y="327"/>
                      </a:lnTo>
                      <a:lnTo>
                        <a:pt x="333" y="313"/>
                      </a:lnTo>
                      <a:lnTo>
                        <a:pt x="337" y="297"/>
                      </a:lnTo>
                      <a:lnTo>
                        <a:pt x="338" y="277"/>
                      </a:lnTo>
                      <a:lnTo>
                        <a:pt x="338" y="257"/>
                      </a:lnTo>
                      <a:lnTo>
                        <a:pt x="335" y="239"/>
                      </a:lnTo>
                      <a:lnTo>
                        <a:pt x="331" y="220"/>
                      </a:lnTo>
                      <a:lnTo>
                        <a:pt x="327" y="203"/>
                      </a:lnTo>
                      <a:lnTo>
                        <a:pt x="322" y="188"/>
                      </a:lnTo>
                      <a:lnTo>
                        <a:pt x="315" y="172"/>
                      </a:lnTo>
                      <a:lnTo>
                        <a:pt x="303" y="153"/>
                      </a:lnTo>
                      <a:lnTo>
                        <a:pt x="295" y="141"/>
                      </a:lnTo>
                      <a:lnTo>
                        <a:pt x="283" y="122"/>
                      </a:lnTo>
                      <a:lnTo>
                        <a:pt x="272" y="101"/>
                      </a:lnTo>
                      <a:lnTo>
                        <a:pt x="264" y="82"/>
                      </a:lnTo>
                      <a:lnTo>
                        <a:pt x="260" y="69"/>
                      </a:lnTo>
                      <a:lnTo>
                        <a:pt x="257" y="54"/>
                      </a:lnTo>
                      <a:lnTo>
                        <a:pt x="255" y="39"/>
                      </a:lnTo>
                      <a:lnTo>
                        <a:pt x="255" y="27"/>
                      </a:lnTo>
                      <a:lnTo>
                        <a:pt x="256" y="15"/>
                      </a:lnTo>
                      <a:lnTo>
                        <a:pt x="257" y="0"/>
                      </a:lnTo>
                      <a:lnTo>
                        <a:pt x="250" y="20"/>
                      </a:lnTo>
                      <a:lnTo>
                        <a:pt x="246" y="38"/>
                      </a:lnTo>
                      <a:lnTo>
                        <a:pt x="242" y="53"/>
                      </a:lnTo>
                      <a:lnTo>
                        <a:pt x="242" y="69"/>
                      </a:lnTo>
                      <a:lnTo>
                        <a:pt x="245" y="88"/>
                      </a:lnTo>
                      <a:lnTo>
                        <a:pt x="249" y="103"/>
                      </a:lnTo>
                      <a:lnTo>
                        <a:pt x="255" y="117"/>
                      </a:lnTo>
                      <a:lnTo>
                        <a:pt x="261" y="130"/>
                      </a:lnTo>
                      <a:lnTo>
                        <a:pt x="266" y="146"/>
                      </a:lnTo>
                      <a:lnTo>
                        <a:pt x="268" y="163"/>
                      </a:lnTo>
                      <a:lnTo>
                        <a:pt x="269" y="180"/>
                      </a:lnTo>
                      <a:lnTo>
                        <a:pt x="270" y="198"/>
                      </a:lnTo>
                      <a:lnTo>
                        <a:pt x="270" y="214"/>
                      </a:lnTo>
                      <a:lnTo>
                        <a:pt x="267" y="241"/>
                      </a:lnTo>
                      <a:lnTo>
                        <a:pt x="262" y="257"/>
                      </a:lnTo>
                      <a:lnTo>
                        <a:pt x="248" y="281"/>
                      </a:lnTo>
                      <a:lnTo>
                        <a:pt x="237" y="305"/>
                      </a:lnTo>
                      <a:lnTo>
                        <a:pt x="228" y="328"/>
                      </a:lnTo>
                      <a:lnTo>
                        <a:pt x="222" y="314"/>
                      </a:lnTo>
                      <a:lnTo>
                        <a:pt x="217" y="300"/>
                      </a:lnTo>
                      <a:lnTo>
                        <a:pt x="214" y="285"/>
                      </a:lnTo>
                      <a:lnTo>
                        <a:pt x="213" y="262"/>
                      </a:lnTo>
                      <a:lnTo>
                        <a:pt x="217" y="221"/>
                      </a:lnTo>
                      <a:lnTo>
                        <a:pt x="219" y="209"/>
                      </a:lnTo>
                      <a:lnTo>
                        <a:pt x="220" y="195"/>
                      </a:lnTo>
                      <a:lnTo>
                        <a:pt x="220" y="182"/>
                      </a:lnTo>
                      <a:lnTo>
                        <a:pt x="217" y="164"/>
                      </a:lnTo>
                      <a:lnTo>
                        <a:pt x="214" y="147"/>
                      </a:lnTo>
                      <a:lnTo>
                        <a:pt x="207" y="130"/>
                      </a:lnTo>
                      <a:lnTo>
                        <a:pt x="195" y="107"/>
                      </a:lnTo>
                      <a:lnTo>
                        <a:pt x="202" y="135"/>
                      </a:lnTo>
                      <a:lnTo>
                        <a:pt x="206" y="158"/>
                      </a:lnTo>
                      <a:lnTo>
                        <a:pt x="205" y="178"/>
                      </a:lnTo>
                      <a:lnTo>
                        <a:pt x="204" y="194"/>
                      </a:lnTo>
                      <a:lnTo>
                        <a:pt x="200" y="209"/>
                      </a:lnTo>
                      <a:lnTo>
                        <a:pt x="192" y="228"/>
                      </a:lnTo>
                      <a:lnTo>
                        <a:pt x="175" y="266"/>
                      </a:lnTo>
                      <a:lnTo>
                        <a:pt x="174" y="242"/>
                      </a:lnTo>
                      <a:lnTo>
                        <a:pt x="175" y="221"/>
                      </a:lnTo>
                      <a:lnTo>
                        <a:pt x="177" y="201"/>
                      </a:lnTo>
                      <a:lnTo>
                        <a:pt x="167" y="221"/>
                      </a:lnTo>
                      <a:lnTo>
                        <a:pt x="160" y="238"/>
                      </a:lnTo>
                      <a:lnTo>
                        <a:pt x="156" y="256"/>
                      </a:lnTo>
                      <a:lnTo>
                        <a:pt x="153" y="278"/>
                      </a:lnTo>
                      <a:lnTo>
                        <a:pt x="154" y="305"/>
                      </a:lnTo>
                      <a:lnTo>
                        <a:pt x="159" y="330"/>
                      </a:lnTo>
                      <a:lnTo>
                        <a:pt x="165" y="351"/>
                      </a:lnTo>
                      <a:lnTo>
                        <a:pt x="176" y="378"/>
                      </a:lnTo>
                      <a:lnTo>
                        <a:pt x="193" y="412"/>
                      </a:lnTo>
                      <a:lnTo>
                        <a:pt x="167" y="372"/>
                      </a:lnTo>
                      <a:lnTo>
                        <a:pt x="160" y="362"/>
                      </a:lnTo>
                      <a:lnTo>
                        <a:pt x="148" y="346"/>
                      </a:lnTo>
                      <a:lnTo>
                        <a:pt x="134" y="330"/>
                      </a:lnTo>
                      <a:lnTo>
                        <a:pt x="110" y="311"/>
                      </a:lnTo>
                      <a:lnTo>
                        <a:pt x="124" y="332"/>
                      </a:lnTo>
                      <a:lnTo>
                        <a:pt x="132" y="346"/>
                      </a:lnTo>
                      <a:lnTo>
                        <a:pt x="140" y="358"/>
                      </a:lnTo>
                      <a:lnTo>
                        <a:pt x="154" y="387"/>
                      </a:lnTo>
                      <a:lnTo>
                        <a:pt x="164" y="410"/>
                      </a:lnTo>
                      <a:lnTo>
                        <a:pt x="180" y="448"/>
                      </a:lnTo>
                      <a:lnTo>
                        <a:pt x="161" y="441"/>
                      </a:lnTo>
                      <a:lnTo>
                        <a:pt x="144" y="430"/>
                      </a:lnTo>
                      <a:lnTo>
                        <a:pt x="126" y="415"/>
                      </a:lnTo>
                      <a:lnTo>
                        <a:pt x="111" y="400"/>
                      </a:lnTo>
                      <a:lnTo>
                        <a:pt x="91" y="383"/>
                      </a:lnTo>
                      <a:lnTo>
                        <a:pt x="76" y="372"/>
                      </a:lnTo>
                      <a:lnTo>
                        <a:pt x="64" y="364"/>
                      </a:lnTo>
                      <a:lnTo>
                        <a:pt x="51" y="357"/>
                      </a:lnTo>
                      <a:lnTo>
                        <a:pt x="38" y="354"/>
                      </a:lnTo>
                      <a:lnTo>
                        <a:pt x="25" y="351"/>
                      </a:lnTo>
                      <a:lnTo>
                        <a:pt x="0" y="349"/>
                      </a:lnTo>
                      <a:lnTo>
                        <a:pt x="21" y="355"/>
                      </a:lnTo>
                      <a:lnTo>
                        <a:pt x="43" y="365"/>
                      </a:lnTo>
                      <a:lnTo>
                        <a:pt x="59" y="376"/>
                      </a:lnTo>
                      <a:lnTo>
                        <a:pt x="68" y="384"/>
                      </a:lnTo>
                      <a:lnTo>
                        <a:pt x="85" y="403"/>
                      </a:lnTo>
                      <a:lnTo>
                        <a:pt x="101" y="425"/>
                      </a:lnTo>
                      <a:lnTo>
                        <a:pt x="122" y="450"/>
                      </a:lnTo>
                      <a:lnTo>
                        <a:pt x="137" y="461"/>
                      </a:lnTo>
                      <a:lnTo>
                        <a:pt x="159" y="472"/>
                      </a:lnTo>
                      <a:lnTo>
                        <a:pt x="194" y="487"/>
                      </a:lnTo>
                      <a:lnTo>
                        <a:pt x="225" y="493"/>
                      </a:lnTo>
                      <a:lnTo>
                        <a:pt x="262" y="488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947960" y="4381200"/>
                  <a:ext cx="623520" cy="747360"/>
                </a:xfrm>
                <a:custGeom>
                  <a:avLst/>
                  <a:gdLst/>
                  <a:ahLst/>
                  <a:rect l="l" t="t" r="r" b="b"/>
                  <a:pathLst>
                    <a:path w="442" h="471">
                      <a:moveTo>
                        <a:pt x="272" y="465"/>
                      </a:moveTo>
                      <a:lnTo>
                        <a:pt x="290" y="462"/>
                      </a:lnTo>
                      <a:lnTo>
                        <a:pt x="318" y="455"/>
                      </a:lnTo>
                      <a:lnTo>
                        <a:pt x="338" y="444"/>
                      </a:lnTo>
                      <a:lnTo>
                        <a:pt x="351" y="432"/>
                      </a:lnTo>
                      <a:lnTo>
                        <a:pt x="359" y="419"/>
                      </a:lnTo>
                      <a:lnTo>
                        <a:pt x="367" y="406"/>
                      </a:lnTo>
                      <a:lnTo>
                        <a:pt x="373" y="390"/>
                      </a:lnTo>
                      <a:lnTo>
                        <a:pt x="377" y="369"/>
                      </a:lnTo>
                      <a:lnTo>
                        <a:pt x="380" y="345"/>
                      </a:lnTo>
                      <a:lnTo>
                        <a:pt x="380" y="329"/>
                      </a:lnTo>
                      <a:lnTo>
                        <a:pt x="383" y="317"/>
                      </a:lnTo>
                      <a:lnTo>
                        <a:pt x="385" y="308"/>
                      </a:lnTo>
                      <a:lnTo>
                        <a:pt x="391" y="299"/>
                      </a:lnTo>
                      <a:lnTo>
                        <a:pt x="397" y="288"/>
                      </a:lnTo>
                      <a:lnTo>
                        <a:pt x="402" y="280"/>
                      </a:lnTo>
                      <a:lnTo>
                        <a:pt x="410" y="272"/>
                      </a:lnTo>
                      <a:lnTo>
                        <a:pt x="415" y="267"/>
                      </a:lnTo>
                      <a:lnTo>
                        <a:pt x="423" y="261"/>
                      </a:lnTo>
                      <a:lnTo>
                        <a:pt x="441" y="251"/>
                      </a:lnTo>
                      <a:lnTo>
                        <a:pt x="420" y="257"/>
                      </a:lnTo>
                      <a:lnTo>
                        <a:pt x="405" y="262"/>
                      </a:lnTo>
                      <a:lnTo>
                        <a:pt x="391" y="268"/>
                      </a:lnTo>
                      <a:lnTo>
                        <a:pt x="380" y="275"/>
                      </a:lnTo>
                      <a:lnTo>
                        <a:pt x="369" y="283"/>
                      </a:lnTo>
                      <a:lnTo>
                        <a:pt x="360" y="293"/>
                      </a:lnTo>
                      <a:lnTo>
                        <a:pt x="349" y="306"/>
                      </a:lnTo>
                      <a:lnTo>
                        <a:pt x="341" y="316"/>
                      </a:lnTo>
                      <a:lnTo>
                        <a:pt x="333" y="327"/>
                      </a:lnTo>
                      <a:lnTo>
                        <a:pt x="341" y="311"/>
                      </a:lnTo>
                      <a:lnTo>
                        <a:pt x="345" y="298"/>
                      </a:lnTo>
                      <a:lnTo>
                        <a:pt x="349" y="283"/>
                      </a:lnTo>
                      <a:lnTo>
                        <a:pt x="351" y="264"/>
                      </a:lnTo>
                      <a:lnTo>
                        <a:pt x="351" y="245"/>
                      </a:lnTo>
                      <a:lnTo>
                        <a:pt x="347" y="227"/>
                      </a:lnTo>
                      <a:lnTo>
                        <a:pt x="343" y="209"/>
                      </a:lnTo>
                      <a:lnTo>
                        <a:pt x="338" y="194"/>
                      </a:lnTo>
                      <a:lnTo>
                        <a:pt x="334" y="179"/>
                      </a:lnTo>
                      <a:lnTo>
                        <a:pt x="326" y="165"/>
                      </a:lnTo>
                      <a:lnTo>
                        <a:pt x="314" y="146"/>
                      </a:lnTo>
                      <a:lnTo>
                        <a:pt x="306" y="134"/>
                      </a:lnTo>
                      <a:lnTo>
                        <a:pt x="293" y="116"/>
                      </a:lnTo>
                      <a:lnTo>
                        <a:pt x="283" y="96"/>
                      </a:lnTo>
                      <a:lnTo>
                        <a:pt x="275" y="78"/>
                      </a:lnTo>
                      <a:lnTo>
                        <a:pt x="269" y="66"/>
                      </a:lnTo>
                      <a:lnTo>
                        <a:pt x="266" y="52"/>
                      </a:lnTo>
                      <a:lnTo>
                        <a:pt x="265" y="37"/>
                      </a:lnTo>
                      <a:lnTo>
                        <a:pt x="265" y="25"/>
                      </a:lnTo>
                      <a:lnTo>
                        <a:pt x="265" y="14"/>
                      </a:lnTo>
                      <a:lnTo>
                        <a:pt x="266" y="0"/>
                      </a:lnTo>
                      <a:lnTo>
                        <a:pt x="259" y="20"/>
                      </a:lnTo>
                      <a:lnTo>
                        <a:pt x="255" y="37"/>
                      </a:lnTo>
                      <a:lnTo>
                        <a:pt x="252" y="51"/>
                      </a:lnTo>
                      <a:lnTo>
                        <a:pt x="251" y="66"/>
                      </a:lnTo>
                      <a:lnTo>
                        <a:pt x="254" y="84"/>
                      </a:lnTo>
                      <a:lnTo>
                        <a:pt x="259" y="99"/>
                      </a:lnTo>
                      <a:lnTo>
                        <a:pt x="264" y="112"/>
                      </a:lnTo>
                      <a:lnTo>
                        <a:pt x="270" y="124"/>
                      </a:lnTo>
                      <a:lnTo>
                        <a:pt x="275" y="140"/>
                      </a:lnTo>
                      <a:lnTo>
                        <a:pt x="277" y="156"/>
                      </a:lnTo>
                      <a:lnTo>
                        <a:pt x="279" y="172"/>
                      </a:lnTo>
                      <a:lnTo>
                        <a:pt x="280" y="188"/>
                      </a:lnTo>
                      <a:lnTo>
                        <a:pt x="280" y="204"/>
                      </a:lnTo>
                      <a:lnTo>
                        <a:pt x="277" y="229"/>
                      </a:lnTo>
                      <a:lnTo>
                        <a:pt x="272" y="245"/>
                      </a:lnTo>
                      <a:lnTo>
                        <a:pt x="257" y="267"/>
                      </a:lnTo>
                      <a:lnTo>
                        <a:pt x="246" y="289"/>
                      </a:lnTo>
                      <a:lnTo>
                        <a:pt x="236" y="312"/>
                      </a:lnTo>
                      <a:lnTo>
                        <a:pt x="230" y="299"/>
                      </a:lnTo>
                      <a:lnTo>
                        <a:pt x="225" y="286"/>
                      </a:lnTo>
                      <a:lnTo>
                        <a:pt x="222" y="272"/>
                      </a:lnTo>
                      <a:lnTo>
                        <a:pt x="220" y="249"/>
                      </a:lnTo>
                      <a:lnTo>
                        <a:pt x="226" y="211"/>
                      </a:lnTo>
                      <a:lnTo>
                        <a:pt x="228" y="200"/>
                      </a:lnTo>
                      <a:lnTo>
                        <a:pt x="228" y="187"/>
                      </a:lnTo>
                      <a:lnTo>
                        <a:pt x="228" y="174"/>
                      </a:lnTo>
                      <a:lnTo>
                        <a:pt x="226" y="156"/>
                      </a:lnTo>
                      <a:lnTo>
                        <a:pt x="222" y="140"/>
                      </a:lnTo>
                      <a:lnTo>
                        <a:pt x="215" y="124"/>
                      </a:lnTo>
                      <a:lnTo>
                        <a:pt x="203" y="102"/>
                      </a:lnTo>
                      <a:lnTo>
                        <a:pt x="210" y="129"/>
                      </a:lnTo>
                      <a:lnTo>
                        <a:pt x="214" y="151"/>
                      </a:lnTo>
                      <a:lnTo>
                        <a:pt x="214" y="169"/>
                      </a:lnTo>
                      <a:lnTo>
                        <a:pt x="211" y="185"/>
                      </a:lnTo>
                      <a:lnTo>
                        <a:pt x="207" y="199"/>
                      </a:lnTo>
                      <a:lnTo>
                        <a:pt x="200" y="216"/>
                      </a:lnTo>
                      <a:lnTo>
                        <a:pt x="182" y="254"/>
                      </a:lnTo>
                      <a:lnTo>
                        <a:pt x="181" y="231"/>
                      </a:lnTo>
                      <a:lnTo>
                        <a:pt x="183" y="210"/>
                      </a:lnTo>
                      <a:lnTo>
                        <a:pt x="185" y="192"/>
                      </a:lnTo>
                      <a:lnTo>
                        <a:pt x="173" y="211"/>
                      </a:lnTo>
                      <a:lnTo>
                        <a:pt x="167" y="227"/>
                      </a:lnTo>
                      <a:lnTo>
                        <a:pt x="163" y="245"/>
                      </a:lnTo>
                      <a:lnTo>
                        <a:pt x="159" y="265"/>
                      </a:lnTo>
                      <a:lnTo>
                        <a:pt x="160" y="290"/>
                      </a:lnTo>
                      <a:lnTo>
                        <a:pt x="165" y="315"/>
                      </a:lnTo>
                      <a:lnTo>
                        <a:pt x="172" y="335"/>
                      </a:lnTo>
                      <a:lnTo>
                        <a:pt x="184" y="360"/>
                      </a:lnTo>
                      <a:lnTo>
                        <a:pt x="201" y="392"/>
                      </a:lnTo>
                      <a:lnTo>
                        <a:pt x="173" y="355"/>
                      </a:lnTo>
                      <a:lnTo>
                        <a:pt x="167" y="345"/>
                      </a:lnTo>
                      <a:lnTo>
                        <a:pt x="154" y="329"/>
                      </a:lnTo>
                      <a:lnTo>
                        <a:pt x="139" y="315"/>
                      </a:lnTo>
                      <a:lnTo>
                        <a:pt x="115" y="296"/>
                      </a:lnTo>
                      <a:lnTo>
                        <a:pt x="129" y="317"/>
                      </a:lnTo>
                      <a:lnTo>
                        <a:pt x="138" y="329"/>
                      </a:lnTo>
                      <a:lnTo>
                        <a:pt x="145" y="341"/>
                      </a:lnTo>
                      <a:lnTo>
                        <a:pt x="160" y="369"/>
                      </a:lnTo>
                      <a:lnTo>
                        <a:pt x="171" y="390"/>
                      </a:lnTo>
                      <a:lnTo>
                        <a:pt x="187" y="427"/>
                      </a:lnTo>
                      <a:lnTo>
                        <a:pt x="167" y="420"/>
                      </a:lnTo>
                      <a:lnTo>
                        <a:pt x="150" y="409"/>
                      </a:lnTo>
                      <a:lnTo>
                        <a:pt x="131" y="395"/>
                      </a:lnTo>
                      <a:lnTo>
                        <a:pt x="116" y="381"/>
                      </a:lnTo>
                      <a:lnTo>
                        <a:pt x="95" y="365"/>
                      </a:lnTo>
                      <a:lnTo>
                        <a:pt x="81" y="354"/>
                      </a:lnTo>
                      <a:lnTo>
                        <a:pt x="68" y="346"/>
                      </a:lnTo>
                      <a:lnTo>
                        <a:pt x="54" y="340"/>
                      </a:lnTo>
                      <a:lnTo>
                        <a:pt x="40" y="337"/>
                      </a:lnTo>
                      <a:lnTo>
                        <a:pt x="27" y="335"/>
                      </a:lnTo>
                      <a:lnTo>
                        <a:pt x="0" y="331"/>
                      </a:lnTo>
                      <a:lnTo>
                        <a:pt x="24" y="339"/>
                      </a:lnTo>
                      <a:lnTo>
                        <a:pt x="47" y="348"/>
                      </a:lnTo>
                      <a:lnTo>
                        <a:pt x="62" y="358"/>
                      </a:lnTo>
                      <a:lnTo>
                        <a:pt x="72" y="366"/>
                      </a:lnTo>
                      <a:lnTo>
                        <a:pt x="89" y="385"/>
                      </a:lnTo>
                      <a:lnTo>
                        <a:pt x="106" y="405"/>
                      </a:lnTo>
                      <a:lnTo>
                        <a:pt x="127" y="428"/>
                      </a:lnTo>
                      <a:lnTo>
                        <a:pt x="143" y="439"/>
                      </a:lnTo>
                      <a:lnTo>
                        <a:pt x="165" y="449"/>
                      </a:lnTo>
                      <a:lnTo>
                        <a:pt x="201" y="464"/>
                      </a:lnTo>
                      <a:lnTo>
                        <a:pt x="234" y="470"/>
                      </a:lnTo>
                      <a:lnTo>
                        <a:pt x="272" y="465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960920" y="4392360"/>
                  <a:ext cx="599400" cy="752400"/>
                </a:xfrm>
                <a:custGeom>
                  <a:avLst/>
                  <a:gdLst/>
                  <a:ahLst/>
                  <a:rect l="l" t="t" r="r" b="b"/>
                  <a:pathLst>
                    <a:path w="425" h="474">
                      <a:moveTo>
                        <a:pt x="264" y="469"/>
                      </a:moveTo>
                      <a:lnTo>
                        <a:pt x="282" y="465"/>
                      </a:lnTo>
                      <a:lnTo>
                        <a:pt x="309" y="458"/>
                      </a:lnTo>
                      <a:lnTo>
                        <a:pt x="329" y="447"/>
                      </a:lnTo>
                      <a:lnTo>
                        <a:pt x="341" y="434"/>
                      </a:lnTo>
                      <a:lnTo>
                        <a:pt x="350" y="421"/>
                      </a:lnTo>
                      <a:lnTo>
                        <a:pt x="356" y="409"/>
                      </a:lnTo>
                      <a:lnTo>
                        <a:pt x="362" y="392"/>
                      </a:lnTo>
                      <a:lnTo>
                        <a:pt x="367" y="371"/>
                      </a:lnTo>
                      <a:lnTo>
                        <a:pt x="369" y="348"/>
                      </a:lnTo>
                      <a:lnTo>
                        <a:pt x="369" y="332"/>
                      </a:lnTo>
                      <a:lnTo>
                        <a:pt x="372" y="319"/>
                      </a:lnTo>
                      <a:lnTo>
                        <a:pt x="375" y="311"/>
                      </a:lnTo>
                      <a:lnTo>
                        <a:pt x="380" y="301"/>
                      </a:lnTo>
                      <a:lnTo>
                        <a:pt x="386" y="290"/>
                      </a:lnTo>
                      <a:lnTo>
                        <a:pt x="392" y="282"/>
                      </a:lnTo>
                      <a:lnTo>
                        <a:pt x="398" y="274"/>
                      </a:lnTo>
                      <a:lnTo>
                        <a:pt x="404" y="268"/>
                      </a:lnTo>
                      <a:lnTo>
                        <a:pt x="409" y="263"/>
                      </a:lnTo>
                      <a:lnTo>
                        <a:pt x="424" y="252"/>
                      </a:lnTo>
                      <a:lnTo>
                        <a:pt x="408" y="257"/>
                      </a:lnTo>
                      <a:lnTo>
                        <a:pt x="394" y="263"/>
                      </a:lnTo>
                      <a:lnTo>
                        <a:pt x="380" y="270"/>
                      </a:lnTo>
                      <a:lnTo>
                        <a:pt x="369" y="277"/>
                      </a:lnTo>
                      <a:lnTo>
                        <a:pt x="359" y="285"/>
                      </a:lnTo>
                      <a:lnTo>
                        <a:pt x="350" y="295"/>
                      </a:lnTo>
                      <a:lnTo>
                        <a:pt x="340" y="308"/>
                      </a:lnTo>
                      <a:lnTo>
                        <a:pt x="331" y="318"/>
                      </a:lnTo>
                      <a:lnTo>
                        <a:pt x="324" y="329"/>
                      </a:lnTo>
                      <a:lnTo>
                        <a:pt x="331" y="314"/>
                      </a:lnTo>
                      <a:lnTo>
                        <a:pt x="335" y="300"/>
                      </a:lnTo>
                      <a:lnTo>
                        <a:pt x="339" y="285"/>
                      </a:lnTo>
                      <a:lnTo>
                        <a:pt x="341" y="266"/>
                      </a:lnTo>
                      <a:lnTo>
                        <a:pt x="340" y="246"/>
                      </a:lnTo>
                      <a:lnTo>
                        <a:pt x="337" y="229"/>
                      </a:lnTo>
                      <a:lnTo>
                        <a:pt x="334" y="211"/>
                      </a:lnTo>
                      <a:lnTo>
                        <a:pt x="329" y="195"/>
                      </a:lnTo>
                      <a:lnTo>
                        <a:pt x="324" y="181"/>
                      </a:lnTo>
                      <a:lnTo>
                        <a:pt x="317" y="166"/>
                      </a:lnTo>
                      <a:lnTo>
                        <a:pt x="305" y="147"/>
                      </a:lnTo>
                      <a:lnTo>
                        <a:pt x="297" y="135"/>
                      </a:lnTo>
                      <a:lnTo>
                        <a:pt x="285" y="117"/>
                      </a:lnTo>
                      <a:lnTo>
                        <a:pt x="274" y="97"/>
                      </a:lnTo>
                      <a:lnTo>
                        <a:pt x="267" y="79"/>
                      </a:lnTo>
                      <a:lnTo>
                        <a:pt x="262" y="66"/>
                      </a:lnTo>
                      <a:lnTo>
                        <a:pt x="259" y="52"/>
                      </a:lnTo>
                      <a:lnTo>
                        <a:pt x="257" y="38"/>
                      </a:lnTo>
                      <a:lnTo>
                        <a:pt x="257" y="25"/>
                      </a:lnTo>
                      <a:lnTo>
                        <a:pt x="258" y="15"/>
                      </a:lnTo>
                      <a:lnTo>
                        <a:pt x="258" y="0"/>
                      </a:lnTo>
                      <a:lnTo>
                        <a:pt x="252" y="20"/>
                      </a:lnTo>
                      <a:lnTo>
                        <a:pt x="247" y="36"/>
                      </a:lnTo>
                      <a:lnTo>
                        <a:pt x="245" y="51"/>
                      </a:lnTo>
                      <a:lnTo>
                        <a:pt x="245" y="66"/>
                      </a:lnTo>
                      <a:lnTo>
                        <a:pt x="246" y="84"/>
                      </a:lnTo>
                      <a:lnTo>
                        <a:pt x="251" y="99"/>
                      </a:lnTo>
                      <a:lnTo>
                        <a:pt x="257" y="112"/>
                      </a:lnTo>
                      <a:lnTo>
                        <a:pt x="263" y="125"/>
                      </a:lnTo>
                      <a:lnTo>
                        <a:pt x="268" y="141"/>
                      </a:lnTo>
                      <a:lnTo>
                        <a:pt x="270" y="157"/>
                      </a:lnTo>
                      <a:lnTo>
                        <a:pt x="271" y="173"/>
                      </a:lnTo>
                      <a:lnTo>
                        <a:pt x="272" y="190"/>
                      </a:lnTo>
                      <a:lnTo>
                        <a:pt x="272" y="206"/>
                      </a:lnTo>
                      <a:lnTo>
                        <a:pt x="269" y="230"/>
                      </a:lnTo>
                      <a:lnTo>
                        <a:pt x="264" y="246"/>
                      </a:lnTo>
                      <a:lnTo>
                        <a:pt x="250" y="269"/>
                      </a:lnTo>
                      <a:lnTo>
                        <a:pt x="239" y="291"/>
                      </a:lnTo>
                      <a:lnTo>
                        <a:pt x="229" y="314"/>
                      </a:lnTo>
                      <a:lnTo>
                        <a:pt x="223" y="301"/>
                      </a:lnTo>
                      <a:lnTo>
                        <a:pt x="219" y="287"/>
                      </a:lnTo>
                      <a:lnTo>
                        <a:pt x="215" y="274"/>
                      </a:lnTo>
                      <a:lnTo>
                        <a:pt x="214" y="251"/>
                      </a:lnTo>
                      <a:lnTo>
                        <a:pt x="220" y="212"/>
                      </a:lnTo>
                      <a:lnTo>
                        <a:pt x="221" y="201"/>
                      </a:lnTo>
                      <a:lnTo>
                        <a:pt x="222" y="187"/>
                      </a:lnTo>
                      <a:lnTo>
                        <a:pt x="222" y="175"/>
                      </a:lnTo>
                      <a:lnTo>
                        <a:pt x="220" y="157"/>
                      </a:lnTo>
                      <a:lnTo>
                        <a:pt x="215" y="141"/>
                      </a:lnTo>
                      <a:lnTo>
                        <a:pt x="209" y="125"/>
                      </a:lnTo>
                      <a:lnTo>
                        <a:pt x="197" y="103"/>
                      </a:lnTo>
                      <a:lnTo>
                        <a:pt x="203" y="130"/>
                      </a:lnTo>
                      <a:lnTo>
                        <a:pt x="208" y="152"/>
                      </a:lnTo>
                      <a:lnTo>
                        <a:pt x="208" y="170"/>
                      </a:lnTo>
                      <a:lnTo>
                        <a:pt x="205" y="186"/>
                      </a:lnTo>
                      <a:lnTo>
                        <a:pt x="201" y="201"/>
                      </a:lnTo>
                      <a:lnTo>
                        <a:pt x="194" y="218"/>
                      </a:lnTo>
                      <a:lnTo>
                        <a:pt x="176" y="256"/>
                      </a:lnTo>
                      <a:lnTo>
                        <a:pt x="175" y="232"/>
                      </a:lnTo>
                      <a:lnTo>
                        <a:pt x="177" y="212"/>
                      </a:lnTo>
                      <a:lnTo>
                        <a:pt x="178" y="193"/>
                      </a:lnTo>
                      <a:lnTo>
                        <a:pt x="168" y="212"/>
                      </a:lnTo>
                      <a:lnTo>
                        <a:pt x="162" y="228"/>
                      </a:lnTo>
                      <a:lnTo>
                        <a:pt x="158" y="246"/>
                      </a:lnTo>
                      <a:lnTo>
                        <a:pt x="154" y="266"/>
                      </a:lnTo>
                      <a:lnTo>
                        <a:pt x="155" y="292"/>
                      </a:lnTo>
                      <a:lnTo>
                        <a:pt x="160" y="317"/>
                      </a:lnTo>
                      <a:lnTo>
                        <a:pt x="167" y="337"/>
                      </a:lnTo>
                      <a:lnTo>
                        <a:pt x="178" y="363"/>
                      </a:lnTo>
                      <a:lnTo>
                        <a:pt x="195" y="395"/>
                      </a:lnTo>
                      <a:lnTo>
                        <a:pt x="168" y="357"/>
                      </a:lnTo>
                      <a:lnTo>
                        <a:pt x="162" y="347"/>
                      </a:lnTo>
                      <a:lnTo>
                        <a:pt x="150" y="332"/>
                      </a:lnTo>
                      <a:lnTo>
                        <a:pt x="135" y="317"/>
                      </a:lnTo>
                      <a:lnTo>
                        <a:pt x="123" y="305"/>
                      </a:lnTo>
                      <a:lnTo>
                        <a:pt x="104" y="290"/>
                      </a:lnTo>
                      <a:lnTo>
                        <a:pt x="125" y="319"/>
                      </a:lnTo>
                      <a:lnTo>
                        <a:pt x="134" y="331"/>
                      </a:lnTo>
                      <a:lnTo>
                        <a:pt x="141" y="344"/>
                      </a:lnTo>
                      <a:lnTo>
                        <a:pt x="155" y="371"/>
                      </a:lnTo>
                      <a:lnTo>
                        <a:pt x="166" y="393"/>
                      </a:lnTo>
                      <a:lnTo>
                        <a:pt x="182" y="429"/>
                      </a:lnTo>
                      <a:lnTo>
                        <a:pt x="162" y="423"/>
                      </a:lnTo>
                      <a:lnTo>
                        <a:pt x="146" y="412"/>
                      </a:lnTo>
                      <a:lnTo>
                        <a:pt x="127" y="398"/>
                      </a:lnTo>
                      <a:lnTo>
                        <a:pt x="112" y="384"/>
                      </a:lnTo>
                      <a:lnTo>
                        <a:pt x="92" y="367"/>
                      </a:lnTo>
                      <a:lnTo>
                        <a:pt x="77" y="357"/>
                      </a:lnTo>
                      <a:lnTo>
                        <a:pt x="65" y="348"/>
                      </a:lnTo>
                      <a:lnTo>
                        <a:pt x="53" y="340"/>
                      </a:lnTo>
                      <a:lnTo>
                        <a:pt x="42" y="336"/>
                      </a:lnTo>
                      <a:lnTo>
                        <a:pt x="26" y="332"/>
                      </a:lnTo>
                      <a:lnTo>
                        <a:pt x="0" y="327"/>
                      </a:lnTo>
                      <a:lnTo>
                        <a:pt x="26" y="339"/>
                      </a:lnTo>
                      <a:lnTo>
                        <a:pt x="44" y="349"/>
                      </a:lnTo>
                      <a:lnTo>
                        <a:pt x="59" y="360"/>
                      </a:lnTo>
                      <a:lnTo>
                        <a:pt x="69" y="368"/>
                      </a:lnTo>
                      <a:lnTo>
                        <a:pt x="87" y="387"/>
                      </a:lnTo>
                      <a:lnTo>
                        <a:pt x="102" y="408"/>
                      </a:lnTo>
                      <a:lnTo>
                        <a:pt x="123" y="431"/>
                      </a:lnTo>
                      <a:lnTo>
                        <a:pt x="138" y="441"/>
                      </a:lnTo>
                      <a:lnTo>
                        <a:pt x="160" y="453"/>
                      </a:lnTo>
                      <a:lnTo>
                        <a:pt x="196" y="467"/>
                      </a:lnTo>
                      <a:lnTo>
                        <a:pt x="227" y="473"/>
                      </a:lnTo>
                      <a:lnTo>
                        <a:pt x="264" y="46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1984680" y="4638600"/>
              <a:ext cx="520920" cy="750240"/>
              <a:chOff x="1984680" y="4638600"/>
              <a:chExt cx="520920" cy="750240"/>
            </a:xfrm>
          </p:grpSpPr>
          <p:sp>
            <p:nvSpPr>
              <p:cNvPr id="870" name=""/>
              <p:cNvSpPr/>
              <p:nvPr/>
            </p:nvSpPr>
            <p:spPr>
              <a:xfrm>
                <a:off x="2151360" y="4638600"/>
                <a:ext cx="354240" cy="531360"/>
              </a:xfrm>
              <a:custGeom>
                <a:avLst/>
                <a:gdLst/>
                <a:ahLst/>
                <a:rect l="l" t="t" r="r" b="b"/>
                <a:pathLst>
                  <a:path w="251" h="335">
                    <a:moveTo>
                      <a:pt x="0" y="188"/>
                    </a:moveTo>
                    <a:lnTo>
                      <a:pt x="11" y="197"/>
                    </a:lnTo>
                    <a:lnTo>
                      <a:pt x="16" y="206"/>
                    </a:lnTo>
                    <a:lnTo>
                      <a:pt x="21" y="219"/>
                    </a:lnTo>
                    <a:lnTo>
                      <a:pt x="29" y="233"/>
                    </a:lnTo>
                    <a:lnTo>
                      <a:pt x="29" y="243"/>
                    </a:lnTo>
                    <a:lnTo>
                      <a:pt x="29" y="256"/>
                    </a:lnTo>
                    <a:lnTo>
                      <a:pt x="27" y="267"/>
                    </a:lnTo>
                    <a:lnTo>
                      <a:pt x="25" y="277"/>
                    </a:lnTo>
                    <a:lnTo>
                      <a:pt x="25" y="287"/>
                    </a:lnTo>
                    <a:lnTo>
                      <a:pt x="27" y="297"/>
                    </a:lnTo>
                    <a:lnTo>
                      <a:pt x="30" y="307"/>
                    </a:lnTo>
                    <a:lnTo>
                      <a:pt x="36" y="314"/>
                    </a:lnTo>
                    <a:lnTo>
                      <a:pt x="44" y="321"/>
                    </a:lnTo>
                    <a:lnTo>
                      <a:pt x="52" y="326"/>
                    </a:lnTo>
                    <a:lnTo>
                      <a:pt x="61" y="330"/>
                    </a:lnTo>
                    <a:lnTo>
                      <a:pt x="72" y="332"/>
                    </a:lnTo>
                    <a:lnTo>
                      <a:pt x="83" y="334"/>
                    </a:lnTo>
                    <a:lnTo>
                      <a:pt x="95" y="334"/>
                    </a:lnTo>
                    <a:lnTo>
                      <a:pt x="106" y="332"/>
                    </a:lnTo>
                    <a:lnTo>
                      <a:pt x="118" y="330"/>
                    </a:lnTo>
                    <a:lnTo>
                      <a:pt x="130" y="328"/>
                    </a:lnTo>
                    <a:lnTo>
                      <a:pt x="141" y="325"/>
                    </a:lnTo>
                    <a:lnTo>
                      <a:pt x="152" y="320"/>
                    </a:lnTo>
                    <a:lnTo>
                      <a:pt x="160" y="316"/>
                    </a:lnTo>
                    <a:lnTo>
                      <a:pt x="169" y="310"/>
                    </a:lnTo>
                    <a:lnTo>
                      <a:pt x="177" y="304"/>
                    </a:lnTo>
                    <a:lnTo>
                      <a:pt x="182" y="298"/>
                    </a:lnTo>
                    <a:lnTo>
                      <a:pt x="188" y="291"/>
                    </a:lnTo>
                    <a:lnTo>
                      <a:pt x="193" y="282"/>
                    </a:lnTo>
                    <a:lnTo>
                      <a:pt x="196" y="275"/>
                    </a:lnTo>
                    <a:lnTo>
                      <a:pt x="201" y="268"/>
                    </a:lnTo>
                    <a:lnTo>
                      <a:pt x="205" y="261"/>
                    </a:lnTo>
                    <a:lnTo>
                      <a:pt x="215" y="252"/>
                    </a:lnTo>
                    <a:lnTo>
                      <a:pt x="220" y="248"/>
                    </a:lnTo>
                    <a:lnTo>
                      <a:pt x="228" y="243"/>
                    </a:lnTo>
                    <a:lnTo>
                      <a:pt x="250" y="235"/>
                    </a:lnTo>
                    <a:lnTo>
                      <a:pt x="232" y="236"/>
                    </a:lnTo>
                    <a:lnTo>
                      <a:pt x="221" y="239"/>
                    </a:lnTo>
                    <a:lnTo>
                      <a:pt x="213" y="240"/>
                    </a:lnTo>
                    <a:lnTo>
                      <a:pt x="204" y="245"/>
                    </a:lnTo>
                    <a:lnTo>
                      <a:pt x="201" y="247"/>
                    </a:lnTo>
                    <a:lnTo>
                      <a:pt x="193" y="253"/>
                    </a:lnTo>
                    <a:lnTo>
                      <a:pt x="188" y="260"/>
                    </a:lnTo>
                    <a:lnTo>
                      <a:pt x="173" y="278"/>
                    </a:lnTo>
                    <a:lnTo>
                      <a:pt x="165" y="286"/>
                    </a:lnTo>
                    <a:lnTo>
                      <a:pt x="155" y="291"/>
                    </a:lnTo>
                    <a:lnTo>
                      <a:pt x="143" y="297"/>
                    </a:lnTo>
                    <a:lnTo>
                      <a:pt x="131" y="301"/>
                    </a:lnTo>
                    <a:lnTo>
                      <a:pt x="139" y="292"/>
                    </a:lnTo>
                    <a:lnTo>
                      <a:pt x="146" y="284"/>
                    </a:lnTo>
                    <a:lnTo>
                      <a:pt x="154" y="274"/>
                    </a:lnTo>
                    <a:lnTo>
                      <a:pt x="158" y="261"/>
                    </a:lnTo>
                    <a:lnTo>
                      <a:pt x="167" y="240"/>
                    </a:lnTo>
                    <a:lnTo>
                      <a:pt x="186" y="214"/>
                    </a:lnTo>
                    <a:lnTo>
                      <a:pt x="164" y="232"/>
                    </a:lnTo>
                    <a:lnTo>
                      <a:pt x="158" y="238"/>
                    </a:lnTo>
                    <a:lnTo>
                      <a:pt x="144" y="260"/>
                    </a:lnTo>
                    <a:lnTo>
                      <a:pt x="154" y="225"/>
                    </a:lnTo>
                    <a:lnTo>
                      <a:pt x="158" y="204"/>
                    </a:lnTo>
                    <a:lnTo>
                      <a:pt x="159" y="188"/>
                    </a:lnTo>
                    <a:lnTo>
                      <a:pt x="158" y="176"/>
                    </a:lnTo>
                    <a:lnTo>
                      <a:pt x="154" y="166"/>
                    </a:lnTo>
                    <a:lnTo>
                      <a:pt x="150" y="154"/>
                    </a:lnTo>
                    <a:lnTo>
                      <a:pt x="143" y="141"/>
                    </a:lnTo>
                    <a:lnTo>
                      <a:pt x="146" y="167"/>
                    </a:lnTo>
                    <a:lnTo>
                      <a:pt x="145" y="184"/>
                    </a:lnTo>
                    <a:lnTo>
                      <a:pt x="131" y="155"/>
                    </a:lnTo>
                    <a:lnTo>
                      <a:pt x="126" y="142"/>
                    </a:lnTo>
                    <a:lnTo>
                      <a:pt x="124" y="129"/>
                    </a:lnTo>
                    <a:lnTo>
                      <a:pt x="125" y="117"/>
                    </a:lnTo>
                    <a:lnTo>
                      <a:pt x="127" y="105"/>
                    </a:lnTo>
                    <a:lnTo>
                      <a:pt x="130" y="92"/>
                    </a:lnTo>
                    <a:lnTo>
                      <a:pt x="125" y="98"/>
                    </a:lnTo>
                    <a:lnTo>
                      <a:pt x="121" y="106"/>
                    </a:lnTo>
                    <a:lnTo>
                      <a:pt x="117" y="121"/>
                    </a:lnTo>
                    <a:lnTo>
                      <a:pt x="115" y="130"/>
                    </a:lnTo>
                    <a:lnTo>
                      <a:pt x="115" y="142"/>
                    </a:lnTo>
                    <a:lnTo>
                      <a:pt x="118" y="157"/>
                    </a:lnTo>
                    <a:lnTo>
                      <a:pt x="122" y="191"/>
                    </a:lnTo>
                    <a:lnTo>
                      <a:pt x="115" y="221"/>
                    </a:lnTo>
                    <a:lnTo>
                      <a:pt x="93" y="173"/>
                    </a:lnTo>
                    <a:lnTo>
                      <a:pt x="89" y="161"/>
                    </a:lnTo>
                    <a:lnTo>
                      <a:pt x="85" y="147"/>
                    </a:lnTo>
                    <a:lnTo>
                      <a:pt x="84" y="132"/>
                    </a:lnTo>
                    <a:lnTo>
                      <a:pt x="85" y="117"/>
                    </a:lnTo>
                    <a:lnTo>
                      <a:pt x="88" y="105"/>
                    </a:lnTo>
                    <a:lnTo>
                      <a:pt x="91" y="93"/>
                    </a:lnTo>
                    <a:lnTo>
                      <a:pt x="95" y="81"/>
                    </a:lnTo>
                    <a:lnTo>
                      <a:pt x="100" y="70"/>
                    </a:lnTo>
                    <a:lnTo>
                      <a:pt x="101" y="59"/>
                    </a:lnTo>
                    <a:lnTo>
                      <a:pt x="102" y="47"/>
                    </a:lnTo>
                    <a:lnTo>
                      <a:pt x="101" y="34"/>
                    </a:lnTo>
                    <a:lnTo>
                      <a:pt x="98" y="19"/>
                    </a:lnTo>
                    <a:lnTo>
                      <a:pt x="92" y="0"/>
                    </a:lnTo>
                    <a:lnTo>
                      <a:pt x="93" y="18"/>
                    </a:lnTo>
                    <a:lnTo>
                      <a:pt x="94" y="29"/>
                    </a:lnTo>
                    <a:lnTo>
                      <a:pt x="93" y="44"/>
                    </a:lnTo>
                    <a:lnTo>
                      <a:pt x="88" y="58"/>
                    </a:lnTo>
                    <a:lnTo>
                      <a:pt x="83" y="70"/>
                    </a:lnTo>
                    <a:lnTo>
                      <a:pt x="77" y="83"/>
                    </a:lnTo>
                    <a:lnTo>
                      <a:pt x="70" y="94"/>
                    </a:lnTo>
                    <a:lnTo>
                      <a:pt x="62" y="108"/>
                    </a:lnTo>
                    <a:lnTo>
                      <a:pt x="54" y="127"/>
                    </a:lnTo>
                    <a:lnTo>
                      <a:pt x="50" y="142"/>
                    </a:lnTo>
                    <a:lnTo>
                      <a:pt x="44" y="197"/>
                    </a:lnTo>
                    <a:lnTo>
                      <a:pt x="47" y="208"/>
                    </a:lnTo>
                    <a:lnTo>
                      <a:pt x="54" y="229"/>
                    </a:lnTo>
                    <a:lnTo>
                      <a:pt x="29" y="198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84680" y="5111280"/>
                <a:ext cx="498240" cy="277560"/>
              </a:xfrm>
              <a:custGeom>
                <a:avLst/>
                <a:gdLst/>
                <a:ahLst/>
                <a:rect l="l" t="t" r="r" b="b"/>
                <a:pathLst>
                  <a:path w="353" h="175">
                    <a:moveTo>
                      <a:pt x="175" y="8"/>
                    </a:moveTo>
                    <a:lnTo>
                      <a:pt x="0" y="61"/>
                    </a:lnTo>
                    <a:lnTo>
                      <a:pt x="172" y="0"/>
                    </a:lnTo>
                    <a:lnTo>
                      <a:pt x="212" y="1"/>
                    </a:lnTo>
                    <a:lnTo>
                      <a:pt x="252" y="8"/>
                    </a:lnTo>
                    <a:lnTo>
                      <a:pt x="352" y="81"/>
                    </a:lnTo>
                    <a:lnTo>
                      <a:pt x="235" y="12"/>
                    </a:lnTo>
                    <a:lnTo>
                      <a:pt x="335" y="174"/>
                    </a:lnTo>
                    <a:lnTo>
                      <a:pt x="221" y="12"/>
                    </a:lnTo>
                    <a:lnTo>
                      <a:pt x="211" y="22"/>
                    </a:lnTo>
                    <a:lnTo>
                      <a:pt x="186" y="96"/>
                    </a:lnTo>
                    <a:lnTo>
                      <a:pt x="198" y="18"/>
                    </a:lnTo>
                    <a:lnTo>
                      <a:pt x="72" y="166"/>
                    </a:lnTo>
                    <a:lnTo>
                      <a:pt x="186" y="10"/>
                    </a:lnTo>
                    <a:lnTo>
                      <a:pt x="175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166480" y="4704840"/>
                <a:ext cx="297720" cy="439560"/>
              </a:xfrm>
              <a:custGeom>
                <a:avLst/>
                <a:gdLst/>
                <a:ahLst/>
                <a:rect l="l" t="t" r="r" b="b"/>
                <a:pathLst>
                  <a:path w="211" h="277">
                    <a:moveTo>
                      <a:pt x="0" y="152"/>
                    </a:moveTo>
                    <a:lnTo>
                      <a:pt x="9" y="159"/>
                    </a:lnTo>
                    <a:lnTo>
                      <a:pt x="14" y="168"/>
                    </a:lnTo>
                    <a:lnTo>
                      <a:pt x="18" y="180"/>
                    </a:lnTo>
                    <a:lnTo>
                      <a:pt x="25" y="194"/>
                    </a:lnTo>
                    <a:lnTo>
                      <a:pt x="25" y="203"/>
                    </a:lnTo>
                    <a:lnTo>
                      <a:pt x="24" y="215"/>
                    </a:lnTo>
                    <a:lnTo>
                      <a:pt x="27" y="227"/>
                    </a:lnTo>
                    <a:lnTo>
                      <a:pt x="29" y="237"/>
                    </a:lnTo>
                    <a:lnTo>
                      <a:pt x="32" y="245"/>
                    </a:lnTo>
                    <a:lnTo>
                      <a:pt x="36" y="252"/>
                    </a:lnTo>
                    <a:lnTo>
                      <a:pt x="41" y="259"/>
                    </a:lnTo>
                    <a:lnTo>
                      <a:pt x="46" y="264"/>
                    </a:lnTo>
                    <a:lnTo>
                      <a:pt x="54" y="269"/>
                    </a:lnTo>
                    <a:lnTo>
                      <a:pt x="63" y="272"/>
                    </a:lnTo>
                    <a:lnTo>
                      <a:pt x="76" y="275"/>
                    </a:lnTo>
                    <a:lnTo>
                      <a:pt x="89" y="276"/>
                    </a:lnTo>
                    <a:lnTo>
                      <a:pt x="101" y="274"/>
                    </a:lnTo>
                    <a:lnTo>
                      <a:pt x="113" y="272"/>
                    </a:lnTo>
                    <a:lnTo>
                      <a:pt x="126" y="268"/>
                    </a:lnTo>
                    <a:lnTo>
                      <a:pt x="137" y="262"/>
                    </a:lnTo>
                    <a:lnTo>
                      <a:pt x="146" y="255"/>
                    </a:lnTo>
                    <a:lnTo>
                      <a:pt x="153" y="247"/>
                    </a:lnTo>
                    <a:lnTo>
                      <a:pt x="158" y="239"/>
                    </a:lnTo>
                    <a:lnTo>
                      <a:pt x="165" y="229"/>
                    </a:lnTo>
                    <a:lnTo>
                      <a:pt x="172" y="219"/>
                    </a:lnTo>
                    <a:lnTo>
                      <a:pt x="180" y="210"/>
                    </a:lnTo>
                    <a:lnTo>
                      <a:pt x="192" y="202"/>
                    </a:lnTo>
                    <a:lnTo>
                      <a:pt x="210" y="196"/>
                    </a:lnTo>
                    <a:lnTo>
                      <a:pt x="195" y="197"/>
                    </a:lnTo>
                    <a:lnTo>
                      <a:pt x="187" y="199"/>
                    </a:lnTo>
                    <a:lnTo>
                      <a:pt x="177" y="204"/>
                    </a:lnTo>
                    <a:lnTo>
                      <a:pt x="171" y="209"/>
                    </a:lnTo>
                    <a:lnTo>
                      <a:pt x="162" y="217"/>
                    </a:lnTo>
                    <a:lnTo>
                      <a:pt x="153" y="228"/>
                    </a:lnTo>
                    <a:lnTo>
                      <a:pt x="146" y="236"/>
                    </a:lnTo>
                    <a:lnTo>
                      <a:pt x="138" y="243"/>
                    </a:lnTo>
                    <a:lnTo>
                      <a:pt x="130" y="249"/>
                    </a:lnTo>
                    <a:lnTo>
                      <a:pt x="120" y="254"/>
                    </a:lnTo>
                    <a:lnTo>
                      <a:pt x="110" y="258"/>
                    </a:lnTo>
                    <a:lnTo>
                      <a:pt x="117" y="249"/>
                    </a:lnTo>
                    <a:lnTo>
                      <a:pt x="122" y="241"/>
                    </a:lnTo>
                    <a:lnTo>
                      <a:pt x="129" y="232"/>
                    </a:lnTo>
                    <a:lnTo>
                      <a:pt x="133" y="220"/>
                    </a:lnTo>
                    <a:lnTo>
                      <a:pt x="140" y="200"/>
                    </a:lnTo>
                    <a:lnTo>
                      <a:pt x="157" y="176"/>
                    </a:lnTo>
                    <a:lnTo>
                      <a:pt x="138" y="193"/>
                    </a:lnTo>
                    <a:lnTo>
                      <a:pt x="133" y="199"/>
                    </a:lnTo>
                    <a:lnTo>
                      <a:pt x="121" y="219"/>
                    </a:lnTo>
                    <a:lnTo>
                      <a:pt x="130" y="186"/>
                    </a:lnTo>
                    <a:lnTo>
                      <a:pt x="133" y="167"/>
                    </a:lnTo>
                    <a:lnTo>
                      <a:pt x="134" y="152"/>
                    </a:lnTo>
                    <a:lnTo>
                      <a:pt x="130" y="131"/>
                    </a:lnTo>
                    <a:lnTo>
                      <a:pt x="126" y="120"/>
                    </a:lnTo>
                    <a:lnTo>
                      <a:pt x="122" y="112"/>
                    </a:lnTo>
                    <a:lnTo>
                      <a:pt x="123" y="131"/>
                    </a:lnTo>
                    <a:lnTo>
                      <a:pt x="122" y="148"/>
                    </a:lnTo>
                    <a:lnTo>
                      <a:pt x="110" y="119"/>
                    </a:lnTo>
                    <a:lnTo>
                      <a:pt x="107" y="109"/>
                    </a:lnTo>
                    <a:lnTo>
                      <a:pt x="106" y="95"/>
                    </a:lnTo>
                    <a:lnTo>
                      <a:pt x="107" y="84"/>
                    </a:lnTo>
                    <a:lnTo>
                      <a:pt x="110" y="61"/>
                    </a:lnTo>
                    <a:lnTo>
                      <a:pt x="101" y="88"/>
                    </a:lnTo>
                    <a:lnTo>
                      <a:pt x="98" y="101"/>
                    </a:lnTo>
                    <a:lnTo>
                      <a:pt x="98" y="112"/>
                    </a:lnTo>
                    <a:lnTo>
                      <a:pt x="100" y="124"/>
                    </a:lnTo>
                    <a:lnTo>
                      <a:pt x="102" y="138"/>
                    </a:lnTo>
                    <a:lnTo>
                      <a:pt x="103" y="154"/>
                    </a:lnTo>
                    <a:lnTo>
                      <a:pt x="96" y="182"/>
                    </a:lnTo>
                    <a:lnTo>
                      <a:pt x="75" y="137"/>
                    </a:lnTo>
                    <a:lnTo>
                      <a:pt x="72" y="127"/>
                    </a:lnTo>
                    <a:lnTo>
                      <a:pt x="71" y="114"/>
                    </a:lnTo>
                    <a:lnTo>
                      <a:pt x="72" y="100"/>
                    </a:lnTo>
                    <a:lnTo>
                      <a:pt x="74" y="88"/>
                    </a:lnTo>
                    <a:lnTo>
                      <a:pt x="78" y="73"/>
                    </a:lnTo>
                    <a:lnTo>
                      <a:pt x="83" y="62"/>
                    </a:lnTo>
                    <a:lnTo>
                      <a:pt x="86" y="50"/>
                    </a:lnTo>
                    <a:lnTo>
                      <a:pt x="88" y="38"/>
                    </a:lnTo>
                    <a:lnTo>
                      <a:pt x="88" y="29"/>
                    </a:lnTo>
                    <a:lnTo>
                      <a:pt x="86" y="15"/>
                    </a:lnTo>
                    <a:lnTo>
                      <a:pt x="80" y="0"/>
                    </a:lnTo>
                    <a:lnTo>
                      <a:pt x="80" y="16"/>
                    </a:lnTo>
                    <a:lnTo>
                      <a:pt x="79" y="30"/>
                    </a:lnTo>
                    <a:lnTo>
                      <a:pt x="76" y="43"/>
                    </a:lnTo>
                    <a:lnTo>
                      <a:pt x="72" y="54"/>
                    </a:lnTo>
                    <a:lnTo>
                      <a:pt x="63" y="70"/>
                    </a:lnTo>
                    <a:lnTo>
                      <a:pt x="52" y="94"/>
                    </a:lnTo>
                    <a:lnTo>
                      <a:pt x="46" y="109"/>
                    </a:lnTo>
                    <a:lnTo>
                      <a:pt x="38" y="160"/>
                    </a:lnTo>
                    <a:lnTo>
                      <a:pt x="40" y="171"/>
                    </a:lnTo>
                    <a:lnTo>
                      <a:pt x="45" y="190"/>
                    </a:lnTo>
                    <a:lnTo>
                      <a:pt x="24" y="161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1052640" y="3678120"/>
            <a:ext cx="1047240" cy="882720"/>
            <a:chOff x="1052640" y="3678120"/>
            <a:chExt cx="1047240" cy="882720"/>
          </a:xfrm>
        </p:grpSpPr>
        <p:grpSp>
          <p:nvGrpSpPr>
            <p:cNvPr id="874" name=""/>
            <p:cNvGrpSpPr/>
            <p:nvPr/>
          </p:nvGrpSpPr>
          <p:grpSpPr>
            <a:xfrm>
              <a:off x="1052640" y="3678120"/>
              <a:ext cx="1047240" cy="882720"/>
              <a:chOff x="1052640" y="3678120"/>
              <a:chExt cx="1047240" cy="88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1381320" y="3703320"/>
                <a:ext cx="246960" cy="2858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591560" y="3678120"/>
                <a:ext cx="200160" cy="2286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82000" y="3919320"/>
                <a:ext cx="317880" cy="370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68200" y="4084560"/>
                <a:ext cx="367200" cy="422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84800" y="4136760"/>
                <a:ext cx="272160" cy="316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72080" y="4165560"/>
                <a:ext cx="204840" cy="2318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052640" y="3971880"/>
                <a:ext cx="200160" cy="2365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45520" y="3757320"/>
                <a:ext cx="318600" cy="368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428120" y="4190760"/>
                <a:ext cx="317520" cy="370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827720" y="3781440"/>
                <a:ext cx="248400" cy="2905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56800" y="3678120"/>
                <a:ext cx="225720" cy="2556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35800" y="3741480"/>
                <a:ext cx="909000" cy="709560"/>
              </a:xfrm>
              <a:custGeom>
                <a:avLst/>
                <a:gdLst/>
                <a:ahLst/>
                <a:rect l="l" t="t" r="r" b="b"/>
                <a:pathLst>
                  <a:path w="644" h="447">
                    <a:moveTo>
                      <a:pt x="198" y="44"/>
                    </a:moveTo>
                    <a:lnTo>
                      <a:pt x="225" y="12"/>
                    </a:lnTo>
                    <a:lnTo>
                      <a:pt x="345" y="14"/>
                    </a:lnTo>
                    <a:lnTo>
                      <a:pt x="430" y="0"/>
                    </a:lnTo>
                    <a:lnTo>
                      <a:pt x="537" y="52"/>
                    </a:lnTo>
                    <a:lnTo>
                      <a:pt x="590" y="37"/>
                    </a:lnTo>
                    <a:lnTo>
                      <a:pt x="620" y="44"/>
                    </a:lnTo>
                    <a:lnTo>
                      <a:pt x="626" y="176"/>
                    </a:lnTo>
                    <a:lnTo>
                      <a:pt x="643" y="198"/>
                    </a:lnTo>
                    <a:lnTo>
                      <a:pt x="593" y="300"/>
                    </a:lnTo>
                    <a:lnTo>
                      <a:pt x="539" y="230"/>
                    </a:lnTo>
                    <a:lnTo>
                      <a:pt x="524" y="266"/>
                    </a:lnTo>
                    <a:lnTo>
                      <a:pt x="448" y="407"/>
                    </a:lnTo>
                    <a:lnTo>
                      <a:pt x="194" y="446"/>
                    </a:lnTo>
                    <a:lnTo>
                      <a:pt x="62" y="418"/>
                    </a:lnTo>
                    <a:lnTo>
                      <a:pt x="20" y="330"/>
                    </a:lnTo>
                    <a:lnTo>
                      <a:pt x="20" y="240"/>
                    </a:lnTo>
                    <a:lnTo>
                      <a:pt x="0" y="166"/>
                    </a:lnTo>
                    <a:lnTo>
                      <a:pt x="198" y="44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1139760" y="3838320"/>
              <a:ext cx="838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93760" y="2514600"/>
            <a:ext cx="681120" cy="583920"/>
            <a:chOff x="293760" y="2514600"/>
            <a:chExt cx="681120" cy="583920"/>
          </a:xfrm>
        </p:grpSpPr>
        <p:sp>
          <p:nvSpPr>
            <p:cNvPr id="889" name=""/>
            <p:cNvSpPr/>
            <p:nvPr/>
          </p:nvSpPr>
          <p:spPr>
            <a:xfrm>
              <a:off x="430560" y="286524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9120" y="282240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3440" y="285912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6320" y="287640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4880" y="287640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1600" y="287640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7320" y="287640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8440" y="288576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4200" y="290340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0360" y="290484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4600" y="288900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280" y="292716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438840" y="2927160"/>
              <a:ext cx="28080" cy="27000"/>
              <a:chOff x="438840" y="2927160"/>
              <a:chExt cx="28080" cy="27000"/>
            </a:xfrm>
          </p:grpSpPr>
          <p:sp>
            <p:nvSpPr>
              <p:cNvPr id="902" name=""/>
              <p:cNvSpPr/>
              <p:nvPr/>
            </p:nvSpPr>
            <p:spPr>
              <a:xfrm>
                <a:off x="4388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1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48560" y="2927160"/>
              <a:ext cx="30600" cy="27000"/>
              <a:chOff x="448560" y="2927160"/>
              <a:chExt cx="30600" cy="27000"/>
            </a:xfrm>
          </p:grpSpPr>
          <p:sp>
            <p:nvSpPr>
              <p:cNvPr id="905" name=""/>
              <p:cNvSpPr/>
              <p:nvPr/>
            </p:nvSpPr>
            <p:spPr>
              <a:xfrm>
                <a:off x="4485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54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458640" y="2927160"/>
              <a:ext cx="29160" cy="27000"/>
              <a:chOff x="458640" y="2927160"/>
              <a:chExt cx="29160" cy="27000"/>
            </a:xfrm>
          </p:grpSpPr>
          <p:sp>
            <p:nvSpPr>
              <p:cNvPr id="908" name=""/>
              <p:cNvSpPr/>
              <p:nvPr/>
            </p:nvSpPr>
            <p:spPr>
              <a:xfrm>
                <a:off x="4586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40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468360" y="2927160"/>
              <a:ext cx="27720" cy="27000"/>
              <a:chOff x="468360" y="2927160"/>
              <a:chExt cx="27720" cy="27000"/>
            </a:xfrm>
          </p:grpSpPr>
          <p:sp>
            <p:nvSpPr>
              <p:cNvPr id="911" name=""/>
              <p:cNvSpPr/>
              <p:nvPr/>
            </p:nvSpPr>
            <p:spPr>
              <a:xfrm>
                <a:off x="4683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232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78440" y="2927160"/>
              <a:ext cx="27720" cy="27000"/>
              <a:chOff x="478440" y="2927160"/>
              <a:chExt cx="27720" cy="27000"/>
            </a:xfrm>
          </p:grpSpPr>
          <p:sp>
            <p:nvSpPr>
              <p:cNvPr id="914" name=""/>
              <p:cNvSpPr/>
              <p:nvPr/>
            </p:nvSpPr>
            <p:spPr>
              <a:xfrm>
                <a:off x="4784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824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9600" y="2927160"/>
              <a:ext cx="26280" cy="27000"/>
              <a:chOff x="489600" y="2927160"/>
              <a:chExt cx="26280" cy="27000"/>
            </a:xfrm>
          </p:grpSpPr>
          <p:sp>
            <p:nvSpPr>
              <p:cNvPr id="917" name=""/>
              <p:cNvSpPr/>
              <p:nvPr/>
            </p:nvSpPr>
            <p:spPr>
              <a:xfrm>
                <a:off x="4896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212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96800" y="2927160"/>
              <a:ext cx="32040" cy="27000"/>
              <a:chOff x="496800" y="2927160"/>
              <a:chExt cx="32040" cy="27000"/>
            </a:xfrm>
          </p:grpSpPr>
          <p:sp>
            <p:nvSpPr>
              <p:cNvPr id="920" name=""/>
              <p:cNvSpPr/>
              <p:nvPr/>
            </p:nvSpPr>
            <p:spPr>
              <a:xfrm>
                <a:off x="4968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508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08320" y="2927160"/>
              <a:ext cx="27720" cy="27000"/>
              <a:chOff x="508320" y="2927160"/>
              <a:chExt cx="27720" cy="27000"/>
            </a:xfrm>
          </p:grpSpPr>
          <p:sp>
            <p:nvSpPr>
              <p:cNvPr id="923" name=""/>
              <p:cNvSpPr/>
              <p:nvPr/>
            </p:nvSpPr>
            <p:spPr>
              <a:xfrm>
                <a:off x="508320" y="292716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228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95200" y="307332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3760" y="299232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6440" y="300168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8280" y="300168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0480" y="300168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00" y="300168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6400" y="300168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5400" y="300168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3960" y="300816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6720" y="302256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06440" y="303192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20" y="304164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00" y="305100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58560" y="302724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5680" y="303660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0280" y="304452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5760" y="305100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2840" y="302076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1480" y="30319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1680" y="304164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2440" y="305100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4480" y="305244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5400" y="302724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760" y="303840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6560" y="305424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2600" y="302724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6840" y="303840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2600" y="304452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22600" y="305424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87400" y="303840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95680" y="304956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3920" y="280800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95360" y="283032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1600" y="278748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57200" y="251460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2400" y="253836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5360" y="254628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3200" y="277956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2520" y="288288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19720" y="289872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60" y="28922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1360" y="2909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438840" y="2968560"/>
              <a:ext cx="68040" cy="27000"/>
              <a:chOff x="438840" y="2968560"/>
              <a:chExt cx="68040" cy="2700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438840" y="2968560"/>
                <a:ext cx="42840" cy="27000"/>
                <a:chOff x="438840" y="2968560"/>
                <a:chExt cx="42840" cy="27000"/>
              </a:xfrm>
            </p:grpSpPr>
            <p:grpSp>
              <p:nvGrpSpPr>
                <p:cNvPr id="969" name=""/>
                <p:cNvGrpSpPr/>
                <p:nvPr/>
              </p:nvGrpSpPr>
              <p:grpSpPr>
                <a:xfrm>
                  <a:off x="438840" y="2968560"/>
                  <a:ext cx="29160" cy="27000"/>
                  <a:chOff x="438840" y="2968560"/>
                  <a:chExt cx="29160" cy="2700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4388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44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452880" y="2968560"/>
                  <a:ext cx="28800" cy="27000"/>
                  <a:chOff x="452880" y="2968560"/>
                  <a:chExt cx="28800" cy="2700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452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579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465480" y="2968560"/>
                <a:ext cx="41400" cy="27000"/>
                <a:chOff x="465480" y="2968560"/>
                <a:chExt cx="41400" cy="27000"/>
              </a:xfrm>
            </p:grpSpPr>
            <p:grpSp>
              <p:nvGrpSpPr>
                <p:cNvPr id="976" name=""/>
                <p:cNvGrpSpPr/>
                <p:nvPr/>
              </p:nvGrpSpPr>
              <p:grpSpPr>
                <a:xfrm>
                  <a:off x="465480" y="2968560"/>
                  <a:ext cx="28800" cy="27000"/>
                  <a:chOff x="465480" y="2968560"/>
                  <a:chExt cx="28800" cy="270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465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70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478080" y="2968560"/>
                  <a:ext cx="28800" cy="27000"/>
                  <a:chOff x="478080" y="2968560"/>
                  <a:chExt cx="28800" cy="2700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4780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83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2" name=""/>
            <p:cNvGrpSpPr/>
            <p:nvPr/>
          </p:nvGrpSpPr>
          <p:grpSpPr>
            <a:xfrm>
              <a:off x="492480" y="2968560"/>
              <a:ext cx="64800" cy="27000"/>
              <a:chOff x="492480" y="2968560"/>
              <a:chExt cx="64800" cy="270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92480" y="2968560"/>
                <a:ext cx="39960" cy="27000"/>
                <a:chOff x="492480" y="2968560"/>
                <a:chExt cx="39960" cy="2700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492480" y="2968560"/>
                  <a:ext cx="27360" cy="27000"/>
                  <a:chOff x="492480" y="2968560"/>
                  <a:chExt cx="27360" cy="2700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492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4964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05080" y="2968560"/>
                  <a:ext cx="27360" cy="27000"/>
                  <a:chOff x="505080" y="2968560"/>
                  <a:chExt cx="27360" cy="270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5050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090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0" name=""/>
              <p:cNvGrpSpPr/>
              <p:nvPr/>
            </p:nvGrpSpPr>
            <p:grpSpPr>
              <a:xfrm>
                <a:off x="514800" y="2968560"/>
                <a:ext cx="42480" cy="27000"/>
                <a:chOff x="514800" y="2968560"/>
                <a:chExt cx="42480" cy="27000"/>
              </a:xfrm>
            </p:grpSpPr>
            <p:grpSp>
              <p:nvGrpSpPr>
                <p:cNvPr id="991" name=""/>
                <p:cNvGrpSpPr/>
                <p:nvPr/>
              </p:nvGrpSpPr>
              <p:grpSpPr>
                <a:xfrm>
                  <a:off x="514800" y="2968560"/>
                  <a:ext cx="30240" cy="27000"/>
                  <a:chOff x="514800" y="2968560"/>
                  <a:chExt cx="30240" cy="270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5148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521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28480" y="2968560"/>
                  <a:ext cx="28800" cy="27000"/>
                  <a:chOff x="528480" y="2968560"/>
                  <a:chExt cx="28800" cy="270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2848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335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543240" y="2968560"/>
              <a:ext cx="66960" cy="27000"/>
              <a:chOff x="543240" y="2968560"/>
              <a:chExt cx="66960" cy="270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543240" y="2968560"/>
                <a:ext cx="39960" cy="27000"/>
                <a:chOff x="543240" y="2968560"/>
                <a:chExt cx="39960" cy="2700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543240" y="2968560"/>
                  <a:ext cx="28800" cy="27000"/>
                  <a:chOff x="543240" y="2968560"/>
                  <a:chExt cx="28800" cy="2700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543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4828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554040" y="2968560"/>
                  <a:ext cx="29160" cy="27000"/>
                  <a:chOff x="554040" y="2968560"/>
                  <a:chExt cx="29160" cy="2700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5540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59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568440" y="2968560"/>
                <a:ext cx="41760" cy="27000"/>
                <a:chOff x="568440" y="2968560"/>
                <a:chExt cx="41760" cy="27000"/>
              </a:xfrm>
            </p:grpSpPr>
            <p:grpSp>
              <p:nvGrpSpPr>
                <p:cNvPr id="1006" name=""/>
                <p:cNvGrpSpPr/>
                <p:nvPr/>
              </p:nvGrpSpPr>
              <p:grpSpPr>
                <a:xfrm>
                  <a:off x="568440" y="2968560"/>
                  <a:ext cx="29160" cy="27000"/>
                  <a:chOff x="568440" y="2968560"/>
                  <a:chExt cx="29160" cy="270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68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5738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579600" y="2968560"/>
                  <a:ext cx="30600" cy="27000"/>
                  <a:chOff x="579600" y="2968560"/>
                  <a:chExt cx="30600" cy="270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5796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86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2" name=""/>
            <p:cNvGrpSpPr/>
            <p:nvPr/>
          </p:nvGrpSpPr>
          <p:grpSpPr>
            <a:xfrm>
              <a:off x="592560" y="2968560"/>
              <a:ext cx="66600" cy="27000"/>
              <a:chOff x="592560" y="2968560"/>
              <a:chExt cx="66600" cy="2700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592560" y="2968560"/>
                <a:ext cx="42840" cy="27000"/>
                <a:chOff x="592560" y="2968560"/>
                <a:chExt cx="42840" cy="27000"/>
              </a:xfrm>
            </p:grpSpPr>
            <p:grpSp>
              <p:nvGrpSpPr>
                <p:cNvPr id="1014" name=""/>
                <p:cNvGrpSpPr/>
                <p:nvPr/>
              </p:nvGrpSpPr>
              <p:grpSpPr>
                <a:xfrm>
                  <a:off x="592560" y="2968560"/>
                  <a:ext cx="30240" cy="27000"/>
                  <a:chOff x="592560" y="2968560"/>
                  <a:chExt cx="30240" cy="2700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5925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5994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605160" y="2968560"/>
                  <a:ext cx="30240" cy="27000"/>
                  <a:chOff x="605160" y="2968560"/>
                  <a:chExt cx="30240" cy="2700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6051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120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0" name=""/>
              <p:cNvGrpSpPr/>
              <p:nvPr/>
            </p:nvGrpSpPr>
            <p:grpSpPr>
              <a:xfrm>
                <a:off x="619200" y="2968560"/>
                <a:ext cx="39960" cy="27000"/>
                <a:chOff x="619200" y="2968560"/>
                <a:chExt cx="39960" cy="2700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619200" y="2968560"/>
                  <a:ext cx="30240" cy="27000"/>
                  <a:chOff x="619200" y="2968560"/>
                  <a:chExt cx="30240" cy="2700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6192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260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630000" y="2968560"/>
                  <a:ext cx="29160" cy="27000"/>
                  <a:chOff x="630000" y="2968560"/>
                  <a:chExt cx="29160" cy="2700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6300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354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7" name=""/>
            <p:cNvGrpSpPr/>
            <p:nvPr/>
          </p:nvGrpSpPr>
          <p:grpSpPr>
            <a:xfrm>
              <a:off x="644760" y="2968560"/>
              <a:ext cx="66960" cy="27000"/>
              <a:chOff x="644760" y="2968560"/>
              <a:chExt cx="66960" cy="2700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644760" y="2968560"/>
                <a:ext cx="41760" cy="27000"/>
                <a:chOff x="644760" y="2968560"/>
                <a:chExt cx="41760" cy="2700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644760" y="2968560"/>
                  <a:ext cx="29160" cy="27000"/>
                  <a:chOff x="644760" y="2968560"/>
                  <a:chExt cx="29160" cy="2700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644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501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657360" y="2968560"/>
                  <a:ext cx="29160" cy="27000"/>
                  <a:chOff x="657360" y="2968560"/>
                  <a:chExt cx="29160" cy="270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6573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62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5" name=""/>
              <p:cNvGrpSpPr/>
              <p:nvPr/>
            </p:nvGrpSpPr>
            <p:grpSpPr>
              <a:xfrm>
                <a:off x="669960" y="2968560"/>
                <a:ext cx="41760" cy="27000"/>
                <a:chOff x="669960" y="2968560"/>
                <a:chExt cx="41760" cy="2700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669960" y="2968560"/>
                  <a:ext cx="27720" cy="27000"/>
                  <a:chOff x="669960" y="2968560"/>
                  <a:chExt cx="27720" cy="2700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699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739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681120" y="2968560"/>
                  <a:ext cx="30600" cy="27000"/>
                  <a:chOff x="681120" y="2968560"/>
                  <a:chExt cx="30600" cy="27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6811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879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2" name=""/>
            <p:cNvGrpSpPr/>
            <p:nvPr/>
          </p:nvGrpSpPr>
          <p:grpSpPr>
            <a:xfrm>
              <a:off x="695520" y="2968560"/>
              <a:ext cx="67680" cy="27000"/>
              <a:chOff x="695520" y="2968560"/>
              <a:chExt cx="67680" cy="2700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695520" y="2968560"/>
                <a:ext cx="38160" cy="27000"/>
                <a:chOff x="695520" y="2968560"/>
                <a:chExt cx="38160" cy="2700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695520" y="2968560"/>
                  <a:ext cx="28800" cy="27000"/>
                  <a:chOff x="695520" y="2968560"/>
                  <a:chExt cx="28800" cy="270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6955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009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06320" y="2968560"/>
                  <a:ext cx="27360" cy="27000"/>
                  <a:chOff x="706320" y="2968560"/>
                  <a:chExt cx="27360" cy="27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7063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10640" y="296856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0" name=""/>
              <p:cNvGrpSpPr/>
              <p:nvPr/>
            </p:nvGrpSpPr>
            <p:grpSpPr>
              <a:xfrm>
                <a:off x="720360" y="2968560"/>
                <a:ext cx="42840" cy="27000"/>
                <a:chOff x="720360" y="2968560"/>
                <a:chExt cx="42840" cy="27000"/>
              </a:xfrm>
            </p:grpSpPr>
            <p:grpSp>
              <p:nvGrpSpPr>
                <p:cNvPr id="1051" name=""/>
                <p:cNvGrpSpPr/>
                <p:nvPr/>
              </p:nvGrpSpPr>
              <p:grpSpPr>
                <a:xfrm>
                  <a:off x="720360" y="2968560"/>
                  <a:ext cx="29160" cy="27000"/>
                  <a:chOff x="720360" y="2968560"/>
                  <a:chExt cx="29160" cy="2700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7203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25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732960" y="2968560"/>
                  <a:ext cx="30240" cy="27000"/>
                  <a:chOff x="732960" y="2968560"/>
                  <a:chExt cx="30240" cy="2700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7329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7398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7" name=""/>
            <p:cNvGrpSpPr/>
            <p:nvPr/>
          </p:nvGrpSpPr>
          <p:grpSpPr>
            <a:xfrm>
              <a:off x="747720" y="2968560"/>
              <a:ext cx="64800" cy="27000"/>
              <a:chOff x="747720" y="2968560"/>
              <a:chExt cx="64800" cy="270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747720" y="2968560"/>
                <a:ext cx="39960" cy="27000"/>
                <a:chOff x="747720" y="2968560"/>
                <a:chExt cx="39960" cy="2700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747720" y="2968560"/>
                  <a:ext cx="26280" cy="27000"/>
                  <a:chOff x="747720" y="2968560"/>
                  <a:chExt cx="26280" cy="270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7477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50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760320" y="2968560"/>
                  <a:ext cx="27360" cy="27000"/>
                  <a:chOff x="760320" y="2968560"/>
                  <a:chExt cx="27360" cy="2700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7603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42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772920" y="2968560"/>
                <a:ext cx="39600" cy="27000"/>
                <a:chOff x="772920" y="2968560"/>
                <a:chExt cx="39600" cy="2700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772920" y="2968560"/>
                  <a:ext cx="27360" cy="27000"/>
                  <a:chOff x="772920" y="2968560"/>
                  <a:chExt cx="27360" cy="270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772920" y="296856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76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783720" y="2968560"/>
                  <a:ext cx="28800" cy="27000"/>
                  <a:chOff x="783720" y="2968560"/>
                  <a:chExt cx="28800" cy="2700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7837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88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72" name=""/>
            <p:cNvGrpSpPr/>
            <p:nvPr/>
          </p:nvGrpSpPr>
          <p:grpSpPr>
            <a:xfrm>
              <a:off x="797040" y="2968560"/>
              <a:ext cx="68040" cy="27000"/>
              <a:chOff x="797040" y="2968560"/>
              <a:chExt cx="68040" cy="2700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97040" y="2968560"/>
                <a:ext cx="42840" cy="27000"/>
                <a:chOff x="797040" y="2968560"/>
                <a:chExt cx="42840" cy="27000"/>
              </a:xfrm>
            </p:grpSpPr>
            <p:grpSp>
              <p:nvGrpSpPr>
                <p:cNvPr id="1074" name=""/>
                <p:cNvGrpSpPr/>
                <p:nvPr/>
              </p:nvGrpSpPr>
              <p:grpSpPr>
                <a:xfrm>
                  <a:off x="797040" y="2968560"/>
                  <a:ext cx="29160" cy="27000"/>
                  <a:chOff x="797040" y="2968560"/>
                  <a:chExt cx="29160" cy="270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970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802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809640" y="2968560"/>
                  <a:ext cx="30240" cy="27000"/>
                  <a:chOff x="809640" y="2968560"/>
                  <a:chExt cx="30240" cy="2700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809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816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0" name=""/>
              <p:cNvGrpSpPr/>
              <p:nvPr/>
            </p:nvGrpSpPr>
            <p:grpSpPr>
              <a:xfrm>
                <a:off x="822240" y="2968560"/>
                <a:ext cx="42840" cy="27000"/>
                <a:chOff x="822240" y="2968560"/>
                <a:chExt cx="42840" cy="2700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822240" y="2968560"/>
                  <a:ext cx="28800" cy="27000"/>
                  <a:chOff x="822240" y="2968560"/>
                  <a:chExt cx="28800" cy="2700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822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827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834840" y="2968560"/>
                  <a:ext cx="30240" cy="27000"/>
                  <a:chOff x="834840" y="2968560"/>
                  <a:chExt cx="30240" cy="2700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8348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8416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87" name=""/>
            <p:cNvSpPr/>
            <p:nvPr/>
          </p:nvSpPr>
          <p:spPr>
            <a:xfrm>
              <a:off x="434520" y="291456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8" name="" descr=""/>
          <p:cNvPicPr/>
          <p:nvPr/>
        </p:nvPicPr>
        <p:blipFill>
          <a:blip r:embed="rId4"/>
          <a:stretch/>
        </p:blipFill>
        <p:spPr>
          <a:xfrm>
            <a:off x="7093080" y="3176640"/>
            <a:ext cx="531720" cy="77472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5"/>
          <a:stretch/>
        </p:blipFill>
        <p:spPr>
          <a:xfrm>
            <a:off x="3568680" y="450072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7332840" y="3332160"/>
            <a:ext cx="147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HC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49840" y="4627440"/>
            <a:ext cx="1331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132480" y="2201760"/>
            <a:ext cx="158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4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87680" y="3846600"/>
            <a:ext cx="18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4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572000" y="2133720"/>
            <a:ext cx="681120" cy="583560"/>
            <a:chOff x="4572000" y="2133720"/>
            <a:chExt cx="681120" cy="583560"/>
          </a:xfrm>
        </p:grpSpPr>
        <p:sp>
          <p:nvSpPr>
            <p:cNvPr id="1095" name=""/>
            <p:cNvSpPr/>
            <p:nvPr/>
          </p:nvSpPr>
          <p:spPr>
            <a:xfrm>
              <a:off x="4708440" y="2484360"/>
              <a:ext cx="427320" cy="13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07000" y="2441520"/>
              <a:ext cx="431280" cy="4392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11320" y="247788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14200" y="2495520"/>
              <a:ext cx="8316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03120" y="2495520"/>
              <a:ext cx="12096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30200" y="2495520"/>
              <a:ext cx="13212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65560" y="2495520"/>
              <a:ext cx="5328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46680" y="2504880"/>
              <a:ext cx="36720" cy="25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52440" y="2522520"/>
              <a:ext cx="252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18600" y="2523960"/>
              <a:ext cx="918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3200" y="2508120"/>
              <a:ext cx="11160" cy="122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07520" y="2546280"/>
              <a:ext cx="1116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717080" y="2546280"/>
              <a:ext cx="27720" cy="26640"/>
              <a:chOff x="4717080" y="2546280"/>
              <a:chExt cx="27720" cy="26640"/>
            </a:xfrm>
          </p:grpSpPr>
          <p:sp>
            <p:nvSpPr>
              <p:cNvPr id="1108" name=""/>
              <p:cNvSpPr/>
              <p:nvPr/>
            </p:nvSpPr>
            <p:spPr>
              <a:xfrm>
                <a:off x="47170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72104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727160" y="2546280"/>
              <a:ext cx="30600" cy="26640"/>
              <a:chOff x="4727160" y="2546280"/>
              <a:chExt cx="30600" cy="266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7271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7340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4736520" y="2546280"/>
              <a:ext cx="29160" cy="26640"/>
              <a:chOff x="4736520" y="2546280"/>
              <a:chExt cx="29160" cy="266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7365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7419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4746600" y="2546280"/>
              <a:ext cx="28080" cy="26640"/>
              <a:chOff x="4746600" y="2546280"/>
              <a:chExt cx="28080" cy="26640"/>
            </a:xfrm>
          </p:grpSpPr>
          <p:sp>
            <p:nvSpPr>
              <p:cNvPr id="1117" name=""/>
              <p:cNvSpPr/>
              <p:nvPr/>
            </p:nvSpPr>
            <p:spPr>
              <a:xfrm>
                <a:off x="47466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7509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756320" y="2546280"/>
              <a:ext cx="27720" cy="26640"/>
              <a:chOff x="4756320" y="2546280"/>
              <a:chExt cx="27720" cy="26640"/>
            </a:xfrm>
          </p:grpSpPr>
          <p:sp>
            <p:nvSpPr>
              <p:cNvPr id="1120" name=""/>
              <p:cNvSpPr/>
              <p:nvPr/>
            </p:nvSpPr>
            <p:spPr>
              <a:xfrm>
                <a:off x="47563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602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767480" y="2546280"/>
              <a:ext cx="26280" cy="26640"/>
              <a:chOff x="4767480" y="2546280"/>
              <a:chExt cx="26280" cy="26640"/>
            </a:xfrm>
          </p:grpSpPr>
          <p:sp>
            <p:nvSpPr>
              <p:cNvPr id="1123" name=""/>
              <p:cNvSpPr/>
              <p:nvPr/>
            </p:nvSpPr>
            <p:spPr>
              <a:xfrm>
                <a:off x="47674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700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775040" y="2546280"/>
              <a:ext cx="31680" cy="26640"/>
              <a:chOff x="4775040" y="2546280"/>
              <a:chExt cx="31680" cy="26640"/>
            </a:xfrm>
          </p:grpSpPr>
          <p:sp>
            <p:nvSpPr>
              <p:cNvPr id="1126" name=""/>
              <p:cNvSpPr/>
              <p:nvPr/>
            </p:nvSpPr>
            <p:spPr>
              <a:xfrm>
                <a:off x="4775040" y="2546280"/>
                <a:ext cx="234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829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786200" y="2546280"/>
              <a:ext cx="27720" cy="26640"/>
              <a:chOff x="4786200" y="2546280"/>
              <a:chExt cx="27720" cy="26640"/>
            </a:xfrm>
          </p:grpSpPr>
          <p:sp>
            <p:nvSpPr>
              <p:cNvPr id="1129" name=""/>
              <p:cNvSpPr/>
              <p:nvPr/>
            </p:nvSpPr>
            <p:spPr>
              <a:xfrm>
                <a:off x="47862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901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4573080" y="2692080"/>
              <a:ext cx="67284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2000" y="2611440"/>
              <a:ext cx="681120" cy="8208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594320" y="2620800"/>
              <a:ext cx="634680" cy="6300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46520" y="2620800"/>
              <a:ext cx="2556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98360" y="2620800"/>
              <a:ext cx="860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7440" y="2620800"/>
              <a:ext cx="81720" cy="2664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04640" y="2620800"/>
              <a:ext cx="81720" cy="2664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003280" y="2620800"/>
              <a:ext cx="73080" cy="266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92200" y="2627280"/>
              <a:ext cx="90000" cy="2664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74600" y="2641320"/>
              <a:ext cx="26676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84320" y="2651040"/>
              <a:ext cx="269640" cy="108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87200" y="266040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95840" y="2670120"/>
              <a:ext cx="2916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36440" y="2646360"/>
              <a:ext cx="3096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33920" y="2655720"/>
              <a:ext cx="26280" cy="108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28160" y="266364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34000" y="2670120"/>
              <a:ext cx="159120" cy="108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51440" y="2639880"/>
              <a:ext cx="36360" cy="108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959720" y="2651040"/>
              <a:ext cx="3096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9920" y="266040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00320" y="2670120"/>
              <a:ext cx="252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32720" y="267156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03280" y="2646360"/>
              <a:ext cx="74520" cy="108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13360" y="2657160"/>
              <a:ext cx="6588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14800" y="2673360"/>
              <a:ext cx="67680" cy="108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100840" y="2646360"/>
              <a:ext cx="74520" cy="108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095080" y="2657160"/>
              <a:ext cx="5724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100840" y="266364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00840" y="2673360"/>
              <a:ext cx="67680" cy="108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165640" y="265716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73920" y="26683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72160" y="2427120"/>
              <a:ext cx="295920" cy="2664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73240" y="2449440"/>
              <a:ext cx="289080" cy="24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39480" y="2406600"/>
              <a:ext cx="160920" cy="4392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35440" y="2133720"/>
              <a:ext cx="36396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760640" y="2157120"/>
              <a:ext cx="30744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773240" y="216504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41440" y="2398680"/>
              <a:ext cx="22320" cy="2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90760" y="250164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97960" y="25174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9600" y="2511360"/>
              <a:ext cx="11160" cy="1224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9600" y="25286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4717080" y="2587320"/>
              <a:ext cx="67680" cy="26640"/>
              <a:chOff x="4717080" y="2587320"/>
              <a:chExt cx="67680" cy="2664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4717080" y="2587320"/>
                <a:ext cx="42480" cy="26640"/>
                <a:chOff x="4717080" y="2587320"/>
                <a:chExt cx="42480" cy="26640"/>
              </a:xfrm>
            </p:grpSpPr>
            <p:grpSp>
              <p:nvGrpSpPr>
                <p:cNvPr id="1175" name=""/>
                <p:cNvGrpSpPr/>
                <p:nvPr/>
              </p:nvGrpSpPr>
              <p:grpSpPr>
                <a:xfrm>
                  <a:off x="4717080" y="2587320"/>
                  <a:ext cx="28800" cy="26640"/>
                  <a:chOff x="4717080" y="2587320"/>
                  <a:chExt cx="28800" cy="2664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47170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7221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4730760" y="2587320"/>
                  <a:ext cx="28800" cy="26640"/>
                  <a:chOff x="4730760" y="2587320"/>
                  <a:chExt cx="28800" cy="2664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47307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7358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1" name=""/>
              <p:cNvGrpSpPr/>
              <p:nvPr/>
            </p:nvGrpSpPr>
            <p:grpSpPr>
              <a:xfrm>
                <a:off x="4743360" y="2587320"/>
                <a:ext cx="41400" cy="26640"/>
                <a:chOff x="4743360" y="2587320"/>
                <a:chExt cx="41400" cy="26640"/>
              </a:xfrm>
            </p:grpSpPr>
            <p:grpSp>
              <p:nvGrpSpPr>
                <p:cNvPr id="1182" name=""/>
                <p:cNvGrpSpPr/>
                <p:nvPr/>
              </p:nvGrpSpPr>
              <p:grpSpPr>
                <a:xfrm>
                  <a:off x="4743360" y="2587320"/>
                  <a:ext cx="28800" cy="26640"/>
                  <a:chOff x="4743360" y="2587320"/>
                  <a:chExt cx="28800" cy="266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4743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7487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4755960" y="2587320"/>
                  <a:ext cx="28800" cy="26640"/>
                  <a:chOff x="4755960" y="2587320"/>
                  <a:chExt cx="28800" cy="266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47559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761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8" name=""/>
            <p:cNvGrpSpPr/>
            <p:nvPr/>
          </p:nvGrpSpPr>
          <p:grpSpPr>
            <a:xfrm>
              <a:off x="4770360" y="2587320"/>
              <a:ext cx="65160" cy="26640"/>
              <a:chOff x="4770360" y="2587320"/>
              <a:chExt cx="65160" cy="266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4770360" y="2587320"/>
                <a:ext cx="39960" cy="26640"/>
                <a:chOff x="4770360" y="2587320"/>
                <a:chExt cx="39960" cy="2664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4770360" y="2587320"/>
                  <a:ext cx="27360" cy="26640"/>
                  <a:chOff x="4770360" y="2587320"/>
                  <a:chExt cx="27360" cy="2664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4770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774680" y="2587320"/>
                    <a:ext cx="23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4782960" y="2587320"/>
                  <a:ext cx="27360" cy="26640"/>
                  <a:chOff x="4782960" y="2587320"/>
                  <a:chExt cx="27360" cy="266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7829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7869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6" name=""/>
              <p:cNvGrpSpPr/>
              <p:nvPr/>
            </p:nvGrpSpPr>
            <p:grpSpPr>
              <a:xfrm>
                <a:off x="4792680" y="2587320"/>
                <a:ext cx="42840" cy="26640"/>
                <a:chOff x="4792680" y="2587320"/>
                <a:chExt cx="42840" cy="2664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4792680" y="2587320"/>
                  <a:ext cx="30240" cy="26640"/>
                  <a:chOff x="4792680" y="2587320"/>
                  <a:chExt cx="30240" cy="2664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47926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799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0" name=""/>
                <p:cNvGrpSpPr/>
                <p:nvPr/>
              </p:nvGrpSpPr>
              <p:grpSpPr>
                <a:xfrm>
                  <a:off x="4806360" y="2587320"/>
                  <a:ext cx="29160" cy="26640"/>
                  <a:chOff x="4806360" y="2587320"/>
                  <a:chExt cx="29160" cy="2664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4806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48117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03" name=""/>
            <p:cNvGrpSpPr/>
            <p:nvPr/>
          </p:nvGrpSpPr>
          <p:grpSpPr>
            <a:xfrm>
              <a:off x="4821480" y="2587320"/>
              <a:ext cx="66960" cy="26640"/>
              <a:chOff x="4821480" y="2587320"/>
              <a:chExt cx="66960" cy="266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4821480" y="2587320"/>
                <a:ext cx="39960" cy="26640"/>
                <a:chOff x="4821480" y="2587320"/>
                <a:chExt cx="39960" cy="2664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4821480" y="2587320"/>
                  <a:ext cx="29160" cy="26640"/>
                  <a:chOff x="4821480" y="2587320"/>
                  <a:chExt cx="29160" cy="2664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48214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48268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4832280" y="2587320"/>
                  <a:ext cx="29160" cy="26640"/>
                  <a:chOff x="4832280" y="2587320"/>
                  <a:chExt cx="29160" cy="266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48322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4837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1" name=""/>
              <p:cNvGrpSpPr/>
              <p:nvPr/>
            </p:nvGrpSpPr>
            <p:grpSpPr>
              <a:xfrm>
                <a:off x="4846680" y="2587320"/>
                <a:ext cx="41760" cy="26640"/>
                <a:chOff x="4846680" y="2587320"/>
                <a:chExt cx="41760" cy="26640"/>
              </a:xfrm>
            </p:grpSpPr>
            <p:grpSp>
              <p:nvGrpSpPr>
                <p:cNvPr id="1212" name=""/>
                <p:cNvGrpSpPr/>
                <p:nvPr/>
              </p:nvGrpSpPr>
              <p:grpSpPr>
                <a:xfrm>
                  <a:off x="4846680" y="2587320"/>
                  <a:ext cx="29160" cy="26640"/>
                  <a:chOff x="4846680" y="2587320"/>
                  <a:chExt cx="29160" cy="266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4846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48520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857840" y="2587320"/>
                  <a:ext cx="30600" cy="26640"/>
                  <a:chOff x="4857840" y="2587320"/>
                  <a:chExt cx="30600" cy="26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8578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4864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18" name=""/>
            <p:cNvGrpSpPr/>
            <p:nvPr/>
          </p:nvGrpSpPr>
          <p:grpSpPr>
            <a:xfrm>
              <a:off x="4870800" y="2587320"/>
              <a:ext cx="66600" cy="26640"/>
              <a:chOff x="4870800" y="2587320"/>
              <a:chExt cx="66600" cy="2664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4870800" y="2587320"/>
                <a:ext cx="42840" cy="26640"/>
                <a:chOff x="4870800" y="2587320"/>
                <a:chExt cx="42840" cy="26640"/>
              </a:xfrm>
            </p:grpSpPr>
            <p:grpSp>
              <p:nvGrpSpPr>
                <p:cNvPr id="1220" name=""/>
                <p:cNvGrpSpPr/>
                <p:nvPr/>
              </p:nvGrpSpPr>
              <p:grpSpPr>
                <a:xfrm>
                  <a:off x="4870800" y="2587320"/>
                  <a:ext cx="30240" cy="26640"/>
                  <a:chOff x="4870800" y="2587320"/>
                  <a:chExt cx="30240" cy="2664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48708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48776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4883400" y="2587320"/>
                  <a:ext cx="30240" cy="26640"/>
                  <a:chOff x="4883400" y="2587320"/>
                  <a:chExt cx="30240" cy="2664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48834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48902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6" name=""/>
              <p:cNvGrpSpPr/>
              <p:nvPr/>
            </p:nvGrpSpPr>
            <p:grpSpPr>
              <a:xfrm>
                <a:off x="4897440" y="2587320"/>
                <a:ext cx="39960" cy="26640"/>
                <a:chOff x="4897440" y="2587320"/>
                <a:chExt cx="39960" cy="26640"/>
              </a:xfrm>
            </p:grpSpPr>
            <p:grpSp>
              <p:nvGrpSpPr>
                <p:cNvPr id="1227" name=""/>
                <p:cNvGrpSpPr/>
                <p:nvPr/>
              </p:nvGrpSpPr>
              <p:grpSpPr>
                <a:xfrm>
                  <a:off x="4897440" y="2587320"/>
                  <a:ext cx="30240" cy="26640"/>
                  <a:chOff x="4897440" y="2587320"/>
                  <a:chExt cx="30240" cy="266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48974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49042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0" name=""/>
                <p:cNvGrpSpPr/>
                <p:nvPr/>
              </p:nvGrpSpPr>
              <p:grpSpPr>
                <a:xfrm>
                  <a:off x="4908240" y="2587320"/>
                  <a:ext cx="29160" cy="26640"/>
                  <a:chOff x="4908240" y="2587320"/>
                  <a:chExt cx="29160" cy="2664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49082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9136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33" name=""/>
            <p:cNvGrpSpPr/>
            <p:nvPr/>
          </p:nvGrpSpPr>
          <p:grpSpPr>
            <a:xfrm>
              <a:off x="4923000" y="2587320"/>
              <a:ext cx="66960" cy="26640"/>
              <a:chOff x="4923000" y="2587320"/>
              <a:chExt cx="66960" cy="2664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923000" y="2587320"/>
                <a:ext cx="41400" cy="26640"/>
                <a:chOff x="4923000" y="2587320"/>
                <a:chExt cx="41400" cy="26640"/>
              </a:xfrm>
            </p:grpSpPr>
            <p:grpSp>
              <p:nvGrpSpPr>
                <p:cNvPr id="1235" name=""/>
                <p:cNvGrpSpPr/>
                <p:nvPr/>
              </p:nvGrpSpPr>
              <p:grpSpPr>
                <a:xfrm>
                  <a:off x="4923000" y="2587320"/>
                  <a:ext cx="28800" cy="26640"/>
                  <a:chOff x="4923000" y="2587320"/>
                  <a:chExt cx="28800" cy="2664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>
                    <a:off x="49230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9280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8" name=""/>
                <p:cNvGrpSpPr/>
                <p:nvPr/>
              </p:nvGrpSpPr>
              <p:grpSpPr>
                <a:xfrm>
                  <a:off x="4935240" y="2587320"/>
                  <a:ext cx="29160" cy="26640"/>
                  <a:chOff x="4935240" y="2587320"/>
                  <a:chExt cx="29160" cy="26640"/>
                </a:xfrm>
              </p:grpSpPr>
              <p:sp>
                <p:nvSpPr>
                  <p:cNvPr id="1239" name=""/>
                  <p:cNvSpPr/>
                  <p:nvPr/>
                </p:nvSpPr>
                <p:spPr>
                  <a:xfrm>
                    <a:off x="49352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9406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1" name=""/>
              <p:cNvGrpSpPr/>
              <p:nvPr/>
            </p:nvGrpSpPr>
            <p:grpSpPr>
              <a:xfrm>
                <a:off x="4948200" y="2587320"/>
                <a:ext cx="41760" cy="26640"/>
                <a:chOff x="4948200" y="2587320"/>
                <a:chExt cx="41760" cy="26640"/>
              </a:xfrm>
            </p:grpSpPr>
            <p:grpSp>
              <p:nvGrpSpPr>
                <p:cNvPr id="1242" name=""/>
                <p:cNvGrpSpPr/>
                <p:nvPr/>
              </p:nvGrpSpPr>
              <p:grpSpPr>
                <a:xfrm>
                  <a:off x="4948200" y="2587320"/>
                  <a:ext cx="27720" cy="26640"/>
                  <a:chOff x="4948200" y="2587320"/>
                  <a:chExt cx="27720" cy="2664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>
                    <a:off x="49482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9521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4959360" y="2587320"/>
                  <a:ext cx="30600" cy="26640"/>
                  <a:chOff x="4959360" y="2587320"/>
                  <a:chExt cx="30600" cy="2664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>
                    <a:off x="4959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9662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8" name=""/>
            <p:cNvGrpSpPr/>
            <p:nvPr/>
          </p:nvGrpSpPr>
          <p:grpSpPr>
            <a:xfrm>
              <a:off x="4973760" y="2587320"/>
              <a:ext cx="67680" cy="26640"/>
              <a:chOff x="4973760" y="2587320"/>
              <a:chExt cx="67680" cy="26640"/>
            </a:xfrm>
          </p:grpSpPr>
          <p:grpSp>
            <p:nvGrpSpPr>
              <p:cNvPr id="1249" name=""/>
              <p:cNvGrpSpPr/>
              <p:nvPr/>
            </p:nvGrpSpPr>
            <p:grpSpPr>
              <a:xfrm>
                <a:off x="4973760" y="2587320"/>
                <a:ext cx="38520" cy="26640"/>
                <a:chOff x="4973760" y="2587320"/>
                <a:chExt cx="38520" cy="26640"/>
              </a:xfrm>
            </p:grpSpPr>
            <p:grpSp>
              <p:nvGrpSpPr>
                <p:cNvPr id="1250" name=""/>
                <p:cNvGrpSpPr/>
                <p:nvPr/>
              </p:nvGrpSpPr>
              <p:grpSpPr>
                <a:xfrm>
                  <a:off x="4973760" y="2587320"/>
                  <a:ext cx="28800" cy="26640"/>
                  <a:chOff x="4973760" y="2587320"/>
                  <a:chExt cx="28800" cy="2664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49737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9791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4984920" y="2587320"/>
                  <a:ext cx="27360" cy="26640"/>
                  <a:chOff x="4984920" y="2587320"/>
                  <a:chExt cx="27360" cy="2664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9849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9888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6" name=""/>
              <p:cNvGrpSpPr/>
              <p:nvPr/>
            </p:nvGrpSpPr>
            <p:grpSpPr>
              <a:xfrm>
                <a:off x="4998960" y="2587320"/>
                <a:ext cx="42480" cy="26640"/>
                <a:chOff x="4998960" y="2587320"/>
                <a:chExt cx="42480" cy="26640"/>
              </a:xfrm>
            </p:grpSpPr>
            <p:grpSp>
              <p:nvGrpSpPr>
                <p:cNvPr id="1257" name=""/>
                <p:cNvGrpSpPr/>
                <p:nvPr/>
              </p:nvGrpSpPr>
              <p:grpSpPr>
                <a:xfrm>
                  <a:off x="4998960" y="2587320"/>
                  <a:ext cx="28800" cy="26640"/>
                  <a:chOff x="4998960" y="2587320"/>
                  <a:chExt cx="28800" cy="2664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4998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50040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0" name=""/>
                <p:cNvGrpSpPr/>
                <p:nvPr/>
              </p:nvGrpSpPr>
              <p:grpSpPr>
                <a:xfrm>
                  <a:off x="5011200" y="2587320"/>
                  <a:ext cx="30240" cy="26640"/>
                  <a:chOff x="5011200" y="2587320"/>
                  <a:chExt cx="30240" cy="2664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50112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50180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3" name=""/>
            <p:cNvGrpSpPr/>
            <p:nvPr/>
          </p:nvGrpSpPr>
          <p:grpSpPr>
            <a:xfrm>
              <a:off x="5025960" y="2587320"/>
              <a:ext cx="65160" cy="26640"/>
              <a:chOff x="5025960" y="2587320"/>
              <a:chExt cx="65160" cy="2664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5025960" y="2587320"/>
                <a:ext cx="39960" cy="26640"/>
                <a:chOff x="5025960" y="2587320"/>
                <a:chExt cx="39960" cy="26640"/>
              </a:xfrm>
            </p:grpSpPr>
            <p:grpSp>
              <p:nvGrpSpPr>
                <p:cNvPr id="1265" name=""/>
                <p:cNvGrpSpPr/>
                <p:nvPr/>
              </p:nvGrpSpPr>
              <p:grpSpPr>
                <a:xfrm>
                  <a:off x="5025960" y="2587320"/>
                  <a:ext cx="26280" cy="26640"/>
                  <a:chOff x="5025960" y="2587320"/>
                  <a:chExt cx="26280" cy="2664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5025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50284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"/>
                <p:cNvGrpSpPr/>
                <p:nvPr/>
              </p:nvGrpSpPr>
              <p:grpSpPr>
                <a:xfrm>
                  <a:off x="5038560" y="2587320"/>
                  <a:ext cx="27360" cy="26640"/>
                  <a:chOff x="5038560" y="2587320"/>
                  <a:chExt cx="27360" cy="26640"/>
                </a:xfrm>
              </p:grpSpPr>
              <p:sp>
                <p:nvSpPr>
                  <p:cNvPr id="1269" name=""/>
                  <p:cNvSpPr/>
                  <p:nvPr/>
                </p:nvSpPr>
                <p:spPr>
                  <a:xfrm>
                    <a:off x="50385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042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1" name=""/>
              <p:cNvGrpSpPr/>
              <p:nvPr/>
            </p:nvGrpSpPr>
            <p:grpSpPr>
              <a:xfrm>
                <a:off x="5051160" y="2587320"/>
                <a:ext cx="39960" cy="26640"/>
                <a:chOff x="5051160" y="2587320"/>
                <a:chExt cx="39960" cy="2664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5051160" y="2587320"/>
                  <a:ext cx="27360" cy="26640"/>
                  <a:chOff x="5051160" y="2587320"/>
                  <a:chExt cx="27360" cy="266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50511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0551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5061960" y="2587320"/>
                  <a:ext cx="29160" cy="26640"/>
                  <a:chOff x="5061960" y="2587320"/>
                  <a:chExt cx="29160" cy="266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5061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5067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78" name=""/>
            <p:cNvGrpSpPr/>
            <p:nvPr/>
          </p:nvGrpSpPr>
          <p:grpSpPr>
            <a:xfrm>
              <a:off x="5075280" y="2587320"/>
              <a:ext cx="67680" cy="26640"/>
              <a:chOff x="5075280" y="2587320"/>
              <a:chExt cx="67680" cy="26640"/>
            </a:xfrm>
          </p:grpSpPr>
          <p:grpSp>
            <p:nvGrpSpPr>
              <p:cNvPr id="1279" name=""/>
              <p:cNvGrpSpPr/>
              <p:nvPr/>
            </p:nvGrpSpPr>
            <p:grpSpPr>
              <a:xfrm>
                <a:off x="5075280" y="2587320"/>
                <a:ext cx="42480" cy="26640"/>
                <a:chOff x="5075280" y="2587320"/>
                <a:chExt cx="42480" cy="26640"/>
              </a:xfrm>
            </p:grpSpPr>
            <p:grpSp>
              <p:nvGrpSpPr>
                <p:cNvPr id="1280" name=""/>
                <p:cNvGrpSpPr/>
                <p:nvPr/>
              </p:nvGrpSpPr>
              <p:grpSpPr>
                <a:xfrm>
                  <a:off x="5075280" y="2587320"/>
                  <a:ext cx="28800" cy="26640"/>
                  <a:chOff x="5075280" y="2587320"/>
                  <a:chExt cx="28800" cy="2664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50752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50803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5087520" y="2587320"/>
                  <a:ext cx="30240" cy="26640"/>
                  <a:chOff x="5087520" y="2587320"/>
                  <a:chExt cx="30240" cy="2664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087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094720" y="2587320"/>
                    <a:ext cx="23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5100120" y="2587320"/>
                <a:ext cx="42840" cy="26640"/>
                <a:chOff x="5100120" y="2587320"/>
                <a:chExt cx="42840" cy="2664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5100120" y="2587320"/>
                  <a:ext cx="29160" cy="26640"/>
                  <a:chOff x="5100120" y="2587320"/>
                  <a:chExt cx="29160" cy="26640"/>
                </a:xfrm>
              </p:grpSpPr>
              <p:sp>
                <p:nvSpPr>
                  <p:cNvPr id="1288" name=""/>
                  <p:cNvSpPr/>
                  <p:nvPr/>
                </p:nvSpPr>
                <p:spPr>
                  <a:xfrm>
                    <a:off x="51001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51055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5112720" y="2587320"/>
                  <a:ext cx="30240" cy="26640"/>
                  <a:chOff x="5112720" y="2587320"/>
                  <a:chExt cx="30240" cy="2664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>
                    <a:off x="51127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51195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93" name=""/>
            <p:cNvSpPr/>
            <p:nvPr/>
          </p:nvSpPr>
          <p:spPr>
            <a:xfrm>
              <a:off x="4712760" y="2533680"/>
              <a:ext cx="406080" cy="2628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13920" y="2290680"/>
            <a:ext cx="158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6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765680" y="2162160"/>
            <a:ext cx="299880" cy="219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3206880" y="2267280"/>
            <a:ext cx="5853600" cy="4196520"/>
            <a:chOff x="3206880" y="2267280"/>
            <a:chExt cx="5853600" cy="4196520"/>
          </a:xfrm>
        </p:grpSpPr>
        <p:sp>
          <p:nvSpPr>
            <p:cNvPr id="1297" name=""/>
            <p:cNvSpPr/>
            <p:nvPr/>
          </p:nvSpPr>
          <p:spPr>
            <a:xfrm>
              <a:off x="3206880" y="2267280"/>
              <a:ext cx="4158360" cy="35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10"/>
                  </a:moveTo>
                  <a:arcTo wR="10800" hR="10800" stAng="3072" swAng="77997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10"/>
                  </a:moveTo>
                  <a:arcTo wR="10800" hR="10800" stAng="3072" swAng="7799792"/>
                </a:path>
              </a:pathLst>
            </a:custGeom>
            <a:noFill/>
            <a:ln cap="rnd" w="50760">
              <a:solidFill>
                <a:srgbClr val="99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69240" y="5945040"/>
              <a:ext cx="4791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-NAT capable DNS finds AAAA IPv6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ignals DCHPv6 to “reconfigure” the tar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4450320" y="2146320"/>
            <a:ext cx="5044320" cy="1377000"/>
            <a:chOff x="4450320" y="2146320"/>
            <a:chExt cx="5044320" cy="1377000"/>
          </a:xfrm>
        </p:grpSpPr>
        <p:sp>
          <p:nvSpPr>
            <p:cNvPr id="1300" name=""/>
            <p:cNvSpPr/>
            <p:nvPr/>
          </p:nvSpPr>
          <p:spPr>
            <a:xfrm>
              <a:off x="4450320" y="2571480"/>
              <a:ext cx="2636640" cy="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9" y="517"/>
                  </a:moveTo>
                  <a:arcTo wR="10800" hR="10800" stAng="-6467883" swAng="6582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9" y="517"/>
                  </a:moveTo>
                  <a:arcTo wR="10800" hR="10800" stAng="-6467883" swAng="6582616"/>
                </a:path>
              </a:pathLst>
            </a:custGeom>
            <a:noFill/>
            <a:ln cap="rnd" w="50760">
              <a:solidFill>
                <a:srgbClr val="99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89920" y="2146320"/>
              <a:ext cx="320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CHPv6 reconfigures tar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 temporary IPv4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910440" y="2162160"/>
            <a:ext cx="4154760" cy="749880"/>
            <a:chOff x="910440" y="2162160"/>
            <a:chExt cx="4154760" cy="749880"/>
          </a:xfrm>
        </p:grpSpPr>
        <p:sp>
          <p:nvSpPr>
            <p:cNvPr id="1303" name=""/>
            <p:cNvSpPr/>
            <p:nvPr/>
          </p:nvSpPr>
          <p:spPr>
            <a:xfrm>
              <a:off x="1050840" y="2536560"/>
              <a:ext cx="3385080" cy="0"/>
            </a:xfrm>
            <a:prstGeom prst="line">
              <a:avLst/>
            </a:prstGeom>
            <a:ln w="50760">
              <a:solidFill>
                <a:srgbClr val="6da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10440" y="2606400"/>
              <a:ext cx="406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rect end-to-end IPv4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764960" y="2162160"/>
              <a:ext cx="300240" cy="218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1097280" y="2170080"/>
            <a:ext cx="37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33"/>
                </a:solidFill>
                <a:latin typeface="Arial"/>
              </a:rPr>
              <a:t>SECURE End-to-End IPv4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o-NAT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n alternative to the traditional N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67400" y="4525920"/>
            <a:ext cx="2002320" cy="1159920"/>
            <a:chOff x="167400" y="4525920"/>
            <a:chExt cx="2002320" cy="1159920"/>
          </a:xfrm>
        </p:grpSpPr>
        <p:pic>
          <p:nvPicPr>
            <p:cNvPr id="1311" name="" descr=""/>
            <p:cNvPicPr/>
            <p:nvPr/>
          </p:nvPicPr>
          <p:blipFill>
            <a:blip r:embed="rId1"/>
            <a:stretch/>
          </p:blipFill>
          <p:spPr>
            <a:xfrm>
              <a:off x="928440" y="4525920"/>
              <a:ext cx="5320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167400" y="5380200"/>
              <a:ext cx="20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ome Ag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6996600" y="4702320"/>
            <a:ext cx="2099880" cy="1272600"/>
            <a:chOff x="6996600" y="4702320"/>
            <a:chExt cx="2099880" cy="1272600"/>
          </a:xfrm>
        </p:grpSpPr>
        <p:grpSp>
          <p:nvGrpSpPr>
            <p:cNvPr id="1314" name=""/>
            <p:cNvGrpSpPr/>
            <p:nvPr/>
          </p:nvGrpSpPr>
          <p:grpSpPr>
            <a:xfrm>
              <a:off x="7608240" y="4702320"/>
              <a:ext cx="681840" cy="583920"/>
              <a:chOff x="7608240" y="4702320"/>
              <a:chExt cx="681840" cy="583920"/>
            </a:xfrm>
          </p:grpSpPr>
          <p:sp>
            <p:nvSpPr>
              <p:cNvPr id="1315" name=""/>
              <p:cNvSpPr/>
              <p:nvPr/>
            </p:nvSpPr>
            <p:spPr>
              <a:xfrm>
                <a:off x="7745040" y="5052960"/>
                <a:ext cx="427680" cy="133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743960" y="5010120"/>
                <a:ext cx="431640" cy="4464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47920" y="5046840"/>
                <a:ext cx="420480" cy="144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50800" y="5064120"/>
                <a:ext cx="831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839360" y="5064120"/>
                <a:ext cx="12132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966440" y="5064120"/>
                <a:ext cx="13284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102520" y="506412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883280" y="507348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889040" y="509112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855200" y="5092560"/>
                <a:ext cx="91800" cy="12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849440" y="5076720"/>
                <a:ext cx="11520" cy="129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944120" y="511488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7753320" y="5114880"/>
                <a:ext cx="28080" cy="27000"/>
                <a:chOff x="7753320" y="5114880"/>
                <a:chExt cx="28080" cy="2700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77533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7576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7763400" y="5114880"/>
                <a:ext cx="30600" cy="27000"/>
                <a:chOff x="7763400" y="5114880"/>
                <a:chExt cx="30600" cy="2700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776340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7702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7773120" y="5114880"/>
                <a:ext cx="29160" cy="27000"/>
                <a:chOff x="7773120" y="5114880"/>
                <a:chExt cx="29160" cy="2700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7731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7785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7783200" y="5114880"/>
                <a:ext cx="27720" cy="27000"/>
                <a:chOff x="7783200" y="5114880"/>
                <a:chExt cx="27720" cy="2700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778320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7871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7792920" y="5114880"/>
                <a:ext cx="27720" cy="27000"/>
                <a:chOff x="7792920" y="5114880"/>
                <a:chExt cx="27720" cy="2700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77929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79688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7804440" y="5114880"/>
                <a:ext cx="26280" cy="27000"/>
                <a:chOff x="7804440" y="5114880"/>
                <a:chExt cx="26280" cy="2700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78044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8069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7811280" y="5114880"/>
                <a:ext cx="32040" cy="27000"/>
                <a:chOff x="7811280" y="5114880"/>
                <a:chExt cx="32040" cy="2700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781128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8195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7822800" y="5114880"/>
                <a:ext cx="27720" cy="27000"/>
                <a:chOff x="7822800" y="5114880"/>
                <a:chExt cx="27720" cy="2700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7822800" y="511488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8267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>
                <a:off x="7609680" y="5261040"/>
                <a:ext cx="67320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08240" y="5180040"/>
                <a:ext cx="681840" cy="8244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0920" y="5189400"/>
                <a:ext cx="635040" cy="6372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83120" y="51894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735320" y="518940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844040" y="5189400"/>
                <a:ext cx="813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41240" y="518940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40240" y="5189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128800" y="519588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11200" y="5210280"/>
                <a:ext cx="266760" cy="144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720920" y="5219640"/>
                <a:ext cx="269280" cy="180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723800" y="5229360"/>
                <a:ext cx="236880" cy="144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732440" y="523872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73040" y="521496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70160" y="5224320"/>
                <a:ext cx="266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664760" y="523224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770240" y="5238720"/>
                <a:ext cx="1594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87680" y="5208480"/>
                <a:ext cx="36720" cy="180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96320" y="5219640"/>
                <a:ext cx="309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76520" y="5229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37280" y="52387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69320" y="5240160"/>
                <a:ext cx="54720" cy="180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040240" y="521496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049960" y="522612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051400" y="524196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137440" y="5214960"/>
                <a:ext cx="7488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131680" y="522612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137440" y="523224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137440" y="524196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202600" y="52261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210880" y="523728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08400" y="499572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10200" y="5018040"/>
                <a:ext cx="28908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876440" y="4975200"/>
                <a:ext cx="160920" cy="4464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72040" y="4702320"/>
                <a:ext cx="363960" cy="27756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97240" y="4726080"/>
                <a:ext cx="307440" cy="23472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10200" y="4734000"/>
                <a:ext cx="282240" cy="21420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78400" y="4967280"/>
                <a:ext cx="22320" cy="25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127720" y="5070600"/>
                <a:ext cx="22680" cy="2844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134560" y="508644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116560" y="507996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116560" y="509760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7753320" y="5156280"/>
                <a:ext cx="68040" cy="27000"/>
                <a:chOff x="7753320" y="5156280"/>
                <a:chExt cx="68040" cy="27000"/>
              </a:xfrm>
            </p:grpSpPr>
            <p:grpSp>
              <p:nvGrpSpPr>
                <p:cNvPr id="1394" name=""/>
                <p:cNvGrpSpPr/>
                <p:nvPr/>
              </p:nvGrpSpPr>
              <p:grpSpPr>
                <a:xfrm>
                  <a:off x="7753320" y="5156280"/>
                  <a:ext cx="42840" cy="27000"/>
                  <a:chOff x="7753320" y="5156280"/>
                  <a:chExt cx="42840" cy="27000"/>
                </a:xfrm>
              </p:grpSpPr>
              <p:grpSp>
                <p:nvGrpSpPr>
                  <p:cNvPr id="1395" name=""/>
                  <p:cNvGrpSpPr/>
                  <p:nvPr/>
                </p:nvGrpSpPr>
                <p:grpSpPr>
                  <a:xfrm>
                    <a:off x="7753320" y="5156280"/>
                    <a:ext cx="29160" cy="27000"/>
                    <a:chOff x="7753320" y="5156280"/>
                    <a:chExt cx="29160" cy="27000"/>
                  </a:xfrm>
                </p:grpSpPr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77533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77587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7767360" y="5156280"/>
                    <a:ext cx="28800" cy="27000"/>
                    <a:chOff x="7767360" y="5156280"/>
                    <a:chExt cx="28800" cy="27000"/>
                  </a:xfrm>
                </p:grpSpPr>
                <p:sp>
                  <p:nvSpPr>
                    <p:cNvPr id="1399" name=""/>
                    <p:cNvSpPr/>
                    <p:nvPr/>
                  </p:nvSpPr>
                  <p:spPr>
                    <a:xfrm>
                      <a:off x="77673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"/>
                    <p:cNvSpPr/>
                    <p:nvPr/>
                  </p:nvSpPr>
                  <p:spPr>
                    <a:xfrm>
                      <a:off x="77724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7779960" y="5156280"/>
                  <a:ext cx="41400" cy="27000"/>
                  <a:chOff x="7779960" y="5156280"/>
                  <a:chExt cx="41400" cy="27000"/>
                </a:xfrm>
              </p:grpSpPr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7779960" y="5156280"/>
                    <a:ext cx="28800" cy="27000"/>
                    <a:chOff x="7779960" y="5156280"/>
                    <a:chExt cx="28800" cy="2700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>
                      <a:off x="77799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77853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7792560" y="5156280"/>
                    <a:ext cx="28800" cy="27000"/>
                    <a:chOff x="7792560" y="5156280"/>
                    <a:chExt cx="28800" cy="2700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77925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77979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08" name=""/>
              <p:cNvGrpSpPr/>
              <p:nvPr/>
            </p:nvGrpSpPr>
            <p:grpSpPr>
              <a:xfrm>
                <a:off x="7807320" y="5156280"/>
                <a:ext cx="65160" cy="27000"/>
                <a:chOff x="7807320" y="5156280"/>
                <a:chExt cx="65160" cy="27000"/>
              </a:xfrm>
            </p:grpSpPr>
            <p:grpSp>
              <p:nvGrpSpPr>
                <p:cNvPr id="1409" name=""/>
                <p:cNvGrpSpPr/>
                <p:nvPr/>
              </p:nvGrpSpPr>
              <p:grpSpPr>
                <a:xfrm>
                  <a:off x="7807320" y="5156280"/>
                  <a:ext cx="39960" cy="27000"/>
                  <a:chOff x="7807320" y="5156280"/>
                  <a:chExt cx="39960" cy="2700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7807320" y="5156280"/>
                    <a:ext cx="27360" cy="27000"/>
                    <a:chOff x="7807320" y="5156280"/>
                    <a:chExt cx="27360" cy="2700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78073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78112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7819920" y="5156280"/>
                    <a:ext cx="27360" cy="27000"/>
                    <a:chOff x="7819920" y="5156280"/>
                    <a:chExt cx="27360" cy="2700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78199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78238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7830000" y="5156280"/>
                  <a:ext cx="42480" cy="27000"/>
                  <a:chOff x="7830000" y="5156280"/>
                  <a:chExt cx="42480" cy="27000"/>
                </a:xfrm>
              </p:grpSpPr>
              <p:grpSp>
                <p:nvGrpSpPr>
                  <p:cNvPr id="1417" name=""/>
                  <p:cNvGrpSpPr/>
                  <p:nvPr/>
                </p:nvGrpSpPr>
                <p:grpSpPr>
                  <a:xfrm>
                    <a:off x="7830000" y="5156280"/>
                    <a:ext cx="30240" cy="27000"/>
                    <a:chOff x="7830000" y="5156280"/>
                    <a:chExt cx="30240" cy="27000"/>
                  </a:xfrm>
                </p:grpSpPr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7830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7836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7843680" y="5156280"/>
                    <a:ext cx="28800" cy="27000"/>
                    <a:chOff x="7843680" y="5156280"/>
                    <a:chExt cx="28800" cy="2700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78436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78487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3" name=""/>
              <p:cNvGrpSpPr/>
              <p:nvPr/>
            </p:nvGrpSpPr>
            <p:grpSpPr>
              <a:xfrm>
                <a:off x="7858080" y="5156280"/>
                <a:ext cx="66960" cy="27000"/>
                <a:chOff x="7858080" y="5156280"/>
                <a:chExt cx="66960" cy="27000"/>
              </a:xfrm>
            </p:grpSpPr>
            <p:grpSp>
              <p:nvGrpSpPr>
                <p:cNvPr id="1424" name=""/>
                <p:cNvGrpSpPr/>
                <p:nvPr/>
              </p:nvGrpSpPr>
              <p:grpSpPr>
                <a:xfrm>
                  <a:off x="7858080" y="5156280"/>
                  <a:ext cx="39960" cy="27000"/>
                  <a:chOff x="7858080" y="5156280"/>
                  <a:chExt cx="39960" cy="27000"/>
                </a:xfrm>
              </p:grpSpPr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7858080" y="5156280"/>
                    <a:ext cx="28800" cy="27000"/>
                    <a:chOff x="7858080" y="5156280"/>
                    <a:chExt cx="28800" cy="2700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7858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78631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8" name=""/>
                  <p:cNvGrpSpPr/>
                  <p:nvPr/>
                </p:nvGrpSpPr>
                <p:grpSpPr>
                  <a:xfrm>
                    <a:off x="7868880" y="5156280"/>
                    <a:ext cx="29160" cy="27000"/>
                    <a:chOff x="7868880" y="5156280"/>
                    <a:chExt cx="29160" cy="27000"/>
                  </a:xfrm>
                </p:grpSpPr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78688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0" name=""/>
                    <p:cNvSpPr/>
                    <p:nvPr/>
                  </p:nvSpPr>
                  <p:spPr>
                    <a:xfrm>
                      <a:off x="7874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1" name=""/>
                <p:cNvGrpSpPr/>
                <p:nvPr/>
              </p:nvGrpSpPr>
              <p:grpSpPr>
                <a:xfrm>
                  <a:off x="7883280" y="5156280"/>
                  <a:ext cx="41760" cy="27000"/>
                  <a:chOff x="7883280" y="5156280"/>
                  <a:chExt cx="41760" cy="27000"/>
                </a:xfrm>
              </p:grpSpPr>
              <p:grpSp>
                <p:nvGrpSpPr>
                  <p:cNvPr id="1432" name=""/>
                  <p:cNvGrpSpPr/>
                  <p:nvPr/>
                </p:nvGrpSpPr>
                <p:grpSpPr>
                  <a:xfrm>
                    <a:off x="7883280" y="5156280"/>
                    <a:ext cx="29160" cy="27000"/>
                    <a:chOff x="7883280" y="5156280"/>
                    <a:chExt cx="29160" cy="27000"/>
                  </a:xfrm>
                </p:grpSpPr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7883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78886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5" name=""/>
                  <p:cNvGrpSpPr/>
                  <p:nvPr/>
                </p:nvGrpSpPr>
                <p:grpSpPr>
                  <a:xfrm>
                    <a:off x="7894440" y="5156280"/>
                    <a:ext cx="30600" cy="27000"/>
                    <a:chOff x="7894440" y="5156280"/>
                    <a:chExt cx="30600" cy="27000"/>
                  </a:xfrm>
                </p:grpSpPr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78944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7901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38" name=""/>
              <p:cNvGrpSpPr/>
              <p:nvPr/>
            </p:nvGrpSpPr>
            <p:grpSpPr>
              <a:xfrm>
                <a:off x="7907400" y="5156280"/>
                <a:ext cx="66600" cy="27000"/>
                <a:chOff x="7907400" y="5156280"/>
                <a:chExt cx="66600" cy="2700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7907400" y="5156280"/>
                  <a:ext cx="42840" cy="27000"/>
                  <a:chOff x="7907400" y="5156280"/>
                  <a:chExt cx="42840" cy="2700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7907400" y="5156280"/>
                    <a:ext cx="30240" cy="27000"/>
                    <a:chOff x="7907400" y="5156280"/>
                    <a:chExt cx="30240" cy="2700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79074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79142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3" name=""/>
                  <p:cNvGrpSpPr/>
                  <p:nvPr/>
                </p:nvGrpSpPr>
                <p:grpSpPr>
                  <a:xfrm>
                    <a:off x="7920000" y="5156280"/>
                    <a:ext cx="30240" cy="27000"/>
                    <a:chOff x="7920000" y="5156280"/>
                    <a:chExt cx="30240" cy="27000"/>
                  </a:xfrm>
                </p:grpSpPr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7920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7926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46" name=""/>
                <p:cNvGrpSpPr/>
                <p:nvPr/>
              </p:nvGrpSpPr>
              <p:grpSpPr>
                <a:xfrm>
                  <a:off x="7934040" y="5156280"/>
                  <a:ext cx="39960" cy="27000"/>
                  <a:chOff x="7934040" y="5156280"/>
                  <a:chExt cx="39960" cy="27000"/>
                </a:xfrm>
              </p:grpSpPr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7934040" y="5156280"/>
                    <a:ext cx="30240" cy="27000"/>
                    <a:chOff x="7934040" y="5156280"/>
                    <a:chExt cx="30240" cy="2700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79340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79408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7944840" y="5156280"/>
                    <a:ext cx="29160" cy="27000"/>
                    <a:chOff x="7944840" y="5156280"/>
                    <a:chExt cx="29160" cy="2700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79448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79502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53" name=""/>
              <p:cNvGrpSpPr/>
              <p:nvPr/>
            </p:nvGrpSpPr>
            <p:grpSpPr>
              <a:xfrm>
                <a:off x="7959600" y="5156280"/>
                <a:ext cx="66960" cy="27000"/>
                <a:chOff x="7959600" y="5156280"/>
                <a:chExt cx="66960" cy="2700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7959600" y="5156280"/>
                  <a:ext cx="41760" cy="27000"/>
                  <a:chOff x="7959600" y="5156280"/>
                  <a:chExt cx="41760" cy="2700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7959600" y="5156280"/>
                    <a:ext cx="29160" cy="27000"/>
                    <a:chOff x="7959600" y="5156280"/>
                    <a:chExt cx="29160" cy="2700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>
                      <a:off x="79596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79650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8" name=""/>
                  <p:cNvGrpSpPr/>
                  <p:nvPr/>
                </p:nvGrpSpPr>
                <p:grpSpPr>
                  <a:xfrm>
                    <a:off x="7972200" y="5156280"/>
                    <a:ext cx="29160" cy="27000"/>
                    <a:chOff x="7972200" y="5156280"/>
                    <a:chExt cx="29160" cy="27000"/>
                  </a:xfrm>
                </p:grpSpPr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79722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79776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1" name=""/>
                <p:cNvGrpSpPr/>
                <p:nvPr/>
              </p:nvGrpSpPr>
              <p:grpSpPr>
                <a:xfrm>
                  <a:off x="7984800" y="5156280"/>
                  <a:ext cx="41760" cy="27000"/>
                  <a:chOff x="7984800" y="5156280"/>
                  <a:chExt cx="41760" cy="27000"/>
                </a:xfrm>
              </p:grpSpPr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7984800" y="5156280"/>
                    <a:ext cx="27720" cy="27000"/>
                    <a:chOff x="7984800" y="5156280"/>
                    <a:chExt cx="27720" cy="2700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>
                      <a:off x="79848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79887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5" name=""/>
                  <p:cNvGrpSpPr/>
                  <p:nvPr/>
                </p:nvGrpSpPr>
                <p:grpSpPr>
                  <a:xfrm>
                    <a:off x="7995960" y="5156280"/>
                    <a:ext cx="30600" cy="27000"/>
                    <a:chOff x="7995960" y="5156280"/>
                    <a:chExt cx="30600" cy="27000"/>
                  </a:xfrm>
                </p:grpSpPr>
                <p:sp>
                  <p:nvSpPr>
                    <p:cNvPr id="1466" name=""/>
                    <p:cNvSpPr/>
                    <p:nvPr/>
                  </p:nvSpPr>
                  <p:spPr>
                    <a:xfrm>
                      <a:off x="7995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7" name=""/>
                    <p:cNvSpPr/>
                    <p:nvPr/>
                  </p:nvSpPr>
                  <p:spPr>
                    <a:xfrm>
                      <a:off x="80028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68" name=""/>
              <p:cNvGrpSpPr/>
              <p:nvPr/>
            </p:nvGrpSpPr>
            <p:grpSpPr>
              <a:xfrm>
                <a:off x="8010360" y="5156280"/>
                <a:ext cx="68040" cy="27000"/>
                <a:chOff x="8010360" y="5156280"/>
                <a:chExt cx="68040" cy="2700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8010360" y="5156280"/>
                  <a:ext cx="38880" cy="27000"/>
                  <a:chOff x="8010360" y="5156280"/>
                  <a:chExt cx="38880" cy="27000"/>
                </a:xfrm>
              </p:grpSpPr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8010360" y="5156280"/>
                    <a:ext cx="29160" cy="27000"/>
                    <a:chOff x="8010360" y="5156280"/>
                    <a:chExt cx="29160" cy="2700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80103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80157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8021520" y="5156280"/>
                    <a:ext cx="27720" cy="27000"/>
                    <a:chOff x="8021520" y="5156280"/>
                    <a:chExt cx="27720" cy="2700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>
                      <a:off x="80215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>
                      <a:off x="8025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8035560" y="5156280"/>
                  <a:ext cx="42840" cy="27000"/>
                  <a:chOff x="8035560" y="5156280"/>
                  <a:chExt cx="42840" cy="2700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8035560" y="5156280"/>
                    <a:ext cx="29160" cy="27000"/>
                    <a:chOff x="8035560" y="5156280"/>
                    <a:chExt cx="29160" cy="2700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80355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8040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8048160" y="5156280"/>
                    <a:ext cx="30240" cy="27000"/>
                    <a:chOff x="8048160" y="5156280"/>
                    <a:chExt cx="30240" cy="2700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>
                      <a:off x="80481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8055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83" name=""/>
              <p:cNvGrpSpPr/>
              <p:nvPr/>
            </p:nvGrpSpPr>
            <p:grpSpPr>
              <a:xfrm>
                <a:off x="8062560" y="5156280"/>
                <a:ext cx="65160" cy="27000"/>
                <a:chOff x="8062560" y="5156280"/>
                <a:chExt cx="65160" cy="27000"/>
              </a:xfrm>
            </p:grpSpPr>
            <p:grpSp>
              <p:nvGrpSpPr>
                <p:cNvPr id="1484" name=""/>
                <p:cNvGrpSpPr/>
                <p:nvPr/>
              </p:nvGrpSpPr>
              <p:grpSpPr>
                <a:xfrm>
                  <a:off x="8062560" y="5156280"/>
                  <a:ext cx="39960" cy="27000"/>
                  <a:chOff x="8062560" y="5156280"/>
                  <a:chExt cx="39960" cy="2700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8062560" y="5156280"/>
                    <a:ext cx="26280" cy="27000"/>
                    <a:chOff x="8062560" y="5156280"/>
                    <a:chExt cx="26280" cy="2700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80625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8065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8075160" y="5156280"/>
                    <a:ext cx="27360" cy="27000"/>
                    <a:chOff x="8075160" y="5156280"/>
                    <a:chExt cx="27360" cy="270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80751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80791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8088120" y="5156280"/>
                  <a:ext cx="39600" cy="27000"/>
                  <a:chOff x="8088120" y="5156280"/>
                  <a:chExt cx="39600" cy="27000"/>
                </a:xfrm>
              </p:grpSpPr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8088120" y="5156280"/>
                    <a:ext cx="27360" cy="27000"/>
                    <a:chOff x="8088120" y="5156280"/>
                    <a:chExt cx="27360" cy="2700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8088120" y="515628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80920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8098920" y="5156280"/>
                    <a:ext cx="28800" cy="27000"/>
                    <a:chOff x="8098920" y="5156280"/>
                    <a:chExt cx="28800" cy="2700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80989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8103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98" name=""/>
              <p:cNvGrpSpPr/>
              <p:nvPr/>
            </p:nvGrpSpPr>
            <p:grpSpPr>
              <a:xfrm>
                <a:off x="8111880" y="5156280"/>
                <a:ext cx="68040" cy="27000"/>
                <a:chOff x="8111880" y="5156280"/>
                <a:chExt cx="68040" cy="27000"/>
              </a:xfrm>
            </p:grpSpPr>
            <p:grpSp>
              <p:nvGrpSpPr>
                <p:cNvPr id="1499" name=""/>
                <p:cNvGrpSpPr/>
                <p:nvPr/>
              </p:nvGrpSpPr>
              <p:grpSpPr>
                <a:xfrm>
                  <a:off x="8111880" y="5156280"/>
                  <a:ext cx="42840" cy="27000"/>
                  <a:chOff x="8111880" y="5156280"/>
                  <a:chExt cx="42840" cy="27000"/>
                </a:xfrm>
              </p:grpSpPr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8111880" y="5156280"/>
                    <a:ext cx="29160" cy="27000"/>
                    <a:chOff x="8111880" y="5156280"/>
                    <a:chExt cx="29160" cy="2700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81118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8117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8124480" y="5156280"/>
                    <a:ext cx="30240" cy="27000"/>
                    <a:chOff x="8124480" y="5156280"/>
                    <a:chExt cx="30240" cy="2700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81244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81313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8137080" y="5156280"/>
                  <a:ext cx="42840" cy="27000"/>
                  <a:chOff x="8137080" y="5156280"/>
                  <a:chExt cx="42840" cy="27000"/>
                </a:xfrm>
              </p:grpSpPr>
              <p:grpSp>
                <p:nvGrpSpPr>
                  <p:cNvPr id="1507" name=""/>
                  <p:cNvGrpSpPr/>
                  <p:nvPr/>
                </p:nvGrpSpPr>
                <p:grpSpPr>
                  <a:xfrm>
                    <a:off x="8137080" y="5156280"/>
                    <a:ext cx="28800" cy="27000"/>
                    <a:chOff x="8137080" y="5156280"/>
                    <a:chExt cx="28800" cy="27000"/>
                  </a:xfrm>
                </p:grpSpPr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8137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81424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0" name=""/>
                  <p:cNvGrpSpPr/>
                  <p:nvPr/>
                </p:nvGrpSpPr>
                <p:grpSpPr>
                  <a:xfrm>
                    <a:off x="8149680" y="5156280"/>
                    <a:ext cx="30240" cy="27000"/>
                    <a:chOff x="8149680" y="5156280"/>
                    <a:chExt cx="30240" cy="27000"/>
                  </a:xfrm>
                </p:grpSpPr>
                <p:sp>
                  <p:nvSpPr>
                    <p:cNvPr id="1511" name=""/>
                    <p:cNvSpPr/>
                    <p:nvPr/>
                  </p:nvSpPr>
                  <p:spPr>
                    <a:xfrm>
                      <a:off x="81496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81565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13" name=""/>
              <p:cNvSpPr/>
              <p:nvPr/>
            </p:nvSpPr>
            <p:spPr>
              <a:xfrm>
                <a:off x="7749360" y="5102280"/>
                <a:ext cx="40644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6996600" y="5456160"/>
              <a:ext cx="209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rrespond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360800" y="4351320"/>
            <a:ext cx="2211120" cy="1441080"/>
            <a:chOff x="1360800" y="4351320"/>
            <a:chExt cx="2211120" cy="1441080"/>
          </a:xfrm>
        </p:grpSpPr>
        <p:grpSp>
          <p:nvGrpSpPr>
            <p:cNvPr id="1517" name=""/>
            <p:cNvGrpSpPr/>
            <p:nvPr/>
          </p:nvGrpSpPr>
          <p:grpSpPr>
            <a:xfrm>
              <a:off x="2121480" y="4654440"/>
              <a:ext cx="681480" cy="584280"/>
              <a:chOff x="2121480" y="4654440"/>
              <a:chExt cx="681480" cy="584280"/>
            </a:xfrm>
          </p:grpSpPr>
          <p:sp>
            <p:nvSpPr>
              <p:cNvPr id="1518" name=""/>
              <p:cNvSpPr/>
              <p:nvPr/>
            </p:nvSpPr>
            <p:spPr>
              <a:xfrm>
                <a:off x="2258280" y="5005440"/>
                <a:ext cx="427320" cy="133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56840" y="4962600"/>
                <a:ext cx="431280" cy="4428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61160" y="4998960"/>
                <a:ext cx="420120" cy="180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4040" y="5016600"/>
                <a:ext cx="831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352600" y="5016600"/>
                <a:ext cx="12132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479680" y="5016600"/>
                <a:ext cx="1324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615400" y="501660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396520" y="502596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02280" y="504360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368440" y="5045040"/>
                <a:ext cx="918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362680" y="5029200"/>
                <a:ext cx="1116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457360" y="50673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2266560" y="5067360"/>
                <a:ext cx="28080" cy="27000"/>
                <a:chOff x="2266560" y="5067360"/>
                <a:chExt cx="28080" cy="2700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2665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27088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2276640" y="5067360"/>
                <a:ext cx="30600" cy="27000"/>
                <a:chOff x="2276640" y="5067360"/>
                <a:chExt cx="30600" cy="2700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22766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28348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2286360" y="5067360"/>
                <a:ext cx="29160" cy="27000"/>
                <a:chOff x="2286360" y="5067360"/>
                <a:chExt cx="29160" cy="2700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22863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2917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2296440" y="5067360"/>
                <a:ext cx="27720" cy="27000"/>
                <a:chOff x="2296440" y="5067360"/>
                <a:chExt cx="27720" cy="2700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22964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3004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2306160" y="5067360"/>
                <a:ext cx="27720" cy="27000"/>
                <a:chOff x="2306160" y="5067360"/>
                <a:chExt cx="27720" cy="2700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23061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3101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2317320" y="5067360"/>
                <a:ext cx="26280" cy="27000"/>
                <a:chOff x="2317320" y="5067360"/>
                <a:chExt cx="26280" cy="2700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3173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3198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2324520" y="5067360"/>
                <a:ext cx="32040" cy="27000"/>
                <a:chOff x="2324520" y="5067360"/>
                <a:chExt cx="32040" cy="2700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23245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3328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2336040" y="5067360"/>
                <a:ext cx="27720" cy="27000"/>
                <a:chOff x="2336040" y="5067360"/>
                <a:chExt cx="27720" cy="270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2336040" y="50673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3400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4" name=""/>
              <p:cNvSpPr/>
              <p:nvPr/>
            </p:nvSpPr>
            <p:spPr>
              <a:xfrm>
                <a:off x="2122920" y="5213520"/>
                <a:ext cx="672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121480" y="5132520"/>
                <a:ext cx="681480" cy="8244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144160" y="5141880"/>
                <a:ext cx="634680" cy="6336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196000" y="5141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48200" y="514188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357280" y="5141880"/>
                <a:ext cx="813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454480" y="514188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553120" y="514188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642040" y="514836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24440" y="5162400"/>
                <a:ext cx="266760" cy="180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234160" y="5172120"/>
                <a:ext cx="269280" cy="144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237040" y="5181480"/>
                <a:ext cx="236880" cy="180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245320" y="519120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186280" y="516744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183400" y="5176800"/>
                <a:ext cx="266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178000" y="518472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283480" y="5191200"/>
                <a:ext cx="1594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500920" y="516096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509560" y="517212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489400" y="518148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450160" y="519120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482560" y="5192640"/>
                <a:ext cx="54720" cy="180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553120" y="516744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562840" y="517860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564280" y="519444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650680" y="516744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644920" y="517860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50680" y="518472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650680" y="519444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715480" y="517860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723760" y="518940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321640" y="494820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323080" y="4970520"/>
                <a:ext cx="289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389320" y="4927680"/>
                <a:ext cx="160920" cy="4428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285280" y="4654440"/>
                <a:ext cx="363600" cy="27792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310480" y="4678200"/>
                <a:ext cx="307440" cy="23508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323080" y="4686480"/>
                <a:ext cx="281880" cy="21420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91280" y="4919760"/>
                <a:ext cx="22320" cy="252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640600" y="5022720"/>
                <a:ext cx="22680" cy="2880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647800" y="503856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629440" y="503244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629440" y="504972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6" name=""/>
              <p:cNvGrpSpPr/>
              <p:nvPr/>
            </p:nvGrpSpPr>
            <p:grpSpPr>
              <a:xfrm>
                <a:off x="2266560" y="5108400"/>
                <a:ext cx="68040" cy="27000"/>
                <a:chOff x="2266560" y="5108400"/>
                <a:chExt cx="68040" cy="2700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2266560" y="5108400"/>
                  <a:ext cx="42840" cy="27000"/>
                  <a:chOff x="2266560" y="5108400"/>
                  <a:chExt cx="42840" cy="27000"/>
                </a:xfrm>
              </p:grpSpPr>
              <p:grpSp>
                <p:nvGrpSpPr>
                  <p:cNvPr id="1598" name=""/>
                  <p:cNvGrpSpPr/>
                  <p:nvPr/>
                </p:nvGrpSpPr>
                <p:grpSpPr>
                  <a:xfrm>
                    <a:off x="2266560" y="5108400"/>
                    <a:ext cx="29160" cy="27000"/>
                    <a:chOff x="2266560" y="5108400"/>
                    <a:chExt cx="29160" cy="27000"/>
                  </a:xfrm>
                </p:grpSpPr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22665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22719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280600" y="5108400"/>
                    <a:ext cx="28800" cy="27000"/>
                    <a:chOff x="2280600" y="5108400"/>
                    <a:chExt cx="28800" cy="27000"/>
                  </a:xfrm>
                </p:grpSpPr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2280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22856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2293200" y="5108400"/>
                  <a:ext cx="41400" cy="27000"/>
                  <a:chOff x="2293200" y="5108400"/>
                  <a:chExt cx="41400" cy="27000"/>
                </a:xfrm>
              </p:grpSpPr>
              <p:grpSp>
                <p:nvGrpSpPr>
                  <p:cNvPr id="1605" name=""/>
                  <p:cNvGrpSpPr/>
                  <p:nvPr/>
                </p:nvGrpSpPr>
                <p:grpSpPr>
                  <a:xfrm>
                    <a:off x="2293200" y="5108400"/>
                    <a:ext cx="28800" cy="27000"/>
                    <a:chOff x="2293200" y="5108400"/>
                    <a:chExt cx="28800" cy="27000"/>
                  </a:xfrm>
                </p:grpSpPr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2293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2298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8" name=""/>
                  <p:cNvGrpSpPr/>
                  <p:nvPr/>
                </p:nvGrpSpPr>
                <p:grpSpPr>
                  <a:xfrm>
                    <a:off x="2305800" y="5108400"/>
                    <a:ext cx="28800" cy="27000"/>
                    <a:chOff x="2305800" y="5108400"/>
                    <a:chExt cx="28800" cy="27000"/>
                  </a:xfrm>
                </p:grpSpPr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23058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2311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11" name=""/>
              <p:cNvGrpSpPr/>
              <p:nvPr/>
            </p:nvGrpSpPr>
            <p:grpSpPr>
              <a:xfrm>
                <a:off x="2320200" y="5108400"/>
                <a:ext cx="64800" cy="27000"/>
                <a:chOff x="2320200" y="5108400"/>
                <a:chExt cx="64800" cy="27000"/>
              </a:xfrm>
            </p:grpSpPr>
            <p:grpSp>
              <p:nvGrpSpPr>
                <p:cNvPr id="1612" name=""/>
                <p:cNvGrpSpPr/>
                <p:nvPr/>
              </p:nvGrpSpPr>
              <p:grpSpPr>
                <a:xfrm>
                  <a:off x="2320200" y="5108400"/>
                  <a:ext cx="39960" cy="27000"/>
                  <a:chOff x="2320200" y="5108400"/>
                  <a:chExt cx="39960" cy="27000"/>
                </a:xfrm>
              </p:grpSpPr>
              <p:grpSp>
                <p:nvGrpSpPr>
                  <p:cNvPr id="1613" name=""/>
                  <p:cNvGrpSpPr/>
                  <p:nvPr/>
                </p:nvGrpSpPr>
                <p:grpSpPr>
                  <a:xfrm>
                    <a:off x="2320200" y="5108400"/>
                    <a:ext cx="27360" cy="27000"/>
                    <a:chOff x="2320200" y="5108400"/>
                    <a:chExt cx="27360" cy="27000"/>
                  </a:xfrm>
                </p:grpSpPr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2320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5" name=""/>
                    <p:cNvSpPr/>
                    <p:nvPr/>
                  </p:nvSpPr>
                  <p:spPr>
                    <a:xfrm>
                      <a:off x="23241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6" name=""/>
                  <p:cNvGrpSpPr/>
                  <p:nvPr/>
                </p:nvGrpSpPr>
                <p:grpSpPr>
                  <a:xfrm>
                    <a:off x="2332800" y="5108400"/>
                    <a:ext cx="27360" cy="27000"/>
                    <a:chOff x="2332800" y="5108400"/>
                    <a:chExt cx="27360" cy="27000"/>
                  </a:xfrm>
                </p:grpSpPr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23328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8" name=""/>
                    <p:cNvSpPr/>
                    <p:nvPr/>
                  </p:nvSpPr>
                  <p:spPr>
                    <a:xfrm>
                      <a:off x="23367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2342520" y="5108400"/>
                  <a:ext cx="42480" cy="27000"/>
                  <a:chOff x="2342520" y="5108400"/>
                  <a:chExt cx="42480" cy="27000"/>
                </a:xfrm>
              </p:grpSpPr>
              <p:grpSp>
                <p:nvGrpSpPr>
                  <p:cNvPr id="1620" name=""/>
                  <p:cNvGrpSpPr/>
                  <p:nvPr/>
                </p:nvGrpSpPr>
                <p:grpSpPr>
                  <a:xfrm>
                    <a:off x="2342520" y="5108400"/>
                    <a:ext cx="30240" cy="27000"/>
                    <a:chOff x="2342520" y="5108400"/>
                    <a:chExt cx="30240" cy="27000"/>
                  </a:xfrm>
                </p:grpSpPr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234252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2349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3" name=""/>
                  <p:cNvGrpSpPr/>
                  <p:nvPr/>
                </p:nvGrpSpPr>
                <p:grpSpPr>
                  <a:xfrm>
                    <a:off x="2356200" y="5108400"/>
                    <a:ext cx="28800" cy="27000"/>
                    <a:chOff x="2356200" y="5108400"/>
                    <a:chExt cx="28800" cy="27000"/>
                  </a:xfrm>
                </p:grpSpPr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23562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5" name=""/>
                    <p:cNvSpPr/>
                    <p:nvPr/>
                  </p:nvSpPr>
                  <p:spPr>
                    <a:xfrm>
                      <a:off x="23612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6" name=""/>
              <p:cNvGrpSpPr/>
              <p:nvPr/>
            </p:nvGrpSpPr>
            <p:grpSpPr>
              <a:xfrm>
                <a:off x="2371320" y="5108400"/>
                <a:ext cx="66960" cy="27000"/>
                <a:chOff x="2371320" y="5108400"/>
                <a:chExt cx="66960" cy="27000"/>
              </a:xfrm>
            </p:grpSpPr>
            <p:grpSp>
              <p:nvGrpSpPr>
                <p:cNvPr id="1627" name=""/>
                <p:cNvGrpSpPr/>
                <p:nvPr/>
              </p:nvGrpSpPr>
              <p:grpSpPr>
                <a:xfrm>
                  <a:off x="2371320" y="5108400"/>
                  <a:ext cx="39960" cy="27000"/>
                  <a:chOff x="2371320" y="5108400"/>
                  <a:chExt cx="39960" cy="27000"/>
                </a:xfrm>
              </p:grpSpPr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2371320" y="5108400"/>
                    <a:ext cx="28800" cy="27000"/>
                    <a:chOff x="2371320" y="5108400"/>
                    <a:chExt cx="28800" cy="2700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23713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23763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1" name=""/>
                  <p:cNvGrpSpPr/>
                  <p:nvPr/>
                </p:nvGrpSpPr>
                <p:grpSpPr>
                  <a:xfrm>
                    <a:off x="2382120" y="5108400"/>
                    <a:ext cx="29160" cy="27000"/>
                    <a:chOff x="2382120" y="5108400"/>
                    <a:chExt cx="29160" cy="27000"/>
                  </a:xfrm>
                </p:grpSpPr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23821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2387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34" name=""/>
                <p:cNvGrpSpPr/>
                <p:nvPr/>
              </p:nvGrpSpPr>
              <p:grpSpPr>
                <a:xfrm>
                  <a:off x="2396520" y="5108400"/>
                  <a:ext cx="41760" cy="27000"/>
                  <a:chOff x="2396520" y="5108400"/>
                  <a:chExt cx="41760" cy="27000"/>
                </a:xfrm>
              </p:grpSpPr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2396520" y="5108400"/>
                    <a:ext cx="29160" cy="27000"/>
                    <a:chOff x="2396520" y="5108400"/>
                    <a:chExt cx="29160" cy="2700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2396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24019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2407680" y="5108400"/>
                    <a:ext cx="30600" cy="27000"/>
                    <a:chOff x="2407680" y="5108400"/>
                    <a:chExt cx="30600" cy="2700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2407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2414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2420640" y="5108400"/>
                <a:ext cx="66600" cy="27000"/>
                <a:chOff x="2420640" y="5108400"/>
                <a:chExt cx="66600" cy="2700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2420640" y="5108400"/>
                  <a:ext cx="42840" cy="27000"/>
                  <a:chOff x="2420640" y="5108400"/>
                  <a:chExt cx="42840" cy="27000"/>
                </a:xfrm>
              </p:grpSpPr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420640" y="5108400"/>
                    <a:ext cx="30240" cy="27000"/>
                    <a:chOff x="2420640" y="5108400"/>
                    <a:chExt cx="30240" cy="2700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24206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24274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2433240" y="5108400"/>
                    <a:ext cx="30240" cy="27000"/>
                    <a:chOff x="2433240" y="5108400"/>
                    <a:chExt cx="30240" cy="2700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24332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24400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49" name=""/>
                <p:cNvGrpSpPr/>
                <p:nvPr/>
              </p:nvGrpSpPr>
              <p:grpSpPr>
                <a:xfrm>
                  <a:off x="2447280" y="5108400"/>
                  <a:ext cx="39960" cy="27000"/>
                  <a:chOff x="2447280" y="5108400"/>
                  <a:chExt cx="39960" cy="27000"/>
                </a:xfrm>
              </p:grpSpPr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2447280" y="5108400"/>
                    <a:ext cx="30240" cy="27000"/>
                    <a:chOff x="2447280" y="5108400"/>
                    <a:chExt cx="30240" cy="2700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24472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245412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2458080" y="5108400"/>
                    <a:ext cx="29160" cy="27000"/>
                    <a:chOff x="2458080" y="5108400"/>
                    <a:chExt cx="29160" cy="2700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24580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2463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6" name=""/>
              <p:cNvGrpSpPr/>
              <p:nvPr/>
            </p:nvGrpSpPr>
            <p:grpSpPr>
              <a:xfrm>
                <a:off x="2472480" y="5108400"/>
                <a:ext cx="66960" cy="27000"/>
                <a:chOff x="2472480" y="5108400"/>
                <a:chExt cx="66960" cy="27000"/>
              </a:xfrm>
            </p:grpSpPr>
            <p:grpSp>
              <p:nvGrpSpPr>
                <p:cNvPr id="1657" name=""/>
                <p:cNvGrpSpPr/>
                <p:nvPr/>
              </p:nvGrpSpPr>
              <p:grpSpPr>
                <a:xfrm>
                  <a:off x="2472480" y="5108400"/>
                  <a:ext cx="41760" cy="27000"/>
                  <a:chOff x="2472480" y="5108400"/>
                  <a:chExt cx="41760" cy="27000"/>
                </a:xfrm>
              </p:grpSpPr>
              <p:grpSp>
                <p:nvGrpSpPr>
                  <p:cNvPr id="1658" name=""/>
                  <p:cNvGrpSpPr/>
                  <p:nvPr/>
                </p:nvGrpSpPr>
                <p:grpSpPr>
                  <a:xfrm>
                    <a:off x="2472480" y="5108400"/>
                    <a:ext cx="29160" cy="27000"/>
                    <a:chOff x="2472480" y="5108400"/>
                    <a:chExt cx="29160" cy="27000"/>
                  </a:xfrm>
                </p:grpSpPr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2472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24778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1" name=""/>
                  <p:cNvGrpSpPr/>
                  <p:nvPr/>
                </p:nvGrpSpPr>
                <p:grpSpPr>
                  <a:xfrm>
                    <a:off x="2485080" y="5108400"/>
                    <a:ext cx="29160" cy="27000"/>
                    <a:chOff x="2485080" y="5108400"/>
                    <a:chExt cx="29160" cy="27000"/>
                  </a:xfrm>
                </p:grpSpPr>
                <p:sp>
                  <p:nvSpPr>
                    <p:cNvPr id="1662" name=""/>
                    <p:cNvSpPr/>
                    <p:nvPr/>
                  </p:nvSpPr>
                  <p:spPr>
                    <a:xfrm>
                      <a:off x="24850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3" name=""/>
                    <p:cNvSpPr/>
                    <p:nvPr/>
                  </p:nvSpPr>
                  <p:spPr>
                    <a:xfrm>
                      <a:off x="2490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64" name=""/>
                <p:cNvGrpSpPr/>
                <p:nvPr/>
              </p:nvGrpSpPr>
              <p:grpSpPr>
                <a:xfrm>
                  <a:off x="2497680" y="5108400"/>
                  <a:ext cx="41760" cy="27000"/>
                  <a:chOff x="2497680" y="5108400"/>
                  <a:chExt cx="41760" cy="27000"/>
                </a:xfrm>
              </p:grpSpPr>
              <p:grpSp>
                <p:nvGrpSpPr>
                  <p:cNvPr id="1665" name=""/>
                  <p:cNvGrpSpPr/>
                  <p:nvPr/>
                </p:nvGrpSpPr>
                <p:grpSpPr>
                  <a:xfrm>
                    <a:off x="2497680" y="5108400"/>
                    <a:ext cx="27720" cy="27000"/>
                    <a:chOff x="2497680" y="5108400"/>
                    <a:chExt cx="27720" cy="27000"/>
                  </a:xfrm>
                </p:grpSpPr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2497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25016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2508840" y="5108400"/>
                    <a:ext cx="30600" cy="27000"/>
                    <a:chOff x="2508840" y="5108400"/>
                    <a:chExt cx="30600" cy="2700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2508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2515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71" name=""/>
              <p:cNvGrpSpPr/>
              <p:nvPr/>
            </p:nvGrpSpPr>
            <p:grpSpPr>
              <a:xfrm>
                <a:off x="2523600" y="5108400"/>
                <a:ext cx="67680" cy="27000"/>
                <a:chOff x="2523600" y="5108400"/>
                <a:chExt cx="67680" cy="27000"/>
              </a:xfrm>
            </p:grpSpPr>
            <p:grpSp>
              <p:nvGrpSpPr>
                <p:cNvPr id="1672" name=""/>
                <p:cNvGrpSpPr/>
                <p:nvPr/>
              </p:nvGrpSpPr>
              <p:grpSpPr>
                <a:xfrm>
                  <a:off x="2523600" y="5108400"/>
                  <a:ext cx="38160" cy="27000"/>
                  <a:chOff x="2523600" y="5108400"/>
                  <a:chExt cx="38160" cy="27000"/>
                </a:xfrm>
              </p:grpSpPr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2523600" y="5108400"/>
                    <a:ext cx="28800" cy="27000"/>
                    <a:chOff x="2523600" y="5108400"/>
                    <a:chExt cx="28800" cy="2700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2523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25290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2534400" y="5108400"/>
                    <a:ext cx="27360" cy="27000"/>
                    <a:chOff x="2534400" y="5108400"/>
                    <a:chExt cx="27360" cy="2700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2534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2538720" y="510840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2548440" y="5108400"/>
                  <a:ext cx="42840" cy="27000"/>
                  <a:chOff x="2548440" y="5108400"/>
                  <a:chExt cx="42840" cy="27000"/>
                </a:xfrm>
              </p:grpSpPr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2548440" y="5108400"/>
                    <a:ext cx="29160" cy="27000"/>
                    <a:chOff x="2548440" y="5108400"/>
                    <a:chExt cx="29160" cy="2700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25484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>
                      <a:off x="2553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2561040" y="5108400"/>
                    <a:ext cx="30240" cy="27000"/>
                    <a:chOff x="2561040" y="5108400"/>
                    <a:chExt cx="30240" cy="2700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>
                      <a:off x="25610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25678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6" name=""/>
              <p:cNvGrpSpPr/>
              <p:nvPr/>
            </p:nvGrpSpPr>
            <p:grpSpPr>
              <a:xfrm>
                <a:off x="2575800" y="5108400"/>
                <a:ext cx="64800" cy="27000"/>
                <a:chOff x="2575800" y="5108400"/>
                <a:chExt cx="64800" cy="27000"/>
              </a:xfrm>
            </p:grpSpPr>
            <p:grpSp>
              <p:nvGrpSpPr>
                <p:cNvPr id="1687" name=""/>
                <p:cNvGrpSpPr/>
                <p:nvPr/>
              </p:nvGrpSpPr>
              <p:grpSpPr>
                <a:xfrm>
                  <a:off x="2575800" y="5108400"/>
                  <a:ext cx="39960" cy="27000"/>
                  <a:chOff x="2575800" y="5108400"/>
                  <a:chExt cx="39960" cy="27000"/>
                </a:xfrm>
              </p:grpSpPr>
              <p:grpSp>
                <p:nvGrpSpPr>
                  <p:cNvPr id="1688" name=""/>
                  <p:cNvGrpSpPr/>
                  <p:nvPr/>
                </p:nvGrpSpPr>
                <p:grpSpPr>
                  <a:xfrm>
                    <a:off x="2575800" y="5108400"/>
                    <a:ext cx="26280" cy="27000"/>
                    <a:chOff x="2575800" y="5108400"/>
                    <a:chExt cx="26280" cy="27000"/>
                  </a:xfrm>
                </p:grpSpPr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25758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25783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2588400" y="5108400"/>
                    <a:ext cx="27360" cy="27000"/>
                    <a:chOff x="2588400" y="5108400"/>
                    <a:chExt cx="27360" cy="2700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2588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2592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2601000" y="5108400"/>
                  <a:ext cx="39600" cy="27000"/>
                  <a:chOff x="2601000" y="5108400"/>
                  <a:chExt cx="39600" cy="27000"/>
                </a:xfrm>
              </p:grpSpPr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2601000" y="5108400"/>
                    <a:ext cx="27360" cy="27000"/>
                    <a:chOff x="2601000" y="5108400"/>
                    <a:chExt cx="27360" cy="2700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2601000" y="510840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26049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2611800" y="5108400"/>
                    <a:ext cx="28800" cy="27000"/>
                    <a:chOff x="2611800" y="5108400"/>
                    <a:chExt cx="28800" cy="2700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26118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2616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1" name=""/>
              <p:cNvGrpSpPr/>
              <p:nvPr/>
            </p:nvGrpSpPr>
            <p:grpSpPr>
              <a:xfrm>
                <a:off x="2624760" y="5108400"/>
                <a:ext cx="68040" cy="27000"/>
                <a:chOff x="2624760" y="5108400"/>
                <a:chExt cx="68040" cy="27000"/>
              </a:xfrm>
            </p:grpSpPr>
            <p:grpSp>
              <p:nvGrpSpPr>
                <p:cNvPr id="1702" name=""/>
                <p:cNvGrpSpPr/>
                <p:nvPr/>
              </p:nvGrpSpPr>
              <p:grpSpPr>
                <a:xfrm>
                  <a:off x="2624760" y="5108400"/>
                  <a:ext cx="42840" cy="27000"/>
                  <a:chOff x="2624760" y="5108400"/>
                  <a:chExt cx="42840" cy="27000"/>
                </a:xfrm>
              </p:grpSpPr>
              <p:grpSp>
                <p:nvGrpSpPr>
                  <p:cNvPr id="1703" name=""/>
                  <p:cNvGrpSpPr/>
                  <p:nvPr/>
                </p:nvGrpSpPr>
                <p:grpSpPr>
                  <a:xfrm>
                    <a:off x="2624760" y="5108400"/>
                    <a:ext cx="29160" cy="27000"/>
                    <a:chOff x="2624760" y="5108400"/>
                    <a:chExt cx="29160" cy="27000"/>
                  </a:xfrm>
                </p:grpSpPr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26247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26301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6" name=""/>
                  <p:cNvGrpSpPr/>
                  <p:nvPr/>
                </p:nvGrpSpPr>
                <p:grpSpPr>
                  <a:xfrm>
                    <a:off x="2637360" y="5108400"/>
                    <a:ext cx="30240" cy="27000"/>
                    <a:chOff x="2637360" y="5108400"/>
                    <a:chExt cx="30240" cy="27000"/>
                  </a:xfrm>
                </p:grpSpPr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2637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2644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2649960" y="5108400"/>
                  <a:ext cx="42840" cy="27000"/>
                  <a:chOff x="2649960" y="5108400"/>
                  <a:chExt cx="42840" cy="27000"/>
                </a:xfrm>
              </p:grpSpPr>
              <p:grpSp>
                <p:nvGrpSpPr>
                  <p:cNvPr id="1710" name=""/>
                  <p:cNvGrpSpPr/>
                  <p:nvPr/>
                </p:nvGrpSpPr>
                <p:grpSpPr>
                  <a:xfrm>
                    <a:off x="2649960" y="5108400"/>
                    <a:ext cx="28800" cy="27000"/>
                    <a:chOff x="2649960" y="5108400"/>
                    <a:chExt cx="28800" cy="27000"/>
                  </a:xfrm>
                </p:grpSpPr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26499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2655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3" name=""/>
                  <p:cNvGrpSpPr/>
                  <p:nvPr/>
                </p:nvGrpSpPr>
                <p:grpSpPr>
                  <a:xfrm>
                    <a:off x="2662560" y="5108400"/>
                    <a:ext cx="30240" cy="27000"/>
                    <a:chOff x="2662560" y="5108400"/>
                    <a:chExt cx="30240" cy="27000"/>
                  </a:xfrm>
                </p:grpSpPr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26625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2669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16" name=""/>
              <p:cNvSpPr/>
              <p:nvPr/>
            </p:nvSpPr>
            <p:spPr>
              <a:xfrm>
                <a:off x="2262240" y="505476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7" name=""/>
            <p:cNvSpPr/>
            <p:nvPr/>
          </p:nvSpPr>
          <p:spPr>
            <a:xfrm>
              <a:off x="1484640" y="5273640"/>
              <a:ext cx="2013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obile”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t Hom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360800" y="4351320"/>
              <a:ext cx="221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ome Addres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od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019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obil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260280" y="390600"/>
            <a:ext cx="681120" cy="584280"/>
            <a:chOff x="260280" y="390600"/>
            <a:chExt cx="681120" cy="584280"/>
          </a:xfrm>
        </p:grpSpPr>
        <p:sp>
          <p:nvSpPr>
            <p:cNvPr id="1722" name=""/>
            <p:cNvSpPr/>
            <p:nvPr/>
          </p:nvSpPr>
          <p:spPr>
            <a:xfrm>
              <a:off x="397080" y="74160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5640" y="69876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9960" y="73512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02840" y="75276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1760" y="75276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8120" y="75276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3840" y="75276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4960" y="76212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0720" y="77976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06880" y="78120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1120" y="76536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800" y="80352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4" name=""/>
            <p:cNvGrpSpPr/>
            <p:nvPr/>
          </p:nvGrpSpPr>
          <p:grpSpPr>
            <a:xfrm>
              <a:off x="405720" y="803520"/>
              <a:ext cx="27720" cy="27000"/>
              <a:chOff x="405720" y="803520"/>
              <a:chExt cx="27720" cy="27000"/>
            </a:xfrm>
          </p:grpSpPr>
          <p:sp>
            <p:nvSpPr>
              <p:cNvPr id="1735" name=""/>
              <p:cNvSpPr/>
              <p:nvPr/>
            </p:nvSpPr>
            <p:spPr>
              <a:xfrm>
                <a:off x="4057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096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415080" y="803520"/>
              <a:ext cx="30600" cy="27000"/>
              <a:chOff x="415080" y="803520"/>
              <a:chExt cx="30600" cy="27000"/>
            </a:xfrm>
          </p:grpSpPr>
          <p:sp>
            <p:nvSpPr>
              <p:cNvPr id="1738" name=""/>
              <p:cNvSpPr/>
              <p:nvPr/>
            </p:nvSpPr>
            <p:spPr>
              <a:xfrm>
                <a:off x="4150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22280" y="80352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425160" y="803520"/>
              <a:ext cx="29160" cy="27000"/>
              <a:chOff x="425160" y="803520"/>
              <a:chExt cx="29160" cy="27000"/>
            </a:xfrm>
          </p:grpSpPr>
          <p:sp>
            <p:nvSpPr>
              <p:cNvPr id="1741" name=""/>
              <p:cNvSpPr/>
              <p:nvPr/>
            </p:nvSpPr>
            <p:spPr>
              <a:xfrm>
                <a:off x="4251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05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434880" y="803520"/>
              <a:ext cx="27720" cy="27000"/>
              <a:chOff x="434880" y="803520"/>
              <a:chExt cx="27720" cy="270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348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88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444960" y="803520"/>
              <a:ext cx="27720" cy="27000"/>
              <a:chOff x="444960" y="803520"/>
              <a:chExt cx="27720" cy="27000"/>
            </a:xfrm>
          </p:grpSpPr>
          <p:sp>
            <p:nvSpPr>
              <p:cNvPr id="1747" name=""/>
              <p:cNvSpPr/>
              <p:nvPr/>
            </p:nvSpPr>
            <p:spPr>
              <a:xfrm>
                <a:off x="4449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489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456120" y="803520"/>
              <a:ext cx="26280" cy="27000"/>
              <a:chOff x="456120" y="803520"/>
              <a:chExt cx="26280" cy="27000"/>
            </a:xfrm>
          </p:grpSpPr>
          <p:sp>
            <p:nvSpPr>
              <p:cNvPr id="1750" name=""/>
              <p:cNvSpPr/>
              <p:nvPr/>
            </p:nvSpPr>
            <p:spPr>
              <a:xfrm>
                <a:off x="4561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86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463320" y="803520"/>
              <a:ext cx="32040" cy="27000"/>
              <a:chOff x="463320" y="803520"/>
              <a:chExt cx="32040" cy="27000"/>
            </a:xfrm>
          </p:grpSpPr>
          <p:sp>
            <p:nvSpPr>
              <p:cNvPr id="1753" name=""/>
              <p:cNvSpPr/>
              <p:nvPr/>
            </p:nvSpPr>
            <p:spPr>
              <a:xfrm>
                <a:off x="4633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7160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474840" y="803520"/>
              <a:ext cx="27720" cy="27000"/>
              <a:chOff x="474840" y="803520"/>
              <a:chExt cx="27720" cy="27000"/>
            </a:xfrm>
          </p:grpSpPr>
          <p:sp>
            <p:nvSpPr>
              <p:cNvPr id="1756" name=""/>
              <p:cNvSpPr/>
              <p:nvPr/>
            </p:nvSpPr>
            <p:spPr>
              <a:xfrm>
                <a:off x="4748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880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261720" y="94932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0280" y="86832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960" y="87804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34800" y="87804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7000" y="87804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5720" y="87804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2920" y="87804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91920" y="87804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80840" y="88452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63240" y="89856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2960" y="90828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5840" y="91764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4120" y="92736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5080" y="903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200" y="91296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6800" y="92088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22640" y="92736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39720" y="89712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48000" y="90828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28200" y="91764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8960" y="92736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21000" y="92880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91920" y="90324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01640" y="91440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3080" y="93024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89120" y="90324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83360" y="91440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89120" y="92088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89120" y="93024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53920" y="91440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2200" y="92556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0440" y="68436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61880" y="70668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8120" y="66384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3720" y="39060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8920" y="41436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61880" y="42228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29720" y="65592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79040" y="75888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6240" y="77472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7880" y="7686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7880" y="785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05720" y="844560"/>
              <a:ext cx="67680" cy="27000"/>
              <a:chOff x="405720" y="844560"/>
              <a:chExt cx="67680" cy="27000"/>
            </a:xfrm>
          </p:grpSpPr>
          <p:grpSp>
            <p:nvGrpSpPr>
              <p:cNvPr id="1801" name=""/>
              <p:cNvGrpSpPr/>
              <p:nvPr/>
            </p:nvGrpSpPr>
            <p:grpSpPr>
              <a:xfrm>
                <a:off x="405720" y="844560"/>
                <a:ext cx="42480" cy="27000"/>
                <a:chOff x="405720" y="844560"/>
                <a:chExt cx="42480" cy="27000"/>
              </a:xfrm>
            </p:grpSpPr>
            <p:grpSp>
              <p:nvGrpSpPr>
                <p:cNvPr id="1802" name=""/>
                <p:cNvGrpSpPr/>
                <p:nvPr/>
              </p:nvGrpSpPr>
              <p:grpSpPr>
                <a:xfrm>
                  <a:off x="405720" y="844560"/>
                  <a:ext cx="28800" cy="27000"/>
                  <a:chOff x="405720" y="844560"/>
                  <a:chExt cx="28800" cy="2700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4057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410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5" name=""/>
                <p:cNvGrpSpPr/>
                <p:nvPr/>
              </p:nvGrpSpPr>
              <p:grpSpPr>
                <a:xfrm>
                  <a:off x="419400" y="844560"/>
                  <a:ext cx="28800" cy="27000"/>
                  <a:chOff x="419400" y="844560"/>
                  <a:chExt cx="28800" cy="2700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>
                    <a:off x="41940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4244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8" name=""/>
              <p:cNvGrpSpPr/>
              <p:nvPr/>
            </p:nvGrpSpPr>
            <p:grpSpPr>
              <a:xfrm>
                <a:off x="432000" y="844560"/>
                <a:ext cx="41400" cy="27000"/>
                <a:chOff x="432000" y="844560"/>
                <a:chExt cx="41400" cy="27000"/>
              </a:xfrm>
            </p:grpSpPr>
            <p:grpSp>
              <p:nvGrpSpPr>
                <p:cNvPr id="1809" name=""/>
                <p:cNvGrpSpPr/>
                <p:nvPr/>
              </p:nvGrpSpPr>
              <p:grpSpPr>
                <a:xfrm>
                  <a:off x="432000" y="844560"/>
                  <a:ext cx="28800" cy="27000"/>
                  <a:chOff x="432000" y="844560"/>
                  <a:chExt cx="28800" cy="27000"/>
                </a:xfrm>
              </p:grpSpPr>
              <p:sp>
                <p:nvSpPr>
                  <p:cNvPr id="1810" name=""/>
                  <p:cNvSpPr/>
                  <p:nvPr/>
                </p:nvSpPr>
                <p:spPr>
                  <a:xfrm>
                    <a:off x="432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4374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2" name=""/>
                <p:cNvGrpSpPr/>
                <p:nvPr/>
              </p:nvGrpSpPr>
              <p:grpSpPr>
                <a:xfrm>
                  <a:off x="444600" y="844560"/>
                  <a:ext cx="28800" cy="27000"/>
                  <a:chOff x="444600" y="844560"/>
                  <a:chExt cx="28800" cy="27000"/>
                </a:xfrm>
              </p:grpSpPr>
              <p:sp>
                <p:nvSpPr>
                  <p:cNvPr id="1813" name=""/>
                  <p:cNvSpPr/>
                  <p:nvPr/>
                </p:nvSpPr>
                <p:spPr>
                  <a:xfrm>
                    <a:off x="4446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450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15" name=""/>
            <p:cNvGrpSpPr/>
            <p:nvPr/>
          </p:nvGrpSpPr>
          <p:grpSpPr>
            <a:xfrm>
              <a:off x="459000" y="844560"/>
              <a:ext cx="64800" cy="27000"/>
              <a:chOff x="459000" y="844560"/>
              <a:chExt cx="64800" cy="27000"/>
            </a:xfrm>
          </p:grpSpPr>
          <p:grpSp>
            <p:nvGrpSpPr>
              <p:cNvPr id="1816" name=""/>
              <p:cNvGrpSpPr/>
              <p:nvPr/>
            </p:nvGrpSpPr>
            <p:grpSpPr>
              <a:xfrm>
                <a:off x="459000" y="844560"/>
                <a:ext cx="39960" cy="27000"/>
                <a:chOff x="459000" y="844560"/>
                <a:chExt cx="39960" cy="27000"/>
              </a:xfrm>
            </p:grpSpPr>
            <p:grpSp>
              <p:nvGrpSpPr>
                <p:cNvPr id="1817" name=""/>
                <p:cNvGrpSpPr/>
                <p:nvPr/>
              </p:nvGrpSpPr>
              <p:grpSpPr>
                <a:xfrm>
                  <a:off x="459000" y="844560"/>
                  <a:ext cx="27360" cy="27000"/>
                  <a:chOff x="459000" y="844560"/>
                  <a:chExt cx="27360" cy="27000"/>
                </a:xfrm>
              </p:grpSpPr>
              <p:sp>
                <p:nvSpPr>
                  <p:cNvPr id="1818" name=""/>
                  <p:cNvSpPr/>
                  <p:nvPr/>
                </p:nvSpPr>
                <p:spPr>
                  <a:xfrm>
                    <a:off x="459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4629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0" name=""/>
                <p:cNvGrpSpPr/>
                <p:nvPr/>
              </p:nvGrpSpPr>
              <p:grpSpPr>
                <a:xfrm>
                  <a:off x="471600" y="844560"/>
                  <a:ext cx="27360" cy="27000"/>
                  <a:chOff x="471600" y="844560"/>
                  <a:chExt cx="27360" cy="2700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4716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4755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3" name=""/>
              <p:cNvGrpSpPr/>
              <p:nvPr/>
            </p:nvGrpSpPr>
            <p:grpSpPr>
              <a:xfrm>
                <a:off x="481320" y="844560"/>
                <a:ext cx="42480" cy="27000"/>
                <a:chOff x="481320" y="844560"/>
                <a:chExt cx="42480" cy="27000"/>
              </a:xfrm>
            </p:grpSpPr>
            <p:grpSp>
              <p:nvGrpSpPr>
                <p:cNvPr id="1824" name=""/>
                <p:cNvGrpSpPr/>
                <p:nvPr/>
              </p:nvGrpSpPr>
              <p:grpSpPr>
                <a:xfrm>
                  <a:off x="481320" y="844560"/>
                  <a:ext cx="30240" cy="27000"/>
                  <a:chOff x="481320" y="844560"/>
                  <a:chExt cx="30240" cy="27000"/>
                </a:xfrm>
              </p:grpSpPr>
              <p:sp>
                <p:nvSpPr>
                  <p:cNvPr id="1825" name=""/>
                  <p:cNvSpPr/>
                  <p:nvPr/>
                </p:nvSpPr>
                <p:spPr>
                  <a:xfrm>
                    <a:off x="4813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488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7" name=""/>
                <p:cNvGrpSpPr/>
                <p:nvPr/>
              </p:nvGrpSpPr>
              <p:grpSpPr>
                <a:xfrm>
                  <a:off x="495000" y="844560"/>
                  <a:ext cx="28800" cy="27000"/>
                  <a:chOff x="495000" y="844560"/>
                  <a:chExt cx="28800" cy="2700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49500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5000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30" name=""/>
            <p:cNvGrpSpPr/>
            <p:nvPr/>
          </p:nvGrpSpPr>
          <p:grpSpPr>
            <a:xfrm>
              <a:off x="509760" y="844560"/>
              <a:ext cx="66960" cy="27000"/>
              <a:chOff x="509760" y="844560"/>
              <a:chExt cx="66960" cy="27000"/>
            </a:xfrm>
          </p:grpSpPr>
          <p:grpSp>
            <p:nvGrpSpPr>
              <p:cNvPr id="1831" name=""/>
              <p:cNvGrpSpPr/>
              <p:nvPr/>
            </p:nvGrpSpPr>
            <p:grpSpPr>
              <a:xfrm>
                <a:off x="509760" y="844560"/>
                <a:ext cx="39960" cy="27000"/>
                <a:chOff x="509760" y="844560"/>
                <a:chExt cx="39960" cy="2700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509760" y="844560"/>
                  <a:ext cx="29160" cy="27000"/>
                  <a:chOff x="509760" y="844560"/>
                  <a:chExt cx="29160" cy="2700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509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5151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520560" y="844560"/>
                  <a:ext cx="29160" cy="27000"/>
                  <a:chOff x="520560" y="844560"/>
                  <a:chExt cx="29160" cy="2700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5205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525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8" name=""/>
              <p:cNvGrpSpPr/>
              <p:nvPr/>
            </p:nvGrpSpPr>
            <p:grpSpPr>
              <a:xfrm>
                <a:off x="534960" y="844560"/>
                <a:ext cx="41760" cy="27000"/>
                <a:chOff x="534960" y="844560"/>
                <a:chExt cx="41760" cy="27000"/>
              </a:xfrm>
            </p:grpSpPr>
            <p:grpSp>
              <p:nvGrpSpPr>
                <p:cNvPr id="1839" name=""/>
                <p:cNvGrpSpPr/>
                <p:nvPr/>
              </p:nvGrpSpPr>
              <p:grpSpPr>
                <a:xfrm>
                  <a:off x="534960" y="844560"/>
                  <a:ext cx="29160" cy="27000"/>
                  <a:chOff x="534960" y="844560"/>
                  <a:chExt cx="29160" cy="27000"/>
                </a:xfrm>
              </p:grpSpPr>
              <p:sp>
                <p:nvSpPr>
                  <p:cNvPr id="1840" name=""/>
                  <p:cNvSpPr/>
                  <p:nvPr/>
                </p:nvSpPr>
                <p:spPr>
                  <a:xfrm>
                    <a:off x="534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5403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2" name=""/>
                <p:cNvGrpSpPr/>
                <p:nvPr/>
              </p:nvGrpSpPr>
              <p:grpSpPr>
                <a:xfrm>
                  <a:off x="546120" y="844560"/>
                  <a:ext cx="30600" cy="27000"/>
                  <a:chOff x="546120" y="844560"/>
                  <a:chExt cx="30600" cy="2700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5461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552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45" name=""/>
            <p:cNvGrpSpPr/>
            <p:nvPr/>
          </p:nvGrpSpPr>
          <p:grpSpPr>
            <a:xfrm>
              <a:off x="559080" y="844560"/>
              <a:ext cx="66600" cy="27000"/>
              <a:chOff x="559080" y="844560"/>
              <a:chExt cx="66600" cy="27000"/>
            </a:xfrm>
          </p:grpSpPr>
          <p:grpSp>
            <p:nvGrpSpPr>
              <p:cNvPr id="1846" name=""/>
              <p:cNvGrpSpPr/>
              <p:nvPr/>
            </p:nvGrpSpPr>
            <p:grpSpPr>
              <a:xfrm>
                <a:off x="559080" y="844560"/>
                <a:ext cx="42840" cy="27000"/>
                <a:chOff x="559080" y="844560"/>
                <a:chExt cx="42840" cy="27000"/>
              </a:xfrm>
            </p:grpSpPr>
            <p:grpSp>
              <p:nvGrpSpPr>
                <p:cNvPr id="1847" name=""/>
                <p:cNvGrpSpPr/>
                <p:nvPr/>
              </p:nvGrpSpPr>
              <p:grpSpPr>
                <a:xfrm>
                  <a:off x="559080" y="844560"/>
                  <a:ext cx="30240" cy="27000"/>
                  <a:chOff x="559080" y="844560"/>
                  <a:chExt cx="30240" cy="27000"/>
                </a:xfrm>
              </p:grpSpPr>
              <p:sp>
                <p:nvSpPr>
                  <p:cNvPr id="1848" name=""/>
                  <p:cNvSpPr/>
                  <p:nvPr/>
                </p:nvSpPr>
                <p:spPr>
                  <a:xfrm>
                    <a:off x="5590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5659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0" name=""/>
                <p:cNvGrpSpPr/>
                <p:nvPr/>
              </p:nvGrpSpPr>
              <p:grpSpPr>
                <a:xfrm>
                  <a:off x="571680" y="844560"/>
                  <a:ext cx="30240" cy="27000"/>
                  <a:chOff x="571680" y="844560"/>
                  <a:chExt cx="30240" cy="27000"/>
                </a:xfrm>
              </p:grpSpPr>
              <p:sp>
                <p:nvSpPr>
                  <p:cNvPr id="1851" name=""/>
                  <p:cNvSpPr/>
                  <p:nvPr/>
                </p:nvSpPr>
                <p:spPr>
                  <a:xfrm>
                    <a:off x="5716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5785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3" name=""/>
              <p:cNvGrpSpPr/>
              <p:nvPr/>
            </p:nvGrpSpPr>
            <p:grpSpPr>
              <a:xfrm>
                <a:off x="585720" y="844560"/>
                <a:ext cx="39960" cy="27000"/>
                <a:chOff x="585720" y="844560"/>
                <a:chExt cx="39960" cy="27000"/>
              </a:xfrm>
            </p:grpSpPr>
            <p:grpSp>
              <p:nvGrpSpPr>
                <p:cNvPr id="1854" name=""/>
                <p:cNvGrpSpPr/>
                <p:nvPr/>
              </p:nvGrpSpPr>
              <p:grpSpPr>
                <a:xfrm>
                  <a:off x="585720" y="844560"/>
                  <a:ext cx="30240" cy="27000"/>
                  <a:chOff x="585720" y="844560"/>
                  <a:chExt cx="30240" cy="27000"/>
                </a:xfrm>
              </p:grpSpPr>
              <p:sp>
                <p:nvSpPr>
                  <p:cNvPr id="1855" name=""/>
                  <p:cNvSpPr/>
                  <p:nvPr/>
                </p:nvSpPr>
                <p:spPr>
                  <a:xfrm>
                    <a:off x="5857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5925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7" name=""/>
                <p:cNvGrpSpPr/>
                <p:nvPr/>
              </p:nvGrpSpPr>
              <p:grpSpPr>
                <a:xfrm>
                  <a:off x="596520" y="844560"/>
                  <a:ext cx="29160" cy="27000"/>
                  <a:chOff x="596520" y="844560"/>
                  <a:chExt cx="29160" cy="27000"/>
                </a:xfrm>
              </p:grpSpPr>
              <p:sp>
                <p:nvSpPr>
                  <p:cNvPr id="1858" name=""/>
                  <p:cNvSpPr/>
                  <p:nvPr/>
                </p:nvSpPr>
                <p:spPr>
                  <a:xfrm>
                    <a:off x="5965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6019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60" name=""/>
            <p:cNvGrpSpPr/>
            <p:nvPr/>
          </p:nvGrpSpPr>
          <p:grpSpPr>
            <a:xfrm>
              <a:off x="611280" y="844560"/>
              <a:ext cx="66960" cy="27000"/>
              <a:chOff x="611280" y="844560"/>
              <a:chExt cx="66960" cy="27000"/>
            </a:xfrm>
          </p:grpSpPr>
          <p:grpSp>
            <p:nvGrpSpPr>
              <p:cNvPr id="1861" name=""/>
              <p:cNvGrpSpPr/>
              <p:nvPr/>
            </p:nvGrpSpPr>
            <p:grpSpPr>
              <a:xfrm>
                <a:off x="611280" y="844560"/>
                <a:ext cx="41760" cy="27000"/>
                <a:chOff x="611280" y="844560"/>
                <a:chExt cx="41760" cy="27000"/>
              </a:xfrm>
            </p:grpSpPr>
            <p:grpSp>
              <p:nvGrpSpPr>
                <p:cNvPr id="1862" name=""/>
                <p:cNvGrpSpPr/>
                <p:nvPr/>
              </p:nvGrpSpPr>
              <p:grpSpPr>
                <a:xfrm>
                  <a:off x="611280" y="844560"/>
                  <a:ext cx="29160" cy="27000"/>
                  <a:chOff x="611280" y="844560"/>
                  <a:chExt cx="29160" cy="2700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611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6166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5" name=""/>
                <p:cNvGrpSpPr/>
                <p:nvPr/>
              </p:nvGrpSpPr>
              <p:grpSpPr>
                <a:xfrm>
                  <a:off x="623880" y="844560"/>
                  <a:ext cx="29160" cy="27000"/>
                  <a:chOff x="623880" y="844560"/>
                  <a:chExt cx="29160" cy="2700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6238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629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8" name=""/>
              <p:cNvGrpSpPr/>
              <p:nvPr/>
            </p:nvGrpSpPr>
            <p:grpSpPr>
              <a:xfrm>
                <a:off x="636480" y="844560"/>
                <a:ext cx="41760" cy="27000"/>
                <a:chOff x="636480" y="844560"/>
                <a:chExt cx="41760" cy="27000"/>
              </a:xfrm>
            </p:grpSpPr>
            <p:grpSp>
              <p:nvGrpSpPr>
                <p:cNvPr id="1869" name=""/>
                <p:cNvGrpSpPr/>
                <p:nvPr/>
              </p:nvGrpSpPr>
              <p:grpSpPr>
                <a:xfrm>
                  <a:off x="636480" y="844560"/>
                  <a:ext cx="27720" cy="27000"/>
                  <a:chOff x="636480" y="844560"/>
                  <a:chExt cx="27720" cy="27000"/>
                </a:xfrm>
              </p:grpSpPr>
              <p:sp>
                <p:nvSpPr>
                  <p:cNvPr id="1870" name=""/>
                  <p:cNvSpPr/>
                  <p:nvPr/>
                </p:nvSpPr>
                <p:spPr>
                  <a:xfrm>
                    <a:off x="6364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6404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2" name=""/>
                <p:cNvGrpSpPr/>
                <p:nvPr/>
              </p:nvGrpSpPr>
              <p:grpSpPr>
                <a:xfrm>
                  <a:off x="647640" y="844560"/>
                  <a:ext cx="30600" cy="27000"/>
                  <a:chOff x="647640" y="844560"/>
                  <a:chExt cx="30600" cy="27000"/>
                </a:xfrm>
              </p:grpSpPr>
              <p:sp>
                <p:nvSpPr>
                  <p:cNvPr id="1873" name=""/>
                  <p:cNvSpPr/>
                  <p:nvPr/>
                </p:nvSpPr>
                <p:spPr>
                  <a:xfrm>
                    <a:off x="6476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6544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75" name=""/>
            <p:cNvGrpSpPr/>
            <p:nvPr/>
          </p:nvGrpSpPr>
          <p:grpSpPr>
            <a:xfrm>
              <a:off x="662040" y="844560"/>
              <a:ext cx="67680" cy="27000"/>
              <a:chOff x="662040" y="844560"/>
              <a:chExt cx="67680" cy="27000"/>
            </a:xfrm>
          </p:grpSpPr>
          <p:grpSp>
            <p:nvGrpSpPr>
              <p:cNvPr id="1876" name=""/>
              <p:cNvGrpSpPr/>
              <p:nvPr/>
            </p:nvGrpSpPr>
            <p:grpSpPr>
              <a:xfrm>
                <a:off x="662040" y="844560"/>
                <a:ext cx="38520" cy="27000"/>
                <a:chOff x="662040" y="844560"/>
                <a:chExt cx="38520" cy="27000"/>
              </a:xfrm>
            </p:grpSpPr>
            <p:grpSp>
              <p:nvGrpSpPr>
                <p:cNvPr id="1877" name=""/>
                <p:cNvGrpSpPr/>
                <p:nvPr/>
              </p:nvGrpSpPr>
              <p:grpSpPr>
                <a:xfrm>
                  <a:off x="662040" y="844560"/>
                  <a:ext cx="28800" cy="27000"/>
                  <a:chOff x="662040" y="844560"/>
                  <a:chExt cx="28800" cy="27000"/>
                </a:xfrm>
              </p:grpSpPr>
              <p:sp>
                <p:nvSpPr>
                  <p:cNvPr id="1878" name=""/>
                  <p:cNvSpPr/>
                  <p:nvPr/>
                </p:nvSpPr>
                <p:spPr>
                  <a:xfrm>
                    <a:off x="6620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6674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0" name=""/>
                <p:cNvGrpSpPr/>
                <p:nvPr/>
              </p:nvGrpSpPr>
              <p:grpSpPr>
                <a:xfrm>
                  <a:off x="672840" y="844560"/>
                  <a:ext cx="27720" cy="27000"/>
                  <a:chOff x="672840" y="844560"/>
                  <a:chExt cx="27720" cy="2700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6728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77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3" name=""/>
              <p:cNvGrpSpPr/>
              <p:nvPr/>
            </p:nvGrpSpPr>
            <p:grpSpPr>
              <a:xfrm>
                <a:off x="687240" y="844560"/>
                <a:ext cx="42480" cy="27000"/>
                <a:chOff x="687240" y="844560"/>
                <a:chExt cx="42480" cy="27000"/>
              </a:xfrm>
            </p:grpSpPr>
            <p:grpSp>
              <p:nvGrpSpPr>
                <p:cNvPr id="1884" name=""/>
                <p:cNvGrpSpPr/>
                <p:nvPr/>
              </p:nvGrpSpPr>
              <p:grpSpPr>
                <a:xfrm>
                  <a:off x="687240" y="844560"/>
                  <a:ext cx="28800" cy="27000"/>
                  <a:chOff x="687240" y="844560"/>
                  <a:chExt cx="28800" cy="27000"/>
                </a:xfrm>
              </p:grpSpPr>
              <p:sp>
                <p:nvSpPr>
                  <p:cNvPr id="1885" name=""/>
                  <p:cNvSpPr/>
                  <p:nvPr/>
                </p:nvSpPr>
                <p:spPr>
                  <a:xfrm>
                    <a:off x="687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692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699480" y="844560"/>
                  <a:ext cx="30240" cy="27000"/>
                  <a:chOff x="699480" y="844560"/>
                  <a:chExt cx="30240" cy="27000"/>
                </a:xfrm>
              </p:grpSpPr>
              <p:sp>
                <p:nvSpPr>
                  <p:cNvPr id="1888" name=""/>
                  <p:cNvSpPr/>
                  <p:nvPr/>
                </p:nvSpPr>
                <p:spPr>
                  <a:xfrm>
                    <a:off x="6994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7063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90" name=""/>
            <p:cNvGrpSpPr/>
            <p:nvPr/>
          </p:nvGrpSpPr>
          <p:grpSpPr>
            <a:xfrm>
              <a:off x="714240" y="844560"/>
              <a:ext cx="65160" cy="27000"/>
              <a:chOff x="714240" y="844560"/>
              <a:chExt cx="65160" cy="2700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714240" y="844560"/>
                <a:ext cx="39960" cy="27000"/>
                <a:chOff x="714240" y="844560"/>
                <a:chExt cx="39960" cy="27000"/>
              </a:xfrm>
            </p:grpSpPr>
            <p:grpSp>
              <p:nvGrpSpPr>
                <p:cNvPr id="1892" name=""/>
                <p:cNvGrpSpPr/>
                <p:nvPr/>
              </p:nvGrpSpPr>
              <p:grpSpPr>
                <a:xfrm>
                  <a:off x="714240" y="844560"/>
                  <a:ext cx="26280" cy="27000"/>
                  <a:chOff x="714240" y="844560"/>
                  <a:chExt cx="26280" cy="27000"/>
                </a:xfrm>
              </p:grpSpPr>
              <p:sp>
                <p:nvSpPr>
                  <p:cNvPr id="1893" name=""/>
                  <p:cNvSpPr/>
                  <p:nvPr/>
                </p:nvSpPr>
                <p:spPr>
                  <a:xfrm>
                    <a:off x="714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716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5" name=""/>
                <p:cNvGrpSpPr/>
                <p:nvPr/>
              </p:nvGrpSpPr>
              <p:grpSpPr>
                <a:xfrm>
                  <a:off x="726840" y="844560"/>
                  <a:ext cx="27360" cy="27000"/>
                  <a:chOff x="726840" y="844560"/>
                  <a:chExt cx="27360" cy="2700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7268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7308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8" name=""/>
              <p:cNvGrpSpPr/>
              <p:nvPr/>
            </p:nvGrpSpPr>
            <p:grpSpPr>
              <a:xfrm>
                <a:off x="739440" y="844560"/>
                <a:ext cx="39960" cy="27000"/>
                <a:chOff x="739440" y="844560"/>
                <a:chExt cx="39960" cy="27000"/>
              </a:xfrm>
            </p:grpSpPr>
            <p:grpSp>
              <p:nvGrpSpPr>
                <p:cNvPr id="1899" name=""/>
                <p:cNvGrpSpPr/>
                <p:nvPr/>
              </p:nvGrpSpPr>
              <p:grpSpPr>
                <a:xfrm>
                  <a:off x="739440" y="844560"/>
                  <a:ext cx="27360" cy="27000"/>
                  <a:chOff x="739440" y="844560"/>
                  <a:chExt cx="27360" cy="2700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7394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7434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2" name=""/>
                <p:cNvGrpSpPr/>
                <p:nvPr/>
              </p:nvGrpSpPr>
              <p:grpSpPr>
                <a:xfrm>
                  <a:off x="750240" y="844560"/>
                  <a:ext cx="29160" cy="27000"/>
                  <a:chOff x="750240" y="844560"/>
                  <a:chExt cx="29160" cy="2700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750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7556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05" name=""/>
            <p:cNvGrpSpPr/>
            <p:nvPr/>
          </p:nvGrpSpPr>
          <p:grpSpPr>
            <a:xfrm>
              <a:off x="763920" y="844560"/>
              <a:ext cx="67680" cy="27000"/>
              <a:chOff x="763920" y="844560"/>
              <a:chExt cx="67680" cy="27000"/>
            </a:xfrm>
          </p:grpSpPr>
          <p:grpSp>
            <p:nvGrpSpPr>
              <p:cNvPr id="1906" name=""/>
              <p:cNvGrpSpPr/>
              <p:nvPr/>
            </p:nvGrpSpPr>
            <p:grpSpPr>
              <a:xfrm>
                <a:off x="763920" y="844560"/>
                <a:ext cx="42480" cy="27000"/>
                <a:chOff x="763920" y="844560"/>
                <a:chExt cx="42480" cy="27000"/>
              </a:xfrm>
            </p:grpSpPr>
            <p:grpSp>
              <p:nvGrpSpPr>
                <p:cNvPr id="1907" name=""/>
                <p:cNvGrpSpPr/>
                <p:nvPr/>
              </p:nvGrpSpPr>
              <p:grpSpPr>
                <a:xfrm>
                  <a:off x="763920" y="844560"/>
                  <a:ext cx="28800" cy="27000"/>
                  <a:chOff x="763920" y="844560"/>
                  <a:chExt cx="28800" cy="2700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7639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768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776160" y="844560"/>
                  <a:ext cx="30240" cy="27000"/>
                  <a:chOff x="776160" y="844560"/>
                  <a:chExt cx="30240" cy="2700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776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783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3" name=""/>
              <p:cNvGrpSpPr/>
              <p:nvPr/>
            </p:nvGrpSpPr>
            <p:grpSpPr>
              <a:xfrm>
                <a:off x="788760" y="844560"/>
                <a:ext cx="42840" cy="27000"/>
                <a:chOff x="788760" y="844560"/>
                <a:chExt cx="42840" cy="27000"/>
              </a:xfrm>
            </p:grpSpPr>
            <p:grpSp>
              <p:nvGrpSpPr>
                <p:cNvPr id="1914" name=""/>
                <p:cNvGrpSpPr/>
                <p:nvPr/>
              </p:nvGrpSpPr>
              <p:grpSpPr>
                <a:xfrm>
                  <a:off x="788760" y="844560"/>
                  <a:ext cx="29160" cy="27000"/>
                  <a:chOff x="788760" y="844560"/>
                  <a:chExt cx="29160" cy="27000"/>
                </a:xfrm>
              </p:grpSpPr>
              <p:sp>
                <p:nvSpPr>
                  <p:cNvPr id="1915" name=""/>
                  <p:cNvSpPr/>
                  <p:nvPr/>
                </p:nvSpPr>
                <p:spPr>
                  <a:xfrm>
                    <a:off x="788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7941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7" name=""/>
                <p:cNvGrpSpPr/>
                <p:nvPr/>
              </p:nvGrpSpPr>
              <p:grpSpPr>
                <a:xfrm>
                  <a:off x="801360" y="844560"/>
                  <a:ext cx="30240" cy="27000"/>
                  <a:chOff x="801360" y="844560"/>
                  <a:chExt cx="30240" cy="2700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8013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8082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20" name=""/>
            <p:cNvSpPr/>
            <p:nvPr/>
          </p:nvSpPr>
          <p:spPr>
            <a:xfrm>
              <a:off x="401040" y="79056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605880" y="45864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1924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1937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1940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1943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1946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1949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1952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1955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1958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0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2003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2004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2008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0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2011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7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2018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2019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2026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32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2034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0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2041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4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2045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47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2048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2049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5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2056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9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2060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2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2063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2064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0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2071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2072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4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2075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77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2078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5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2086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2087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92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2093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2094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7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2098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0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2101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2102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2105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2109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5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2116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2117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9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22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3" name="" descr=""/>
          <p:cNvPicPr/>
          <p:nvPr/>
        </p:nvPicPr>
        <p:blipFill>
          <a:blip r:embed="rId2"/>
          <a:stretch/>
        </p:blipFill>
        <p:spPr>
          <a:xfrm>
            <a:off x="928800" y="452592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360440" y="4351320"/>
            <a:ext cx="6190920" cy="1441080"/>
            <a:chOff x="1360440" y="4351320"/>
            <a:chExt cx="6190920" cy="1441080"/>
          </a:xfrm>
        </p:grpSpPr>
        <p:sp>
          <p:nvSpPr>
            <p:cNvPr id="2128" name=""/>
            <p:cNvSpPr/>
            <p:nvPr/>
          </p:nvSpPr>
          <p:spPr>
            <a:xfrm>
              <a:off x="3555360" y="5181480"/>
              <a:ext cx="39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084560" y="5303880"/>
              <a:ext cx="278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rmal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"/>
            <p:cNvGrpSpPr/>
            <p:nvPr/>
          </p:nvGrpSpPr>
          <p:grpSpPr>
            <a:xfrm>
              <a:off x="1360440" y="4351320"/>
              <a:ext cx="2211120" cy="1441080"/>
              <a:chOff x="1360440" y="4351320"/>
              <a:chExt cx="2211120" cy="1441080"/>
            </a:xfrm>
          </p:grpSpPr>
          <p:grpSp>
            <p:nvGrpSpPr>
              <p:cNvPr id="2131" name=""/>
              <p:cNvGrpSpPr/>
              <p:nvPr/>
            </p:nvGrpSpPr>
            <p:grpSpPr>
              <a:xfrm>
                <a:off x="2121480" y="4654440"/>
                <a:ext cx="681480" cy="584280"/>
                <a:chOff x="2121480" y="4654440"/>
                <a:chExt cx="681480" cy="58428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2258280" y="5005440"/>
                  <a:ext cx="427320" cy="133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256840" y="4962600"/>
                  <a:ext cx="431280" cy="44280"/>
                </a:xfrm>
                <a:custGeom>
                  <a:avLst/>
                  <a:gdLst/>
                  <a:ahLst/>
                  <a:rect l="l" t="t" r="r" b="b"/>
                  <a:pathLst>
                    <a:path w="306" h="28">
                      <a:moveTo>
                        <a:pt x="0" y="27"/>
                      </a:moveTo>
                      <a:lnTo>
                        <a:pt x="305" y="27"/>
                      </a:lnTo>
                      <a:lnTo>
                        <a:pt x="276" y="0"/>
                      </a:lnTo>
                      <a:lnTo>
                        <a:pt x="32" y="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261160" y="4998960"/>
                  <a:ext cx="420120" cy="1800"/>
                </a:xfrm>
                <a:custGeom>
                  <a:avLst/>
                  <a:gdLst/>
                  <a:ahLst/>
                  <a:rect l="l" t="t" r="r" b="b"/>
                  <a:pathLst>
                    <a:path w="298" h="1">
                      <a:moveTo>
                        <a:pt x="0" y="0"/>
                      </a:move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264040" y="5016600"/>
                  <a:ext cx="8316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352600" y="5016600"/>
                  <a:ext cx="12132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479680" y="5016600"/>
                  <a:ext cx="13248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615400" y="5016600"/>
                  <a:ext cx="5328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396520" y="5025960"/>
                  <a:ext cx="36720" cy="2556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402280" y="5043600"/>
                  <a:ext cx="252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368440" y="5045040"/>
                  <a:ext cx="918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362680" y="5029200"/>
                  <a:ext cx="11160" cy="126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4573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4" name=""/>
                <p:cNvGrpSpPr/>
                <p:nvPr/>
              </p:nvGrpSpPr>
              <p:grpSpPr>
                <a:xfrm>
                  <a:off x="2266560" y="5067360"/>
                  <a:ext cx="28080" cy="27000"/>
                  <a:chOff x="2266560" y="5067360"/>
                  <a:chExt cx="28080" cy="27000"/>
                </a:xfrm>
              </p:grpSpPr>
              <p:sp>
                <p:nvSpPr>
                  <p:cNvPr id="2145" name=""/>
                  <p:cNvSpPr/>
                  <p:nvPr/>
                </p:nvSpPr>
                <p:spPr>
                  <a:xfrm>
                    <a:off x="22665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227088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"/>
                <p:cNvGrpSpPr/>
                <p:nvPr/>
              </p:nvGrpSpPr>
              <p:grpSpPr>
                <a:xfrm>
                  <a:off x="2276640" y="5067360"/>
                  <a:ext cx="30600" cy="27000"/>
                  <a:chOff x="2276640" y="5067360"/>
                  <a:chExt cx="30600" cy="2700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22766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228348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0" name=""/>
                <p:cNvGrpSpPr/>
                <p:nvPr/>
              </p:nvGrpSpPr>
              <p:grpSpPr>
                <a:xfrm>
                  <a:off x="2286360" y="5067360"/>
                  <a:ext cx="29160" cy="27000"/>
                  <a:chOff x="2286360" y="5067360"/>
                  <a:chExt cx="29160" cy="2700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22863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22917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2296440" y="5067360"/>
                  <a:ext cx="27720" cy="27000"/>
                  <a:chOff x="2296440" y="5067360"/>
                  <a:chExt cx="27720" cy="2700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22964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23004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2306160" y="5067360"/>
                  <a:ext cx="27720" cy="27000"/>
                  <a:chOff x="2306160" y="5067360"/>
                  <a:chExt cx="27720" cy="2700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>
                    <a:off x="23061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3101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2317320" y="5067360"/>
                  <a:ext cx="26280" cy="27000"/>
                  <a:chOff x="2317320" y="5067360"/>
                  <a:chExt cx="26280" cy="2700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23173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23198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2" name=""/>
                <p:cNvGrpSpPr/>
                <p:nvPr/>
              </p:nvGrpSpPr>
              <p:grpSpPr>
                <a:xfrm>
                  <a:off x="2324520" y="5067360"/>
                  <a:ext cx="32040" cy="27000"/>
                  <a:chOff x="2324520" y="5067360"/>
                  <a:chExt cx="32040" cy="27000"/>
                </a:xfrm>
              </p:grpSpPr>
              <p:sp>
                <p:nvSpPr>
                  <p:cNvPr id="2163" name=""/>
                  <p:cNvSpPr/>
                  <p:nvPr/>
                </p:nvSpPr>
                <p:spPr>
                  <a:xfrm>
                    <a:off x="23245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23328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"/>
                <p:cNvGrpSpPr/>
                <p:nvPr/>
              </p:nvGrpSpPr>
              <p:grpSpPr>
                <a:xfrm>
                  <a:off x="2336040" y="5067360"/>
                  <a:ext cx="27720" cy="27000"/>
                  <a:chOff x="2336040" y="5067360"/>
                  <a:chExt cx="27720" cy="2700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2336040" y="50673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23400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8" name=""/>
                <p:cNvSpPr/>
                <p:nvPr/>
              </p:nvSpPr>
              <p:spPr>
                <a:xfrm>
                  <a:off x="2122920" y="5213520"/>
                  <a:ext cx="672840" cy="25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2121480" y="5132520"/>
                  <a:ext cx="681480" cy="82440"/>
                </a:xfrm>
                <a:custGeom>
                  <a:avLst/>
                  <a:gdLst/>
                  <a:ahLst/>
                  <a:rect l="l" t="t" r="r" b="b"/>
                  <a:pathLst>
                    <a:path w="483" h="52">
                      <a:moveTo>
                        <a:pt x="0" y="51"/>
                      </a:moveTo>
                      <a:lnTo>
                        <a:pt x="482" y="51"/>
                      </a:lnTo>
                      <a:lnTo>
                        <a:pt x="454" y="1"/>
                      </a:lnTo>
                      <a:lnTo>
                        <a:pt x="35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144160" y="5141880"/>
                  <a:ext cx="634680" cy="63360"/>
                </a:xfrm>
                <a:custGeom>
                  <a:avLst/>
                  <a:gdLst/>
                  <a:ahLst/>
                  <a:rect l="l" t="t" r="r" b="b"/>
                  <a:pathLst>
                    <a:path w="450" h="40">
                      <a:moveTo>
                        <a:pt x="25" y="0"/>
                      </a:moveTo>
                      <a:lnTo>
                        <a:pt x="0" y="39"/>
                      </a:lnTo>
                      <a:lnTo>
                        <a:pt x="449" y="39"/>
                      </a:lnTo>
                      <a:lnTo>
                        <a:pt x="429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196000" y="5141880"/>
                  <a:ext cx="2520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5" y="0"/>
                      </a:moveTo>
                      <a:lnTo>
                        <a:pt x="17" y="0"/>
                      </a:lnTo>
                      <a:lnTo>
                        <a:pt x="13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2248200" y="5141880"/>
                  <a:ext cx="86040" cy="2700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3" y="0"/>
                      </a:moveTo>
                      <a:lnTo>
                        <a:pt x="60" y="0"/>
                      </a:lnTo>
                      <a:lnTo>
                        <a:pt x="57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2357280" y="5141880"/>
                  <a:ext cx="81360" cy="2700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2" y="0"/>
                      </a:moveTo>
                      <a:lnTo>
                        <a:pt x="57" y="0"/>
                      </a:lnTo>
                      <a:lnTo>
                        <a:pt x="56" y="16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54480" y="5141880"/>
                  <a:ext cx="81720" cy="2700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1" y="0"/>
                      </a:moveTo>
                      <a:lnTo>
                        <a:pt x="57" y="0"/>
                      </a:lnTo>
                      <a:lnTo>
                        <a:pt x="57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553120" y="5141880"/>
                  <a:ext cx="73080" cy="2700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51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642040" y="5148360"/>
                  <a:ext cx="90360" cy="2700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0"/>
                      </a:moveTo>
                      <a:lnTo>
                        <a:pt x="58" y="0"/>
                      </a:lnTo>
                      <a:lnTo>
                        <a:pt x="63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224440" y="5162400"/>
                  <a:ext cx="266760" cy="1800"/>
                </a:xfrm>
                <a:custGeom>
                  <a:avLst/>
                  <a:gdLst/>
                  <a:ahLst/>
                  <a:rect l="l" t="t" r="r" b="b"/>
                  <a:pathLst>
                    <a:path w="189" h="1">
                      <a:moveTo>
                        <a:pt x="0" y="0"/>
                      </a:moveTo>
                      <a:lnTo>
                        <a:pt x="18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234160" y="5172120"/>
                  <a:ext cx="269280" cy="1440"/>
                </a:xfrm>
                <a:custGeom>
                  <a:avLst/>
                  <a:gdLst/>
                  <a:ahLst/>
                  <a:rect l="l" t="t" r="r" b="b"/>
                  <a:pathLst>
                    <a:path w="191" h="1">
                      <a:moveTo>
                        <a:pt x="0" y="0"/>
                      </a:moveTo>
                      <a:lnTo>
                        <a:pt x="19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237040" y="5181480"/>
                  <a:ext cx="236880" cy="1800"/>
                </a:xfrm>
                <a:custGeom>
                  <a:avLst/>
                  <a:gdLst/>
                  <a:ahLst/>
                  <a:rect l="l" t="t" r="r" b="b"/>
                  <a:pathLst>
                    <a:path w="168" h="1">
                      <a:moveTo>
                        <a:pt x="0" y="0"/>
                      </a:moveTo>
                      <a:lnTo>
                        <a:pt x="16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245320" y="51912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lnTo>
                        <a:pt x="2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186280" y="5167440"/>
                  <a:ext cx="3096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0" y="0"/>
                      </a:moveTo>
                      <a:lnTo>
                        <a:pt x="21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183400" y="5176800"/>
                  <a:ext cx="26640" cy="1800"/>
                </a:xfrm>
                <a:custGeom>
                  <a:avLst/>
                  <a:gdLst/>
                  <a:ahLst/>
                  <a:rect l="l" t="t" r="r" b="b"/>
                  <a:pathLst>
                    <a:path w="19" h="1">
                      <a:moveTo>
                        <a:pt x="0" y="0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178000" y="5184720"/>
                  <a:ext cx="46080" cy="1800"/>
                </a:xfrm>
                <a:custGeom>
                  <a:avLst/>
                  <a:gdLst/>
                  <a:ahLst/>
                  <a:rect l="l" t="t" r="r" b="b"/>
                  <a:pathLst>
                    <a:path w="33" h="1">
                      <a:moveTo>
                        <a:pt x="0" y="0"/>
                      </a:moveTo>
                      <a:lnTo>
                        <a:pt x="3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283480" y="5191200"/>
                  <a:ext cx="159480" cy="144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11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2500920" y="5160960"/>
                  <a:ext cx="36720" cy="1440"/>
                </a:xfrm>
                <a:custGeom>
                  <a:avLst/>
                  <a:gdLst/>
                  <a:ahLst/>
                  <a:rect l="l" t="t" r="r" b="b"/>
                  <a:pathLst>
                    <a:path w="26" h="1">
                      <a:moveTo>
                        <a:pt x="0" y="0"/>
                      </a:moveTo>
                      <a:lnTo>
                        <a:pt x="2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509560" y="5172120"/>
                  <a:ext cx="3096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0" y="0"/>
                      </a:moveTo>
                      <a:lnTo>
                        <a:pt x="21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489400" y="5181480"/>
                  <a:ext cx="50760" cy="1800"/>
                </a:xfrm>
                <a:custGeom>
                  <a:avLst/>
                  <a:gdLst/>
                  <a:ahLst/>
                  <a:rect l="l" t="t" r="r" b="b"/>
                  <a:pathLst>
                    <a:path w="36" h="1">
                      <a:moveTo>
                        <a:pt x="0" y="0"/>
                      </a:moveTo>
                      <a:lnTo>
                        <a:pt x="3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450160" y="5191200"/>
                  <a:ext cx="25200" cy="1440"/>
                </a:xfrm>
                <a:custGeom>
                  <a:avLst/>
                  <a:gdLst/>
                  <a:ahLst/>
                  <a:rect l="l" t="t" r="r" b="b"/>
                  <a:pathLst>
                    <a:path w="18" h="1">
                      <a:moveTo>
                        <a:pt x="0" y="0"/>
                      </a:move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482560" y="5192640"/>
                  <a:ext cx="54720" cy="1800"/>
                </a:xfrm>
                <a:custGeom>
                  <a:avLst/>
                  <a:gdLst/>
                  <a:ahLst/>
                  <a:rect l="l" t="t" r="r" b="b"/>
                  <a:pathLst>
                    <a:path w="39" h="1">
                      <a:moveTo>
                        <a:pt x="0" y="0"/>
                      </a:move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553120" y="5167440"/>
                  <a:ext cx="74520" cy="144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0" y="0"/>
                      </a:moveTo>
                      <a:lnTo>
                        <a:pt x="5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562840" y="5178600"/>
                  <a:ext cx="66240" cy="1440"/>
                </a:xfrm>
                <a:custGeom>
                  <a:avLst/>
                  <a:gdLst/>
                  <a:ahLst/>
                  <a:rect l="l" t="t" r="r" b="b"/>
                  <a:pathLst>
                    <a:path w="47" h="1">
                      <a:moveTo>
                        <a:pt x="0" y="0"/>
                      </a:moveTo>
                      <a:lnTo>
                        <a:pt x="4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564280" y="5194440"/>
                  <a:ext cx="67680" cy="1440"/>
                </a:xfrm>
                <a:custGeom>
                  <a:avLst/>
                  <a:gdLst/>
                  <a:ahLst/>
                  <a:rect l="l" t="t" r="r" b="b"/>
                  <a:pathLst>
                    <a:path w="48" h="1">
                      <a:moveTo>
                        <a:pt x="0" y="0"/>
                      </a:moveTo>
                      <a:lnTo>
                        <a:pt x="4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650680" y="5167440"/>
                  <a:ext cx="74520" cy="144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0" y="0"/>
                      </a:moveTo>
                      <a:lnTo>
                        <a:pt x="5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644920" y="5178600"/>
                  <a:ext cx="57600" cy="1440"/>
                </a:xfrm>
                <a:custGeom>
                  <a:avLst/>
                  <a:gdLst/>
                  <a:ahLst/>
                  <a:rect l="l" t="t" r="r" b="b"/>
                  <a:pathLst>
                    <a:path w="41" h="1">
                      <a:moveTo>
                        <a:pt x="0" y="0"/>
                      </a:move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650680" y="5184720"/>
                  <a:ext cx="57600" cy="1800"/>
                </a:xfrm>
                <a:custGeom>
                  <a:avLst/>
                  <a:gdLst/>
                  <a:ahLst/>
                  <a:rect l="l" t="t" r="r" b="b"/>
                  <a:pathLst>
                    <a:path w="41" h="1">
                      <a:moveTo>
                        <a:pt x="0" y="0"/>
                      </a:move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650680" y="5194440"/>
                  <a:ext cx="67680" cy="1440"/>
                </a:xfrm>
                <a:custGeom>
                  <a:avLst/>
                  <a:gdLst/>
                  <a:ahLst/>
                  <a:rect l="l" t="t" r="r" b="b"/>
                  <a:pathLst>
                    <a:path w="48" h="1">
                      <a:moveTo>
                        <a:pt x="0" y="0"/>
                      </a:moveTo>
                      <a:lnTo>
                        <a:pt x="4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715480" y="517860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723760" y="518940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321640" y="4948200"/>
                  <a:ext cx="296280" cy="27000"/>
                </a:xfrm>
                <a:custGeom>
                  <a:avLst/>
                  <a:gdLst/>
                  <a:ahLst/>
                  <a:rect l="l" t="t" r="r" b="b"/>
                  <a:pathLst>
                    <a:path w="210" h="17">
                      <a:moveTo>
                        <a:pt x="0" y="16"/>
                      </a:moveTo>
                      <a:lnTo>
                        <a:pt x="209" y="16"/>
                      </a:lnTo>
                      <a:lnTo>
                        <a:pt x="197" y="0"/>
                      </a:lnTo>
                      <a:lnTo>
                        <a:pt x="13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323080" y="4970520"/>
                  <a:ext cx="289080" cy="25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2389320" y="4927680"/>
                  <a:ext cx="160920" cy="44280"/>
                </a:xfrm>
                <a:custGeom>
                  <a:avLst/>
                  <a:gdLst/>
                  <a:ahLst/>
                  <a:rect l="l" t="t" r="r" b="b"/>
                  <a:pathLst>
                    <a:path w="114" h="28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113" y="0"/>
                      </a:lnTo>
                      <a:lnTo>
                        <a:pt x="113" y="16"/>
                      </a:lnTo>
                      <a:lnTo>
                        <a:pt x="112" y="17"/>
                      </a:lnTo>
                      <a:lnTo>
                        <a:pt x="111" y="18"/>
                      </a:lnTo>
                      <a:lnTo>
                        <a:pt x="109" y="20"/>
                      </a:lnTo>
                      <a:lnTo>
                        <a:pt x="107" y="20"/>
                      </a:lnTo>
                      <a:lnTo>
                        <a:pt x="103" y="22"/>
                      </a:lnTo>
                      <a:lnTo>
                        <a:pt x="101" y="22"/>
                      </a:lnTo>
                      <a:lnTo>
                        <a:pt x="96" y="24"/>
                      </a:lnTo>
                      <a:lnTo>
                        <a:pt x="92" y="24"/>
                      </a:lnTo>
                      <a:lnTo>
                        <a:pt x="89" y="25"/>
                      </a:lnTo>
                      <a:lnTo>
                        <a:pt x="83" y="26"/>
                      </a:lnTo>
                      <a:lnTo>
                        <a:pt x="78" y="26"/>
                      </a:lnTo>
                      <a:lnTo>
                        <a:pt x="73" y="26"/>
                      </a:lnTo>
                      <a:lnTo>
                        <a:pt x="68" y="27"/>
                      </a:lnTo>
                      <a:lnTo>
                        <a:pt x="62" y="27"/>
                      </a:lnTo>
                      <a:lnTo>
                        <a:pt x="53" y="27"/>
                      </a:lnTo>
                      <a:lnTo>
                        <a:pt x="46" y="27"/>
                      </a:lnTo>
                      <a:lnTo>
                        <a:pt x="40" y="26"/>
                      </a:lnTo>
                      <a:lnTo>
                        <a:pt x="33" y="26"/>
                      </a:lnTo>
                      <a:lnTo>
                        <a:pt x="28" y="26"/>
                      </a:lnTo>
                      <a:lnTo>
                        <a:pt x="24" y="25"/>
                      </a:lnTo>
                      <a:lnTo>
                        <a:pt x="19" y="24"/>
                      </a:lnTo>
                      <a:lnTo>
                        <a:pt x="14" y="23"/>
                      </a:lnTo>
                      <a:lnTo>
                        <a:pt x="10" y="22"/>
                      </a:lnTo>
                      <a:lnTo>
                        <a:pt x="7" y="21"/>
                      </a:lnTo>
                      <a:lnTo>
                        <a:pt x="5" y="20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</a:path>
                  </a:pathLst>
                </a:custGeom>
                <a:gradFill rotWithShape="0">
                  <a:gsLst>
                    <a:gs pos="0">
                      <a:srgbClr val="ababab"/>
                    </a:gs>
                    <a:gs pos="50000">
                      <a:srgbClr val="c0c0c0"/>
                    </a:gs>
                    <a:gs pos="100000">
                      <a:srgbClr val="abab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2285280" y="4654440"/>
                  <a:ext cx="363600" cy="277920"/>
                </a:xfrm>
                <a:prstGeom prst="roundRect">
                  <a:avLst>
                    <a:gd name="adj" fmla="val 6690"/>
                  </a:avLst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2310480" y="4678200"/>
                  <a:ext cx="307440" cy="235080"/>
                </a:xfrm>
                <a:prstGeom prst="roundRect">
                  <a:avLst>
                    <a:gd name="adj" fmla="val 5699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2323080" y="4686480"/>
                  <a:ext cx="281880" cy="214200"/>
                </a:xfrm>
                <a:prstGeom prst="roundRect">
                  <a:avLst>
                    <a:gd name="adj" fmla="val 2898"/>
                  </a:avLst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2591280" y="4919760"/>
                  <a:ext cx="22320" cy="252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2640600" y="5022720"/>
                  <a:ext cx="22680" cy="28800"/>
                </a:xfrm>
                <a:prstGeom prst="rect">
                  <a:avLst/>
                </a:prstGeom>
                <a:solidFill>
                  <a:srgbClr val="fa35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2647800" y="5038560"/>
                  <a:ext cx="11160" cy="1296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629440" y="5032440"/>
                  <a:ext cx="11160" cy="1260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629440" y="5049720"/>
                  <a:ext cx="11160" cy="1296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2266560" y="5108400"/>
                  <a:ext cx="68040" cy="27000"/>
                  <a:chOff x="2266560" y="5108400"/>
                  <a:chExt cx="68040" cy="27000"/>
                </a:xfrm>
              </p:grpSpPr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2266560" y="5108400"/>
                    <a:ext cx="42840" cy="27000"/>
                    <a:chOff x="2266560" y="5108400"/>
                    <a:chExt cx="42840" cy="27000"/>
                  </a:xfrm>
                </p:grpSpPr>
                <p:grpSp>
                  <p:nvGrpSpPr>
                    <p:cNvPr id="2212" name=""/>
                    <p:cNvGrpSpPr/>
                    <p:nvPr/>
                  </p:nvGrpSpPr>
                  <p:grpSpPr>
                    <a:xfrm>
                      <a:off x="2266560" y="5108400"/>
                      <a:ext cx="29160" cy="27000"/>
                      <a:chOff x="2266560" y="5108400"/>
                      <a:chExt cx="29160" cy="27000"/>
                    </a:xfrm>
                  </p:grpSpPr>
                  <p:sp>
                    <p:nvSpPr>
                      <p:cNvPr id="2213" name=""/>
                      <p:cNvSpPr/>
                      <p:nvPr/>
                    </p:nvSpPr>
                    <p:spPr>
                      <a:xfrm>
                        <a:off x="22665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4" name=""/>
                      <p:cNvSpPr/>
                      <p:nvPr/>
                    </p:nvSpPr>
                    <p:spPr>
                      <a:xfrm>
                        <a:off x="22719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5" name=""/>
                    <p:cNvGrpSpPr/>
                    <p:nvPr/>
                  </p:nvGrpSpPr>
                  <p:grpSpPr>
                    <a:xfrm>
                      <a:off x="2280600" y="5108400"/>
                      <a:ext cx="28800" cy="27000"/>
                      <a:chOff x="2280600" y="5108400"/>
                      <a:chExt cx="28800" cy="27000"/>
                    </a:xfrm>
                  </p:grpSpPr>
                  <p:sp>
                    <p:nvSpPr>
                      <p:cNvPr id="2216" name=""/>
                      <p:cNvSpPr/>
                      <p:nvPr/>
                    </p:nvSpPr>
                    <p:spPr>
                      <a:xfrm>
                        <a:off x="2280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>
                        <a:off x="22856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2293200" y="5108400"/>
                    <a:ext cx="41400" cy="27000"/>
                    <a:chOff x="2293200" y="5108400"/>
                    <a:chExt cx="41400" cy="27000"/>
                  </a:xfrm>
                </p:grpSpPr>
                <p:grpSp>
                  <p:nvGrpSpPr>
                    <p:cNvPr id="2219" name=""/>
                    <p:cNvGrpSpPr/>
                    <p:nvPr/>
                  </p:nvGrpSpPr>
                  <p:grpSpPr>
                    <a:xfrm>
                      <a:off x="2293200" y="5108400"/>
                      <a:ext cx="28800" cy="27000"/>
                      <a:chOff x="2293200" y="5108400"/>
                      <a:chExt cx="28800" cy="27000"/>
                    </a:xfrm>
                  </p:grpSpPr>
                  <p:sp>
                    <p:nvSpPr>
                      <p:cNvPr id="2220" name=""/>
                      <p:cNvSpPr/>
                      <p:nvPr/>
                    </p:nvSpPr>
                    <p:spPr>
                      <a:xfrm>
                        <a:off x="2293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1" name=""/>
                      <p:cNvSpPr/>
                      <p:nvPr/>
                    </p:nvSpPr>
                    <p:spPr>
                      <a:xfrm>
                        <a:off x="2298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2" name=""/>
                    <p:cNvGrpSpPr/>
                    <p:nvPr/>
                  </p:nvGrpSpPr>
                  <p:grpSpPr>
                    <a:xfrm>
                      <a:off x="2305800" y="5108400"/>
                      <a:ext cx="28800" cy="27000"/>
                      <a:chOff x="2305800" y="5108400"/>
                      <a:chExt cx="28800" cy="27000"/>
                    </a:xfrm>
                  </p:grpSpPr>
                  <p:sp>
                    <p:nvSpPr>
                      <p:cNvPr id="2223" name=""/>
                      <p:cNvSpPr/>
                      <p:nvPr/>
                    </p:nvSpPr>
                    <p:spPr>
                      <a:xfrm>
                        <a:off x="23058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4" name=""/>
                      <p:cNvSpPr/>
                      <p:nvPr/>
                    </p:nvSpPr>
                    <p:spPr>
                      <a:xfrm>
                        <a:off x="2311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2320200" y="5108400"/>
                  <a:ext cx="64800" cy="27000"/>
                  <a:chOff x="2320200" y="5108400"/>
                  <a:chExt cx="64800" cy="27000"/>
                </a:xfrm>
              </p:grpSpPr>
              <p:grpSp>
                <p:nvGrpSpPr>
                  <p:cNvPr id="2226" name=""/>
                  <p:cNvGrpSpPr/>
                  <p:nvPr/>
                </p:nvGrpSpPr>
                <p:grpSpPr>
                  <a:xfrm>
                    <a:off x="2320200" y="5108400"/>
                    <a:ext cx="39960" cy="27000"/>
                    <a:chOff x="2320200" y="5108400"/>
                    <a:chExt cx="39960" cy="27000"/>
                  </a:xfrm>
                </p:grpSpPr>
                <p:grpSp>
                  <p:nvGrpSpPr>
                    <p:cNvPr id="2227" name=""/>
                    <p:cNvGrpSpPr/>
                    <p:nvPr/>
                  </p:nvGrpSpPr>
                  <p:grpSpPr>
                    <a:xfrm>
                      <a:off x="2320200" y="5108400"/>
                      <a:ext cx="27360" cy="27000"/>
                      <a:chOff x="2320200" y="5108400"/>
                      <a:chExt cx="27360" cy="27000"/>
                    </a:xfrm>
                  </p:grpSpPr>
                  <p:sp>
                    <p:nvSpPr>
                      <p:cNvPr id="2228" name=""/>
                      <p:cNvSpPr/>
                      <p:nvPr/>
                    </p:nvSpPr>
                    <p:spPr>
                      <a:xfrm>
                        <a:off x="2320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9" name=""/>
                      <p:cNvSpPr/>
                      <p:nvPr/>
                    </p:nvSpPr>
                    <p:spPr>
                      <a:xfrm>
                        <a:off x="23241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0" name=""/>
                    <p:cNvGrpSpPr/>
                    <p:nvPr/>
                  </p:nvGrpSpPr>
                  <p:grpSpPr>
                    <a:xfrm>
                      <a:off x="2332800" y="5108400"/>
                      <a:ext cx="27360" cy="27000"/>
                      <a:chOff x="2332800" y="5108400"/>
                      <a:chExt cx="27360" cy="27000"/>
                    </a:xfrm>
                  </p:grpSpPr>
                  <p:sp>
                    <p:nvSpPr>
                      <p:cNvPr id="2231" name=""/>
                      <p:cNvSpPr/>
                      <p:nvPr/>
                    </p:nvSpPr>
                    <p:spPr>
                      <a:xfrm>
                        <a:off x="23328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2" name=""/>
                      <p:cNvSpPr/>
                      <p:nvPr/>
                    </p:nvSpPr>
                    <p:spPr>
                      <a:xfrm>
                        <a:off x="23367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33" name=""/>
                  <p:cNvGrpSpPr/>
                  <p:nvPr/>
                </p:nvGrpSpPr>
                <p:grpSpPr>
                  <a:xfrm>
                    <a:off x="2342520" y="5108400"/>
                    <a:ext cx="42480" cy="27000"/>
                    <a:chOff x="2342520" y="5108400"/>
                    <a:chExt cx="42480" cy="27000"/>
                  </a:xfrm>
                </p:grpSpPr>
                <p:grpSp>
                  <p:nvGrpSpPr>
                    <p:cNvPr id="2234" name=""/>
                    <p:cNvGrpSpPr/>
                    <p:nvPr/>
                  </p:nvGrpSpPr>
                  <p:grpSpPr>
                    <a:xfrm>
                      <a:off x="2342520" y="5108400"/>
                      <a:ext cx="30240" cy="27000"/>
                      <a:chOff x="2342520" y="5108400"/>
                      <a:chExt cx="30240" cy="27000"/>
                    </a:xfrm>
                  </p:grpSpPr>
                  <p:sp>
                    <p:nvSpPr>
                      <p:cNvPr id="2235" name=""/>
                      <p:cNvSpPr/>
                      <p:nvPr/>
                    </p:nvSpPr>
                    <p:spPr>
                      <a:xfrm>
                        <a:off x="234252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6" name=""/>
                      <p:cNvSpPr/>
                      <p:nvPr/>
                    </p:nvSpPr>
                    <p:spPr>
                      <a:xfrm>
                        <a:off x="2349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7" name=""/>
                    <p:cNvGrpSpPr/>
                    <p:nvPr/>
                  </p:nvGrpSpPr>
                  <p:grpSpPr>
                    <a:xfrm>
                      <a:off x="2356200" y="5108400"/>
                      <a:ext cx="28800" cy="27000"/>
                      <a:chOff x="2356200" y="5108400"/>
                      <a:chExt cx="28800" cy="27000"/>
                    </a:xfrm>
                  </p:grpSpPr>
                  <p:sp>
                    <p:nvSpPr>
                      <p:cNvPr id="2238" name=""/>
                      <p:cNvSpPr/>
                      <p:nvPr/>
                    </p:nvSpPr>
                    <p:spPr>
                      <a:xfrm>
                        <a:off x="23562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9" name=""/>
                      <p:cNvSpPr/>
                      <p:nvPr/>
                    </p:nvSpPr>
                    <p:spPr>
                      <a:xfrm>
                        <a:off x="23612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40" name=""/>
                <p:cNvGrpSpPr/>
                <p:nvPr/>
              </p:nvGrpSpPr>
              <p:grpSpPr>
                <a:xfrm>
                  <a:off x="2371320" y="5108400"/>
                  <a:ext cx="66960" cy="27000"/>
                  <a:chOff x="2371320" y="5108400"/>
                  <a:chExt cx="66960" cy="27000"/>
                </a:xfrm>
              </p:grpSpPr>
              <p:grpSp>
                <p:nvGrpSpPr>
                  <p:cNvPr id="2241" name=""/>
                  <p:cNvGrpSpPr/>
                  <p:nvPr/>
                </p:nvGrpSpPr>
                <p:grpSpPr>
                  <a:xfrm>
                    <a:off x="2371320" y="5108400"/>
                    <a:ext cx="39960" cy="27000"/>
                    <a:chOff x="2371320" y="5108400"/>
                    <a:chExt cx="39960" cy="27000"/>
                  </a:xfrm>
                </p:grpSpPr>
                <p:grpSp>
                  <p:nvGrpSpPr>
                    <p:cNvPr id="2242" name=""/>
                    <p:cNvGrpSpPr/>
                    <p:nvPr/>
                  </p:nvGrpSpPr>
                  <p:grpSpPr>
                    <a:xfrm>
                      <a:off x="2371320" y="5108400"/>
                      <a:ext cx="28800" cy="27000"/>
                      <a:chOff x="2371320" y="5108400"/>
                      <a:chExt cx="28800" cy="27000"/>
                    </a:xfrm>
                  </p:grpSpPr>
                  <p:sp>
                    <p:nvSpPr>
                      <p:cNvPr id="2243" name=""/>
                      <p:cNvSpPr/>
                      <p:nvPr/>
                    </p:nvSpPr>
                    <p:spPr>
                      <a:xfrm>
                        <a:off x="23713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4" name=""/>
                      <p:cNvSpPr/>
                      <p:nvPr/>
                    </p:nvSpPr>
                    <p:spPr>
                      <a:xfrm>
                        <a:off x="23763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45" name=""/>
                    <p:cNvGrpSpPr/>
                    <p:nvPr/>
                  </p:nvGrpSpPr>
                  <p:grpSpPr>
                    <a:xfrm>
                      <a:off x="2382120" y="5108400"/>
                      <a:ext cx="29160" cy="27000"/>
                      <a:chOff x="2382120" y="5108400"/>
                      <a:chExt cx="29160" cy="27000"/>
                    </a:xfrm>
                  </p:grpSpPr>
                  <p:sp>
                    <p:nvSpPr>
                      <p:cNvPr id="2246" name=""/>
                      <p:cNvSpPr/>
                      <p:nvPr/>
                    </p:nvSpPr>
                    <p:spPr>
                      <a:xfrm>
                        <a:off x="23821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7" name=""/>
                      <p:cNvSpPr/>
                      <p:nvPr/>
                    </p:nvSpPr>
                    <p:spPr>
                      <a:xfrm>
                        <a:off x="2387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48" name=""/>
                  <p:cNvGrpSpPr/>
                  <p:nvPr/>
                </p:nvGrpSpPr>
                <p:grpSpPr>
                  <a:xfrm>
                    <a:off x="2396520" y="5108400"/>
                    <a:ext cx="41760" cy="27000"/>
                    <a:chOff x="2396520" y="5108400"/>
                    <a:chExt cx="41760" cy="27000"/>
                  </a:xfrm>
                </p:grpSpPr>
                <p:grpSp>
                  <p:nvGrpSpPr>
                    <p:cNvPr id="2249" name=""/>
                    <p:cNvGrpSpPr/>
                    <p:nvPr/>
                  </p:nvGrpSpPr>
                  <p:grpSpPr>
                    <a:xfrm>
                      <a:off x="2396520" y="5108400"/>
                      <a:ext cx="29160" cy="27000"/>
                      <a:chOff x="2396520" y="5108400"/>
                      <a:chExt cx="29160" cy="27000"/>
                    </a:xfrm>
                  </p:grpSpPr>
                  <p:sp>
                    <p:nvSpPr>
                      <p:cNvPr id="2250" name=""/>
                      <p:cNvSpPr/>
                      <p:nvPr/>
                    </p:nvSpPr>
                    <p:spPr>
                      <a:xfrm>
                        <a:off x="2396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1" name=""/>
                      <p:cNvSpPr/>
                      <p:nvPr/>
                    </p:nvSpPr>
                    <p:spPr>
                      <a:xfrm>
                        <a:off x="24019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52" name=""/>
                    <p:cNvGrpSpPr/>
                    <p:nvPr/>
                  </p:nvGrpSpPr>
                  <p:grpSpPr>
                    <a:xfrm>
                      <a:off x="2407680" y="5108400"/>
                      <a:ext cx="30600" cy="27000"/>
                      <a:chOff x="2407680" y="5108400"/>
                      <a:chExt cx="30600" cy="27000"/>
                    </a:xfrm>
                  </p:grpSpPr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2407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4" name=""/>
                      <p:cNvSpPr/>
                      <p:nvPr/>
                    </p:nvSpPr>
                    <p:spPr>
                      <a:xfrm>
                        <a:off x="2414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2420640" y="5108400"/>
                  <a:ext cx="66600" cy="27000"/>
                  <a:chOff x="2420640" y="5108400"/>
                  <a:chExt cx="66600" cy="27000"/>
                </a:xfrm>
              </p:grpSpPr>
              <p:grpSp>
                <p:nvGrpSpPr>
                  <p:cNvPr id="2256" name=""/>
                  <p:cNvGrpSpPr/>
                  <p:nvPr/>
                </p:nvGrpSpPr>
                <p:grpSpPr>
                  <a:xfrm>
                    <a:off x="2420640" y="5108400"/>
                    <a:ext cx="42840" cy="27000"/>
                    <a:chOff x="2420640" y="5108400"/>
                    <a:chExt cx="42840" cy="27000"/>
                  </a:xfrm>
                </p:grpSpPr>
                <p:grpSp>
                  <p:nvGrpSpPr>
                    <p:cNvPr id="2257" name=""/>
                    <p:cNvGrpSpPr/>
                    <p:nvPr/>
                  </p:nvGrpSpPr>
                  <p:grpSpPr>
                    <a:xfrm>
                      <a:off x="2420640" y="5108400"/>
                      <a:ext cx="30240" cy="27000"/>
                      <a:chOff x="2420640" y="5108400"/>
                      <a:chExt cx="30240" cy="27000"/>
                    </a:xfrm>
                  </p:grpSpPr>
                  <p:sp>
                    <p:nvSpPr>
                      <p:cNvPr id="2258" name=""/>
                      <p:cNvSpPr/>
                      <p:nvPr/>
                    </p:nvSpPr>
                    <p:spPr>
                      <a:xfrm>
                        <a:off x="24206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9" name=""/>
                      <p:cNvSpPr/>
                      <p:nvPr/>
                    </p:nvSpPr>
                    <p:spPr>
                      <a:xfrm>
                        <a:off x="24274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0" name=""/>
                    <p:cNvGrpSpPr/>
                    <p:nvPr/>
                  </p:nvGrpSpPr>
                  <p:grpSpPr>
                    <a:xfrm>
                      <a:off x="2433240" y="5108400"/>
                      <a:ext cx="30240" cy="27000"/>
                      <a:chOff x="2433240" y="5108400"/>
                      <a:chExt cx="30240" cy="27000"/>
                    </a:xfrm>
                  </p:grpSpPr>
                  <p:sp>
                    <p:nvSpPr>
                      <p:cNvPr id="2261" name=""/>
                      <p:cNvSpPr/>
                      <p:nvPr/>
                    </p:nvSpPr>
                    <p:spPr>
                      <a:xfrm>
                        <a:off x="24332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24400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63" name=""/>
                  <p:cNvGrpSpPr/>
                  <p:nvPr/>
                </p:nvGrpSpPr>
                <p:grpSpPr>
                  <a:xfrm>
                    <a:off x="2447280" y="5108400"/>
                    <a:ext cx="39960" cy="27000"/>
                    <a:chOff x="2447280" y="5108400"/>
                    <a:chExt cx="39960" cy="27000"/>
                  </a:xfrm>
                </p:grpSpPr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2447280" y="5108400"/>
                      <a:ext cx="30240" cy="27000"/>
                      <a:chOff x="2447280" y="5108400"/>
                      <a:chExt cx="30240" cy="27000"/>
                    </a:xfrm>
                  </p:grpSpPr>
                  <p:sp>
                    <p:nvSpPr>
                      <p:cNvPr id="2265" name=""/>
                      <p:cNvSpPr/>
                      <p:nvPr/>
                    </p:nvSpPr>
                    <p:spPr>
                      <a:xfrm>
                        <a:off x="24472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>
                        <a:off x="245412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7" name=""/>
                    <p:cNvGrpSpPr/>
                    <p:nvPr/>
                  </p:nvGrpSpPr>
                  <p:grpSpPr>
                    <a:xfrm>
                      <a:off x="2458080" y="5108400"/>
                      <a:ext cx="29160" cy="27000"/>
                      <a:chOff x="2458080" y="5108400"/>
                      <a:chExt cx="29160" cy="27000"/>
                    </a:xfrm>
                  </p:grpSpPr>
                  <p:sp>
                    <p:nvSpPr>
                      <p:cNvPr id="2268" name=""/>
                      <p:cNvSpPr/>
                      <p:nvPr/>
                    </p:nvSpPr>
                    <p:spPr>
                      <a:xfrm>
                        <a:off x="24580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2463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70" name=""/>
                <p:cNvGrpSpPr/>
                <p:nvPr/>
              </p:nvGrpSpPr>
              <p:grpSpPr>
                <a:xfrm>
                  <a:off x="2472480" y="5108400"/>
                  <a:ext cx="66960" cy="27000"/>
                  <a:chOff x="2472480" y="5108400"/>
                  <a:chExt cx="66960" cy="27000"/>
                </a:xfrm>
              </p:grpSpPr>
              <p:grpSp>
                <p:nvGrpSpPr>
                  <p:cNvPr id="2271" name=""/>
                  <p:cNvGrpSpPr/>
                  <p:nvPr/>
                </p:nvGrpSpPr>
                <p:grpSpPr>
                  <a:xfrm>
                    <a:off x="2472480" y="5108400"/>
                    <a:ext cx="41760" cy="27000"/>
                    <a:chOff x="2472480" y="5108400"/>
                    <a:chExt cx="41760" cy="27000"/>
                  </a:xfrm>
                </p:grpSpPr>
                <p:grpSp>
                  <p:nvGrpSpPr>
                    <p:cNvPr id="2272" name=""/>
                    <p:cNvGrpSpPr/>
                    <p:nvPr/>
                  </p:nvGrpSpPr>
                  <p:grpSpPr>
                    <a:xfrm>
                      <a:off x="2472480" y="5108400"/>
                      <a:ext cx="29160" cy="27000"/>
                      <a:chOff x="2472480" y="5108400"/>
                      <a:chExt cx="29160" cy="27000"/>
                    </a:xfrm>
                  </p:grpSpPr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2472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4" name=""/>
                      <p:cNvSpPr/>
                      <p:nvPr/>
                    </p:nvSpPr>
                    <p:spPr>
                      <a:xfrm>
                        <a:off x="24778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5" name=""/>
                    <p:cNvGrpSpPr/>
                    <p:nvPr/>
                  </p:nvGrpSpPr>
                  <p:grpSpPr>
                    <a:xfrm>
                      <a:off x="2485080" y="5108400"/>
                      <a:ext cx="29160" cy="27000"/>
                      <a:chOff x="2485080" y="5108400"/>
                      <a:chExt cx="29160" cy="27000"/>
                    </a:xfrm>
                  </p:grpSpPr>
                  <p:sp>
                    <p:nvSpPr>
                      <p:cNvPr id="2276" name=""/>
                      <p:cNvSpPr/>
                      <p:nvPr/>
                    </p:nvSpPr>
                    <p:spPr>
                      <a:xfrm>
                        <a:off x="24850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7" name=""/>
                      <p:cNvSpPr/>
                      <p:nvPr/>
                    </p:nvSpPr>
                    <p:spPr>
                      <a:xfrm>
                        <a:off x="2490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78" name=""/>
                  <p:cNvGrpSpPr/>
                  <p:nvPr/>
                </p:nvGrpSpPr>
                <p:grpSpPr>
                  <a:xfrm>
                    <a:off x="2497680" y="5108400"/>
                    <a:ext cx="41760" cy="27000"/>
                    <a:chOff x="2497680" y="5108400"/>
                    <a:chExt cx="41760" cy="27000"/>
                  </a:xfrm>
                </p:grpSpPr>
                <p:grpSp>
                  <p:nvGrpSpPr>
                    <p:cNvPr id="2279" name=""/>
                    <p:cNvGrpSpPr/>
                    <p:nvPr/>
                  </p:nvGrpSpPr>
                  <p:grpSpPr>
                    <a:xfrm>
                      <a:off x="2497680" y="5108400"/>
                      <a:ext cx="27720" cy="27000"/>
                      <a:chOff x="2497680" y="5108400"/>
                      <a:chExt cx="27720" cy="27000"/>
                    </a:xfrm>
                  </p:grpSpPr>
                  <p:sp>
                    <p:nvSpPr>
                      <p:cNvPr id="2280" name=""/>
                      <p:cNvSpPr/>
                      <p:nvPr/>
                    </p:nvSpPr>
                    <p:spPr>
                      <a:xfrm>
                        <a:off x="2497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1" name=""/>
                      <p:cNvSpPr/>
                      <p:nvPr/>
                    </p:nvSpPr>
                    <p:spPr>
                      <a:xfrm>
                        <a:off x="25016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82" name=""/>
                    <p:cNvGrpSpPr/>
                    <p:nvPr/>
                  </p:nvGrpSpPr>
                  <p:grpSpPr>
                    <a:xfrm>
                      <a:off x="2508840" y="5108400"/>
                      <a:ext cx="30600" cy="27000"/>
                      <a:chOff x="2508840" y="5108400"/>
                      <a:chExt cx="30600" cy="27000"/>
                    </a:xfrm>
                  </p:grpSpPr>
                  <p:sp>
                    <p:nvSpPr>
                      <p:cNvPr id="2283" name=""/>
                      <p:cNvSpPr/>
                      <p:nvPr/>
                    </p:nvSpPr>
                    <p:spPr>
                      <a:xfrm>
                        <a:off x="2508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4" name=""/>
                      <p:cNvSpPr/>
                      <p:nvPr/>
                    </p:nvSpPr>
                    <p:spPr>
                      <a:xfrm>
                        <a:off x="2515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85" name=""/>
                <p:cNvGrpSpPr/>
                <p:nvPr/>
              </p:nvGrpSpPr>
              <p:grpSpPr>
                <a:xfrm>
                  <a:off x="2523600" y="5108400"/>
                  <a:ext cx="67680" cy="27000"/>
                  <a:chOff x="2523600" y="5108400"/>
                  <a:chExt cx="67680" cy="27000"/>
                </a:xfrm>
              </p:grpSpPr>
              <p:grpSp>
                <p:nvGrpSpPr>
                  <p:cNvPr id="2286" name=""/>
                  <p:cNvGrpSpPr/>
                  <p:nvPr/>
                </p:nvGrpSpPr>
                <p:grpSpPr>
                  <a:xfrm>
                    <a:off x="2523600" y="5108400"/>
                    <a:ext cx="38160" cy="27000"/>
                    <a:chOff x="2523600" y="5108400"/>
                    <a:chExt cx="38160" cy="27000"/>
                  </a:xfrm>
                </p:grpSpPr>
                <p:grpSp>
                  <p:nvGrpSpPr>
                    <p:cNvPr id="2287" name=""/>
                    <p:cNvGrpSpPr/>
                    <p:nvPr/>
                  </p:nvGrpSpPr>
                  <p:grpSpPr>
                    <a:xfrm>
                      <a:off x="2523600" y="5108400"/>
                      <a:ext cx="28800" cy="27000"/>
                      <a:chOff x="2523600" y="5108400"/>
                      <a:chExt cx="28800" cy="27000"/>
                    </a:xfrm>
                  </p:grpSpPr>
                  <p:sp>
                    <p:nvSpPr>
                      <p:cNvPr id="2288" name=""/>
                      <p:cNvSpPr/>
                      <p:nvPr/>
                    </p:nvSpPr>
                    <p:spPr>
                      <a:xfrm>
                        <a:off x="2523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9" name=""/>
                      <p:cNvSpPr/>
                      <p:nvPr/>
                    </p:nvSpPr>
                    <p:spPr>
                      <a:xfrm>
                        <a:off x="25290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0" name=""/>
                    <p:cNvGrpSpPr/>
                    <p:nvPr/>
                  </p:nvGrpSpPr>
                  <p:grpSpPr>
                    <a:xfrm>
                      <a:off x="2534400" y="5108400"/>
                      <a:ext cx="27360" cy="27000"/>
                      <a:chOff x="2534400" y="5108400"/>
                      <a:chExt cx="27360" cy="27000"/>
                    </a:xfrm>
                  </p:grpSpPr>
                  <p:sp>
                    <p:nvSpPr>
                      <p:cNvPr id="2291" name=""/>
                      <p:cNvSpPr/>
                      <p:nvPr/>
                    </p:nvSpPr>
                    <p:spPr>
                      <a:xfrm>
                        <a:off x="2534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2" name=""/>
                      <p:cNvSpPr/>
                      <p:nvPr/>
                    </p:nvSpPr>
                    <p:spPr>
                      <a:xfrm>
                        <a:off x="2538720" y="5108400"/>
                        <a:ext cx="23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93" name=""/>
                  <p:cNvGrpSpPr/>
                  <p:nvPr/>
                </p:nvGrpSpPr>
                <p:grpSpPr>
                  <a:xfrm>
                    <a:off x="2548440" y="5108400"/>
                    <a:ext cx="42840" cy="27000"/>
                    <a:chOff x="2548440" y="5108400"/>
                    <a:chExt cx="42840" cy="27000"/>
                  </a:xfrm>
                </p:grpSpPr>
                <p:grpSp>
                  <p:nvGrpSpPr>
                    <p:cNvPr id="2294" name=""/>
                    <p:cNvGrpSpPr/>
                    <p:nvPr/>
                  </p:nvGrpSpPr>
                  <p:grpSpPr>
                    <a:xfrm>
                      <a:off x="2548440" y="5108400"/>
                      <a:ext cx="29160" cy="27000"/>
                      <a:chOff x="2548440" y="5108400"/>
                      <a:chExt cx="29160" cy="27000"/>
                    </a:xfrm>
                  </p:grpSpPr>
                  <p:sp>
                    <p:nvSpPr>
                      <p:cNvPr id="2295" name=""/>
                      <p:cNvSpPr/>
                      <p:nvPr/>
                    </p:nvSpPr>
                    <p:spPr>
                      <a:xfrm>
                        <a:off x="25484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6" name=""/>
                      <p:cNvSpPr/>
                      <p:nvPr/>
                    </p:nvSpPr>
                    <p:spPr>
                      <a:xfrm>
                        <a:off x="2553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7" name=""/>
                    <p:cNvGrpSpPr/>
                    <p:nvPr/>
                  </p:nvGrpSpPr>
                  <p:grpSpPr>
                    <a:xfrm>
                      <a:off x="2561040" y="5108400"/>
                      <a:ext cx="30240" cy="27000"/>
                      <a:chOff x="2561040" y="5108400"/>
                      <a:chExt cx="30240" cy="27000"/>
                    </a:xfrm>
                  </p:grpSpPr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25610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25678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00" name=""/>
                <p:cNvGrpSpPr/>
                <p:nvPr/>
              </p:nvGrpSpPr>
              <p:grpSpPr>
                <a:xfrm>
                  <a:off x="2575800" y="5108400"/>
                  <a:ext cx="64800" cy="27000"/>
                  <a:chOff x="2575800" y="5108400"/>
                  <a:chExt cx="64800" cy="27000"/>
                </a:xfrm>
              </p:grpSpPr>
              <p:grpSp>
                <p:nvGrpSpPr>
                  <p:cNvPr id="2301" name=""/>
                  <p:cNvGrpSpPr/>
                  <p:nvPr/>
                </p:nvGrpSpPr>
                <p:grpSpPr>
                  <a:xfrm>
                    <a:off x="2575800" y="5108400"/>
                    <a:ext cx="39960" cy="27000"/>
                    <a:chOff x="2575800" y="5108400"/>
                    <a:chExt cx="39960" cy="27000"/>
                  </a:xfrm>
                </p:grpSpPr>
                <p:grpSp>
                  <p:nvGrpSpPr>
                    <p:cNvPr id="2302" name=""/>
                    <p:cNvGrpSpPr/>
                    <p:nvPr/>
                  </p:nvGrpSpPr>
                  <p:grpSpPr>
                    <a:xfrm>
                      <a:off x="2575800" y="5108400"/>
                      <a:ext cx="26280" cy="27000"/>
                      <a:chOff x="2575800" y="5108400"/>
                      <a:chExt cx="26280" cy="27000"/>
                    </a:xfrm>
                  </p:grpSpPr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25758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25783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5" name=""/>
                    <p:cNvGrpSpPr/>
                    <p:nvPr/>
                  </p:nvGrpSpPr>
                  <p:grpSpPr>
                    <a:xfrm>
                      <a:off x="2588400" y="5108400"/>
                      <a:ext cx="27360" cy="27000"/>
                      <a:chOff x="2588400" y="5108400"/>
                      <a:chExt cx="27360" cy="27000"/>
                    </a:xfrm>
                  </p:grpSpPr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2588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2592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08" name=""/>
                  <p:cNvGrpSpPr/>
                  <p:nvPr/>
                </p:nvGrpSpPr>
                <p:grpSpPr>
                  <a:xfrm>
                    <a:off x="2601000" y="5108400"/>
                    <a:ext cx="39600" cy="27000"/>
                    <a:chOff x="2601000" y="5108400"/>
                    <a:chExt cx="39600" cy="27000"/>
                  </a:xfrm>
                </p:grpSpPr>
                <p:grpSp>
                  <p:nvGrpSpPr>
                    <p:cNvPr id="2309" name=""/>
                    <p:cNvGrpSpPr/>
                    <p:nvPr/>
                  </p:nvGrpSpPr>
                  <p:grpSpPr>
                    <a:xfrm>
                      <a:off x="2601000" y="5108400"/>
                      <a:ext cx="27360" cy="27000"/>
                      <a:chOff x="2601000" y="5108400"/>
                      <a:chExt cx="27360" cy="27000"/>
                    </a:xfrm>
                  </p:grpSpPr>
                  <p:sp>
                    <p:nvSpPr>
                      <p:cNvPr id="2310" name=""/>
                      <p:cNvSpPr/>
                      <p:nvPr/>
                    </p:nvSpPr>
                    <p:spPr>
                      <a:xfrm>
                        <a:off x="2601000" y="5108400"/>
                        <a:ext cx="23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1" name=""/>
                      <p:cNvSpPr/>
                      <p:nvPr/>
                    </p:nvSpPr>
                    <p:spPr>
                      <a:xfrm>
                        <a:off x="26049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12" name=""/>
                    <p:cNvGrpSpPr/>
                    <p:nvPr/>
                  </p:nvGrpSpPr>
                  <p:grpSpPr>
                    <a:xfrm>
                      <a:off x="2611800" y="5108400"/>
                      <a:ext cx="28800" cy="27000"/>
                      <a:chOff x="2611800" y="5108400"/>
                      <a:chExt cx="28800" cy="27000"/>
                    </a:xfrm>
                  </p:grpSpPr>
                  <p:sp>
                    <p:nvSpPr>
                      <p:cNvPr id="2313" name=""/>
                      <p:cNvSpPr/>
                      <p:nvPr/>
                    </p:nvSpPr>
                    <p:spPr>
                      <a:xfrm>
                        <a:off x="26118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4" name=""/>
                      <p:cNvSpPr/>
                      <p:nvPr/>
                    </p:nvSpPr>
                    <p:spPr>
                      <a:xfrm>
                        <a:off x="2616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15" name=""/>
                <p:cNvGrpSpPr/>
                <p:nvPr/>
              </p:nvGrpSpPr>
              <p:grpSpPr>
                <a:xfrm>
                  <a:off x="2624760" y="5108400"/>
                  <a:ext cx="68040" cy="27000"/>
                  <a:chOff x="2624760" y="5108400"/>
                  <a:chExt cx="68040" cy="27000"/>
                </a:xfrm>
              </p:grpSpPr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2624760" y="5108400"/>
                    <a:ext cx="42840" cy="27000"/>
                    <a:chOff x="2624760" y="5108400"/>
                    <a:chExt cx="42840" cy="27000"/>
                  </a:xfrm>
                </p:grpSpPr>
                <p:grpSp>
                  <p:nvGrpSpPr>
                    <p:cNvPr id="2317" name=""/>
                    <p:cNvGrpSpPr/>
                    <p:nvPr/>
                  </p:nvGrpSpPr>
                  <p:grpSpPr>
                    <a:xfrm>
                      <a:off x="2624760" y="5108400"/>
                      <a:ext cx="29160" cy="27000"/>
                      <a:chOff x="2624760" y="5108400"/>
                      <a:chExt cx="29160" cy="27000"/>
                    </a:xfrm>
                  </p:grpSpPr>
                  <p:sp>
                    <p:nvSpPr>
                      <p:cNvPr id="2318" name=""/>
                      <p:cNvSpPr/>
                      <p:nvPr/>
                    </p:nvSpPr>
                    <p:spPr>
                      <a:xfrm>
                        <a:off x="26247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9" name=""/>
                      <p:cNvSpPr/>
                      <p:nvPr/>
                    </p:nvSpPr>
                    <p:spPr>
                      <a:xfrm>
                        <a:off x="26301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20" name=""/>
                    <p:cNvGrpSpPr/>
                    <p:nvPr/>
                  </p:nvGrpSpPr>
                  <p:grpSpPr>
                    <a:xfrm>
                      <a:off x="2637360" y="5108400"/>
                      <a:ext cx="30240" cy="27000"/>
                      <a:chOff x="2637360" y="5108400"/>
                      <a:chExt cx="30240" cy="27000"/>
                    </a:xfrm>
                  </p:grpSpPr>
                  <p:sp>
                    <p:nvSpPr>
                      <p:cNvPr id="2321" name=""/>
                      <p:cNvSpPr/>
                      <p:nvPr/>
                    </p:nvSpPr>
                    <p:spPr>
                      <a:xfrm>
                        <a:off x="2637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>
                        <a:off x="2644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3" name=""/>
                  <p:cNvGrpSpPr/>
                  <p:nvPr/>
                </p:nvGrpSpPr>
                <p:grpSpPr>
                  <a:xfrm>
                    <a:off x="2649960" y="5108400"/>
                    <a:ext cx="42840" cy="27000"/>
                    <a:chOff x="2649960" y="5108400"/>
                    <a:chExt cx="42840" cy="27000"/>
                  </a:xfrm>
                </p:grpSpPr>
                <p:grpSp>
                  <p:nvGrpSpPr>
                    <p:cNvPr id="2324" name=""/>
                    <p:cNvGrpSpPr/>
                    <p:nvPr/>
                  </p:nvGrpSpPr>
                  <p:grpSpPr>
                    <a:xfrm>
                      <a:off x="2649960" y="5108400"/>
                      <a:ext cx="28800" cy="27000"/>
                      <a:chOff x="2649960" y="5108400"/>
                      <a:chExt cx="28800" cy="27000"/>
                    </a:xfrm>
                  </p:grpSpPr>
                  <p:sp>
                    <p:nvSpPr>
                      <p:cNvPr id="2325" name=""/>
                      <p:cNvSpPr/>
                      <p:nvPr/>
                    </p:nvSpPr>
                    <p:spPr>
                      <a:xfrm>
                        <a:off x="26499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6" name=""/>
                      <p:cNvSpPr/>
                      <p:nvPr/>
                    </p:nvSpPr>
                    <p:spPr>
                      <a:xfrm>
                        <a:off x="2655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27" name=""/>
                    <p:cNvGrpSpPr/>
                    <p:nvPr/>
                  </p:nvGrpSpPr>
                  <p:grpSpPr>
                    <a:xfrm>
                      <a:off x="2662560" y="5108400"/>
                      <a:ext cx="30240" cy="27000"/>
                      <a:chOff x="2662560" y="5108400"/>
                      <a:chExt cx="30240" cy="27000"/>
                    </a:xfrm>
                  </p:grpSpPr>
                  <p:sp>
                    <p:nvSpPr>
                      <p:cNvPr id="2328" name=""/>
                      <p:cNvSpPr/>
                      <p:nvPr/>
                    </p:nvSpPr>
                    <p:spPr>
                      <a:xfrm>
                        <a:off x="26625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9" name=""/>
                      <p:cNvSpPr/>
                      <p:nvPr/>
                    </p:nvSpPr>
                    <p:spPr>
                      <a:xfrm>
                        <a:off x="2669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330" name=""/>
                <p:cNvSpPr/>
                <p:nvPr/>
              </p:nvSpPr>
              <p:spPr>
                <a:xfrm>
                  <a:off x="2262240" y="5054760"/>
                  <a:ext cx="406080" cy="27000"/>
                </a:xfrm>
                <a:custGeom>
                  <a:avLst/>
                  <a:gdLst/>
                  <a:ahLst/>
                  <a:rect l="l" t="t" r="r" b="b"/>
                  <a:pathLst>
                    <a:path w="288" h="17">
                      <a:moveTo>
                        <a:pt x="0" y="11"/>
                      </a:moveTo>
                      <a:lnTo>
                        <a:pt x="129" y="11"/>
                      </a:lnTo>
                      <a:lnTo>
                        <a:pt x="129" y="0"/>
                      </a:lnTo>
                      <a:lnTo>
                        <a:pt x="152" y="0"/>
                      </a:lnTo>
                      <a:lnTo>
                        <a:pt x="152" y="11"/>
                      </a:lnTo>
                      <a:lnTo>
                        <a:pt x="287" y="11"/>
                      </a:lnTo>
                      <a:lnTo>
                        <a:pt x="287" y="16"/>
                      </a:lnTo>
                      <a:lnTo>
                        <a:pt x="150" y="16"/>
                      </a:lnTo>
                      <a:lnTo>
                        <a:pt x="150" y="6"/>
                      </a:lnTo>
                      <a:lnTo>
                        <a:pt x="132" y="4"/>
                      </a:lnTo>
                      <a:lnTo>
                        <a:pt x="132" y="16"/>
                      </a:lnTo>
                      <a:lnTo>
                        <a:pt x="0" y="16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1" name=""/>
              <p:cNvSpPr/>
              <p:nvPr/>
            </p:nvSpPr>
            <p:spPr>
              <a:xfrm>
                <a:off x="1484280" y="5273640"/>
                <a:ext cx="2013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Mobile” N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t Home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360440" y="4351320"/>
                <a:ext cx="2211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Home Address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3" name=""/>
          <p:cNvGrpSpPr/>
          <p:nvPr/>
        </p:nvGrpSpPr>
        <p:grpSpPr>
          <a:xfrm>
            <a:off x="-25560" y="0"/>
            <a:ext cx="2644200" cy="977760"/>
            <a:chOff x="-25560" y="0"/>
            <a:chExt cx="2644200" cy="977760"/>
          </a:xfrm>
        </p:grpSpPr>
        <p:grpSp>
          <p:nvGrpSpPr>
            <p:cNvPr id="2334" name=""/>
            <p:cNvGrpSpPr/>
            <p:nvPr/>
          </p:nvGrpSpPr>
          <p:grpSpPr>
            <a:xfrm>
              <a:off x="260280" y="390600"/>
              <a:ext cx="681120" cy="584280"/>
              <a:chOff x="260280" y="390600"/>
              <a:chExt cx="681120" cy="584280"/>
            </a:xfrm>
          </p:grpSpPr>
          <p:sp>
            <p:nvSpPr>
              <p:cNvPr id="2335" name=""/>
              <p:cNvSpPr/>
              <p:nvPr/>
            </p:nvSpPr>
            <p:spPr>
              <a:xfrm>
                <a:off x="397080" y="741600"/>
                <a:ext cx="426960" cy="133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95640" y="698760"/>
                <a:ext cx="431280" cy="4428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99960" y="735120"/>
                <a:ext cx="420120" cy="144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2840" y="752760"/>
                <a:ext cx="8280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91760" y="752760"/>
                <a:ext cx="1209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18120" y="752760"/>
                <a:ext cx="1324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53840" y="75276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34960" y="76212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40720" y="77976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06880" y="781200"/>
                <a:ext cx="9144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01120" y="765360"/>
                <a:ext cx="1116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800" y="80352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7" name=""/>
              <p:cNvGrpSpPr/>
              <p:nvPr/>
            </p:nvGrpSpPr>
            <p:grpSpPr>
              <a:xfrm>
                <a:off x="405720" y="803520"/>
                <a:ext cx="27720" cy="27000"/>
                <a:chOff x="405720" y="803520"/>
                <a:chExt cx="27720" cy="2700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4057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096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0" name=""/>
              <p:cNvGrpSpPr/>
              <p:nvPr/>
            </p:nvGrpSpPr>
            <p:grpSpPr>
              <a:xfrm>
                <a:off x="415080" y="803520"/>
                <a:ext cx="30600" cy="27000"/>
                <a:chOff x="415080" y="803520"/>
                <a:chExt cx="30600" cy="2700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4150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22280" y="80352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3" name=""/>
              <p:cNvGrpSpPr/>
              <p:nvPr/>
            </p:nvGrpSpPr>
            <p:grpSpPr>
              <a:xfrm>
                <a:off x="425160" y="803520"/>
                <a:ext cx="29160" cy="27000"/>
                <a:chOff x="425160" y="803520"/>
                <a:chExt cx="29160" cy="27000"/>
              </a:xfrm>
            </p:grpSpPr>
            <p:sp>
              <p:nvSpPr>
                <p:cNvPr id="2354" name=""/>
                <p:cNvSpPr/>
                <p:nvPr/>
              </p:nvSpPr>
              <p:spPr>
                <a:xfrm>
                  <a:off x="4251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4305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6" name=""/>
              <p:cNvGrpSpPr/>
              <p:nvPr/>
            </p:nvGrpSpPr>
            <p:grpSpPr>
              <a:xfrm>
                <a:off x="434880" y="803520"/>
                <a:ext cx="27720" cy="27000"/>
                <a:chOff x="434880" y="803520"/>
                <a:chExt cx="27720" cy="270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4348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4388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9" name=""/>
              <p:cNvGrpSpPr/>
              <p:nvPr/>
            </p:nvGrpSpPr>
            <p:grpSpPr>
              <a:xfrm>
                <a:off x="444960" y="803520"/>
                <a:ext cx="27720" cy="27000"/>
                <a:chOff x="444960" y="803520"/>
                <a:chExt cx="27720" cy="2700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4449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489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"/>
              <p:cNvGrpSpPr/>
              <p:nvPr/>
            </p:nvGrpSpPr>
            <p:grpSpPr>
              <a:xfrm>
                <a:off x="456120" y="803520"/>
                <a:ext cx="26280" cy="27000"/>
                <a:chOff x="456120" y="803520"/>
                <a:chExt cx="26280" cy="2700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4561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586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463320" y="803520"/>
                <a:ext cx="32040" cy="27000"/>
                <a:chOff x="463320" y="803520"/>
                <a:chExt cx="32040" cy="2700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4633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7160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474840" y="803520"/>
                <a:ext cx="27720" cy="27000"/>
                <a:chOff x="474840" y="803520"/>
                <a:chExt cx="27720" cy="270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4748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7880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1" name=""/>
              <p:cNvSpPr/>
              <p:nvPr/>
            </p:nvSpPr>
            <p:spPr>
              <a:xfrm>
                <a:off x="261720" y="949320"/>
                <a:ext cx="67248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60280" y="868320"/>
                <a:ext cx="681120" cy="8280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82960" y="878040"/>
                <a:ext cx="634320" cy="6336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4800" y="878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87000" y="87804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95720" y="87804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920" y="87804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91920" y="87804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80840" y="884520"/>
                <a:ext cx="9000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63240" y="898560"/>
                <a:ext cx="266400" cy="180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72960" y="908280"/>
                <a:ext cx="268920" cy="144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5840" y="917640"/>
                <a:ext cx="236880" cy="180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84120" y="92736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25080" y="903240"/>
                <a:ext cx="309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22200" y="91296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16800" y="920880"/>
                <a:ext cx="4608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22640" y="927360"/>
                <a:ext cx="15912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39720" y="89712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8000" y="90828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8200" y="9176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88960" y="927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21000" y="928800"/>
                <a:ext cx="54720" cy="144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91920" y="903240"/>
                <a:ext cx="74160" cy="180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01640" y="914400"/>
                <a:ext cx="65880" cy="180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03080" y="930240"/>
                <a:ext cx="67680" cy="180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89120" y="903240"/>
                <a:ext cx="74520" cy="180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3360" y="91440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9120" y="92088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9120" y="930240"/>
                <a:ext cx="67680" cy="180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53920" y="91440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62200" y="92556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0440" y="68436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61880" y="706680"/>
                <a:ext cx="289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28120" y="663840"/>
                <a:ext cx="160560" cy="4428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23720" y="390600"/>
                <a:ext cx="363600" cy="27792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48920" y="414360"/>
                <a:ext cx="307440" cy="23508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61880" y="422280"/>
                <a:ext cx="281880" cy="21456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29720" y="655920"/>
                <a:ext cx="22320" cy="252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79040" y="758880"/>
                <a:ext cx="22680" cy="2880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86240" y="77472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7880" y="76860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67880" y="78588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405720" y="844560"/>
                <a:ext cx="67680" cy="27000"/>
                <a:chOff x="405720" y="844560"/>
                <a:chExt cx="67680" cy="27000"/>
              </a:xfrm>
            </p:grpSpPr>
            <p:grpSp>
              <p:nvGrpSpPr>
                <p:cNvPr id="2414" name=""/>
                <p:cNvGrpSpPr/>
                <p:nvPr/>
              </p:nvGrpSpPr>
              <p:grpSpPr>
                <a:xfrm>
                  <a:off x="405720" y="844560"/>
                  <a:ext cx="42480" cy="27000"/>
                  <a:chOff x="405720" y="844560"/>
                  <a:chExt cx="42480" cy="27000"/>
                </a:xfrm>
              </p:grpSpPr>
              <p:grpSp>
                <p:nvGrpSpPr>
                  <p:cNvPr id="2415" name=""/>
                  <p:cNvGrpSpPr/>
                  <p:nvPr/>
                </p:nvGrpSpPr>
                <p:grpSpPr>
                  <a:xfrm>
                    <a:off x="405720" y="844560"/>
                    <a:ext cx="28800" cy="27000"/>
                    <a:chOff x="405720" y="844560"/>
                    <a:chExt cx="28800" cy="27000"/>
                  </a:xfrm>
                </p:grpSpPr>
                <p:sp>
                  <p:nvSpPr>
                    <p:cNvPr id="2416" name=""/>
                    <p:cNvSpPr/>
                    <p:nvPr/>
                  </p:nvSpPr>
                  <p:spPr>
                    <a:xfrm>
                      <a:off x="4057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>
                      <a:off x="410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8" name=""/>
                  <p:cNvGrpSpPr/>
                  <p:nvPr/>
                </p:nvGrpSpPr>
                <p:grpSpPr>
                  <a:xfrm>
                    <a:off x="419400" y="844560"/>
                    <a:ext cx="28800" cy="27000"/>
                    <a:chOff x="419400" y="844560"/>
                    <a:chExt cx="28800" cy="27000"/>
                  </a:xfrm>
                </p:grpSpPr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41940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>
                      <a:off x="4244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432000" y="844560"/>
                  <a:ext cx="41400" cy="27000"/>
                  <a:chOff x="432000" y="844560"/>
                  <a:chExt cx="41400" cy="27000"/>
                </a:xfrm>
              </p:grpSpPr>
              <p:grpSp>
                <p:nvGrpSpPr>
                  <p:cNvPr id="2422" name=""/>
                  <p:cNvGrpSpPr/>
                  <p:nvPr/>
                </p:nvGrpSpPr>
                <p:grpSpPr>
                  <a:xfrm>
                    <a:off x="432000" y="844560"/>
                    <a:ext cx="28800" cy="27000"/>
                    <a:chOff x="432000" y="844560"/>
                    <a:chExt cx="28800" cy="27000"/>
                  </a:xfrm>
                </p:grpSpPr>
                <p:sp>
                  <p:nvSpPr>
                    <p:cNvPr id="2423" name=""/>
                    <p:cNvSpPr/>
                    <p:nvPr/>
                  </p:nvSpPr>
                  <p:spPr>
                    <a:xfrm>
                      <a:off x="432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4" name=""/>
                    <p:cNvSpPr/>
                    <p:nvPr/>
                  </p:nvSpPr>
                  <p:spPr>
                    <a:xfrm>
                      <a:off x="4374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5" name=""/>
                  <p:cNvGrpSpPr/>
                  <p:nvPr/>
                </p:nvGrpSpPr>
                <p:grpSpPr>
                  <a:xfrm>
                    <a:off x="444600" y="844560"/>
                    <a:ext cx="28800" cy="27000"/>
                    <a:chOff x="444600" y="844560"/>
                    <a:chExt cx="28800" cy="27000"/>
                  </a:xfrm>
                </p:grpSpPr>
                <p:sp>
                  <p:nvSpPr>
                    <p:cNvPr id="2426" name=""/>
                    <p:cNvSpPr/>
                    <p:nvPr/>
                  </p:nvSpPr>
                  <p:spPr>
                    <a:xfrm>
                      <a:off x="4446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"/>
                    <p:cNvSpPr/>
                    <p:nvPr/>
                  </p:nvSpPr>
                  <p:spPr>
                    <a:xfrm>
                      <a:off x="450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28" name=""/>
              <p:cNvGrpSpPr/>
              <p:nvPr/>
            </p:nvGrpSpPr>
            <p:grpSpPr>
              <a:xfrm>
                <a:off x="459000" y="844560"/>
                <a:ext cx="64800" cy="27000"/>
                <a:chOff x="459000" y="844560"/>
                <a:chExt cx="64800" cy="27000"/>
              </a:xfrm>
            </p:grpSpPr>
            <p:grpSp>
              <p:nvGrpSpPr>
                <p:cNvPr id="2429" name=""/>
                <p:cNvGrpSpPr/>
                <p:nvPr/>
              </p:nvGrpSpPr>
              <p:grpSpPr>
                <a:xfrm>
                  <a:off x="459000" y="844560"/>
                  <a:ext cx="39960" cy="27000"/>
                  <a:chOff x="459000" y="844560"/>
                  <a:chExt cx="39960" cy="27000"/>
                </a:xfrm>
              </p:grpSpPr>
              <p:grpSp>
                <p:nvGrpSpPr>
                  <p:cNvPr id="2430" name=""/>
                  <p:cNvGrpSpPr/>
                  <p:nvPr/>
                </p:nvGrpSpPr>
                <p:grpSpPr>
                  <a:xfrm>
                    <a:off x="459000" y="844560"/>
                    <a:ext cx="27360" cy="27000"/>
                    <a:chOff x="459000" y="844560"/>
                    <a:chExt cx="27360" cy="27000"/>
                  </a:xfrm>
                </p:grpSpPr>
                <p:sp>
                  <p:nvSpPr>
                    <p:cNvPr id="2431" name=""/>
                    <p:cNvSpPr/>
                    <p:nvPr/>
                  </p:nvSpPr>
                  <p:spPr>
                    <a:xfrm>
                      <a:off x="459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>
                      <a:off x="4629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3" name=""/>
                  <p:cNvGrpSpPr/>
                  <p:nvPr/>
                </p:nvGrpSpPr>
                <p:grpSpPr>
                  <a:xfrm>
                    <a:off x="471600" y="844560"/>
                    <a:ext cx="27360" cy="27000"/>
                    <a:chOff x="471600" y="844560"/>
                    <a:chExt cx="27360" cy="27000"/>
                  </a:xfrm>
                </p:grpSpPr>
                <p:sp>
                  <p:nvSpPr>
                    <p:cNvPr id="2434" name=""/>
                    <p:cNvSpPr/>
                    <p:nvPr/>
                  </p:nvSpPr>
                  <p:spPr>
                    <a:xfrm>
                      <a:off x="4716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4755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481320" y="844560"/>
                  <a:ext cx="42480" cy="27000"/>
                  <a:chOff x="481320" y="844560"/>
                  <a:chExt cx="42480" cy="27000"/>
                </a:xfrm>
              </p:grpSpPr>
              <p:grpSp>
                <p:nvGrpSpPr>
                  <p:cNvPr id="2437" name=""/>
                  <p:cNvGrpSpPr/>
                  <p:nvPr/>
                </p:nvGrpSpPr>
                <p:grpSpPr>
                  <a:xfrm>
                    <a:off x="481320" y="844560"/>
                    <a:ext cx="30240" cy="27000"/>
                    <a:chOff x="481320" y="844560"/>
                    <a:chExt cx="30240" cy="27000"/>
                  </a:xfrm>
                </p:grpSpPr>
                <p:sp>
                  <p:nvSpPr>
                    <p:cNvPr id="2438" name=""/>
                    <p:cNvSpPr/>
                    <p:nvPr/>
                  </p:nvSpPr>
                  <p:spPr>
                    <a:xfrm>
                      <a:off x="4813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"/>
                    <p:cNvSpPr/>
                    <p:nvPr/>
                  </p:nvSpPr>
                  <p:spPr>
                    <a:xfrm>
                      <a:off x="488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0" name=""/>
                  <p:cNvGrpSpPr/>
                  <p:nvPr/>
                </p:nvGrpSpPr>
                <p:grpSpPr>
                  <a:xfrm>
                    <a:off x="495000" y="844560"/>
                    <a:ext cx="28800" cy="27000"/>
                    <a:chOff x="495000" y="844560"/>
                    <a:chExt cx="28800" cy="27000"/>
                  </a:xfrm>
                </p:grpSpPr>
                <p:sp>
                  <p:nvSpPr>
                    <p:cNvPr id="2441" name=""/>
                    <p:cNvSpPr/>
                    <p:nvPr/>
                  </p:nvSpPr>
                  <p:spPr>
                    <a:xfrm>
                      <a:off x="49500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"/>
                    <p:cNvSpPr/>
                    <p:nvPr/>
                  </p:nvSpPr>
                  <p:spPr>
                    <a:xfrm>
                      <a:off x="5000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43" name=""/>
              <p:cNvGrpSpPr/>
              <p:nvPr/>
            </p:nvGrpSpPr>
            <p:grpSpPr>
              <a:xfrm>
                <a:off x="509760" y="844560"/>
                <a:ext cx="66960" cy="27000"/>
                <a:chOff x="509760" y="844560"/>
                <a:chExt cx="66960" cy="27000"/>
              </a:xfrm>
            </p:grpSpPr>
            <p:grpSp>
              <p:nvGrpSpPr>
                <p:cNvPr id="2444" name=""/>
                <p:cNvGrpSpPr/>
                <p:nvPr/>
              </p:nvGrpSpPr>
              <p:grpSpPr>
                <a:xfrm>
                  <a:off x="509760" y="844560"/>
                  <a:ext cx="39960" cy="27000"/>
                  <a:chOff x="509760" y="844560"/>
                  <a:chExt cx="39960" cy="27000"/>
                </a:xfrm>
              </p:grpSpPr>
              <p:grpSp>
                <p:nvGrpSpPr>
                  <p:cNvPr id="2445" name=""/>
                  <p:cNvGrpSpPr/>
                  <p:nvPr/>
                </p:nvGrpSpPr>
                <p:grpSpPr>
                  <a:xfrm>
                    <a:off x="509760" y="844560"/>
                    <a:ext cx="29160" cy="27000"/>
                    <a:chOff x="509760" y="844560"/>
                    <a:chExt cx="29160" cy="27000"/>
                  </a:xfrm>
                </p:grpSpPr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509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>
                      <a:off x="5151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8" name=""/>
                  <p:cNvGrpSpPr/>
                  <p:nvPr/>
                </p:nvGrpSpPr>
                <p:grpSpPr>
                  <a:xfrm>
                    <a:off x="520560" y="844560"/>
                    <a:ext cx="29160" cy="27000"/>
                    <a:chOff x="520560" y="844560"/>
                    <a:chExt cx="29160" cy="27000"/>
                  </a:xfrm>
                </p:grpSpPr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5205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>
                      <a:off x="525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51" name=""/>
                <p:cNvGrpSpPr/>
                <p:nvPr/>
              </p:nvGrpSpPr>
              <p:grpSpPr>
                <a:xfrm>
                  <a:off x="534960" y="844560"/>
                  <a:ext cx="41760" cy="27000"/>
                  <a:chOff x="534960" y="844560"/>
                  <a:chExt cx="41760" cy="27000"/>
                </a:xfrm>
              </p:grpSpPr>
              <p:grpSp>
                <p:nvGrpSpPr>
                  <p:cNvPr id="2452" name=""/>
                  <p:cNvGrpSpPr/>
                  <p:nvPr/>
                </p:nvGrpSpPr>
                <p:grpSpPr>
                  <a:xfrm>
                    <a:off x="534960" y="844560"/>
                    <a:ext cx="29160" cy="27000"/>
                    <a:chOff x="534960" y="844560"/>
                    <a:chExt cx="29160" cy="27000"/>
                  </a:xfrm>
                </p:grpSpPr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534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5403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546120" y="844560"/>
                    <a:ext cx="30600" cy="27000"/>
                    <a:chOff x="546120" y="844560"/>
                    <a:chExt cx="30600" cy="27000"/>
                  </a:xfrm>
                </p:grpSpPr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5461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552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58" name=""/>
              <p:cNvGrpSpPr/>
              <p:nvPr/>
            </p:nvGrpSpPr>
            <p:grpSpPr>
              <a:xfrm>
                <a:off x="559080" y="844560"/>
                <a:ext cx="66600" cy="27000"/>
                <a:chOff x="559080" y="844560"/>
                <a:chExt cx="66600" cy="27000"/>
              </a:xfrm>
            </p:grpSpPr>
            <p:grpSp>
              <p:nvGrpSpPr>
                <p:cNvPr id="2459" name=""/>
                <p:cNvGrpSpPr/>
                <p:nvPr/>
              </p:nvGrpSpPr>
              <p:grpSpPr>
                <a:xfrm>
                  <a:off x="559080" y="844560"/>
                  <a:ext cx="42840" cy="27000"/>
                  <a:chOff x="559080" y="844560"/>
                  <a:chExt cx="42840" cy="27000"/>
                </a:xfrm>
              </p:grpSpPr>
              <p:grpSp>
                <p:nvGrpSpPr>
                  <p:cNvPr id="2460" name=""/>
                  <p:cNvGrpSpPr/>
                  <p:nvPr/>
                </p:nvGrpSpPr>
                <p:grpSpPr>
                  <a:xfrm>
                    <a:off x="559080" y="844560"/>
                    <a:ext cx="30240" cy="27000"/>
                    <a:chOff x="559080" y="844560"/>
                    <a:chExt cx="30240" cy="27000"/>
                  </a:xfrm>
                </p:grpSpPr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5590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>
                      <a:off x="5659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3" name=""/>
                  <p:cNvGrpSpPr/>
                  <p:nvPr/>
                </p:nvGrpSpPr>
                <p:grpSpPr>
                  <a:xfrm>
                    <a:off x="571680" y="844560"/>
                    <a:ext cx="30240" cy="27000"/>
                    <a:chOff x="571680" y="844560"/>
                    <a:chExt cx="30240" cy="27000"/>
                  </a:xfrm>
                </p:grpSpPr>
                <p:sp>
                  <p:nvSpPr>
                    <p:cNvPr id="2464" name=""/>
                    <p:cNvSpPr/>
                    <p:nvPr/>
                  </p:nvSpPr>
                  <p:spPr>
                    <a:xfrm>
                      <a:off x="5716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5" name=""/>
                    <p:cNvSpPr/>
                    <p:nvPr/>
                  </p:nvSpPr>
                  <p:spPr>
                    <a:xfrm>
                      <a:off x="5785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6" name=""/>
                <p:cNvGrpSpPr/>
                <p:nvPr/>
              </p:nvGrpSpPr>
              <p:grpSpPr>
                <a:xfrm>
                  <a:off x="585720" y="844560"/>
                  <a:ext cx="39960" cy="27000"/>
                  <a:chOff x="585720" y="844560"/>
                  <a:chExt cx="39960" cy="27000"/>
                </a:xfrm>
              </p:grpSpPr>
              <p:grpSp>
                <p:nvGrpSpPr>
                  <p:cNvPr id="2467" name=""/>
                  <p:cNvGrpSpPr/>
                  <p:nvPr/>
                </p:nvGrpSpPr>
                <p:grpSpPr>
                  <a:xfrm>
                    <a:off x="585720" y="844560"/>
                    <a:ext cx="30240" cy="27000"/>
                    <a:chOff x="585720" y="844560"/>
                    <a:chExt cx="30240" cy="27000"/>
                  </a:xfrm>
                </p:grpSpPr>
                <p:sp>
                  <p:nvSpPr>
                    <p:cNvPr id="2468" name=""/>
                    <p:cNvSpPr/>
                    <p:nvPr/>
                  </p:nvSpPr>
                  <p:spPr>
                    <a:xfrm>
                      <a:off x="5857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5925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0" name=""/>
                  <p:cNvGrpSpPr/>
                  <p:nvPr/>
                </p:nvGrpSpPr>
                <p:grpSpPr>
                  <a:xfrm>
                    <a:off x="596520" y="844560"/>
                    <a:ext cx="29160" cy="27000"/>
                    <a:chOff x="596520" y="844560"/>
                    <a:chExt cx="29160" cy="27000"/>
                  </a:xfrm>
                </p:grpSpPr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5965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2" name=""/>
                    <p:cNvSpPr/>
                    <p:nvPr/>
                  </p:nvSpPr>
                  <p:spPr>
                    <a:xfrm>
                      <a:off x="6019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73" name=""/>
              <p:cNvGrpSpPr/>
              <p:nvPr/>
            </p:nvGrpSpPr>
            <p:grpSpPr>
              <a:xfrm>
                <a:off x="611280" y="844560"/>
                <a:ext cx="66960" cy="27000"/>
                <a:chOff x="611280" y="844560"/>
                <a:chExt cx="66960" cy="27000"/>
              </a:xfrm>
            </p:grpSpPr>
            <p:grpSp>
              <p:nvGrpSpPr>
                <p:cNvPr id="2474" name=""/>
                <p:cNvGrpSpPr/>
                <p:nvPr/>
              </p:nvGrpSpPr>
              <p:grpSpPr>
                <a:xfrm>
                  <a:off x="611280" y="844560"/>
                  <a:ext cx="41760" cy="27000"/>
                  <a:chOff x="611280" y="844560"/>
                  <a:chExt cx="41760" cy="27000"/>
                </a:xfrm>
              </p:grpSpPr>
              <p:grpSp>
                <p:nvGrpSpPr>
                  <p:cNvPr id="2475" name=""/>
                  <p:cNvGrpSpPr/>
                  <p:nvPr/>
                </p:nvGrpSpPr>
                <p:grpSpPr>
                  <a:xfrm>
                    <a:off x="611280" y="844560"/>
                    <a:ext cx="29160" cy="27000"/>
                    <a:chOff x="611280" y="844560"/>
                    <a:chExt cx="29160" cy="27000"/>
                  </a:xfrm>
                </p:grpSpPr>
                <p:sp>
                  <p:nvSpPr>
                    <p:cNvPr id="2476" name=""/>
                    <p:cNvSpPr/>
                    <p:nvPr/>
                  </p:nvSpPr>
                  <p:spPr>
                    <a:xfrm>
                      <a:off x="611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"/>
                    <p:cNvSpPr/>
                    <p:nvPr/>
                  </p:nvSpPr>
                  <p:spPr>
                    <a:xfrm>
                      <a:off x="6166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8" name=""/>
                  <p:cNvGrpSpPr/>
                  <p:nvPr/>
                </p:nvGrpSpPr>
                <p:grpSpPr>
                  <a:xfrm>
                    <a:off x="623880" y="844560"/>
                    <a:ext cx="29160" cy="27000"/>
                    <a:chOff x="623880" y="844560"/>
                    <a:chExt cx="29160" cy="27000"/>
                  </a:xfrm>
                </p:grpSpPr>
                <p:sp>
                  <p:nvSpPr>
                    <p:cNvPr id="2479" name=""/>
                    <p:cNvSpPr/>
                    <p:nvPr/>
                  </p:nvSpPr>
                  <p:spPr>
                    <a:xfrm>
                      <a:off x="6238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"/>
                    <p:cNvSpPr/>
                    <p:nvPr/>
                  </p:nvSpPr>
                  <p:spPr>
                    <a:xfrm>
                      <a:off x="629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636480" y="844560"/>
                  <a:ext cx="41760" cy="27000"/>
                  <a:chOff x="636480" y="844560"/>
                  <a:chExt cx="41760" cy="27000"/>
                </a:xfrm>
              </p:grpSpPr>
              <p:grpSp>
                <p:nvGrpSpPr>
                  <p:cNvPr id="2482" name=""/>
                  <p:cNvGrpSpPr/>
                  <p:nvPr/>
                </p:nvGrpSpPr>
                <p:grpSpPr>
                  <a:xfrm>
                    <a:off x="636480" y="844560"/>
                    <a:ext cx="27720" cy="27000"/>
                    <a:chOff x="636480" y="844560"/>
                    <a:chExt cx="27720" cy="27000"/>
                  </a:xfrm>
                </p:grpSpPr>
                <p:sp>
                  <p:nvSpPr>
                    <p:cNvPr id="2483" name=""/>
                    <p:cNvSpPr/>
                    <p:nvPr/>
                  </p:nvSpPr>
                  <p:spPr>
                    <a:xfrm>
                      <a:off x="6364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4" name=""/>
                    <p:cNvSpPr/>
                    <p:nvPr/>
                  </p:nvSpPr>
                  <p:spPr>
                    <a:xfrm>
                      <a:off x="6404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5" name=""/>
                  <p:cNvGrpSpPr/>
                  <p:nvPr/>
                </p:nvGrpSpPr>
                <p:grpSpPr>
                  <a:xfrm>
                    <a:off x="647640" y="844560"/>
                    <a:ext cx="30600" cy="27000"/>
                    <a:chOff x="647640" y="844560"/>
                    <a:chExt cx="30600" cy="27000"/>
                  </a:xfrm>
                </p:grpSpPr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6476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7" name=""/>
                    <p:cNvSpPr/>
                    <p:nvPr/>
                  </p:nvSpPr>
                  <p:spPr>
                    <a:xfrm>
                      <a:off x="6544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88" name=""/>
              <p:cNvGrpSpPr/>
              <p:nvPr/>
            </p:nvGrpSpPr>
            <p:grpSpPr>
              <a:xfrm>
                <a:off x="662040" y="844560"/>
                <a:ext cx="67680" cy="27000"/>
                <a:chOff x="662040" y="844560"/>
                <a:chExt cx="67680" cy="27000"/>
              </a:xfrm>
            </p:grpSpPr>
            <p:grpSp>
              <p:nvGrpSpPr>
                <p:cNvPr id="2489" name=""/>
                <p:cNvGrpSpPr/>
                <p:nvPr/>
              </p:nvGrpSpPr>
              <p:grpSpPr>
                <a:xfrm>
                  <a:off x="662040" y="844560"/>
                  <a:ext cx="38520" cy="27000"/>
                  <a:chOff x="662040" y="844560"/>
                  <a:chExt cx="38520" cy="27000"/>
                </a:xfrm>
              </p:grpSpPr>
              <p:grpSp>
                <p:nvGrpSpPr>
                  <p:cNvPr id="2490" name=""/>
                  <p:cNvGrpSpPr/>
                  <p:nvPr/>
                </p:nvGrpSpPr>
                <p:grpSpPr>
                  <a:xfrm>
                    <a:off x="662040" y="844560"/>
                    <a:ext cx="28800" cy="27000"/>
                    <a:chOff x="662040" y="844560"/>
                    <a:chExt cx="28800" cy="27000"/>
                  </a:xfrm>
                </p:grpSpPr>
                <p:sp>
                  <p:nvSpPr>
                    <p:cNvPr id="2491" name=""/>
                    <p:cNvSpPr/>
                    <p:nvPr/>
                  </p:nvSpPr>
                  <p:spPr>
                    <a:xfrm>
                      <a:off x="6620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>
                      <a:off x="6674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3" name=""/>
                  <p:cNvGrpSpPr/>
                  <p:nvPr/>
                </p:nvGrpSpPr>
                <p:grpSpPr>
                  <a:xfrm>
                    <a:off x="672840" y="844560"/>
                    <a:ext cx="27720" cy="27000"/>
                    <a:chOff x="672840" y="844560"/>
                    <a:chExt cx="27720" cy="27000"/>
                  </a:xfrm>
                </p:grpSpPr>
                <p:sp>
                  <p:nvSpPr>
                    <p:cNvPr id="2494" name=""/>
                    <p:cNvSpPr/>
                    <p:nvPr/>
                  </p:nvSpPr>
                  <p:spPr>
                    <a:xfrm>
                      <a:off x="6728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5" name=""/>
                    <p:cNvSpPr/>
                    <p:nvPr/>
                  </p:nvSpPr>
                  <p:spPr>
                    <a:xfrm>
                      <a:off x="677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96" name=""/>
                <p:cNvGrpSpPr/>
                <p:nvPr/>
              </p:nvGrpSpPr>
              <p:grpSpPr>
                <a:xfrm>
                  <a:off x="687240" y="844560"/>
                  <a:ext cx="42480" cy="27000"/>
                  <a:chOff x="687240" y="844560"/>
                  <a:chExt cx="42480" cy="27000"/>
                </a:xfrm>
              </p:grpSpPr>
              <p:grpSp>
                <p:nvGrpSpPr>
                  <p:cNvPr id="2497" name=""/>
                  <p:cNvGrpSpPr/>
                  <p:nvPr/>
                </p:nvGrpSpPr>
                <p:grpSpPr>
                  <a:xfrm>
                    <a:off x="687240" y="844560"/>
                    <a:ext cx="28800" cy="27000"/>
                    <a:chOff x="687240" y="844560"/>
                    <a:chExt cx="28800" cy="27000"/>
                  </a:xfrm>
                </p:grpSpPr>
                <p:sp>
                  <p:nvSpPr>
                    <p:cNvPr id="2498" name=""/>
                    <p:cNvSpPr/>
                    <p:nvPr/>
                  </p:nvSpPr>
                  <p:spPr>
                    <a:xfrm>
                      <a:off x="687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692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0" name=""/>
                  <p:cNvGrpSpPr/>
                  <p:nvPr/>
                </p:nvGrpSpPr>
                <p:grpSpPr>
                  <a:xfrm>
                    <a:off x="699480" y="844560"/>
                    <a:ext cx="30240" cy="27000"/>
                    <a:chOff x="699480" y="844560"/>
                    <a:chExt cx="30240" cy="27000"/>
                  </a:xfrm>
                </p:grpSpPr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6994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7063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03" name=""/>
              <p:cNvGrpSpPr/>
              <p:nvPr/>
            </p:nvGrpSpPr>
            <p:grpSpPr>
              <a:xfrm>
                <a:off x="714240" y="844560"/>
                <a:ext cx="65160" cy="27000"/>
                <a:chOff x="714240" y="844560"/>
                <a:chExt cx="65160" cy="27000"/>
              </a:xfrm>
            </p:grpSpPr>
            <p:grpSp>
              <p:nvGrpSpPr>
                <p:cNvPr id="2504" name=""/>
                <p:cNvGrpSpPr/>
                <p:nvPr/>
              </p:nvGrpSpPr>
              <p:grpSpPr>
                <a:xfrm>
                  <a:off x="714240" y="844560"/>
                  <a:ext cx="39960" cy="27000"/>
                  <a:chOff x="714240" y="844560"/>
                  <a:chExt cx="39960" cy="27000"/>
                </a:xfrm>
              </p:grpSpPr>
              <p:grpSp>
                <p:nvGrpSpPr>
                  <p:cNvPr id="2505" name=""/>
                  <p:cNvGrpSpPr/>
                  <p:nvPr/>
                </p:nvGrpSpPr>
                <p:grpSpPr>
                  <a:xfrm>
                    <a:off x="714240" y="844560"/>
                    <a:ext cx="26280" cy="27000"/>
                    <a:chOff x="714240" y="844560"/>
                    <a:chExt cx="26280" cy="27000"/>
                  </a:xfrm>
                </p:grpSpPr>
                <p:sp>
                  <p:nvSpPr>
                    <p:cNvPr id="2506" name=""/>
                    <p:cNvSpPr/>
                    <p:nvPr/>
                  </p:nvSpPr>
                  <p:spPr>
                    <a:xfrm>
                      <a:off x="714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7" name=""/>
                    <p:cNvSpPr/>
                    <p:nvPr/>
                  </p:nvSpPr>
                  <p:spPr>
                    <a:xfrm>
                      <a:off x="716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8" name=""/>
                  <p:cNvGrpSpPr/>
                  <p:nvPr/>
                </p:nvGrpSpPr>
                <p:grpSpPr>
                  <a:xfrm>
                    <a:off x="726840" y="844560"/>
                    <a:ext cx="27360" cy="27000"/>
                    <a:chOff x="726840" y="844560"/>
                    <a:chExt cx="27360" cy="27000"/>
                  </a:xfrm>
                </p:grpSpPr>
                <p:sp>
                  <p:nvSpPr>
                    <p:cNvPr id="2509" name=""/>
                    <p:cNvSpPr/>
                    <p:nvPr/>
                  </p:nvSpPr>
                  <p:spPr>
                    <a:xfrm>
                      <a:off x="7268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0" name=""/>
                    <p:cNvSpPr/>
                    <p:nvPr/>
                  </p:nvSpPr>
                  <p:spPr>
                    <a:xfrm>
                      <a:off x="7308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11" name=""/>
                <p:cNvGrpSpPr/>
                <p:nvPr/>
              </p:nvGrpSpPr>
              <p:grpSpPr>
                <a:xfrm>
                  <a:off x="739440" y="844560"/>
                  <a:ext cx="39960" cy="27000"/>
                  <a:chOff x="739440" y="844560"/>
                  <a:chExt cx="39960" cy="27000"/>
                </a:xfrm>
              </p:grpSpPr>
              <p:grpSp>
                <p:nvGrpSpPr>
                  <p:cNvPr id="2512" name=""/>
                  <p:cNvGrpSpPr/>
                  <p:nvPr/>
                </p:nvGrpSpPr>
                <p:grpSpPr>
                  <a:xfrm>
                    <a:off x="739440" y="844560"/>
                    <a:ext cx="27360" cy="27000"/>
                    <a:chOff x="739440" y="844560"/>
                    <a:chExt cx="27360" cy="27000"/>
                  </a:xfrm>
                </p:grpSpPr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7394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7434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750240" y="844560"/>
                    <a:ext cx="29160" cy="27000"/>
                    <a:chOff x="750240" y="844560"/>
                    <a:chExt cx="29160" cy="27000"/>
                  </a:xfrm>
                </p:grpSpPr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750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7556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18" name=""/>
              <p:cNvGrpSpPr/>
              <p:nvPr/>
            </p:nvGrpSpPr>
            <p:grpSpPr>
              <a:xfrm>
                <a:off x="763920" y="844560"/>
                <a:ext cx="67680" cy="27000"/>
                <a:chOff x="763920" y="844560"/>
                <a:chExt cx="67680" cy="27000"/>
              </a:xfrm>
            </p:grpSpPr>
            <p:grpSp>
              <p:nvGrpSpPr>
                <p:cNvPr id="2519" name=""/>
                <p:cNvGrpSpPr/>
                <p:nvPr/>
              </p:nvGrpSpPr>
              <p:grpSpPr>
                <a:xfrm>
                  <a:off x="763920" y="844560"/>
                  <a:ext cx="42480" cy="27000"/>
                  <a:chOff x="763920" y="844560"/>
                  <a:chExt cx="42480" cy="27000"/>
                </a:xfrm>
              </p:grpSpPr>
              <p:grpSp>
                <p:nvGrpSpPr>
                  <p:cNvPr id="2520" name=""/>
                  <p:cNvGrpSpPr/>
                  <p:nvPr/>
                </p:nvGrpSpPr>
                <p:grpSpPr>
                  <a:xfrm>
                    <a:off x="763920" y="844560"/>
                    <a:ext cx="28800" cy="27000"/>
                    <a:chOff x="763920" y="844560"/>
                    <a:chExt cx="28800" cy="27000"/>
                  </a:xfrm>
                </p:grpSpPr>
                <p:sp>
                  <p:nvSpPr>
                    <p:cNvPr id="2521" name=""/>
                    <p:cNvSpPr/>
                    <p:nvPr/>
                  </p:nvSpPr>
                  <p:spPr>
                    <a:xfrm>
                      <a:off x="7639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2" name=""/>
                    <p:cNvSpPr/>
                    <p:nvPr/>
                  </p:nvSpPr>
                  <p:spPr>
                    <a:xfrm>
                      <a:off x="768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3" name=""/>
                  <p:cNvGrpSpPr/>
                  <p:nvPr/>
                </p:nvGrpSpPr>
                <p:grpSpPr>
                  <a:xfrm>
                    <a:off x="776160" y="844560"/>
                    <a:ext cx="30240" cy="27000"/>
                    <a:chOff x="776160" y="844560"/>
                    <a:chExt cx="30240" cy="27000"/>
                  </a:xfrm>
                </p:grpSpPr>
                <p:sp>
                  <p:nvSpPr>
                    <p:cNvPr id="2524" name=""/>
                    <p:cNvSpPr/>
                    <p:nvPr/>
                  </p:nvSpPr>
                  <p:spPr>
                    <a:xfrm>
                      <a:off x="776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5" name=""/>
                    <p:cNvSpPr/>
                    <p:nvPr/>
                  </p:nvSpPr>
                  <p:spPr>
                    <a:xfrm>
                      <a:off x="783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6" name=""/>
                <p:cNvGrpSpPr/>
                <p:nvPr/>
              </p:nvGrpSpPr>
              <p:grpSpPr>
                <a:xfrm>
                  <a:off x="788760" y="844560"/>
                  <a:ext cx="42840" cy="27000"/>
                  <a:chOff x="788760" y="844560"/>
                  <a:chExt cx="42840" cy="27000"/>
                </a:xfrm>
              </p:grpSpPr>
              <p:grpSp>
                <p:nvGrpSpPr>
                  <p:cNvPr id="2527" name=""/>
                  <p:cNvGrpSpPr/>
                  <p:nvPr/>
                </p:nvGrpSpPr>
                <p:grpSpPr>
                  <a:xfrm>
                    <a:off x="788760" y="844560"/>
                    <a:ext cx="29160" cy="27000"/>
                    <a:chOff x="788760" y="844560"/>
                    <a:chExt cx="29160" cy="27000"/>
                  </a:xfrm>
                </p:grpSpPr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788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7941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0" name=""/>
                  <p:cNvGrpSpPr/>
                  <p:nvPr/>
                </p:nvGrpSpPr>
                <p:grpSpPr>
                  <a:xfrm>
                    <a:off x="801360" y="844560"/>
                    <a:ext cx="30240" cy="27000"/>
                    <a:chOff x="801360" y="844560"/>
                    <a:chExt cx="30240" cy="27000"/>
                  </a:xfrm>
                </p:grpSpPr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8013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2" name=""/>
                    <p:cNvSpPr/>
                    <p:nvPr/>
                  </p:nvSpPr>
                  <p:spPr>
                    <a:xfrm>
                      <a:off x="8082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533" name=""/>
              <p:cNvSpPr/>
              <p:nvPr/>
            </p:nvSpPr>
            <p:spPr>
              <a:xfrm>
                <a:off x="401040" y="79056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4" name=""/>
            <p:cNvSpPr/>
            <p:nvPr/>
          </p:nvSpPr>
          <p:spPr>
            <a:xfrm>
              <a:off x="605520" y="459000"/>
              <a:ext cx="2013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obile”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n the Roa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-25560" y="0"/>
              <a:ext cx="237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re-Of Addres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-142200" y="1066680"/>
            <a:ext cx="1487160" cy="3663720"/>
            <a:chOff x="-142200" y="1066680"/>
            <a:chExt cx="1487160" cy="3663720"/>
          </a:xfrm>
        </p:grpSpPr>
        <p:sp>
          <p:nvSpPr>
            <p:cNvPr id="2537" name=""/>
            <p:cNvSpPr/>
            <p:nvPr/>
          </p:nvSpPr>
          <p:spPr>
            <a:xfrm>
              <a:off x="-142200" y="3670200"/>
              <a:ext cx="14871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in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2920" y="1066680"/>
              <a:ext cx="0" cy="3663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ablishes Home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ves Hom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o Configures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s Binding Update to Home Ag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507960" y="914400"/>
            <a:ext cx="177840" cy="31240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4" name=""/>
          <p:cNvGrpSpPr/>
          <p:nvPr/>
        </p:nvGrpSpPr>
        <p:grpSpPr>
          <a:xfrm>
            <a:off x="260280" y="380880"/>
            <a:ext cx="681120" cy="584280"/>
            <a:chOff x="260280" y="380880"/>
            <a:chExt cx="681120" cy="584280"/>
          </a:xfrm>
        </p:grpSpPr>
        <p:sp>
          <p:nvSpPr>
            <p:cNvPr id="2545" name=""/>
            <p:cNvSpPr/>
            <p:nvPr/>
          </p:nvSpPr>
          <p:spPr>
            <a:xfrm>
              <a:off x="397080" y="73188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95640" y="68904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9960" y="72540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02840" y="74304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91760" y="74304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18120" y="74304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53840" y="74304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4960" y="75240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0720" y="77004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06880" y="77148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01120" y="75564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95800" y="79380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7" name=""/>
            <p:cNvGrpSpPr/>
            <p:nvPr/>
          </p:nvGrpSpPr>
          <p:grpSpPr>
            <a:xfrm>
              <a:off x="405720" y="793800"/>
              <a:ext cx="27720" cy="27000"/>
              <a:chOff x="405720" y="793800"/>
              <a:chExt cx="27720" cy="27000"/>
            </a:xfrm>
          </p:grpSpPr>
          <p:sp>
            <p:nvSpPr>
              <p:cNvPr id="2558" name=""/>
              <p:cNvSpPr/>
              <p:nvPr/>
            </p:nvSpPr>
            <p:spPr>
              <a:xfrm>
                <a:off x="4057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096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415080" y="793800"/>
              <a:ext cx="30600" cy="27000"/>
              <a:chOff x="415080" y="793800"/>
              <a:chExt cx="30600" cy="27000"/>
            </a:xfrm>
          </p:grpSpPr>
          <p:sp>
            <p:nvSpPr>
              <p:cNvPr id="2561" name=""/>
              <p:cNvSpPr/>
              <p:nvPr/>
            </p:nvSpPr>
            <p:spPr>
              <a:xfrm>
                <a:off x="4150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2280" y="7938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425160" y="793800"/>
              <a:ext cx="29160" cy="27000"/>
              <a:chOff x="425160" y="793800"/>
              <a:chExt cx="29160" cy="27000"/>
            </a:xfrm>
          </p:grpSpPr>
          <p:sp>
            <p:nvSpPr>
              <p:cNvPr id="2564" name=""/>
              <p:cNvSpPr/>
              <p:nvPr/>
            </p:nvSpPr>
            <p:spPr>
              <a:xfrm>
                <a:off x="4251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305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434880" y="793800"/>
              <a:ext cx="27720" cy="27000"/>
              <a:chOff x="434880" y="793800"/>
              <a:chExt cx="27720" cy="27000"/>
            </a:xfrm>
          </p:grpSpPr>
          <p:sp>
            <p:nvSpPr>
              <p:cNvPr id="2567" name=""/>
              <p:cNvSpPr/>
              <p:nvPr/>
            </p:nvSpPr>
            <p:spPr>
              <a:xfrm>
                <a:off x="4348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38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444960" y="793800"/>
              <a:ext cx="27720" cy="27000"/>
              <a:chOff x="444960" y="793800"/>
              <a:chExt cx="27720" cy="270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449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489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456120" y="793800"/>
              <a:ext cx="26280" cy="27000"/>
              <a:chOff x="456120" y="793800"/>
              <a:chExt cx="26280" cy="27000"/>
            </a:xfrm>
          </p:grpSpPr>
          <p:sp>
            <p:nvSpPr>
              <p:cNvPr id="2573" name=""/>
              <p:cNvSpPr/>
              <p:nvPr/>
            </p:nvSpPr>
            <p:spPr>
              <a:xfrm>
                <a:off x="4561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586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463320" y="793800"/>
              <a:ext cx="32040" cy="27000"/>
              <a:chOff x="463320" y="793800"/>
              <a:chExt cx="32040" cy="27000"/>
            </a:xfrm>
          </p:grpSpPr>
          <p:sp>
            <p:nvSpPr>
              <p:cNvPr id="2576" name=""/>
              <p:cNvSpPr/>
              <p:nvPr/>
            </p:nvSpPr>
            <p:spPr>
              <a:xfrm>
                <a:off x="4633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716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474840" y="793800"/>
              <a:ext cx="27720" cy="27000"/>
              <a:chOff x="474840" y="793800"/>
              <a:chExt cx="27720" cy="270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4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788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261720" y="93960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60280" y="85860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2960" y="86832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34800" y="86832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87000" y="86832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957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29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91920" y="86832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840" y="87480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63240" y="88884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2960" y="89856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5840" y="90792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84120" y="91764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25080" y="8935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22200" y="90324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16800" y="91116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22640" y="91764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39720" y="88740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48000" y="898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28200" y="90792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88960" y="91764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21000" y="91908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91920" y="89352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01640" y="90468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0308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89120" y="89352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83360" y="90468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89120" y="91116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8912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53920" y="90468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62200" y="91584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60440" y="67464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61880" y="69696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28120" y="65412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23720" y="38088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8920" y="40464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61880" y="41256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29720" y="64620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79040" y="74916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86240" y="76500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7880" y="758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7880" y="7761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405720" y="834840"/>
              <a:ext cx="67680" cy="27000"/>
              <a:chOff x="405720" y="834840"/>
              <a:chExt cx="67680" cy="27000"/>
            </a:xfrm>
          </p:grpSpPr>
          <p:grpSp>
            <p:nvGrpSpPr>
              <p:cNvPr id="2624" name=""/>
              <p:cNvGrpSpPr/>
              <p:nvPr/>
            </p:nvGrpSpPr>
            <p:grpSpPr>
              <a:xfrm>
                <a:off x="405720" y="834840"/>
                <a:ext cx="42480" cy="27000"/>
                <a:chOff x="405720" y="834840"/>
                <a:chExt cx="42480" cy="27000"/>
              </a:xfrm>
            </p:grpSpPr>
            <p:grpSp>
              <p:nvGrpSpPr>
                <p:cNvPr id="2625" name=""/>
                <p:cNvGrpSpPr/>
                <p:nvPr/>
              </p:nvGrpSpPr>
              <p:grpSpPr>
                <a:xfrm>
                  <a:off x="405720" y="834840"/>
                  <a:ext cx="28800" cy="27000"/>
                  <a:chOff x="405720" y="834840"/>
                  <a:chExt cx="28800" cy="2700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4057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10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8" name=""/>
                <p:cNvGrpSpPr/>
                <p:nvPr/>
              </p:nvGrpSpPr>
              <p:grpSpPr>
                <a:xfrm>
                  <a:off x="419400" y="834840"/>
                  <a:ext cx="28800" cy="27000"/>
                  <a:chOff x="419400" y="834840"/>
                  <a:chExt cx="28800" cy="27000"/>
                </a:xfrm>
              </p:grpSpPr>
              <p:sp>
                <p:nvSpPr>
                  <p:cNvPr id="2629" name=""/>
                  <p:cNvSpPr/>
                  <p:nvPr/>
                </p:nvSpPr>
                <p:spPr>
                  <a:xfrm>
                    <a:off x="4194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424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1" name=""/>
              <p:cNvGrpSpPr/>
              <p:nvPr/>
            </p:nvGrpSpPr>
            <p:grpSpPr>
              <a:xfrm>
                <a:off x="432000" y="834840"/>
                <a:ext cx="41400" cy="27000"/>
                <a:chOff x="432000" y="834840"/>
                <a:chExt cx="41400" cy="27000"/>
              </a:xfrm>
            </p:grpSpPr>
            <p:grpSp>
              <p:nvGrpSpPr>
                <p:cNvPr id="2632" name=""/>
                <p:cNvGrpSpPr/>
                <p:nvPr/>
              </p:nvGrpSpPr>
              <p:grpSpPr>
                <a:xfrm>
                  <a:off x="432000" y="834840"/>
                  <a:ext cx="28800" cy="27000"/>
                  <a:chOff x="432000" y="834840"/>
                  <a:chExt cx="28800" cy="2700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432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437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5" name=""/>
                <p:cNvGrpSpPr/>
                <p:nvPr/>
              </p:nvGrpSpPr>
              <p:grpSpPr>
                <a:xfrm>
                  <a:off x="444600" y="834840"/>
                  <a:ext cx="28800" cy="27000"/>
                  <a:chOff x="444600" y="834840"/>
                  <a:chExt cx="28800" cy="27000"/>
                </a:xfrm>
              </p:grpSpPr>
              <p:sp>
                <p:nvSpPr>
                  <p:cNvPr id="2636" name=""/>
                  <p:cNvSpPr/>
                  <p:nvPr/>
                </p:nvSpPr>
                <p:spPr>
                  <a:xfrm>
                    <a:off x="444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450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8" name=""/>
            <p:cNvGrpSpPr/>
            <p:nvPr/>
          </p:nvGrpSpPr>
          <p:grpSpPr>
            <a:xfrm>
              <a:off x="459000" y="834840"/>
              <a:ext cx="64800" cy="27000"/>
              <a:chOff x="459000" y="834840"/>
              <a:chExt cx="64800" cy="27000"/>
            </a:xfrm>
          </p:grpSpPr>
          <p:grpSp>
            <p:nvGrpSpPr>
              <p:cNvPr id="2639" name=""/>
              <p:cNvGrpSpPr/>
              <p:nvPr/>
            </p:nvGrpSpPr>
            <p:grpSpPr>
              <a:xfrm>
                <a:off x="459000" y="834840"/>
                <a:ext cx="39960" cy="27000"/>
                <a:chOff x="459000" y="834840"/>
                <a:chExt cx="39960" cy="270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459000" y="834840"/>
                  <a:ext cx="27360" cy="27000"/>
                  <a:chOff x="459000" y="834840"/>
                  <a:chExt cx="27360" cy="2700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459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629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3" name=""/>
                <p:cNvGrpSpPr/>
                <p:nvPr/>
              </p:nvGrpSpPr>
              <p:grpSpPr>
                <a:xfrm>
                  <a:off x="471600" y="834840"/>
                  <a:ext cx="27360" cy="27000"/>
                  <a:chOff x="471600" y="834840"/>
                  <a:chExt cx="27360" cy="27000"/>
                </a:xfrm>
              </p:grpSpPr>
              <p:sp>
                <p:nvSpPr>
                  <p:cNvPr id="2644" name=""/>
                  <p:cNvSpPr/>
                  <p:nvPr/>
                </p:nvSpPr>
                <p:spPr>
                  <a:xfrm>
                    <a:off x="471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475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6" name=""/>
              <p:cNvGrpSpPr/>
              <p:nvPr/>
            </p:nvGrpSpPr>
            <p:grpSpPr>
              <a:xfrm>
                <a:off x="481320" y="834840"/>
                <a:ext cx="42480" cy="27000"/>
                <a:chOff x="481320" y="834840"/>
                <a:chExt cx="42480" cy="27000"/>
              </a:xfrm>
            </p:grpSpPr>
            <p:grpSp>
              <p:nvGrpSpPr>
                <p:cNvPr id="2647" name=""/>
                <p:cNvGrpSpPr/>
                <p:nvPr/>
              </p:nvGrpSpPr>
              <p:grpSpPr>
                <a:xfrm>
                  <a:off x="481320" y="834840"/>
                  <a:ext cx="30240" cy="27000"/>
                  <a:chOff x="481320" y="834840"/>
                  <a:chExt cx="30240" cy="27000"/>
                </a:xfrm>
              </p:grpSpPr>
              <p:sp>
                <p:nvSpPr>
                  <p:cNvPr id="2648" name=""/>
                  <p:cNvSpPr/>
                  <p:nvPr/>
                </p:nvSpPr>
                <p:spPr>
                  <a:xfrm>
                    <a:off x="481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488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0" name=""/>
                <p:cNvGrpSpPr/>
                <p:nvPr/>
              </p:nvGrpSpPr>
              <p:grpSpPr>
                <a:xfrm>
                  <a:off x="495000" y="834840"/>
                  <a:ext cx="28800" cy="27000"/>
                  <a:chOff x="495000" y="834840"/>
                  <a:chExt cx="28800" cy="2700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4950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000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53" name=""/>
            <p:cNvGrpSpPr/>
            <p:nvPr/>
          </p:nvGrpSpPr>
          <p:grpSpPr>
            <a:xfrm>
              <a:off x="509760" y="834840"/>
              <a:ext cx="66960" cy="27000"/>
              <a:chOff x="509760" y="834840"/>
              <a:chExt cx="66960" cy="27000"/>
            </a:xfrm>
          </p:grpSpPr>
          <p:grpSp>
            <p:nvGrpSpPr>
              <p:cNvPr id="2654" name=""/>
              <p:cNvGrpSpPr/>
              <p:nvPr/>
            </p:nvGrpSpPr>
            <p:grpSpPr>
              <a:xfrm>
                <a:off x="509760" y="834840"/>
                <a:ext cx="39960" cy="27000"/>
                <a:chOff x="509760" y="834840"/>
                <a:chExt cx="39960" cy="27000"/>
              </a:xfrm>
            </p:grpSpPr>
            <p:grpSp>
              <p:nvGrpSpPr>
                <p:cNvPr id="2655" name=""/>
                <p:cNvGrpSpPr/>
                <p:nvPr/>
              </p:nvGrpSpPr>
              <p:grpSpPr>
                <a:xfrm>
                  <a:off x="509760" y="834840"/>
                  <a:ext cx="29160" cy="27000"/>
                  <a:chOff x="509760" y="834840"/>
                  <a:chExt cx="29160" cy="27000"/>
                </a:xfrm>
              </p:grpSpPr>
              <p:sp>
                <p:nvSpPr>
                  <p:cNvPr id="2656" name=""/>
                  <p:cNvSpPr/>
                  <p:nvPr/>
                </p:nvSpPr>
                <p:spPr>
                  <a:xfrm>
                    <a:off x="509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515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8" name=""/>
                <p:cNvGrpSpPr/>
                <p:nvPr/>
              </p:nvGrpSpPr>
              <p:grpSpPr>
                <a:xfrm>
                  <a:off x="520560" y="834840"/>
                  <a:ext cx="29160" cy="27000"/>
                  <a:chOff x="520560" y="834840"/>
                  <a:chExt cx="29160" cy="27000"/>
                </a:xfrm>
              </p:grpSpPr>
              <p:sp>
                <p:nvSpPr>
                  <p:cNvPr id="2659" name=""/>
                  <p:cNvSpPr/>
                  <p:nvPr/>
                </p:nvSpPr>
                <p:spPr>
                  <a:xfrm>
                    <a:off x="5205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525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1" name=""/>
              <p:cNvGrpSpPr/>
              <p:nvPr/>
            </p:nvGrpSpPr>
            <p:grpSpPr>
              <a:xfrm>
                <a:off x="534960" y="834840"/>
                <a:ext cx="41760" cy="27000"/>
                <a:chOff x="534960" y="834840"/>
                <a:chExt cx="41760" cy="27000"/>
              </a:xfrm>
            </p:grpSpPr>
            <p:grpSp>
              <p:nvGrpSpPr>
                <p:cNvPr id="2662" name=""/>
                <p:cNvGrpSpPr/>
                <p:nvPr/>
              </p:nvGrpSpPr>
              <p:grpSpPr>
                <a:xfrm>
                  <a:off x="534960" y="834840"/>
                  <a:ext cx="29160" cy="27000"/>
                  <a:chOff x="534960" y="834840"/>
                  <a:chExt cx="29160" cy="27000"/>
                </a:xfrm>
              </p:grpSpPr>
              <p:sp>
                <p:nvSpPr>
                  <p:cNvPr id="2663" name=""/>
                  <p:cNvSpPr/>
                  <p:nvPr/>
                </p:nvSpPr>
                <p:spPr>
                  <a:xfrm>
                    <a:off x="534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5403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5" name=""/>
                <p:cNvGrpSpPr/>
                <p:nvPr/>
              </p:nvGrpSpPr>
              <p:grpSpPr>
                <a:xfrm>
                  <a:off x="546120" y="834840"/>
                  <a:ext cx="30600" cy="27000"/>
                  <a:chOff x="546120" y="834840"/>
                  <a:chExt cx="30600" cy="27000"/>
                </a:xfrm>
              </p:grpSpPr>
              <p:sp>
                <p:nvSpPr>
                  <p:cNvPr id="2666" name=""/>
                  <p:cNvSpPr/>
                  <p:nvPr/>
                </p:nvSpPr>
                <p:spPr>
                  <a:xfrm>
                    <a:off x="5461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552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68" name=""/>
            <p:cNvGrpSpPr/>
            <p:nvPr/>
          </p:nvGrpSpPr>
          <p:grpSpPr>
            <a:xfrm>
              <a:off x="559080" y="834840"/>
              <a:ext cx="66600" cy="27000"/>
              <a:chOff x="559080" y="834840"/>
              <a:chExt cx="66600" cy="27000"/>
            </a:xfrm>
          </p:grpSpPr>
          <p:grpSp>
            <p:nvGrpSpPr>
              <p:cNvPr id="2669" name=""/>
              <p:cNvGrpSpPr/>
              <p:nvPr/>
            </p:nvGrpSpPr>
            <p:grpSpPr>
              <a:xfrm>
                <a:off x="559080" y="834840"/>
                <a:ext cx="42840" cy="27000"/>
                <a:chOff x="559080" y="834840"/>
                <a:chExt cx="42840" cy="27000"/>
              </a:xfrm>
            </p:grpSpPr>
            <p:grpSp>
              <p:nvGrpSpPr>
                <p:cNvPr id="2670" name=""/>
                <p:cNvGrpSpPr/>
                <p:nvPr/>
              </p:nvGrpSpPr>
              <p:grpSpPr>
                <a:xfrm>
                  <a:off x="559080" y="834840"/>
                  <a:ext cx="30240" cy="27000"/>
                  <a:chOff x="559080" y="834840"/>
                  <a:chExt cx="30240" cy="27000"/>
                </a:xfrm>
              </p:grpSpPr>
              <p:sp>
                <p:nvSpPr>
                  <p:cNvPr id="2671" name=""/>
                  <p:cNvSpPr/>
                  <p:nvPr/>
                </p:nvSpPr>
                <p:spPr>
                  <a:xfrm>
                    <a:off x="5590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5659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3" name=""/>
                <p:cNvGrpSpPr/>
                <p:nvPr/>
              </p:nvGrpSpPr>
              <p:grpSpPr>
                <a:xfrm>
                  <a:off x="571680" y="834840"/>
                  <a:ext cx="30240" cy="27000"/>
                  <a:chOff x="571680" y="834840"/>
                  <a:chExt cx="30240" cy="27000"/>
                </a:xfrm>
              </p:grpSpPr>
              <p:sp>
                <p:nvSpPr>
                  <p:cNvPr id="2674" name=""/>
                  <p:cNvSpPr/>
                  <p:nvPr/>
                </p:nvSpPr>
                <p:spPr>
                  <a:xfrm>
                    <a:off x="5716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5785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6" name=""/>
              <p:cNvGrpSpPr/>
              <p:nvPr/>
            </p:nvGrpSpPr>
            <p:grpSpPr>
              <a:xfrm>
                <a:off x="585720" y="834840"/>
                <a:ext cx="39960" cy="27000"/>
                <a:chOff x="585720" y="834840"/>
                <a:chExt cx="39960" cy="27000"/>
              </a:xfrm>
            </p:grpSpPr>
            <p:grpSp>
              <p:nvGrpSpPr>
                <p:cNvPr id="2677" name=""/>
                <p:cNvGrpSpPr/>
                <p:nvPr/>
              </p:nvGrpSpPr>
              <p:grpSpPr>
                <a:xfrm>
                  <a:off x="585720" y="834840"/>
                  <a:ext cx="30240" cy="27000"/>
                  <a:chOff x="585720" y="834840"/>
                  <a:chExt cx="30240" cy="2700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>
                    <a:off x="5857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592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0" name=""/>
                <p:cNvGrpSpPr/>
                <p:nvPr/>
              </p:nvGrpSpPr>
              <p:grpSpPr>
                <a:xfrm>
                  <a:off x="596520" y="834840"/>
                  <a:ext cx="29160" cy="27000"/>
                  <a:chOff x="596520" y="834840"/>
                  <a:chExt cx="29160" cy="27000"/>
                </a:xfrm>
              </p:grpSpPr>
              <p:sp>
                <p:nvSpPr>
                  <p:cNvPr id="2681" name=""/>
                  <p:cNvSpPr/>
                  <p:nvPr/>
                </p:nvSpPr>
                <p:spPr>
                  <a:xfrm>
                    <a:off x="5965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601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83" name=""/>
            <p:cNvGrpSpPr/>
            <p:nvPr/>
          </p:nvGrpSpPr>
          <p:grpSpPr>
            <a:xfrm>
              <a:off x="611280" y="834840"/>
              <a:ext cx="66960" cy="27000"/>
              <a:chOff x="611280" y="834840"/>
              <a:chExt cx="66960" cy="27000"/>
            </a:xfrm>
          </p:grpSpPr>
          <p:grpSp>
            <p:nvGrpSpPr>
              <p:cNvPr id="2684" name=""/>
              <p:cNvGrpSpPr/>
              <p:nvPr/>
            </p:nvGrpSpPr>
            <p:grpSpPr>
              <a:xfrm>
                <a:off x="611280" y="834840"/>
                <a:ext cx="41760" cy="27000"/>
                <a:chOff x="611280" y="834840"/>
                <a:chExt cx="41760" cy="27000"/>
              </a:xfrm>
            </p:grpSpPr>
            <p:grpSp>
              <p:nvGrpSpPr>
                <p:cNvPr id="2685" name=""/>
                <p:cNvGrpSpPr/>
                <p:nvPr/>
              </p:nvGrpSpPr>
              <p:grpSpPr>
                <a:xfrm>
                  <a:off x="611280" y="834840"/>
                  <a:ext cx="29160" cy="27000"/>
                  <a:chOff x="611280" y="834840"/>
                  <a:chExt cx="29160" cy="2700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611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6166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8" name=""/>
                <p:cNvGrpSpPr/>
                <p:nvPr/>
              </p:nvGrpSpPr>
              <p:grpSpPr>
                <a:xfrm>
                  <a:off x="623880" y="834840"/>
                  <a:ext cx="29160" cy="27000"/>
                  <a:chOff x="623880" y="834840"/>
                  <a:chExt cx="29160" cy="2700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>
                    <a:off x="6238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629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1" name=""/>
              <p:cNvGrpSpPr/>
              <p:nvPr/>
            </p:nvGrpSpPr>
            <p:grpSpPr>
              <a:xfrm>
                <a:off x="636480" y="834840"/>
                <a:ext cx="41760" cy="27000"/>
                <a:chOff x="636480" y="834840"/>
                <a:chExt cx="41760" cy="27000"/>
              </a:xfrm>
            </p:grpSpPr>
            <p:grpSp>
              <p:nvGrpSpPr>
                <p:cNvPr id="2692" name=""/>
                <p:cNvGrpSpPr/>
                <p:nvPr/>
              </p:nvGrpSpPr>
              <p:grpSpPr>
                <a:xfrm>
                  <a:off x="636480" y="834840"/>
                  <a:ext cx="27720" cy="27000"/>
                  <a:chOff x="636480" y="834840"/>
                  <a:chExt cx="27720" cy="27000"/>
                </a:xfrm>
              </p:grpSpPr>
              <p:sp>
                <p:nvSpPr>
                  <p:cNvPr id="2693" name=""/>
                  <p:cNvSpPr/>
                  <p:nvPr/>
                </p:nvSpPr>
                <p:spPr>
                  <a:xfrm>
                    <a:off x="636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640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5" name=""/>
                <p:cNvGrpSpPr/>
                <p:nvPr/>
              </p:nvGrpSpPr>
              <p:grpSpPr>
                <a:xfrm>
                  <a:off x="647640" y="834840"/>
                  <a:ext cx="30600" cy="27000"/>
                  <a:chOff x="647640" y="834840"/>
                  <a:chExt cx="30600" cy="2700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647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654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98" name=""/>
            <p:cNvGrpSpPr/>
            <p:nvPr/>
          </p:nvGrpSpPr>
          <p:grpSpPr>
            <a:xfrm>
              <a:off x="662040" y="834840"/>
              <a:ext cx="67680" cy="27000"/>
              <a:chOff x="662040" y="834840"/>
              <a:chExt cx="67680" cy="27000"/>
            </a:xfrm>
          </p:grpSpPr>
          <p:grpSp>
            <p:nvGrpSpPr>
              <p:cNvPr id="2699" name=""/>
              <p:cNvGrpSpPr/>
              <p:nvPr/>
            </p:nvGrpSpPr>
            <p:grpSpPr>
              <a:xfrm>
                <a:off x="662040" y="834840"/>
                <a:ext cx="38520" cy="27000"/>
                <a:chOff x="662040" y="834840"/>
                <a:chExt cx="38520" cy="27000"/>
              </a:xfrm>
            </p:grpSpPr>
            <p:grpSp>
              <p:nvGrpSpPr>
                <p:cNvPr id="2700" name=""/>
                <p:cNvGrpSpPr/>
                <p:nvPr/>
              </p:nvGrpSpPr>
              <p:grpSpPr>
                <a:xfrm>
                  <a:off x="662040" y="834840"/>
                  <a:ext cx="28800" cy="27000"/>
                  <a:chOff x="662040" y="834840"/>
                  <a:chExt cx="28800" cy="2700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>
                    <a:off x="6620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667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3" name=""/>
                <p:cNvGrpSpPr/>
                <p:nvPr/>
              </p:nvGrpSpPr>
              <p:grpSpPr>
                <a:xfrm>
                  <a:off x="672840" y="834840"/>
                  <a:ext cx="27720" cy="27000"/>
                  <a:chOff x="672840" y="834840"/>
                  <a:chExt cx="27720" cy="27000"/>
                </a:xfrm>
              </p:grpSpPr>
              <p:sp>
                <p:nvSpPr>
                  <p:cNvPr id="2704" name=""/>
                  <p:cNvSpPr/>
                  <p:nvPr/>
                </p:nvSpPr>
                <p:spPr>
                  <a:xfrm>
                    <a:off x="672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677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6" name=""/>
              <p:cNvGrpSpPr/>
              <p:nvPr/>
            </p:nvGrpSpPr>
            <p:grpSpPr>
              <a:xfrm>
                <a:off x="687240" y="834840"/>
                <a:ext cx="42480" cy="27000"/>
                <a:chOff x="687240" y="834840"/>
                <a:chExt cx="42480" cy="27000"/>
              </a:xfrm>
            </p:grpSpPr>
            <p:grpSp>
              <p:nvGrpSpPr>
                <p:cNvPr id="2707" name=""/>
                <p:cNvGrpSpPr/>
                <p:nvPr/>
              </p:nvGrpSpPr>
              <p:grpSpPr>
                <a:xfrm>
                  <a:off x="687240" y="834840"/>
                  <a:ext cx="28800" cy="27000"/>
                  <a:chOff x="687240" y="834840"/>
                  <a:chExt cx="28800" cy="27000"/>
                </a:xfrm>
              </p:grpSpPr>
              <p:sp>
                <p:nvSpPr>
                  <p:cNvPr id="2708" name=""/>
                  <p:cNvSpPr/>
                  <p:nvPr/>
                </p:nvSpPr>
                <p:spPr>
                  <a:xfrm>
                    <a:off x="687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692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0" name=""/>
                <p:cNvGrpSpPr/>
                <p:nvPr/>
              </p:nvGrpSpPr>
              <p:grpSpPr>
                <a:xfrm>
                  <a:off x="699480" y="834840"/>
                  <a:ext cx="30240" cy="27000"/>
                  <a:chOff x="699480" y="834840"/>
                  <a:chExt cx="30240" cy="2700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6994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706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13" name=""/>
            <p:cNvGrpSpPr/>
            <p:nvPr/>
          </p:nvGrpSpPr>
          <p:grpSpPr>
            <a:xfrm>
              <a:off x="714240" y="834840"/>
              <a:ext cx="65160" cy="27000"/>
              <a:chOff x="714240" y="834840"/>
              <a:chExt cx="65160" cy="27000"/>
            </a:xfrm>
          </p:grpSpPr>
          <p:grpSp>
            <p:nvGrpSpPr>
              <p:cNvPr id="2714" name=""/>
              <p:cNvGrpSpPr/>
              <p:nvPr/>
            </p:nvGrpSpPr>
            <p:grpSpPr>
              <a:xfrm>
                <a:off x="714240" y="834840"/>
                <a:ext cx="39960" cy="27000"/>
                <a:chOff x="714240" y="834840"/>
                <a:chExt cx="39960" cy="27000"/>
              </a:xfrm>
            </p:grpSpPr>
            <p:grpSp>
              <p:nvGrpSpPr>
                <p:cNvPr id="2715" name=""/>
                <p:cNvGrpSpPr/>
                <p:nvPr/>
              </p:nvGrpSpPr>
              <p:grpSpPr>
                <a:xfrm>
                  <a:off x="714240" y="834840"/>
                  <a:ext cx="26280" cy="27000"/>
                  <a:chOff x="714240" y="834840"/>
                  <a:chExt cx="26280" cy="27000"/>
                </a:xfrm>
              </p:grpSpPr>
              <p:sp>
                <p:nvSpPr>
                  <p:cNvPr id="2716" name=""/>
                  <p:cNvSpPr/>
                  <p:nvPr/>
                </p:nvSpPr>
                <p:spPr>
                  <a:xfrm>
                    <a:off x="714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716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8" name=""/>
                <p:cNvGrpSpPr/>
                <p:nvPr/>
              </p:nvGrpSpPr>
              <p:grpSpPr>
                <a:xfrm>
                  <a:off x="726840" y="834840"/>
                  <a:ext cx="27360" cy="27000"/>
                  <a:chOff x="726840" y="834840"/>
                  <a:chExt cx="27360" cy="27000"/>
                </a:xfrm>
              </p:grpSpPr>
              <p:sp>
                <p:nvSpPr>
                  <p:cNvPr id="2719" name=""/>
                  <p:cNvSpPr/>
                  <p:nvPr/>
                </p:nvSpPr>
                <p:spPr>
                  <a:xfrm>
                    <a:off x="726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7308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1" name=""/>
              <p:cNvGrpSpPr/>
              <p:nvPr/>
            </p:nvGrpSpPr>
            <p:grpSpPr>
              <a:xfrm>
                <a:off x="739440" y="834840"/>
                <a:ext cx="39960" cy="27000"/>
                <a:chOff x="739440" y="834840"/>
                <a:chExt cx="39960" cy="27000"/>
              </a:xfrm>
            </p:grpSpPr>
            <p:grpSp>
              <p:nvGrpSpPr>
                <p:cNvPr id="2722" name=""/>
                <p:cNvGrpSpPr/>
                <p:nvPr/>
              </p:nvGrpSpPr>
              <p:grpSpPr>
                <a:xfrm>
                  <a:off x="739440" y="834840"/>
                  <a:ext cx="27360" cy="27000"/>
                  <a:chOff x="739440" y="834840"/>
                  <a:chExt cx="27360" cy="2700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739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743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5" name=""/>
                <p:cNvGrpSpPr/>
                <p:nvPr/>
              </p:nvGrpSpPr>
              <p:grpSpPr>
                <a:xfrm>
                  <a:off x="750240" y="834840"/>
                  <a:ext cx="29160" cy="27000"/>
                  <a:chOff x="750240" y="834840"/>
                  <a:chExt cx="29160" cy="2700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>
                    <a:off x="750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755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28" name=""/>
            <p:cNvGrpSpPr/>
            <p:nvPr/>
          </p:nvGrpSpPr>
          <p:grpSpPr>
            <a:xfrm>
              <a:off x="763920" y="834840"/>
              <a:ext cx="67680" cy="27000"/>
              <a:chOff x="763920" y="834840"/>
              <a:chExt cx="67680" cy="2700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763920" y="834840"/>
                <a:ext cx="42480" cy="27000"/>
                <a:chOff x="763920" y="834840"/>
                <a:chExt cx="42480" cy="27000"/>
              </a:xfrm>
            </p:grpSpPr>
            <p:grpSp>
              <p:nvGrpSpPr>
                <p:cNvPr id="2730" name=""/>
                <p:cNvGrpSpPr/>
                <p:nvPr/>
              </p:nvGrpSpPr>
              <p:grpSpPr>
                <a:xfrm>
                  <a:off x="763920" y="834840"/>
                  <a:ext cx="28800" cy="27000"/>
                  <a:chOff x="763920" y="834840"/>
                  <a:chExt cx="28800" cy="27000"/>
                </a:xfrm>
              </p:grpSpPr>
              <p:sp>
                <p:nvSpPr>
                  <p:cNvPr id="2731" name=""/>
                  <p:cNvSpPr/>
                  <p:nvPr/>
                </p:nvSpPr>
                <p:spPr>
                  <a:xfrm>
                    <a:off x="763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768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3" name=""/>
                <p:cNvGrpSpPr/>
                <p:nvPr/>
              </p:nvGrpSpPr>
              <p:grpSpPr>
                <a:xfrm>
                  <a:off x="776160" y="834840"/>
                  <a:ext cx="30240" cy="27000"/>
                  <a:chOff x="776160" y="834840"/>
                  <a:chExt cx="30240" cy="27000"/>
                </a:xfrm>
              </p:grpSpPr>
              <p:sp>
                <p:nvSpPr>
                  <p:cNvPr id="2734" name=""/>
                  <p:cNvSpPr/>
                  <p:nvPr/>
                </p:nvSpPr>
                <p:spPr>
                  <a:xfrm>
                    <a:off x="776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783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6" name=""/>
              <p:cNvGrpSpPr/>
              <p:nvPr/>
            </p:nvGrpSpPr>
            <p:grpSpPr>
              <a:xfrm>
                <a:off x="788760" y="834840"/>
                <a:ext cx="42840" cy="27000"/>
                <a:chOff x="788760" y="834840"/>
                <a:chExt cx="42840" cy="27000"/>
              </a:xfrm>
            </p:grpSpPr>
            <p:grpSp>
              <p:nvGrpSpPr>
                <p:cNvPr id="2737" name=""/>
                <p:cNvGrpSpPr/>
                <p:nvPr/>
              </p:nvGrpSpPr>
              <p:grpSpPr>
                <a:xfrm>
                  <a:off x="788760" y="834840"/>
                  <a:ext cx="29160" cy="27000"/>
                  <a:chOff x="788760" y="834840"/>
                  <a:chExt cx="29160" cy="2700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>
                    <a:off x="788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794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0" name=""/>
                <p:cNvGrpSpPr/>
                <p:nvPr/>
              </p:nvGrpSpPr>
              <p:grpSpPr>
                <a:xfrm>
                  <a:off x="801360" y="834840"/>
                  <a:ext cx="30240" cy="27000"/>
                  <a:chOff x="801360" y="834840"/>
                  <a:chExt cx="30240" cy="27000"/>
                </a:xfrm>
              </p:grpSpPr>
              <p:sp>
                <p:nvSpPr>
                  <p:cNvPr id="2741" name=""/>
                  <p:cNvSpPr/>
                  <p:nvPr/>
                </p:nvSpPr>
                <p:spPr>
                  <a:xfrm>
                    <a:off x="8013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8082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3" name=""/>
            <p:cNvSpPr/>
            <p:nvPr/>
          </p:nvSpPr>
          <p:spPr>
            <a:xfrm>
              <a:off x="401040" y="78084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2745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7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2758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2761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2764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2767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9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2770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2773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2776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8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2779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3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2825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2826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8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1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2832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5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2836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38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2839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2840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2841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3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2844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6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2847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53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2854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2855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2856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1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2862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5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2866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68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2869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2870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2871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3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6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2877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2878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83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2884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2885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8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2889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1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2892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98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2899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2900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3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2904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6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2907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2908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0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13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2914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2915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2916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8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1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2922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2923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5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2926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28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2929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2930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2931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3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2934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6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2937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2938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0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2941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43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44" name="" descr=""/>
          <p:cNvPicPr/>
          <p:nvPr/>
        </p:nvPicPr>
        <p:blipFill>
          <a:blip r:embed="rId3"/>
          <a:stretch/>
        </p:blipFill>
        <p:spPr>
          <a:xfrm>
            <a:off x="793800" y="460224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2945" name=""/>
          <p:cNvSpPr/>
          <p:nvPr/>
        </p:nvSpPr>
        <p:spPr>
          <a:xfrm>
            <a:off x="605880" y="44928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556080" y="5181480"/>
            <a:ext cx="3995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084920" y="5303880"/>
            <a:ext cx="278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rm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089080" y="4749840"/>
            <a:ext cx="835200" cy="63504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14440" y="3892680"/>
            <a:ext cx="207720" cy="23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360800" y="4351320"/>
            <a:ext cx="221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ddres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-25200" y="76320"/>
            <a:ext cx="237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e-Of Addres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s Sent to Home Address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ivered to Home Network Using standard IP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cepted by Home Ag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capsulated, delivered via tunnel to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2958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2971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2974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2977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2980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2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2983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2986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2989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1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2992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6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3037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3038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3039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1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3042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4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3045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3046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51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3052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3053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3054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6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3057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9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3060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3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3064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66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3067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3068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3069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1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3072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4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3075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3076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8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3079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81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3082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3083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3084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6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3087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9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3090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3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3094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96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3097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3098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3099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1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3102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4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3105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3106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8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3109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11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3112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3113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6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9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3120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3121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3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3124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6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3127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3128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3129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1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3132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4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3135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3136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8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3139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41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3142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3143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3144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6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3147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9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3150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3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3154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56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7" name="" descr=""/>
          <p:cNvPicPr/>
          <p:nvPr/>
        </p:nvPicPr>
        <p:blipFill>
          <a:blip r:embed="rId2"/>
          <a:stretch/>
        </p:blipFill>
        <p:spPr>
          <a:xfrm>
            <a:off x="793800" y="460224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3158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-3290400" y="914400"/>
            <a:ext cx="12087360" cy="7238520"/>
            <a:chOff x="-3290400" y="914400"/>
            <a:chExt cx="12087360" cy="7238520"/>
          </a:xfrm>
        </p:grpSpPr>
        <p:sp>
          <p:nvSpPr>
            <p:cNvPr id="3162" name=""/>
            <p:cNvSpPr/>
            <p:nvPr/>
          </p:nvSpPr>
          <p:spPr>
            <a:xfrm>
              <a:off x="-3290400" y="914400"/>
              <a:ext cx="11412360" cy="72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0851" swAng="5400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0851" swAng="5400851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309800" y="2566080"/>
              <a:ext cx="14871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in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-3265560" y="1219320"/>
            <a:ext cx="11490120" cy="7036200"/>
            <a:chOff x="-3265560" y="1219320"/>
            <a:chExt cx="11490120" cy="7036200"/>
          </a:xfrm>
        </p:grpSpPr>
        <p:sp>
          <p:nvSpPr>
            <p:cNvPr id="3165" name=""/>
            <p:cNvSpPr/>
            <p:nvPr/>
          </p:nvSpPr>
          <p:spPr>
            <a:xfrm>
              <a:off x="-3265560" y="1219320"/>
              <a:ext cx="11204280" cy="70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0866" swAng="54008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0866" swAng="5400866"/>
                </a:path>
              </a:pathLst>
            </a:custGeom>
            <a:noFill/>
            <a:ln cap="rnd" w="25560">
              <a:solidFill>
                <a:srgbClr val="01a4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548680" y="4239360"/>
              <a:ext cx="2675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a4ff"/>
                  </a:solidFill>
                  <a:latin typeface="Arial"/>
                </a:rPr>
                <a:t>Direct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a4ff"/>
                  </a:solidFill>
                  <a:latin typeface="Arial"/>
                </a:rPr>
                <a:t>to “Care of”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s Binding Update to all Correspond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ckets may be sent direct to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Routing Header (Intermediate Routing Po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507960" y="914400"/>
            <a:ext cx="177840" cy="31240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0" name=""/>
          <p:cNvGrpSpPr/>
          <p:nvPr/>
        </p:nvGrpSpPr>
        <p:grpSpPr>
          <a:xfrm>
            <a:off x="260280" y="380880"/>
            <a:ext cx="681120" cy="584280"/>
            <a:chOff x="260280" y="380880"/>
            <a:chExt cx="681120" cy="584280"/>
          </a:xfrm>
        </p:grpSpPr>
        <p:sp>
          <p:nvSpPr>
            <p:cNvPr id="3171" name=""/>
            <p:cNvSpPr/>
            <p:nvPr/>
          </p:nvSpPr>
          <p:spPr>
            <a:xfrm>
              <a:off x="397080" y="73188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95640" y="68904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99960" y="72540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02840" y="74304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91760" y="74304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18120" y="74304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3840" y="74304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34960" y="75240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40720" y="77004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880" y="77148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1120" y="75564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95800" y="79380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3" name=""/>
            <p:cNvGrpSpPr/>
            <p:nvPr/>
          </p:nvGrpSpPr>
          <p:grpSpPr>
            <a:xfrm>
              <a:off x="405720" y="793800"/>
              <a:ext cx="27720" cy="27000"/>
              <a:chOff x="405720" y="793800"/>
              <a:chExt cx="27720" cy="27000"/>
            </a:xfrm>
          </p:grpSpPr>
          <p:sp>
            <p:nvSpPr>
              <p:cNvPr id="3184" name=""/>
              <p:cNvSpPr/>
              <p:nvPr/>
            </p:nvSpPr>
            <p:spPr>
              <a:xfrm>
                <a:off x="4057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6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415080" y="793800"/>
              <a:ext cx="30600" cy="27000"/>
              <a:chOff x="415080" y="793800"/>
              <a:chExt cx="30600" cy="27000"/>
            </a:xfrm>
          </p:grpSpPr>
          <p:sp>
            <p:nvSpPr>
              <p:cNvPr id="3187" name=""/>
              <p:cNvSpPr/>
              <p:nvPr/>
            </p:nvSpPr>
            <p:spPr>
              <a:xfrm>
                <a:off x="4150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22280" y="7938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9" name=""/>
            <p:cNvGrpSpPr/>
            <p:nvPr/>
          </p:nvGrpSpPr>
          <p:grpSpPr>
            <a:xfrm>
              <a:off x="425160" y="793800"/>
              <a:ext cx="29160" cy="27000"/>
              <a:chOff x="425160" y="793800"/>
              <a:chExt cx="29160" cy="27000"/>
            </a:xfrm>
          </p:grpSpPr>
          <p:sp>
            <p:nvSpPr>
              <p:cNvPr id="3190" name=""/>
              <p:cNvSpPr/>
              <p:nvPr/>
            </p:nvSpPr>
            <p:spPr>
              <a:xfrm>
                <a:off x="4251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305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434880" y="793800"/>
              <a:ext cx="27720" cy="27000"/>
              <a:chOff x="434880" y="793800"/>
              <a:chExt cx="27720" cy="27000"/>
            </a:xfrm>
          </p:grpSpPr>
          <p:sp>
            <p:nvSpPr>
              <p:cNvPr id="3193" name=""/>
              <p:cNvSpPr/>
              <p:nvPr/>
            </p:nvSpPr>
            <p:spPr>
              <a:xfrm>
                <a:off x="4348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38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5" name=""/>
            <p:cNvGrpSpPr/>
            <p:nvPr/>
          </p:nvGrpSpPr>
          <p:grpSpPr>
            <a:xfrm>
              <a:off x="444960" y="793800"/>
              <a:ext cx="27720" cy="27000"/>
              <a:chOff x="444960" y="793800"/>
              <a:chExt cx="27720" cy="27000"/>
            </a:xfrm>
          </p:grpSpPr>
          <p:sp>
            <p:nvSpPr>
              <p:cNvPr id="3196" name=""/>
              <p:cNvSpPr/>
              <p:nvPr/>
            </p:nvSpPr>
            <p:spPr>
              <a:xfrm>
                <a:off x="4449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489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8" name=""/>
            <p:cNvGrpSpPr/>
            <p:nvPr/>
          </p:nvGrpSpPr>
          <p:grpSpPr>
            <a:xfrm>
              <a:off x="456120" y="793800"/>
              <a:ext cx="26280" cy="27000"/>
              <a:chOff x="456120" y="793800"/>
              <a:chExt cx="26280" cy="27000"/>
            </a:xfrm>
          </p:grpSpPr>
          <p:sp>
            <p:nvSpPr>
              <p:cNvPr id="3199" name=""/>
              <p:cNvSpPr/>
              <p:nvPr/>
            </p:nvSpPr>
            <p:spPr>
              <a:xfrm>
                <a:off x="4561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586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1" name=""/>
            <p:cNvGrpSpPr/>
            <p:nvPr/>
          </p:nvGrpSpPr>
          <p:grpSpPr>
            <a:xfrm>
              <a:off x="463320" y="793800"/>
              <a:ext cx="32040" cy="27000"/>
              <a:chOff x="463320" y="793800"/>
              <a:chExt cx="32040" cy="270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33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716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474840" y="793800"/>
              <a:ext cx="27720" cy="27000"/>
              <a:chOff x="474840" y="793800"/>
              <a:chExt cx="27720" cy="27000"/>
            </a:xfrm>
          </p:grpSpPr>
          <p:sp>
            <p:nvSpPr>
              <p:cNvPr id="3205" name=""/>
              <p:cNvSpPr/>
              <p:nvPr/>
            </p:nvSpPr>
            <p:spPr>
              <a:xfrm>
                <a:off x="474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788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7" name=""/>
            <p:cNvSpPr/>
            <p:nvPr/>
          </p:nvSpPr>
          <p:spPr>
            <a:xfrm>
              <a:off x="261720" y="93960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60280" y="85860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82960" y="86832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34800" y="86832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87000" y="86832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957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929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91920" y="86832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80840" y="87480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3240" y="88884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72960" y="89856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75840" y="90792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84120" y="91764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25080" y="8935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22200" y="90324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16800" y="91116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2640" y="91764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39720" y="88740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48000" y="898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28200" y="90792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88960" y="91764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21000" y="91908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91920" y="89352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01640" y="90468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0308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9120" y="89352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360" y="90468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9120" y="91116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912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53920" y="90468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62200" y="91584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60440" y="67464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61880" y="69696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28120" y="65412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23720" y="38088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8920" y="40464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61880" y="41256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29720" y="64620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79040" y="74916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6240" y="76500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67880" y="758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67880" y="7761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9" name=""/>
            <p:cNvGrpSpPr/>
            <p:nvPr/>
          </p:nvGrpSpPr>
          <p:grpSpPr>
            <a:xfrm>
              <a:off x="405720" y="834840"/>
              <a:ext cx="67680" cy="27000"/>
              <a:chOff x="405720" y="834840"/>
              <a:chExt cx="67680" cy="27000"/>
            </a:xfrm>
          </p:grpSpPr>
          <p:grpSp>
            <p:nvGrpSpPr>
              <p:cNvPr id="3250" name=""/>
              <p:cNvGrpSpPr/>
              <p:nvPr/>
            </p:nvGrpSpPr>
            <p:grpSpPr>
              <a:xfrm>
                <a:off x="405720" y="834840"/>
                <a:ext cx="42480" cy="27000"/>
                <a:chOff x="405720" y="834840"/>
                <a:chExt cx="42480" cy="27000"/>
              </a:xfrm>
            </p:grpSpPr>
            <p:grpSp>
              <p:nvGrpSpPr>
                <p:cNvPr id="3251" name=""/>
                <p:cNvGrpSpPr/>
                <p:nvPr/>
              </p:nvGrpSpPr>
              <p:grpSpPr>
                <a:xfrm>
                  <a:off x="405720" y="834840"/>
                  <a:ext cx="28800" cy="27000"/>
                  <a:chOff x="405720" y="834840"/>
                  <a:chExt cx="28800" cy="27000"/>
                </a:xfrm>
              </p:grpSpPr>
              <p:sp>
                <p:nvSpPr>
                  <p:cNvPr id="3252" name=""/>
                  <p:cNvSpPr/>
                  <p:nvPr/>
                </p:nvSpPr>
                <p:spPr>
                  <a:xfrm>
                    <a:off x="4057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410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4" name=""/>
                <p:cNvGrpSpPr/>
                <p:nvPr/>
              </p:nvGrpSpPr>
              <p:grpSpPr>
                <a:xfrm>
                  <a:off x="419400" y="834840"/>
                  <a:ext cx="28800" cy="27000"/>
                  <a:chOff x="419400" y="834840"/>
                  <a:chExt cx="28800" cy="27000"/>
                </a:xfrm>
              </p:grpSpPr>
              <p:sp>
                <p:nvSpPr>
                  <p:cNvPr id="3255" name=""/>
                  <p:cNvSpPr/>
                  <p:nvPr/>
                </p:nvSpPr>
                <p:spPr>
                  <a:xfrm>
                    <a:off x="4194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424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7" name=""/>
              <p:cNvGrpSpPr/>
              <p:nvPr/>
            </p:nvGrpSpPr>
            <p:grpSpPr>
              <a:xfrm>
                <a:off x="432000" y="834840"/>
                <a:ext cx="41400" cy="27000"/>
                <a:chOff x="432000" y="834840"/>
                <a:chExt cx="41400" cy="27000"/>
              </a:xfrm>
            </p:grpSpPr>
            <p:grpSp>
              <p:nvGrpSpPr>
                <p:cNvPr id="3258" name=""/>
                <p:cNvGrpSpPr/>
                <p:nvPr/>
              </p:nvGrpSpPr>
              <p:grpSpPr>
                <a:xfrm>
                  <a:off x="432000" y="834840"/>
                  <a:ext cx="28800" cy="27000"/>
                  <a:chOff x="432000" y="834840"/>
                  <a:chExt cx="28800" cy="2700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432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437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1" name=""/>
                <p:cNvGrpSpPr/>
                <p:nvPr/>
              </p:nvGrpSpPr>
              <p:grpSpPr>
                <a:xfrm>
                  <a:off x="444600" y="834840"/>
                  <a:ext cx="28800" cy="27000"/>
                  <a:chOff x="444600" y="834840"/>
                  <a:chExt cx="28800" cy="27000"/>
                </a:xfrm>
              </p:grpSpPr>
              <p:sp>
                <p:nvSpPr>
                  <p:cNvPr id="3262" name=""/>
                  <p:cNvSpPr/>
                  <p:nvPr/>
                </p:nvSpPr>
                <p:spPr>
                  <a:xfrm>
                    <a:off x="444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450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64" name=""/>
            <p:cNvGrpSpPr/>
            <p:nvPr/>
          </p:nvGrpSpPr>
          <p:grpSpPr>
            <a:xfrm>
              <a:off x="459000" y="834840"/>
              <a:ext cx="64800" cy="27000"/>
              <a:chOff x="459000" y="834840"/>
              <a:chExt cx="64800" cy="27000"/>
            </a:xfrm>
          </p:grpSpPr>
          <p:grpSp>
            <p:nvGrpSpPr>
              <p:cNvPr id="3265" name=""/>
              <p:cNvGrpSpPr/>
              <p:nvPr/>
            </p:nvGrpSpPr>
            <p:grpSpPr>
              <a:xfrm>
                <a:off x="459000" y="834840"/>
                <a:ext cx="39960" cy="27000"/>
                <a:chOff x="459000" y="834840"/>
                <a:chExt cx="39960" cy="27000"/>
              </a:xfrm>
            </p:grpSpPr>
            <p:grpSp>
              <p:nvGrpSpPr>
                <p:cNvPr id="3266" name=""/>
                <p:cNvGrpSpPr/>
                <p:nvPr/>
              </p:nvGrpSpPr>
              <p:grpSpPr>
                <a:xfrm>
                  <a:off x="459000" y="834840"/>
                  <a:ext cx="27360" cy="27000"/>
                  <a:chOff x="459000" y="834840"/>
                  <a:chExt cx="27360" cy="27000"/>
                </a:xfrm>
              </p:grpSpPr>
              <p:sp>
                <p:nvSpPr>
                  <p:cNvPr id="3267" name=""/>
                  <p:cNvSpPr/>
                  <p:nvPr/>
                </p:nvSpPr>
                <p:spPr>
                  <a:xfrm>
                    <a:off x="459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4629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9" name=""/>
                <p:cNvGrpSpPr/>
                <p:nvPr/>
              </p:nvGrpSpPr>
              <p:grpSpPr>
                <a:xfrm>
                  <a:off x="471600" y="834840"/>
                  <a:ext cx="27360" cy="27000"/>
                  <a:chOff x="471600" y="834840"/>
                  <a:chExt cx="27360" cy="27000"/>
                </a:xfrm>
              </p:grpSpPr>
              <p:sp>
                <p:nvSpPr>
                  <p:cNvPr id="3270" name=""/>
                  <p:cNvSpPr/>
                  <p:nvPr/>
                </p:nvSpPr>
                <p:spPr>
                  <a:xfrm>
                    <a:off x="471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475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2" name=""/>
              <p:cNvGrpSpPr/>
              <p:nvPr/>
            </p:nvGrpSpPr>
            <p:grpSpPr>
              <a:xfrm>
                <a:off x="481320" y="834840"/>
                <a:ext cx="42480" cy="27000"/>
                <a:chOff x="481320" y="834840"/>
                <a:chExt cx="42480" cy="27000"/>
              </a:xfrm>
            </p:grpSpPr>
            <p:grpSp>
              <p:nvGrpSpPr>
                <p:cNvPr id="3273" name=""/>
                <p:cNvGrpSpPr/>
                <p:nvPr/>
              </p:nvGrpSpPr>
              <p:grpSpPr>
                <a:xfrm>
                  <a:off x="481320" y="834840"/>
                  <a:ext cx="30240" cy="27000"/>
                  <a:chOff x="481320" y="834840"/>
                  <a:chExt cx="30240" cy="27000"/>
                </a:xfrm>
              </p:grpSpPr>
              <p:sp>
                <p:nvSpPr>
                  <p:cNvPr id="3274" name=""/>
                  <p:cNvSpPr/>
                  <p:nvPr/>
                </p:nvSpPr>
                <p:spPr>
                  <a:xfrm>
                    <a:off x="481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488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6" name=""/>
                <p:cNvGrpSpPr/>
                <p:nvPr/>
              </p:nvGrpSpPr>
              <p:grpSpPr>
                <a:xfrm>
                  <a:off x="495000" y="834840"/>
                  <a:ext cx="28800" cy="27000"/>
                  <a:chOff x="495000" y="834840"/>
                  <a:chExt cx="28800" cy="27000"/>
                </a:xfrm>
              </p:grpSpPr>
              <p:sp>
                <p:nvSpPr>
                  <p:cNvPr id="3277" name=""/>
                  <p:cNvSpPr/>
                  <p:nvPr/>
                </p:nvSpPr>
                <p:spPr>
                  <a:xfrm>
                    <a:off x="4950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5000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79" name=""/>
            <p:cNvGrpSpPr/>
            <p:nvPr/>
          </p:nvGrpSpPr>
          <p:grpSpPr>
            <a:xfrm>
              <a:off x="509760" y="834840"/>
              <a:ext cx="66960" cy="27000"/>
              <a:chOff x="509760" y="834840"/>
              <a:chExt cx="66960" cy="27000"/>
            </a:xfrm>
          </p:grpSpPr>
          <p:grpSp>
            <p:nvGrpSpPr>
              <p:cNvPr id="3280" name=""/>
              <p:cNvGrpSpPr/>
              <p:nvPr/>
            </p:nvGrpSpPr>
            <p:grpSpPr>
              <a:xfrm>
                <a:off x="509760" y="834840"/>
                <a:ext cx="39960" cy="27000"/>
                <a:chOff x="509760" y="834840"/>
                <a:chExt cx="39960" cy="27000"/>
              </a:xfrm>
            </p:grpSpPr>
            <p:grpSp>
              <p:nvGrpSpPr>
                <p:cNvPr id="3281" name=""/>
                <p:cNvGrpSpPr/>
                <p:nvPr/>
              </p:nvGrpSpPr>
              <p:grpSpPr>
                <a:xfrm>
                  <a:off x="509760" y="834840"/>
                  <a:ext cx="29160" cy="27000"/>
                  <a:chOff x="509760" y="834840"/>
                  <a:chExt cx="29160" cy="27000"/>
                </a:xfrm>
              </p:grpSpPr>
              <p:sp>
                <p:nvSpPr>
                  <p:cNvPr id="3282" name=""/>
                  <p:cNvSpPr/>
                  <p:nvPr/>
                </p:nvSpPr>
                <p:spPr>
                  <a:xfrm>
                    <a:off x="509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515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4" name=""/>
                <p:cNvGrpSpPr/>
                <p:nvPr/>
              </p:nvGrpSpPr>
              <p:grpSpPr>
                <a:xfrm>
                  <a:off x="520560" y="834840"/>
                  <a:ext cx="29160" cy="27000"/>
                  <a:chOff x="520560" y="834840"/>
                  <a:chExt cx="29160" cy="27000"/>
                </a:xfrm>
              </p:grpSpPr>
              <p:sp>
                <p:nvSpPr>
                  <p:cNvPr id="3285" name=""/>
                  <p:cNvSpPr/>
                  <p:nvPr/>
                </p:nvSpPr>
                <p:spPr>
                  <a:xfrm>
                    <a:off x="5205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525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7" name=""/>
              <p:cNvGrpSpPr/>
              <p:nvPr/>
            </p:nvGrpSpPr>
            <p:grpSpPr>
              <a:xfrm>
                <a:off x="534960" y="834840"/>
                <a:ext cx="41760" cy="27000"/>
                <a:chOff x="534960" y="834840"/>
                <a:chExt cx="41760" cy="27000"/>
              </a:xfrm>
            </p:grpSpPr>
            <p:grpSp>
              <p:nvGrpSpPr>
                <p:cNvPr id="3288" name=""/>
                <p:cNvGrpSpPr/>
                <p:nvPr/>
              </p:nvGrpSpPr>
              <p:grpSpPr>
                <a:xfrm>
                  <a:off x="534960" y="834840"/>
                  <a:ext cx="29160" cy="27000"/>
                  <a:chOff x="534960" y="834840"/>
                  <a:chExt cx="29160" cy="27000"/>
                </a:xfrm>
              </p:grpSpPr>
              <p:sp>
                <p:nvSpPr>
                  <p:cNvPr id="3289" name=""/>
                  <p:cNvSpPr/>
                  <p:nvPr/>
                </p:nvSpPr>
                <p:spPr>
                  <a:xfrm>
                    <a:off x="534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5403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1" name=""/>
                <p:cNvGrpSpPr/>
                <p:nvPr/>
              </p:nvGrpSpPr>
              <p:grpSpPr>
                <a:xfrm>
                  <a:off x="546120" y="834840"/>
                  <a:ext cx="30600" cy="27000"/>
                  <a:chOff x="546120" y="834840"/>
                  <a:chExt cx="30600" cy="2700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>
                    <a:off x="5461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552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94" name=""/>
            <p:cNvGrpSpPr/>
            <p:nvPr/>
          </p:nvGrpSpPr>
          <p:grpSpPr>
            <a:xfrm>
              <a:off x="559080" y="834840"/>
              <a:ext cx="66600" cy="27000"/>
              <a:chOff x="559080" y="834840"/>
              <a:chExt cx="66600" cy="27000"/>
            </a:xfrm>
          </p:grpSpPr>
          <p:grpSp>
            <p:nvGrpSpPr>
              <p:cNvPr id="3295" name=""/>
              <p:cNvGrpSpPr/>
              <p:nvPr/>
            </p:nvGrpSpPr>
            <p:grpSpPr>
              <a:xfrm>
                <a:off x="559080" y="834840"/>
                <a:ext cx="42840" cy="27000"/>
                <a:chOff x="559080" y="834840"/>
                <a:chExt cx="42840" cy="27000"/>
              </a:xfrm>
            </p:grpSpPr>
            <p:grpSp>
              <p:nvGrpSpPr>
                <p:cNvPr id="3296" name=""/>
                <p:cNvGrpSpPr/>
                <p:nvPr/>
              </p:nvGrpSpPr>
              <p:grpSpPr>
                <a:xfrm>
                  <a:off x="559080" y="834840"/>
                  <a:ext cx="30240" cy="27000"/>
                  <a:chOff x="559080" y="834840"/>
                  <a:chExt cx="30240" cy="27000"/>
                </a:xfrm>
              </p:grpSpPr>
              <p:sp>
                <p:nvSpPr>
                  <p:cNvPr id="3297" name=""/>
                  <p:cNvSpPr/>
                  <p:nvPr/>
                </p:nvSpPr>
                <p:spPr>
                  <a:xfrm>
                    <a:off x="5590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5659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9" name=""/>
                <p:cNvGrpSpPr/>
                <p:nvPr/>
              </p:nvGrpSpPr>
              <p:grpSpPr>
                <a:xfrm>
                  <a:off x="571680" y="834840"/>
                  <a:ext cx="30240" cy="27000"/>
                  <a:chOff x="571680" y="834840"/>
                  <a:chExt cx="30240" cy="27000"/>
                </a:xfrm>
              </p:grpSpPr>
              <p:sp>
                <p:nvSpPr>
                  <p:cNvPr id="3300" name=""/>
                  <p:cNvSpPr/>
                  <p:nvPr/>
                </p:nvSpPr>
                <p:spPr>
                  <a:xfrm>
                    <a:off x="5716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>
                    <a:off x="5785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2" name=""/>
              <p:cNvGrpSpPr/>
              <p:nvPr/>
            </p:nvGrpSpPr>
            <p:grpSpPr>
              <a:xfrm>
                <a:off x="585720" y="834840"/>
                <a:ext cx="39960" cy="27000"/>
                <a:chOff x="585720" y="834840"/>
                <a:chExt cx="39960" cy="27000"/>
              </a:xfrm>
            </p:grpSpPr>
            <p:grpSp>
              <p:nvGrpSpPr>
                <p:cNvPr id="3303" name=""/>
                <p:cNvGrpSpPr/>
                <p:nvPr/>
              </p:nvGrpSpPr>
              <p:grpSpPr>
                <a:xfrm>
                  <a:off x="585720" y="834840"/>
                  <a:ext cx="30240" cy="27000"/>
                  <a:chOff x="585720" y="834840"/>
                  <a:chExt cx="30240" cy="27000"/>
                </a:xfrm>
              </p:grpSpPr>
              <p:sp>
                <p:nvSpPr>
                  <p:cNvPr id="3304" name=""/>
                  <p:cNvSpPr/>
                  <p:nvPr/>
                </p:nvSpPr>
                <p:spPr>
                  <a:xfrm>
                    <a:off x="5857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592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6" name=""/>
                <p:cNvGrpSpPr/>
                <p:nvPr/>
              </p:nvGrpSpPr>
              <p:grpSpPr>
                <a:xfrm>
                  <a:off x="596520" y="834840"/>
                  <a:ext cx="29160" cy="27000"/>
                  <a:chOff x="596520" y="834840"/>
                  <a:chExt cx="29160" cy="27000"/>
                </a:xfrm>
              </p:grpSpPr>
              <p:sp>
                <p:nvSpPr>
                  <p:cNvPr id="3307" name=""/>
                  <p:cNvSpPr/>
                  <p:nvPr/>
                </p:nvSpPr>
                <p:spPr>
                  <a:xfrm>
                    <a:off x="5965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601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09" name=""/>
            <p:cNvGrpSpPr/>
            <p:nvPr/>
          </p:nvGrpSpPr>
          <p:grpSpPr>
            <a:xfrm>
              <a:off x="611280" y="834840"/>
              <a:ext cx="66960" cy="27000"/>
              <a:chOff x="611280" y="834840"/>
              <a:chExt cx="66960" cy="27000"/>
            </a:xfrm>
          </p:grpSpPr>
          <p:grpSp>
            <p:nvGrpSpPr>
              <p:cNvPr id="3310" name=""/>
              <p:cNvGrpSpPr/>
              <p:nvPr/>
            </p:nvGrpSpPr>
            <p:grpSpPr>
              <a:xfrm>
                <a:off x="611280" y="834840"/>
                <a:ext cx="41760" cy="27000"/>
                <a:chOff x="611280" y="834840"/>
                <a:chExt cx="41760" cy="27000"/>
              </a:xfrm>
            </p:grpSpPr>
            <p:grpSp>
              <p:nvGrpSpPr>
                <p:cNvPr id="3311" name=""/>
                <p:cNvGrpSpPr/>
                <p:nvPr/>
              </p:nvGrpSpPr>
              <p:grpSpPr>
                <a:xfrm>
                  <a:off x="611280" y="834840"/>
                  <a:ext cx="29160" cy="27000"/>
                  <a:chOff x="611280" y="834840"/>
                  <a:chExt cx="29160" cy="27000"/>
                </a:xfrm>
              </p:grpSpPr>
              <p:sp>
                <p:nvSpPr>
                  <p:cNvPr id="3312" name=""/>
                  <p:cNvSpPr/>
                  <p:nvPr/>
                </p:nvSpPr>
                <p:spPr>
                  <a:xfrm>
                    <a:off x="611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6166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4" name=""/>
                <p:cNvGrpSpPr/>
                <p:nvPr/>
              </p:nvGrpSpPr>
              <p:grpSpPr>
                <a:xfrm>
                  <a:off x="623880" y="834840"/>
                  <a:ext cx="29160" cy="27000"/>
                  <a:chOff x="623880" y="834840"/>
                  <a:chExt cx="29160" cy="27000"/>
                </a:xfrm>
              </p:grpSpPr>
              <p:sp>
                <p:nvSpPr>
                  <p:cNvPr id="3315" name=""/>
                  <p:cNvSpPr/>
                  <p:nvPr/>
                </p:nvSpPr>
                <p:spPr>
                  <a:xfrm>
                    <a:off x="6238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629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7" name=""/>
              <p:cNvGrpSpPr/>
              <p:nvPr/>
            </p:nvGrpSpPr>
            <p:grpSpPr>
              <a:xfrm>
                <a:off x="636480" y="834840"/>
                <a:ext cx="41760" cy="27000"/>
                <a:chOff x="636480" y="834840"/>
                <a:chExt cx="41760" cy="27000"/>
              </a:xfrm>
            </p:grpSpPr>
            <p:grpSp>
              <p:nvGrpSpPr>
                <p:cNvPr id="3318" name=""/>
                <p:cNvGrpSpPr/>
                <p:nvPr/>
              </p:nvGrpSpPr>
              <p:grpSpPr>
                <a:xfrm>
                  <a:off x="636480" y="834840"/>
                  <a:ext cx="27720" cy="27000"/>
                  <a:chOff x="636480" y="834840"/>
                  <a:chExt cx="27720" cy="27000"/>
                </a:xfrm>
              </p:grpSpPr>
              <p:sp>
                <p:nvSpPr>
                  <p:cNvPr id="3319" name=""/>
                  <p:cNvSpPr/>
                  <p:nvPr/>
                </p:nvSpPr>
                <p:spPr>
                  <a:xfrm>
                    <a:off x="636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640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1" name=""/>
                <p:cNvGrpSpPr/>
                <p:nvPr/>
              </p:nvGrpSpPr>
              <p:grpSpPr>
                <a:xfrm>
                  <a:off x="647640" y="834840"/>
                  <a:ext cx="30600" cy="27000"/>
                  <a:chOff x="647640" y="834840"/>
                  <a:chExt cx="30600" cy="2700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647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654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24" name=""/>
            <p:cNvGrpSpPr/>
            <p:nvPr/>
          </p:nvGrpSpPr>
          <p:grpSpPr>
            <a:xfrm>
              <a:off x="662040" y="834840"/>
              <a:ext cx="67680" cy="27000"/>
              <a:chOff x="662040" y="834840"/>
              <a:chExt cx="67680" cy="27000"/>
            </a:xfrm>
          </p:grpSpPr>
          <p:grpSp>
            <p:nvGrpSpPr>
              <p:cNvPr id="3325" name=""/>
              <p:cNvGrpSpPr/>
              <p:nvPr/>
            </p:nvGrpSpPr>
            <p:grpSpPr>
              <a:xfrm>
                <a:off x="662040" y="834840"/>
                <a:ext cx="38520" cy="27000"/>
                <a:chOff x="662040" y="834840"/>
                <a:chExt cx="38520" cy="27000"/>
              </a:xfrm>
            </p:grpSpPr>
            <p:grpSp>
              <p:nvGrpSpPr>
                <p:cNvPr id="3326" name=""/>
                <p:cNvGrpSpPr/>
                <p:nvPr/>
              </p:nvGrpSpPr>
              <p:grpSpPr>
                <a:xfrm>
                  <a:off x="662040" y="834840"/>
                  <a:ext cx="28800" cy="27000"/>
                  <a:chOff x="662040" y="834840"/>
                  <a:chExt cx="28800" cy="27000"/>
                </a:xfrm>
              </p:grpSpPr>
              <p:sp>
                <p:nvSpPr>
                  <p:cNvPr id="3327" name=""/>
                  <p:cNvSpPr/>
                  <p:nvPr/>
                </p:nvSpPr>
                <p:spPr>
                  <a:xfrm>
                    <a:off x="6620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667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9" name=""/>
                <p:cNvGrpSpPr/>
                <p:nvPr/>
              </p:nvGrpSpPr>
              <p:grpSpPr>
                <a:xfrm>
                  <a:off x="672840" y="834840"/>
                  <a:ext cx="27720" cy="27000"/>
                  <a:chOff x="672840" y="834840"/>
                  <a:chExt cx="27720" cy="27000"/>
                </a:xfrm>
              </p:grpSpPr>
              <p:sp>
                <p:nvSpPr>
                  <p:cNvPr id="3330" name=""/>
                  <p:cNvSpPr/>
                  <p:nvPr/>
                </p:nvSpPr>
                <p:spPr>
                  <a:xfrm>
                    <a:off x="672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677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32" name=""/>
              <p:cNvGrpSpPr/>
              <p:nvPr/>
            </p:nvGrpSpPr>
            <p:grpSpPr>
              <a:xfrm>
                <a:off x="687240" y="834840"/>
                <a:ext cx="42480" cy="27000"/>
                <a:chOff x="687240" y="834840"/>
                <a:chExt cx="42480" cy="27000"/>
              </a:xfrm>
            </p:grpSpPr>
            <p:grpSp>
              <p:nvGrpSpPr>
                <p:cNvPr id="3333" name=""/>
                <p:cNvGrpSpPr/>
                <p:nvPr/>
              </p:nvGrpSpPr>
              <p:grpSpPr>
                <a:xfrm>
                  <a:off x="687240" y="834840"/>
                  <a:ext cx="28800" cy="27000"/>
                  <a:chOff x="687240" y="834840"/>
                  <a:chExt cx="28800" cy="2700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>
                    <a:off x="687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692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6" name=""/>
                <p:cNvGrpSpPr/>
                <p:nvPr/>
              </p:nvGrpSpPr>
              <p:grpSpPr>
                <a:xfrm>
                  <a:off x="699480" y="834840"/>
                  <a:ext cx="30240" cy="27000"/>
                  <a:chOff x="699480" y="834840"/>
                  <a:chExt cx="30240" cy="27000"/>
                </a:xfrm>
              </p:grpSpPr>
              <p:sp>
                <p:nvSpPr>
                  <p:cNvPr id="3337" name=""/>
                  <p:cNvSpPr/>
                  <p:nvPr/>
                </p:nvSpPr>
                <p:spPr>
                  <a:xfrm>
                    <a:off x="6994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706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9" name=""/>
            <p:cNvGrpSpPr/>
            <p:nvPr/>
          </p:nvGrpSpPr>
          <p:grpSpPr>
            <a:xfrm>
              <a:off x="714240" y="834840"/>
              <a:ext cx="65160" cy="27000"/>
              <a:chOff x="714240" y="834840"/>
              <a:chExt cx="65160" cy="27000"/>
            </a:xfrm>
          </p:grpSpPr>
          <p:grpSp>
            <p:nvGrpSpPr>
              <p:cNvPr id="3340" name=""/>
              <p:cNvGrpSpPr/>
              <p:nvPr/>
            </p:nvGrpSpPr>
            <p:grpSpPr>
              <a:xfrm>
                <a:off x="714240" y="834840"/>
                <a:ext cx="39960" cy="27000"/>
                <a:chOff x="714240" y="834840"/>
                <a:chExt cx="39960" cy="27000"/>
              </a:xfrm>
            </p:grpSpPr>
            <p:grpSp>
              <p:nvGrpSpPr>
                <p:cNvPr id="3341" name=""/>
                <p:cNvGrpSpPr/>
                <p:nvPr/>
              </p:nvGrpSpPr>
              <p:grpSpPr>
                <a:xfrm>
                  <a:off x="714240" y="834840"/>
                  <a:ext cx="26280" cy="27000"/>
                  <a:chOff x="714240" y="834840"/>
                  <a:chExt cx="26280" cy="27000"/>
                </a:xfrm>
              </p:grpSpPr>
              <p:sp>
                <p:nvSpPr>
                  <p:cNvPr id="3342" name=""/>
                  <p:cNvSpPr/>
                  <p:nvPr/>
                </p:nvSpPr>
                <p:spPr>
                  <a:xfrm>
                    <a:off x="714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716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4" name=""/>
                <p:cNvGrpSpPr/>
                <p:nvPr/>
              </p:nvGrpSpPr>
              <p:grpSpPr>
                <a:xfrm>
                  <a:off x="726840" y="834840"/>
                  <a:ext cx="27360" cy="27000"/>
                  <a:chOff x="726840" y="834840"/>
                  <a:chExt cx="27360" cy="27000"/>
                </a:xfrm>
              </p:grpSpPr>
              <p:sp>
                <p:nvSpPr>
                  <p:cNvPr id="3345" name=""/>
                  <p:cNvSpPr/>
                  <p:nvPr/>
                </p:nvSpPr>
                <p:spPr>
                  <a:xfrm>
                    <a:off x="726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7308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7" name=""/>
              <p:cNvGrpSpPr/>
              <p:nvPr/>
            </p:nvGrpSpPr>
            <p:grpSpPr>
              <a:xfrm>
                <a:off x="739440" y="834840"/>
                <a:ext cx="39960" cy="27000"/>
                <a:chOff x="739440" y="834840"/>
                <a:chExt cx="39960" cy="27000"/>
              </a:xfrm>
            </p:grpSpPr>
            <p:grpSp>
              <p:nvGrpSpPr>
                <p:cNvPr id="3348" name=""/>
                <p:cNvGrpSpPr/>
                <p:nvPr/>
              </p:nvGrpSpPr>
              <p:grpSpPr>
                <a:xfrm>
                  <a:off x="739440" y="834840"/>
                  <a:ext cx="27360" cy="27000"/>
                  <a:chOff x="739440" y="834840"/>
                  <a:chExt cx="27360" cy="27000"/>
                </a:xfrm>
              </p:grpSpPr>
              <p:sp>
                <p:nvSpPr>
                  <p:cNvPr id="3349" name=""/>
                  <p:cNvSpPr/>
                  <p:nvPr/>
                </p:nvSpPr>
                <p:spPr>
                  <a:xfrm>
                    <a:off x="739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743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1" name=""/>
                <p:cNvGrpSpPr/>
                <p:nvPr/>
              </p:nvGrpSpPr>
              <p:grpSpPr>
                <a:xfrm>
                  <a:off x="750240" y="834840"/>
                  <a:ext cx="29160" cy="27000"/>
                  <a:chOff x="750240" y="834840"/>
                  <a:chExt cx="29160" cy="2700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>
                    <a:off x="750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755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54" name=""/>
            <p:cNvGrpSpPr/>
            <p:nvPr/>
          </p:nvGrpSpPr>
          <p:grpSpPr>
            <a:xfrm>
              <a:off x="763920" y="834840"/>
              <a:ext cx="67680" cy="27000"/>
              <a:chOff x="763920" y="834840"/>
              <a:chExt cx="67680" cy="27000"/>
            </a:xfrm>
          </p:grpSpPr>
          <p:grpSp>
            <p:nvGrpSpPr>
              <p:cNvPr id="3355" name=""/>
              <p:cNvGrpSpPr/>
              <p:nvPr/>
            </p:nvGrpSpPr>
            <p:grpSpPr>
              <a:xfrm>
                <a:off x="763920" y="834840"/>
                <a:ext cx="42480" cy="27000"/>
                <a:chOff x="763920" y="834840"/>
                <a:chExt cx="42480" cy="27000"/>
              </a:xfrm>
            </p:grpSpPr>
            <p:grpSp>
              <p:nvGrpSpPr>
                <p:cNvPr id="3356" name=""/>
                <p:cNvGrpSpPr/>
                <p:nvPr/>
              </p:nvGrpSpPr>
              <p:grpSpPr>
                <a:xfrm>
                  <a:off x="763920" y="834840"/>
                  <a:ext cx="28800" cy="27000"/>
                  <a:chOff x="763920" y="834840"/>
                  <a:chExt cx="28800" cy="27000"/>
                </a:xfrm>
              </p:grpSpPr>
              <p:sp>
                <p:nvSpPr>
                  <p:cNvPr id="3357" name=""/>
                  <p:cNvSpPr/>
                  <p:nvPr/>
                </p:nvSpPr>
                <p:spPr>
                  <a:xfrm>
                    <a:off x="763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768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9" name=""/>
                <p:cNvGrpSpPr/>
                <p:nvPr/>
              </p:nvGrpSpPr>
              <p:grpSpPr>
                <a:xfrm>
                  <a:off x="776160" y="834840"/>
                  <a:ext cx="30240" cy="27000"/>
                  <a:chOff x="776160" y="834840"/>
                  <a:chExt cx="30240" cy="27000"/>
                </a:xfrm>
              </p:grpSpPr>
              <p:sp>
                <p:nvSpPr>
                  <p:cNvPr id="3360" name=""/>
                  <p:cNvSpPr/>
                  <p:nvPr/>
                </p:nvSpPr>
                <p:spPr>
                  <a:xfrm>
                    <a:off x="776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783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2" name=""/>
              <p:cNvGrpSpPr/>
              <p:nvPr/>
            </p:nvGrpSpPr>
            <p:grpSpPr>
              <a:xfrm>
                <a:off x="788760" y="834840"/>
                <a:ext cx="42840" cy="27000"/>
                <a:chOff x="788760" y="834840"/>
                <a:chExt cx="42840" cy="27000"/>
              </a:xfrm>
            </p:grpSpPr>
            <p:grpSp>
              <p:nvGrpSpPr>
                <p:cNvPr id="3363" name=""/>
                <p:cNvGrpSpPr/>
                <p:nvPr/>
              </p:nvGrpSpPr>
              <p:grpSpPr>
                <a:xfrm>
                  <a:off x="788760" y="834840"/>
                  <a:ext cx="29160" cy="27000"/>
                  <a:chOff x="788760" y="834840"/>
                  <a:chExt cx="29160" cy="27000"/>
                </a:xfrm>
              </p:grpSpPr>
              <p:sp>
                <p:nvSpPr>
                  <p:cNvPr id="3364" name=""/>
                  <p:cNvSpPr/>
                  <p:nvPr/>
                </p:nvSpPr>
                <p:spPr>
                  <a:xfrm>
                    <a:off x="788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794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6" name=""/>
                <p:cNvGrpSpPr/>
                <p:nvPr/>
              </p:nvGrpSpPr>
              <p:grpSpPr>
                <a:xfrm>
                  <a:off x="801360" y="834840"/>
                  <a:ext cx="30240" cy="27000"/>
                  <a:chOff x="801360" y="834840"/>
                  <a:chExt cx="30240" cy="27000"/>
                </a:xfrm>
              </p:grpSpPr>
              <p:sp>
                <p:nvSpPr>
                  <p:cNvPr id="3367" name=""/>
                  <p:cNvSpPr/>
                  <p:nvPr/>
                </p:nvSpPr>
                <p:spPr>
                  <a:xfrm>
                    <a:off x="8013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8082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69" name=""/>
            <p:cNvSpPr/>
            <p:nvPr/>
          </p:nvSpPr>
          <p:spPr>
            <a:xfrm>
              <a:off x="401040" y="78084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0" name=""/>
          <p:cNvSpPr/>
          <p:nvPr/>
        </p:nvSpPr>
        <p:spPr>
          <a:xfrm>
            <a:off x="605880" y="44928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14440" y="3892680"/>
            <a:ext cx="207720" cy="23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ng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(IP Next Generation)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 &amp; IPv6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gust 19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ions indicated that the Internet Class B Address Space would be exhausted by March of 199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rly 90’s: Short Term “Fixes” for IP Address Spa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DR : Classless Inter-Domain Ro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nock-On Impact on Routing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1 - 1992 : Work Starts on New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than 6 Different proposals were developed and presen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3 :IETF formed an IPng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select the new protocol by consens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5 : IPv6 Selec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6 : 6Bone started - First “real” IPv6 networ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http://www.6bone.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7 : First “real”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8 : First “real” Deploy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happens when...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 Mobile Node is actually Moving!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s can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currently not at H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ne foreign link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Moving from Link to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quire a new Care-Of address when arriving on a new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 their “Home Agent” and all current “Correspondents” of the new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ally inform a router near the previous Care-Of address of their new location so as to catch in-flight packets to the old Care-Of addr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rison with IPv4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IPv6 is fully integrated into the rest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“Foreign Agen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Neighbor Discovery and Address Autoconfiguration allow hosts to operate in any location without any special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single point of failure (Home Ag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Scalable : Better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Links are IPv6 Mobile-ready from Day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ss traffic through Home Lin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dependent on one or two busy Home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ffic Optimisation - Less redirection / re-rou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packets to a mobile node are tunnel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4 makes use of encaps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ies on mandatory parts of the base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an IPv6 be used Today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?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is a proposed replacement for IPv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Solves many of the problems caused by the IPv4 su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more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the whole Internet get upgraded any time so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w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some “green field” sites considering use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bits of IPv6 appear in production use so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most certainly 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s of IPv6 are HERE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ffer useful features for TODAY’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re specs to Draft Standar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Pv6 core specs that have moved to draft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IETF August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Base Protocol Specification and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Internet Control Messages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Path MTU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Neighbor Discovery for Hosts and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Stateless Address Auto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Where are we now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is "cooked"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re specifications achieved Draft Standard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most likely move to Full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n 6 months from now (Feb 19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ill happen th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trying to predict the fu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two ISPs to announce IPv6 Network Access Points (NAPS) on their networks were MCI USA and UUNET U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What are the IPv6 Carrots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Address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sed for 64bit archite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tter Host and Router Internet Platform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 Autoconfiguration (Stateless and Statefu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namic Renumbering of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dated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ed &amp; Flexi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hentication and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"/>
          <p:cNvSpPr/>
          <p:nvPr/>
        </p:nvSpPr>
        <p:spPr>
          <a:xfrm>
            <a:off x="2440080" y="3753000"/>
            <a:ext cx="98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6" name=""/>
          <p:cNvGrpSpPr/>
          <p:nvPr/>
        </p:nvGrpSpPr>
        <p:grpSpPr>
          <a:xfrm>
            <a:off x="747720" y="2136600"/>
            <a:ext cx="6197400" cy="3841920"/>
            <a:chOff x="747720" y="2136600"/>
            <a:chExt cx="6197400" cy="3841920"/>
          </a:xfrm>
        </p:grpSpPr>
        <p:sp>
          <p:nvSpPr>
            <p:cNvPr id="3387" name=""/>
            <p:cNvSpPr/>
            <p:nvPr/>
          </p:nvSpPr>
          <p:spPr>
            <a:xfrm>
              <a:off x="3887280" y="268596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735000" y="382896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887280" y="504828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90" name=""/>
            <p:cNvGraphicFramePr/>
            <p:nvPr/>
          </p:nvGraphicFramePr>
          <p:xfrm>
            <a:off x="3188880" y="2136600"/>
            <a:ext cx="788760" cy="338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88880" y="2136600"/>
                      <a:ext cx="788760" cy="33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92" name=""/>
            <p:cNvGrpSpPr/>
            <p:nvPr/>
          </p:nvGrpSpPr>
          <p:grpSpPr>
            <a:xfrm>
              <a:off x="747720" y="2962440"/>
              <a:ext cx="1859400" cy="1414440"/>
              <a:chOff x="747720" y="2962440"/>
              <a:chExt cx="1859400" cy="1414440"/>
            </a:xfrm>
          </p:grpSpPr>
          <p:grpSp>
            <p:nvGrpSpPr>
              <p:cNvPr id="3393" name=""/>
              <p:cNvGrpSpPr/>
              <p:nvPr/>
            </p:nvGrpSpPr>
            <p:grpSpPr>
              <a:xfrm>
                <a:off x="747720" y="2962440"/>
                <a:ext cx="1859400" cy="1414440"/>
                <a:chOff x="747720" y="2962440"/>
                <a:chExt cx="1859400" cy="1414440"/>
              </a:xfrm>
            </p:grpSpPr>
            <p:sp>
              <p:nvSpPr>
                <p:cNvPr id="3394" name=""/>
                <p:cNvSpPr/>
                <p:nvPr/>
              </p:nvSpPr>
              <p:spPr>
                <a:xfrm>
                  <a:off x="1329120" y="3005280"/>
                  <a:ext cx="447120" cy="46332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1704240" y="2962440"/>
                  <a:ext cx="361080" cy="3762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2035800" y="3351240"/>
                  <a:ext cx="571320" cy="5936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954720" y="3610080"/>
                  <a:ext cx="654480" cy="68076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1869480" y="3695760"/>
                  <a:ext cx="486360" cy="50652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789840" y="3740040"/>
                  <a:ext cx="362520" cy="3762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747720" y="3436920"/>
                  <a:ext cx="363960" cy="3780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915480" y="3092400"/>
                  <a:ext cx="569880" cy="5936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413720" y="3782880"/>
                  <a:ext cx="570960" cy="5940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2117880" y="3135240"/>
                  <a:ext cx="447120" cy="46368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1994760" y="2962440"/>
                  <a:ext cx="403560" cy="4190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897120" y="3073320"/>
                  <a:ext cx="1608480" cy="1123920"/>
                </a:xfrm>
                <a:custGeom>
                  <a:avLst/>
                  <a:gdLst/>
                  <a:ahLst/>
                  <a:rect l="l" t="t" r="r" b="b"/>
                  <a:pathLst>
                    <a:path w="1140" h="708">
                      <a:moveTo>
                        <a:pt x="350" y="71"/>
                      </a:moveTo>
                      <a:lnTo>
                        <a:pt x="399" y="20"/>
                      </a:lnTo>
                      <a:lnTo>
                        <a:pt x="611" y="23"/>
                      </a:lnTo>
                      <a:lnTo>
                        <a:pt x="762" y="0"/>
                      </a:lnTo>
                      <a:lnTo>
                        <a:pt x="952" y="84"/>
                      </a:lnTo>
                      <a:lnTo>
                        <a:pt x="1046" y="60"/>
                      </a:lnTo>
                      <a:lnTo>
                        <a:pt x="1098" y="71"/>
                      </a:lnTo>
                      <a:lnTo>
                        <a:pt x="1109" y="280"/>
                      </a:lnTo>
                      <a:lnTo>
                        <a:pt x="1139" y="314"/>
                      </a:lnTo>
                      <a:lnTo>
                        <a:pt x="1051" y="477"/>
                      </a:lnTo>
                      <a:lnTo>
                        <a:pt x="955" y="365"/>
                      </a:lnTo>
                      <a:lnTo>
                        <a:pt x="929" y="423"/>
                      </a:lnTo>
                      <a:lnTo>
                        <a:pt x="794" y="646"/>
                      </a:lnTo>
                      <a:lnTo>
                        <a:pt x="344" y="707"/>
                      </a:lnTo>
                      <a:lnTo>
                        <a:pt x="110" y="663"/>
                      </a:lnTo>
                      <a:lnTo>
                        <a:pt x="37" y="524"/>
                      </a:lnTo>
                      <a:lnTo>
                        <a:pt x="37" y="382"/>
                      </a:lnTo>
                      <a:lnTo>
                        <a:pt x="0" y="264"/>
                      </a:lnTo>
                      <a:lnTo>
                        <a:pt x="350" y="71"/>
                      </a:lnTo>
                    </a:path>
                  </a:pathLst>
                </a:custGeom>
                <a:solidFill>
                  <a:srgbClr val="a2c1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6" name=""/>
              <p:cNvSpPr/>
              <p:nvPr/>
            </p:nvSpPr>
            <p:spPr>
              <a:xfrm>
                <a:off x="1203840" y="334980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7" name=""/>
            <p:cNvGrpSpPr/>
            <p:nvPr/>
          </p:nvGrpSpPr>
          <p:grpSpPr>
            <a:xfrm>
              <a:off x="5172840" y="4587840"/>
              <a:ext cx="1390680" cy="1057320"/>
              <a:chOff x="5172840" y="4587840"/>
              <a:chExt cx="1390680" cy="1057320"/>
            </a:xfrm>
          </p:grpSpPr>
          <p:sp>
            <p:nvSpPr>
              <p:cNvPr id="3408" name=""/>
              <p:cNvSpPr/>
              <p:nvPr/>
            </p:nvSpPr>
            <p:spPr>
              <a:xfrm>
                <a:off x="5608800" y="46195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889240" y="45878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139080" y="48798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28000" y="50734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013440" y="513720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203800" y="51703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172840" y="49435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298480" y="468468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670720" y="52038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01360" y="47181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108120" y="45878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282640" y="46688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563360" y="3902040"/>
              <a:ext cx="1390680" cy="1057320"/>
              <a:chOff x="4563360" y="3902040"/>
              <a:chExt cx="1390680" cy="1057320"/>
            </a:xfrm>
          </p:grpSpPr>
          <p:sp>
            <p:nvSpPr>
              <p:cNvPr id="3421" name=""/>
              <p:cNvSpPr/>
              <p:nvPr/>
            </p:nvSpPr>
            <p:spPr>
              <a:xfrm>
                <a:off x="4999320" y="39337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79760" y="39020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529600" y="41940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18520" y="43876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403960" y="445140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594320" y="44845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563360" y="42577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689000" y="399888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061240" y="45180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591880" y="40323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498640" y="39020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673160" y="39830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3" name=""/>
            <p:cNvGrpSpPr/>
            <p:nvPr/>
          </p:nvGrpSpPr>
          <p:grpSpPr>
            <a:xfrm>
              <a:off x="4563360" y="3063960"/>
              <a:ext cx="1390680" cy="1057320"/>
              <a:chOff x="4563360" y="3063960"/>
              <a:chExt cx="1390680" cy="1057320"/>
            </a:xfrm>
          </p:grpSpPr>
          <p:sp>
            <p:nvSpPr>
              <p:cNvPr id="3434" name=""/>
              <p:cNvSpPr/>
              <p:nvPr/>
            </p:nvSpPr>
            <p:spPr>
              <a:xfrm>
                <a:off x="4999320" y="309564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279760" y="306396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529600" y="335592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718520" y="3549600"/>
                <a:ext cx="489240" cy="507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403960" y="361332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594320" y="3646440"/>
                <a:ext cx="27072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563360" y="341964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4689000" y="316080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061240" y="367992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591880" y="319392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98640" y="306396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4673160" y="314496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6" name=""/>
            <p:cNvGrpSpPr/>
            <p:nvPr/>
          </p:nvGrpSpPr>
          <p:grpSpPr>
            <a:xfrm>
              <a:off x="4487040" y="2301840"/>
              <a:ext cx="1390680" cy="1057320"/>
              <a:chOff x="4487040" y="2301840"/>
              <a:chExt cx="1390680" cy="1057320"/>
            </a:xfrm>
          </p:grpSpPr>
          <p:sp>
            <p:nvSpPr>
              <p:cNvPr id="3447" name=""/>
              <p:cNvSpPr/>
              <p:nvPr/>
            </p:nvSpPr>
            <p:spPr>
              <a:xfrm>
                <a:off x="4923000" y="23335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203440" y="23018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453280" y="25938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642200" y="27874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27640" y="2851200"/>
                <a:ext cx="36216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518000" y="28843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87040" y="26575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612320" y="2398680"/>
                <a:ext cx="42480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984920" y="29178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515560" y="24321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422320" y="23018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596840" y="23828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1673280" y="3514680"/>
              <a:ext cx="2273040" cy="2463840"/>
              <a:chOff x="1673280" y="3514680"/>
              <a:chExt cx="2273040" cy="2463840"/>
            </a:xfrm>
          </p:grpSpPr>
          <p:grpSp>
            <p:nvGrpSpPr>
              <p:cNvPr id="3460" name=""/>
              <p:cNvGrpSpPr/>
              <p:nvPr/>
            </p:nvGrpSpPr>
            <p:grpSpPr>
              <a:xfrm>
                <a:off x="1673280" y="3514680"/>
                <a:ext cx="2273040" cy="1911240"/>
                <a:chOff x="1673280" y="3514680"/>
                <a:chExt cx="2273040" cy="1911240"/>
              </a:xfrm>
            </p:grpSpPr>
            <p:sp>
              <p:nvSpPr>
                <p:cNvPr id="3461" name=""/>
                <p:cNvSpPr/>
                <p:nvPr/>
              </p:nvSpPr>
              <p:spPr>
                <a:xfrm>
                  <a:off x="1673280" y="3624120"/>
                  <a:ext cx="2273040" cy="1749600"/>
                </a:xfrm>
                <a:custGeom>
                  <a:avLst/>
                  <a:gdLst/>
                  <a:ahLst/>
                  <a:rect l="l" t="t" r="r" b="b"/>
                  <a:pathLst>
                    <a:path w="1611" h="1102">
                      <a:moveTo>
                        <a:pt x="886" y="1062"/>
                      </a:moveTo>
                      <a:lnTo>
                        <a:pt x="488" y="1101"/>
                      </a:lnTo>
                      <a:lnTo>
                        <a:pt x="840" y="1053"/>
                      </a:lnTo>
                      <a:lnTo>
                        <a:pt x="840" y="1038"/>
                      </a:lnTo>
                      <a:lnTo>
                        <a:pt x="0" y="926"/>
                      </a:lnTo>
                      <a:lnTo>
                        <a:pt x="816" y="1010"/>
                      </a:lnTo>
                      <a:lnTo>
                        <a:pt x="850" y="969"/>
                      </a:lnTo>
                      <a:lnTo>
                        <a:pt x="42" y="0"/>
                      </a:lnTo>
                      <a:lnTo>
                        <a:pt x="808" y="879"/>
                      </a:lnTo>
                      <a:lnTo>
                        <a:pt x="743" y="727"/>
                      </a:lnTo>
                      <a:lnTo>
                        <a:pt x="885" y="916"/>
                      </a:lnTo>
                      <a:lnTo>
                        <a:pt x="901" y="959"/>
                      </a:lnTo>
                      <a:lnTo>
                        <a:pt x="958" y="183"/>
                      </a:lnTo>
                      <a:lnTo>
                        <a:pt x="934" y="983"/>
                      </a:lnTo>
                      <a:lnTo>
                        <a:pt x="982" y="566"/>
                      </a:lnTo>
                      <a:lnTo>
                        <a:pt x="1005" y="913"/>
                      </a:lnTo>
                      <a:lnTo>
                        <a:pt x="1610" y="231"/>
                      </a:lnTo>
                      <a:lnTo>
                        <a:pt x="970" y="998"/>
                      </a:lnTo>
                      <a:lnTo>
                        <a:pt x="968" y="1023"/>
                      </a:lnTo>
                      <a:lnTo>
                        <a:pt x="1610" y="819"/>
                      </a:lnTo>
                      <a:lnTo>
                        <a:pt x="972" y="1040"/>
                      </a:lnTo>
                      <a:lnTo>
                        <a:pt x="969" y="1055"/>
                      </a:lnTo>
                      <a:lnTo>
                        <a:pt x="897" y="1068"/>
                      </a:lnTo>
                      <a:lnTo>
                        <a:pt x="886" y="106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2" name=""/>
                <p:cNvGrpSpPr/>
                <p:nvPr/>
              </p:nvGrpSpPr>
              <p:grpSpPr>
                <a:xfrm>
                  <a:off x="2138760" y="3514680"/>
                  <a:ext cx="1530360" cy="1911240"/>
                  <a:chOff x="2138760" y="3514680"/>
                  <a:chExt cx="1530360" cy="1911240"/>
                </a:xfrm>
              </p:grpSpPr>
              <p:sp>
                <p:nvSpPr>
                  <p:cNvPr id="3463" name=""/>
                  <p:cNvSpPr/>
                  <p:nvPr/>
                </p:nvSpPr>
                <p:spPr>
                  <a:xfrm>
                    <a:off x="2162520" y="3533760"/>
                    <a:ext cx="1506600" cy="18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1192">
                        <a:moveTo>
                          <a:pt x="660" y="1182"/>
                        </a:moveTo>
                        <a:lnTo>
                          <a:pt x="706" y="1174"/>
                        </a:lnTo>
                        <a:lnTo>
                          <a:pt x="774" y="1155"/>
                        </a:lnTo>
                        <a:lnTo>
                          <a:pt x="825" y="1128"/>
                        </a:lnTo>
                        <a:lnTo>
                          <a:pt x="854" y="1096"/>
                        </a:lnTo>
                        <a:lnTo>
                          <a:pt x="877" y="1062"/>
                        </a:lnTo>
                        <a:lnTo>
                          <a:pt x="894" y="1031"/>
                        </a:lnTo>
                        <a:lnTo>
                          <a:pt x="910" y="989"/>
                        </a:lnTo>
                        <a:lnTo>
                          <a:pt x="919" y="935"/>
                        </a:lnTo>
                        <a:lnTo>
                          <a:pt x="926" y="876"/>
                        </a:lnTo>
                        <a:lnTo>
                          <a:pt x="927" y="837"/>
                        </a:lnTo>
                        <a:lnTo>
                          <a:pt x="935" y="804"/>
                        </a:lnTo>
                        <a:lnTo>
                          <a:pt x="940" y="784"/>
                        </a:lnTo>
                        <a:lnTo>
                          <a:pt x="954" y="759"/>
                        </a:lnTo>
                        <a:lnTo>
                          <a:pt x="969" y="731"/>
                        </a:lnTo>
                        <a:lnTo>
                          <a:pt x="982" y="711"/>
                        </a:lnTo>
                        <a:lnTo>
                          <a:pt x="993" y="693"/>
                        </a:lnTo>
                        <a:lnTo>
                          <a:pt x="1008" y="677"/>
                        </a:lnTo>
                        <a:lnTo>
                          <a:pt x="1028" y="659"/>
                        </a:lnTo>
                        <a:lnTo>
                          <a:pt x="1067" y="632"/>
                        </a:lnTo>
                        <a:lnTo>
                          <a:pt x="1008" y="651"/>
                        </a:lnTo>
                        <a:lnTo>
                          <a:pt x="980" y="665"/>
                        </a:lnTo>
                        <a:lnTo>
                          <a:pt x="954" y="682"/>
                        </a:lnTo>
                        <a:lnTo>
                          <a:pt x="926" y="700"/>
                        </a:lnTo>
                        <a:lnTo>
                          <a:pt x="900" y="720"/>
                        </a:lnTo>
                        <a:lnTo>
                          <a:pt x="879" y="745"/>
                        </a:lnTo>
                        <a:lnTo>
                          <a:pt x="853" y="777"/>
                        </a:lnTo>
                        <a:lnTo>
                          <a:pt x="831" y="803"/>
                        </a:lnTo>
                        <a:lnTo>
                          <a:pt x="812" y="830"/>
                        </a:lnTo>
                        <a:lnTo>
                          <a:pt x="830" y="791"/>
                        </a:lnTo>
                        <a:lnTo>
                          <a:pt x="843" y="758"/>
                        </a:lnTo>
                        <a:lnTo>
                          <a:pt x="850" y="720"/>
                        </a:lnTo>
                        <a:lnTo>
                          <a:pt x="854" y="672"/>
                        </a:lnTo>
                        <a:lnTo>
                          <a:pt x="854" y="623"/>
                        </a:lnTo>
                        <a:lnTo>
                          <a:pt x="845" y="577"/>
                        </a:lnTo>
                        <a:lnTo>
                          <a:pt x="836" y="533"/>
                        </a:lnTo>
                        <a:lnTo>
                          <a:pt x="826" y="492"/>
                        </a:lnTo>
                        <a:lnTo>
                          <a:pt x="812" y="457"/>
                        </a:lnTo>
                        <a:lnTo>
                          <a:pt x="795" y="418"/>
                        </a:lnTo>
                        <a:lnTo>
                          <a:pt x="765" y="372"/>
                        </a:lnTo>
                        <a:lnTo>
                          <a:pt x="745" y="341"/>
                        </a:lnTo>
                        <a:lnTo>
                          <a:pt x="714" y="296"/>
                        </a:lnTo>
                        <a:lnTo>
                          <a:pt x="687" y="246"/>
                        </a:lnTo>
                        <a:lnTo>
                          <a:pt x="668" y="200"/>
                        </a:lnTo>
                        <a:lnTo>
                          <a:pt x="655" y="168"/>
                        </a:lnTo>
                        <a:lnTo>
                          <a:pt x="648" y="131"/>
                        </a:lnTo>
                        <a:lnTo>
                          <a:pt x="643" y="96"/>
                        </a:lnTo>
                        <a:lnTo>
                          <a:pt x="643" y="65"/>
                        </a:lnTo>
                        <a:lnTo>
                          <a:pt x="646" y="38"/>
                        </a:lnTo>
                        <a:lnTo>
                          <a:pt x="647" y="0"/>
                        </a:lnTo>
                        <a:lnTo>
                          <a:pt x="630" y="51"/>
                        </a:lnTo>
                        <a:lnTo>
                          <a:pt x="619" y="93"/>
                        </a:lnTo>
                        <a:lnTo>
                          <a:pt x="612" y="130"/>
                        </a:lnTo>
                        <a:lnTo>
                          <a:pt x="611" y="168"/>
                        </a:lnTo>
                        <a:lnTo>
                          <a:pt x="617" y="214"/>
                        </a:lnTo>
                        <a:lnTo>
                          <a:pt x="629" y="250"/>
                        </a:lnTo>
                        <a:lnTo>
                          <a:pt x="642" y="285"/>
                        </a:lnTo>
                        <a:lnTo>
                          <a:pt x="658" y="315"/>
                        </a:lnTo>
                        <a:lnTo>
                          <a:pt x="670" y="356"/>
                        </a:lnTo>
                        <a:lnTo>
                          <a:pt x="675" y="395"/>
                        </a:lnTo>
                        <a:lnTo>
                          <a:pt x="678" y="436"/>
                        </a:lnTo>
                        <a:lnTo>
                          <a:pt x="682" y="479"/>
                        </a:lnTo>
                        <a:lnTo>
                          <a:pt x="682" y="518"/>
                        </a:lnTo>
                        <a:lnTo>
                          <a:pt x="674" y="583"/>
                        </a:lnTo>
                        <a:lnTo>
                          <a:pt x="660" y="623"/>
                        </a:lnTo>
                        <a:lnTo>
                          <a:pt x="626" y="679"/>
                        </a:lnTo>
                        <a:lnTo>
                          <a:pt x="597" y="736"/>
                        </a:lnTo>
                        <a:lnTo>
                          <a:pt x="574" y="793"/>
                        </a:lnTo>
                        <a:lnTo>
                          <a:pt x="558" y="761"/>
                        </a:lnTo>
                        <a:lnTo>
                          <a:pt x="547" y="726"/>
                        </a:lnTo>
                        <a:lnTo>
                          <a:pt x="539" y="691"/>
                        </a:lnTo>
                        <a:lnTo>
                          <a:pt x="535" y="634"/>
                        </a:lnTo>
                        <a:lnTo>
                          <a:pt x="549" y="536"/>
                        </a:lnTo>
                        <a:lnTo>
                          <a:pt x="553" y="507"/>
                        </a:lnTo>
                        <a:lnTo>
                          <a:pt x="554" y="474"/>
                        </a:lnTo>
                        <a:lnTo>
                          <a:pt x="554" y="441"/>
                        </a:lnTo>
                        <a:lnTo>
                          <a:pt x="549" y="398"/>
                        </a:lnTo>
                        <a:lnTo>
                          <a:pt x="539" y="356"/>
                        </a:lnTo>
                        <a:lnTo>
                          <a:pt x="522" y="316"/>
                        </a:lnTo>
                        <a:lnTo>
                          <a:pt x="492" y="260"/>
                        </a:lnTo>
                        <a:lnTo>
                          <a:pt x="508" y="327"/>
                        </a:lnTo>
                        <a:lnTo>
                          <a:pt x="518" y="384"/>
                        </a:lnTo>
                        <a:lnTo>
                          <a:pt x="518" y="432"/>
                        </a:lnTo>
                        <a:lnTo>
                          <a:pt x="513" y="471"/>
                        </a:lnTo>
                        <a:lnTo>
                          <a:pt x="501" y="507"/>
                        </a:lnTo>
                        <a:lnTo>
                          <a:pt x="485" y="550"/>
                        </a:lnTo>
                        <a:lnTo>
                          <a:pt x="440" y="645"/>
                        </a:lnTo>
                        <a:lnTo>
                          <a:pt x="437" y="586"/>
                        </a:lnTo>
                        <a:lnTo>
                          <a:pt x="441" y="534"/>
                        </a:lnTo>
                        <a:lnTo>
                          <a:pt x="446" y="488"/>
                        </a:lnTo>
                        <a:lnTo>
                          <a:pt x="418" y="535"/>
                        </a:lnTo>
                        <a:lnTo>
                          <a:pt x="402" y="576"/>
                        </a:lnTo>
                        <a:lnTo>
                          <a:pt x="392" y="621"/>
                        </a:lnTo>
                        <a:lnTo>
                          <a:pt x="383" y="673"/>
                        </a:lnTo>
                        <a:lnTo>
                          <a:pt x="387" y="736"/>
                        </a:lnTo>
                        <a:lnTo>
                          <a:pt x="398" y="799"/>
                        </a:lnTo>
                        <a:lnTo>
                          <a:pt x="416" y="850"/>
                        </a:lnTo>
                        <a:lnTo>
                          <a:pt x="444" y="914"/>
                        </a:lnTo>
                        <a:lnTo>
                          <a:pt x="487" y="996"/>
                        </a:lnTo>
                        <a:lnTo>
                          <a:pt x="418" y="901"/>
                        </a:lnTo>
                        <a:lnTo>
                          <a:pt x="402" y="876"/>
                        </a:lnTo>
                        <a:lnTo>
                          <a:pt x="372" y="837"/>
                        </a:lnTo>
                        <a:lnTo>
                          <a:pt x="334" y="799"/>
                        </a:lnTo>
                        <a:lnTo>
                          <a:pt x="275" y="753"/>
                        </a:lnTo>
                        <a:lnTo>
                          <a:pt x="311" y="804"/>
                        </a:lnTo>
                        <a:lnTo>
                          <a:pt x="330" y="835"/>
                        </a:lnTo>
                        <a:lnTo>
                          <a:pt x="351" y="868"/>
                        </a:lnTo>
                        <a:lnTo>
                          <a:pt x="386" y="935"/>
                        </a:lnTo>
                        <a:lnTo>
                          <a:pt x="413" y="991"/>
                        </a:lnTo>
                        <a:lnTo>
                          <a:pt x="452" y="1083"/>
                        </a:lnTo>
                        <a:lnTo>
                          <a:pt x="404" y="1068"/>
                        </a:lnTo>
                        <a:lnTo>
                          <a:pt x="361" y="1040"/>
                        </a:lnTo>
                        <a:lnTo>
                          <a:pt x="316" y="1003"/>
                        </a:lnTo>
                        <a:lnTo>
                          <a:pt x="278" y="969"/>
                        </a:lnTo>
                        <a:lnTo>
                          <a:pt x="227" y="926"/>
                        </a:lnTo>
                        <a:lnTo>
                          <a:pt x="190" y="900"/>
                        </a:lnTo>
                        <a:lnTo>
                          <a:pt x="158" y="880"/>
                        </a:lnTo>
                        <a:lnTo>
                          <a:pt x="127" y="864"/>
                        </a:lnTo>
                        <a:lnTo>
                          <a:pt x="92" y="856"/>
                        </a:lnTo>
                        <a:lnTo>
                          <a:pt x="58" y="850"/>
                        </a:lnTo>
                        <a:lnTo>
                          <a:pt x="0" y="841"/>
                        </a:lnTo>
                        <a:lnTo>
                          <a:pt x="50" y="860"/>
                        </a:lnTo>
                        <a:lnTo>
                          <a:pt x="105" y="885"/>
                        </a:lnTo>
                        <a:lnTo>
                          <a:pt x="145" y="910"/>
                        </a:lnTo>
                        <a:lnTo>
                          <a:pt x="168" y="928"/>
                        </a:lnTo>
                        <a:lnTo>
                          <a:pt x="212" y="977"/>
                        </a:lnTo>
                        <a:lnTo>
                          <a:pt x="253" y="1029"/>
                        </a:lnTo>
                        <a:lnTo>
                          <a:pt x="305" y="1087"/>
                        </a:lnTo>
                        <a:lnTo>
                          <a:pt x="344" y="1113"/>
                        </a:lnTo>
                        <a:lnTo>
                          <a:pt x="398" y="1141"/>
                        </a:lnTo>
                        <a:lnTo>
                          <a:pt x="489" y="1178"/>
                        </a:lnTo>
                        <a:lnTo>
                          <a:pt x="567" y="1191"/>
                        </a:lnTo>
                        <a:lnTo>
                          <a:pt x="660" y="1182"/>
                        </a:lnTo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2162520" y="3514680"/>
                    <a:ext cx="1496520" cy="18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192">
                        <a:moveTo>
                          <a:pt x="649" y="1182"/>
                        </a:moveTo>
                        <a:lnTo>
                          <a:pt x="693" y="1174"/>
                        </a:lnTo>
                        <a:lnTo>
                          <a:pt x="759" y="1155"/>
                        </a:lnTo>
                        <a:lnTo>
                          <a:pt x="807" y="1128"/>
                        </a:lnTo>
                        <a:lnTo>
                          <a:pt x="837" y="1096"/>
                        </a:lnTo>
                        <a:lnTo>
                          <a:pt x="859" y="1062"/>
                        </a:lnTo>
                        <a:lnTo>
                          <a:pt x="876" y="1031"/>
                        </a:lnTo>
                        <a:lnTo>
                          <a:pt x="891" y="989"/>
                        </a:lnTo>
                        <a:lnTo>
                          <a:pt x="900" y="935"/>
                        </a:lnTo>
                        <a:lnTo>
                          <a:pt x="908" y="877"/>
                        </a:lnTo>
                        <a:lnTo>
                          <a:pt x="908" y="837"/>
                        </a:lnTo>
                        <a:lnTo>
                          <a:pt x="914" y="805"/>
                        </a:lnTo>
                        <a:lnTo>
                          <a:pt x="921" y="784"/>
                        </a:lnTo>
                        <a:lnTo>
                          <a:pt x="933" y="759"/>
                        </a:lnTo>
                        <a:lnTo>
                          <a:pt x="948" y="731"/>
                        </a:lnTo>
                        <a:lnTo>
                          <a:pt x="963" y="711"/>
                        </a:lnTo>
                        <a:lnTo>
                          <a:pt x="980" y="690"/>
                        </a:lnTo>
                        <a:lnTo>
                          <a:pt x="992" y="677"/>
                        </a:lnTo>
                        <a:lnTo>
                          <a:pt x="1011" y="663"/>
                        </a:lnTo>
                        <a:lnTo>
                          <a:pt x="1060" y="646"/>
                        </a:lnTo>
                        <a:lnTo>
                          <a:pt x="1003" y="655"/>
                        </a:lnTo>
                        <a:lnTo>
                          <a:pt x="968" y="664"/>
                        </a:lnTo>
                        <a:lnTo>
                          <a:pt x="933" y="682"/>
                        </a:lnTo>
                        <a:lnTo>
                          <a:pt x="908" y="699"/>
                        </a:lnTo>
                        <a:lnTo>
                          <a:pt x="882" y="720"/>
                        </a:lnTo>
                        <a:lnTo>
                          <a:pt x="861" y="745"/>
                        </a:lnTo>
                        <a:lnTo>
                          <a:pt x="834" y="777"/>
                        </a:lnTo>
                        <a:lnTo>
                          <a:pt x="814" y="803"/>
                        </a:lnTo>
                        <a:lnTo>
                          <a:pt x="796" y="830"/>
                        </a:lnTo>
                        <a:lnTo>
                          <a:pt x="813" y="790"/>
                        </a:lnTo>
                        <a:lnTo>
                          <a:pt x="824" y="757"/>
                        </a:lnTo>
                        <a:lnTo>
                          <a:pt x="833" y="720"/>
                        </a:lnTo>
                        <a:lnTo>
                          <a:pt x="837" y="672"/>
                        </a:lnTo>
                        <a:lnTo>
                          <a:pt x="836" y="622"/>
                        </a:lnTo>
                        <a:lnTo>
                          <a:pt x="828" y="577"/>
                        </a:lnTo>
                        <a:lnTo>
                          <a:pt x="820" y="532"/>
                        </a:lnTo>
                        <a:lnTo>
                          <a:pt x="809" y="493"/>
                        </a:lnTo>
                        <a:lnTo>
                          <a:pt x="797" y="456"/>
                        </a:lnTo>
                        <a:lnTo>
                          <a:pt x="779" y="418"/>
                        </a:lnTo>
                        <a:lnTo>
                          <a:pt x="751" y="371"/>
                        </a:lnTo>
                        <a:lnTo>
                          <a:pt x="730" y="341"/>
                        </a:lnTo>
                        <a:lnTo>
                          <a:pt x="699" y="295"/>
                        </a:lnTo>
                        <a:lnTo>
                          <a:pt x="675" y="245"/>
                        </a:lnTo>
                        <a:lnTo>
                          <a:pt x="656" y="199"/>
                        </a:lnTo>
                        <a:lnTo>
                          <a:pt x="643" y="167"/>
                        </a:lnTo>
                        <a:lnTo>
                          <a:pt x="636" y="131"/>
                        </a:lnTo>
                        <a:lnTo>
                          <a:pt x="631" y="95"/>
                        </a:lnTo>
                        <a:lnTo>
                          <a:pt x="631" y="64"/>
                        </a:lnTo>
                        <a:lnTo>
                          <a:pt x="632" y="37"/>
                        </a:lnTo>
                        <a:lnTo>
                          <a:pt x="635" y="0"/>
                        </a:lnTo>
                        <a:lnTo>
                          <a:pt x="618" y="50"/>
                        </a:lnTo>
                        <a:lnTo>
                          <a:pt x="607" y="92"/>
                        </a:lnTo>
                        <a:lnTo>
                          <a:pt x="602" y="131"/>
                        </a:lnTo>
                        <a:lnTo>
                          <a:pt x="600" y="167"/>
                        </a:lnTo>
                        <a:lnTo>
                          <a:pt x="605" y="213"/>
                        </a:lnTo>
                        <a:lnTo>
                          <a:pt x="617" y="249"/>
                        </a:lnTo>
                        <a:lnTo>
                          <a:pt x="631" y="284"/>
                        </a:lnTo>
                        <a:lnTo>
                          <a:pt x="645" y="315"/>
                        </a:lnTo>
                        <a:lnTo>
                          <a:pt x="658" y="355"/>
                        </a:lnTo>
                        <a:lnTo>
                          <a:pt x="662" y="395"/>
                        </a:lnTo>
                        <a:lnTo>
                          <a:pt x="666" y="436"/>
                        </a:lnTo>
                        <a:lnTo>
                          <a:pt x="668" y="478"/>
                        </a:lnTo>
                        <a:lnTo>
                          <a:pt x="668" y="519"/>
                        </a:lnTo>
                        <a:lnTo>
                          <a:pt x="661" y="582"/>
                        </a:lnTo>
                        <a:lnTo>
                          <a:pt x="648" y="622"/>
                        </a:lnTo>
                        <a:lnTo>
                          <a:pt x="614" y="679"/>
                        </a:lnTo>
                        <a:lnTo>
                          <a:pt x="586" y="736"/>
                        </a:lnTo>
                        <a:lnTo>
                          <a:pt x="564" y="792"/>
                        </a:lnTo>
                        <a:lnTo>
                          <a:pt x="548" y="761"/>
                        </a:lnTo>
                        <a:lnTo>
                          <a:pt x="537" y="726"/>
                        </a:lnTo>
                        <a:lnTo>
                          <a:pt x="530" y="690"/>
                        </a:lnTo>
                        <a:lnTo>
                          <a:pt x="526" y="634"/>
                        </a:lnTo>
                        <a:lnTo>
                          <a:pt x="539" y="536"/>
                        </a:lnTo>
                        <a:lnTo>
                          <a:pt x="543" y="507"/>
                        </a:lnTo>
                        <a:lnTo>
                          <a:pt x="544" y="473"/>
                        </a:lnTo>
                        <a:lnTo>
                          <a:pt x="544" y="441"/>
                        </a:lnTo>
                        <a:lnTo>
                          <a:pt x="539" y="398"/>
                        </a:lnTo>
                        <a:lnTo>
                          <a:pt x="530" y="356"/>
                        </a:lnTo>
                        <a:lnTo>
                          <a:pt x="513" y="316"/>
                        </a:lnTo>
                        <a:lnTo>
                          <a:pt x="483" y="260"/>
                        </a:lnTo>
                        <a:lnTo>
                          <a:pt x="500" y="327"/>
                        </a:lnTo>
                        <a:lnTo>
                          <a:pt x="509" y="384"/>
                        </a:lnTo>
                        <a:lnTo>
                          <a:pt x="509" y="431"/>
                        </a:lnTo>
                        <a:lnTo>
                          <a:pt x="504" y="470"/>
                        </a:lnTo>
                        <a:lnTo>
                          <a:pt x="492" y="506"/>
                        </a:lnTo>
                        <a:lnTo>
                          <a:pt x="477" y="550"/>
                        </a:lnTo>
                        <a:lnTo>
                          <a:pt x="433" y="645"/>
                        </a:lnTo>
                        <a:lnTo>
                          <a:pt x="429" y="586"/>
                        </a:lnTo>
                        <a:lnTo>
                          <a:pt x="435" y="535"/>
                        </a:lnTo>
                        <a:lnTo>
                          <a:pt x="438" y="487"/>
                        </a:lnTo>
                        <a:lnTo>
                          <a:pt x="411" y="536"/>
                        </a:lnTo>
                        <a:lnTo>
                          <a:pt x="397" y="576"/>
                        </a:lnTo>
                        <a:lnTo>
                          <a:pt x="387" y="621"/>
                        </a:lnTo>
                        <a:lnTo>
                          <a:pt x="379" y="672"/>
                        </a:lnTo>
                        <a:lnTo>
                          <a:pt x="382" y="736"/>
                        </a:lnTo>
                        <a:lnTo>
                          <a:pt x="391" y="798"/>
                        </a:lnTo>
                        <a:lnTo>
                          <a:pt x="410" y="849"/>
                        </a:lnTo>
                        <a:lnTo>
                          <a:pt x="437" y="915"/>
                        </a:lnTo>
                        <a:lnTo>
                          <a:pt x="479" y="996"/>
                        </a:lnTo>
                        <a:lnTo>
                          <a:pt x="411" y="900"/>
                        </a:lnTo>
                        <a:lnTo>
                          <a:pt x="396" y="875"/>
                        </a:lnTo>
                        <a:lnTo>
                          <a:pt x="367" y="837"/>
                        </a:lnTo>
                        <a:lnTo>
                          <a:pt x="330" y="798"/>
                        </a:lnTo>
                        <a:lnTo>
                          <a:pt x="272" y="753"/>
                        </a:lnTo>
                        <a:lnTo>
                          <a:pt x="307" y="804"/>
                        </a:lnTo>
                        <a:lnTo>
                          <a:pt x="327" y="835"/>
                        </a:lnTo>
                        <a:lnTo>
                          <a:pt x="345" y="867"/>
                        </a:lnTo>
                        <a:lnTo>
                          <a:pt x="381" y="935"/>
                        </a:lnTo>
                        <a:lnTo>
                          <a:pt x="407" y="991"/>
                        </a:lnTo>
                        <a:lnTo>
                          <a:pt x="445" y="1083"/>
                        </a:lnTo>
                        <a:lnTo>
                          <a:pt x="399" y="1068"/>
                        </a:lnTo>
                        <a:lnTo>
                          <a:pt x="356" y="1040"/>
                        </a:lnTo>
                        <a:lnTo>
                          <a:pt x="311" y="1003"/>
                        </a:lnTo>
                        <a:lnTo>
                          <a:pt x="275" y="968"/>
                        </a:lnTo>
                        <a:lnTo>
                          <a:pt x="226" y="925"/>
                        </a:lnTo>
                        <a:lnTo>
                          <a:pt x="189" y="900"/>
                        </a:lnTo>
                        <a:lnTo>
                          <a:pt x="159" y="880"/>
                        </a:lnTo>
                        <a:lnTo>
                          <a:pt x="128" y="864"/>
                        </a:lnTo>
                        <a:lnTo>
                          <a:pt x="94" y="856"/>
                        </a:lnTo>
                        <a:lnTo>
                          <a:pt x="60" y="849"/>
                        </a:lnTo>
                        <a:lnTo>
                          <a:pt x="0" y="844"/>
                        </a:lnTo>
                        <a:lnTo>
                          <a:pt x="54" y="859"/>
                        </a:lnTo>
                        <a:lnTo>
                          <a:pt x="108" y="884"/>
                        </a:lnTo>
                        <a:lnTo>
                          <a:pt x="145" y="909"/>
                        </a:lnTo>
                        <a:lnTo>
                          <a:pt x="169" y="929"/>
                        </a:lnTo>
                        <a:lnTo>
                          <a:pt x="212" y="976"/>
                        </a:lnTo>
                        <a:lnTo>
                          <a:pt x="252" y="1029"/>
                        </a:lnTo>
                        <a:lnTo>
                          <a:pt x="301" y="1088"/>
                        </a:lnTo>
                        <a:lnTo>
                          <a:pt x="339" y="1113"/>
                        </a:lnTo>
                        <a:lnTo>
                          <a:pt x="391" y="1142"/>
                        </a:lnTo>
                        <a:lnTo>
                          <a:pt x="481" y="1178"/>
                        </a:lnTo>
                        <a:lnTo>
                          <a:pt x="558" y="1191"/>
                        </a:lnTo>
                        <a:lnTo>
                          <a:pt x="649" y="1182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2168280" y="3567240"/>
                    <a:ext cx="1452960" cy="18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0" h="1168">
                        <a:moveTo>
                          <a:pt x="632" y="1158"/>
                        </a:moveTo>
                        <a:lnTo>
                          <a:pt x="674" y="1150"/>
                        </a:lnTo>
                        <a:lnTo>
                          <a:pt x="741" y="1132"/>
                        </a:lnTo>
                        <a:lnTo>
                          <a:pt x="789" y="1105"/>
                        </a:lnTo>
                        <a:lnTo>
                          <a:pt x="817" y="1074"/>
                        </a:lnTo>
                        <a:lnTo>
                          <a:pt x="840" y="1041"/>
                        </a:lnTo>
                        <a:lnTo>
                          <a:pt x="855" y="1010"/>
                        </a:lnTo>
                        <a:lnTo>
                          <a:pt x="870" y="969"/>
                        </a:lnTo>
                        <a:lnTo>
                          <a:pt x="879" y="916"/>
                        </a:lnTo>
                        <a:lnTo>
                          <a:pt x="886" y="860"/>
                        </a:lnTo>
                        <a:lnTo>
                          <a:pt x="887" y="821"/>
                        </a:lnTo>
                        <a:lnTo>
                          <a:pt x="894" y="788"/>
                        </a:lnTo>
                        <a:lnTo>
                          <a:pt x="899" y="769"/>
                        </a:lnTo>
                        <a:lnTo>
                          <a:pt x="913" y="743"/>
                        </a:lnTo>
                        <a:lnTo>
                          <a:pt x="926" y="717"/>
                        </a:lnTo>
                        <a:lnTo>
                          <a:pt x="940" y="696"/>
                        </a:lnTo>
                        <a:lnTo>
                          <a:pt x="957" y="676"/>
                        </a:lnTo>
                        <a:lnTo>
                          <a:pt x="969" y="663"/>
                        </a:lnTo>
                        <a:lnTo>
                          <a:pt x="988" y="650"/>
                        </a:lnTo>
                        <a:lnTo>
                          <a:pt x="1029" y="625"/>
                        </a:lnTo>
                        <a:lnTo>
                          <a:pt x="980" y="639"/>
                        </a:lnTo>
                        <a:lnTo>
                          <a:pt x="946" y="651"/>
                        </a:lnTo>
                        <a:lnTo>
                          <a:pt x="913" y="668"/>
                        </a:lnTo>
                        <a:lnTo>
                          <a:pt x="886" y="686"/>
                        </a:lnTo>
                        <a:lnTo>
                          <a:pt x="861" y="705"/>
                        </a:lnTo>
                        <a:lnTo>
                          <a:pt x="841" y="729"/>
                        </a:lnTo>
                        <a:lnTo>
                          <a:pt x="815" y="762"/>
                        </a:lnTo>
                        <a:lnTo>
                          <a:pt x="795" y="787"/>
                        </a:lnTo>
                        <a:lnTo>
                          <a:pt x="777" y="813"/>
                        </a:lnTo>
                        <a:lnTo>
                          <a:pt x="795" y="775"/>
                        </a:lnTo>
                        <a:lnTo>
                          <a:pt x="805" y="742"/>
                        </a:lnTo>
                        <a:lnTo>
                          <a:pt x="814" y="705"/>
                        </a:lnTo>
                        <a:lnTo>
                          <a:pt x="817" y="658"/>
                        </a:lnTo>
                        <a:lnTo>
                          <a:pt x="816" y="610"/>
                        </a:lnTo>
                        <a:lnTo>
                          <a:pt x="809" y="566"/>
                        </a:lnTo>
                        <a:lnTo>
                          <a:pt x="800" y="521"/>
                        </a:lnTo>
                        <a:lnTo>
                          <a:pt x="790" y="483"/>
                        </a:lnTo>
                        <a:lnTo>
                          <a:pt x="777" y="447"/>
                        </a:lnTo>
                        <a:lnTo>
                          <a:pt x="761" y="410"/>
                        </a:lnTo>
                        <a:lnTo>
                          <a:pt x="732" y="364"/>
                        </a:lnTo>
                        <a:lnTo>
                          <a:pt x="711" y="334"/>
                        </a:lnTo>
                        <a:lnTo>
                          <a:pt x="683" y="289"/>
                        </a:lnTo>
                        <a:lnTo>
                          <a:pt x="657" y="241"/>
                        </a:lnTo>
                        <a:lnTo>
                          <a:pt x="638" y="196"/>
                        </a:lnTo>
                        <a:lnTo>
                          <a:pt x="628" y="165"/>
                        </a:lnTo>
                        <a:lnTo>
                          <a:pt x="619" y="129"/>
                        </a:lnTo>
                        <a:lnTo>
                          <a:pt x="616" y="94"/>
                        </a:lnTo>
                        <a:lnTo>
                          <a:pt x="616" y="63"/>
                        </a:lnTo>
                        <a:lnTo>
                          <a:pt x="617" y="37"/>
                        </a:lnTo>
                        <a:lnTo>
                          <a:pt x="619" y="0"/>
                        </a:lnTo>
                        <a:lnTo>
                          <a:pt x="602" y="50"/>
                        </a:lnTo>
                        <a:lnTo>
                          <a:pt x="592" y="91"/>
                        </a:lnTo>
                        <a:lnTo>
                          <a:pt x="585" y="129"/>
                        </a:lnTo>
                        <a:lnTo>
                          <a:pt x="584" y="165"/>
                        </a:lnTo>
                        <a:lnTo>
                          <a:pt x="591" y="209"/>
                        </a:lnTo>
                        <a:lnTo>
                          <a:pt x="601" y="246"/>
                        </a:lnTo>
                        <a:lnTo>
                          <a:pt x="615" y="279"/>
                        </a:lnTo>
                        <a:lnTo>
                          <a:pt x="629" y="309"/>
                        </a:lnTo>
                        <a:lnTo>
                          <a:pt x="641" y="348"/>
                        </a:lnTo>
                        <a:lnTo>
                          <a:pt x="646" y="388"/>
                        </a:lnTo>
                        <a:lnTo>
                          <a:pt x="650" y="428"/>
                        </a:lnTo>
                        <a:lnTo>
                          <a:pt x="652" y="470"/>
                        </a:lnTo>
                        <a:lnTo>
                          <a:pt x="652" y="508"/>
                        </a:lnTo>
                        <a:lnTo>
                          <a:pt x="645" y="571"/>
                        </a:lnTo>
                        <a:lnTo>
                          <a:pt x="632" y="610"/>
                        </a:lnTo>
                        <a:lnTo>
                          <a:pt x="599" y="665"/>
                        </a:lnTo>
                        <a:lnTo>
                          <a:pt x="572" y="721"/>
                        </a:lnTo>
                        <a:lnTo>
                          <a:pt x="549" y="777"/>
                        </a:lnTo>
                        <a:lnTo>
                          <a:pt x="535" y="745"/>
                        </a:lnTo>
                        <a:lnTo>
                          <a:pt x="522" y="712"/>
                        </a:lnTo>
                        <a:lnTo>
                          <a:pt x="516" y="677"/>
                        </a:lnTo>
                        <a:lnTo>
                          <a:pt x="512" y="621"/>
                        </a:lnTo>
                        <a:lnTo>
                          <a:pt x="526" y="526"/>
                        </a:lnTo>
                        <a:lnTo>
                          <a:pt x="529" y="497"/>
                        </a:lnTo>
                        <a:lnTo>
                          <a:pt x="530" y="464"/>
                        </a:lnTo>
                        <a:lnTo>
                          <a:pt x="530" y="432"/>
                        </a:lnTo>
                        <a:lnTo>
                          <a:pt x="526" y="390"/>
                        </a:lnTo>
                        <a:lnTo>
                          <a:pt x="516" y="349"/>
                        </a:lnTo>
                        <a:lnTo>
                          <a:pt x="500" y="310"/>
                        </a:lnTo>
                        <a:lnTo>
                          <a:pt x="472" y="255"/>
                        </a:lnTo>
                        <a:lnTo>
                          <a:pt x="486" y="321"/>
                        </a:lnTo>
                        <a:lnTo>
                          <a:pt x="497" y="376"/>
                        </a:lnTo>
                        <a:lnTo>
                          <a:pt x="495" y="422"/>
                        </a:lnTo>
                        <a:lnTo>
                          <a:pt x="491" y="462"/>
                        </a:lnTo>
                        <a:lnTo>
                          <a:pt x="481" y="496"/>
                        </a:lnTo>
                        <a:lnTo>
                          <a:pt x="464" y="539"/>
                        </a:lnTo>
                        <a:lnTo>
                          <a:pt x="421" y="632"/>
                        </a:lnTo>
                        <a:lnTo>
                          <a:pt x="418" y="574"/>
                        </a:lnTo>
                        <a:lnTo>
                          <a:pt x="422" y="524"/>
                        </a:lnTo>
                        <a:lnTo>
                          <a:pt x="427" y="478"/>
                        </a:lnTo>
                        <a:lnTo>
                          <a:pt x="400" y="525"/>
                        </a:lnTo>
                        <a:lnTo>
                          <a:pt x="386" y="565"/>
                        </a:lnTo>
                        <a:lnTo>
                          <a:pt x="376" y="608"/>
                        </a:lnTo>
                        <a:lnTo>
                          <a:pt x="368" y="659"/>
                        </a:lnTo>
                        <a:lnTo>
                          <a:pt x="371" y="721"/>
                        </a:lnTo>
                        <a:lnTo>
                          <a:pt x="381" y="783"/>
                        </a:lnTo>
                        <a:lnTo>
                          <a:pt x="399" y="833"/>
                        </a:lnTo>
                        <a:lnTo>
                          <a:pt x="426" y="896"/>
                        </a:lnTo>
                        <a:lnTo>
                          <a:pt x="466" y="976"/>
                        </a:lnTo>
                        <a:lnTo>
                          <a:pt x="400" y="882"/>
                        </a:lnTo>
                        <a:lnTo>
                          <a:pt x="385" y="858"/>
                        </a:lnTo>
                        <a:lnTo>
                          <a:pt x="357" y="820"/>
                        </a:lnTo>
                        <a:lnTo>
                          <a:pt x="320" y="783"/>
                        </a:lnTo>
                        <a:lnTo>
                          <a:pt x="264" y="738"/>
                        </a:lnTo>
                        <a:lnTo>
                          <a:pt x="299" y="788"/>
                        </a:lnTo>
                        <a:lnTo>
                          <a:pt x="317" y="819"/>
                        </a:lnTo>
                        <a:lnTo>
                          <a:pt x="336" y="850"/>
                        </a:lnTo>
                        <a:lnTo>
                          <a:pt x="371" y="917"/>
                        </a:lnTo>
                        <a:lnTo>
                          <a:pt x="395" y="971"/>
                        </a:lnTo>
                        <a:lnTo>
                          <a:pt x="434" y="1061"/>
                        </a:lnTo>
                        <a:lnTo>
                          <a:pt x="387" y="1046"/>
                        </a:lnTo>
                        <a:lnTo>
                          <a:pt x="346" y="1019"/>
                        </a:lnTo>
                        <a:lnTo>
                          <a:pt x="302" y="983"/>
                        </a:lnTo>
                        <a:lnTo>
                          <a:pt x="266" y="949"/>
                        </a:lnTo>
                        <a:lnTo>
                          <a:pt x="218" y="907"/>
                        </a:lnTo>
                        <a:lnTo>
                          <a:pt x="183" y="882"/>
                        </a:lnTo>
                        <a:lnTo>
                          <a:pt x="152" y="862"/>
                        </a:lnTo>
                        <a:lnTo>
                          <a:pt x="122" y="846"/>
                        </a:lnTo>
                        <a:lnTo>
                          <a:pt x="88" y="839"/>
                        </a:lnTo>
                        <a:lnTo>
                          <a:pt x="57" y="833"/>
                        </a:lnTo>
                        <a:lnTo>
                          <a:pt x="0" y="826"/>
                        </a:lnTo>
                        <a:lnTo>
                          <a:pt x="50" y="842"/>
                        </a:lnTo>
                        <a:lnTo>
                          <a:pt x="103" y="867"/>
                        </a:lnTo>
                        <a:lnTo>
                          <a:pt x="139" y="891"/>
                        </a:lnTo>
                        <a:lnTo>
                          <a:pt x="163" y="910"/>
                        </a:lnTo>
                        <a:lnTo>
                          <a:pt x="205" y="957"/>
                        </a:lnTo>
                        <a:lnTo>
                          <a:pt x="242" y="1008"/>
                        </a:lnTo>
                        <a:lnTo>
                          <a:pt x="292" y="1066"/>
                        </a:lnTo>
                        <a:lnTo>
                          <a:pt x="329" y="1091"/>
                        </a:lnTo>
                        <a:lnTo>
                          <a:pt x="381" y="1119"/>
                        </a:lnTo>
                        <a:lnTo>
                          <a:pt x="468" y="1154"/>
                        </a:lnTo>
                        <a:lnTo>
                          <a:pt x="543" y="1167"/>
                        </a:lnTo>
                        <a:lnTo>
                          <a:pt x="632" y="1158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2148480" y="3571920"/>
                    <a:ext cx="1448640" cy="18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7" h="1150">
                        <a:moveTo>
                          <a:pt x="640" y="1140"/>
                        </a:moveTo>
                        <a:lnTo>
                          <a:pt x="681" y="1133"/>
                        </a:lnTo>
                        <a:lnTo>
                          <a:pt x="745" y="1115"/>
                        </a:lnTo>
                        <a:lnTo>
                          <a:pt x="793" y="1088"/>
                        </a:lnTo>
                        <a:lnTo>
                          <a:pt x="820" y="1059"/>
                        </a:lnTo>
                        <a:lnTo>
                          <a:pt x="840" y="1027"/>
                        </a:lnTo>
                        <a:lnTo>
                          <a:pt x="857" y="996"/>
                        </a:lnTo>
                        <a:lnTo>
                          <a:pt x="871" y="956"/>
                        </a:lnTo>
                        <a:lnTo>
                          <a:pt x="879" y="905"/>
                        </a:lnTo>
                        <a:lnTo>
                          <a:pt x="886" y="849"/>
                        </a:lnTo>
                        <a:lnTo>
                          <a:pt x="887" y="812"/>
                        </a:lnTo>
                        <a:lnTo>
                          <a:pt x="894" y="781"/>
                        </a:lnTo>
                        <a:lnTo>
                          <a:pt x="900" y="761"/>
                        </a:lnTo>
                        <a:lnTo>
                          <a:pt x="912" y="738"/>
                        </a:lnTo>
                        <a:lnTo>
                          <a:pt x="925" y="710"/>
                        </a:lnTo>
                        <a:lnTo>
                          <a:pt x="939" y="690"/>
                        </a:lnTo>
                        <a:lnTo>
                          <a:pt x="955" y="672"/>
                        </a:lnTo>
                        <a:lnTo>
                          <a:pt x="967" y="659"/>
                        </a:lnTo>
                        <a:lnTo>
                          <a:pt x="986" y="646"/>
                        </a:lnTo>
                        <a:lnTo>
                          <a:pt x="1026" y="622"/>
                        </a:lnTo>
                        <a:lnTo>
                          <a:pt x="978" y="635"/>
                        </a:lnTo>
                        <a:lnTo>
                          <a:pt x="945" y="647"/>
                        </a:lnTo>
                        <a:lnTo>
                          <a:pt x="912" y="664"/>
                        </a:lnTo>
                        <a:lnTo>
                          <a:pt x="886" y="681"/>
                        </a:lnTo>
                        <a:lnTo>
                          <a:pt x="862" y="699"/>
                        </a:lnTo>
                        <a:lnTo>
                          <a:pt x="842" y="723"/>
                        </a:lnTo>
                        <a:lnTo>
                          <a:pt x="817" y="754"/>
                        </a:lnTo>
                        <a:lnTo>
                          <a:pt x="797" y="779"/>
                        </a:lnTo>
                        <a:lnTo>
                          <a:pt x="780" y="805"/>
                        </a:lnTo>
                        <a:lnTo>
                          <a:pt x="796" y="767"/>
                        </a:lnTo>
                        <a:lnTo>
                          <a:pt x="808" y="736"/>
                        </a:lnTo>
                        <a:lnTo>
                          <a:pt x="816" y="699"/>
                        </a:lnTo>
                        <a:lnTo>
                          <a:pt x="820" y="654"/>
                        </a:lnTo>
                        <a:lnTo>
                          <a:pt x="819" y="607"/>
                        </a:lnTo>
                        <a:lnTo>
                          <a:pt x="812" y="564"/>
                        </a:lnTo>
                        <a:lnTo>
                          <a:pt x="803" y="521"/>
                        </a:lnTo>
                        <a:lnTo>
                          <a:pt x="793" y="484"/>
                        </a:lnTo>
                        <a:lnTo>
                          <a:pt x="780" y="448"/>
                        </a:lnTo>
                        <a:lnTo>
                          <a:pt x="765" y="412"/>
                        </a:lnTo>
                        <a:lnTo>
                          <a:pt x="736" y="368"/>
                        </a:lnTo>
                        <a:lnTo>
                          <a:pt x="716" y="338"/>
                        </a:lnTo>
                        <a:lnTo>
                          <a:pt x="689" y="295"/>
                        </a:lnTo>
                        <a:lnTo>
                          <a:pt x="664" y="247"/>
                        </a:lnTo>
                        <a:lnTo>
                          <a:pt x="646" y="203"/>
                        </a:lnTo>
                        <a:lnTo>
                          <a:pt x="634" y="173"/>
                        </a:lnTo>
                        <a:lnTo>
                          <a:pt x="627" y="138"/>
                        </a:lnTo>
                        <a:lnTo>
                          <a:pt x="623" y="104"/>
                        </a:lnTo>
                        <a:lnTo>
                          <a:pt x="623" y="75"/>
                        </a:lnTo>
                        <a:lnTo>
                          <a:pt x="621" y="43"/>
                        </a:lnTo>
                        <a:lnTo>
                          <a:pt x="631" y="0"/>
                        </a:lnTo>
                        <a:lnTo>
                          <a:pt x="607" y="35"/>
                        </a:lnTo>
                        <a:lnTo>
                          <a:pt x="595" y="84"/>
                        </a:lnTo>
                        <a:lnTo>
                          <a:pt x="595" y="137"/>
                        </a:lnTo>
                        <a:lnTo>
                          <a:pt x="594" y="173"/>
                        </a:lnTo>
                        <a:lnTo>
                          <a:pt x="598" y="217"/>
                        </a:lnTo>
                        <a:lnTo>
                          <a:pt x="609" y="252"/>
                        </a:lnTo>
                        <a:lnTo>
                          <a:pt x="622" y="285"/>
                        </a:lnTo>
                        <a:lnTo>
                          <a:pt x="636" y="314"/>
                        </a:lnTo>
                        <a:lnTo>
                          <a:pt x="649" y="351"/>
                        </a:lnTo>
                        <a:lnTo>
                          <a:pt x="652" y="390"/>
                        </a:lnTo>
                        <a:lnTo>
                          <a:pt x="657" y="429"/>
                        </a:lnTo>
                        <a:lnTo>
                          <a:pt x="658" y="470"/>
                        </a:lnTo>
                        <a:lnTo>
                          <a:pt x="658" y="508"/>
                        </a:lnTo>
                        <a:lnTo>
                          <a:pt x="651" y="569"/>
                        </a:lnTo>
                        <a:lnTo>
                          <a:pt x="639" y="607"/>
                        </a:lnTo>
                        <a:lnTo>
                          <a:pt x="606" y="660"/>
                        </a:lnTo>
                        <a:lnTo>
                          <a:pt x="580" y="715"/>
                        </a:lnTo>
                        <a:lnTo>
                          <a:pt x="559" y="769"/>
                        </a:lnTo>
                        <a:lnTo>
                          <a:pt x="544" y="739"/>
                        </a:lnTo>
                        <a:lnTo>
                          <a:pt x="533" y="706"/>
                        </a:lnTo>
                        <a:lnTo>
                          <a:pt x="526" y="672"/>
                        </a:lnTo>
                        <a:lnTo>
                          <a:pt x="522" y="618"/>
                        </a:lnTo>
                        <a:lnTo>
                          <a:pt x="535" y="525"/>
                        </a:lnTo>
                        <a:lnTo>
                          <a:pt x="540" y="497"/>
                        </a:lnTo>
                        <a:lnTo>
                          <a:pt x="540" y="465"/>
                        </a:lnTo>
                        <a:lnTo>
                          <a:pt x="540" y="434"/>
                        </a:lnTo>
                        <a:lnTo>
                          <a:pt x="535" y="393"/>
                        </a:lnTo>
                        <a:lnTo>
                          <a:pt x="526" y="352"/>
                        </a:lnTo>
                        <a:lnTo>
                          <a:pt x="510" y="314"/>
                        </a:lnTo>
                        <a:lnTo>
                          <a:pt x="482" y="261"/>
                        </a:lnTo>
                        <a:lnTo>
                          <a:pt x="498" y="326"/>
                        </a:lnTo>
                        <a:lnTo>
                          <a:pt x="507" y="379"/>
                        </a:lnTo>
                        <a:lnTo>
                          <a:pt x="506" y="424"/>
                        </a:lnTo>
                        <a:lnTo>
                          <a:pt x="502" y="462"/>
                        </a:lnTo>
                        <a:lnTo>
                          <a:pt x="492" y="496"/>
                        </a:lnTo>
                        <a:lnTo>
                          <a:pt x="475" y="538"/>
                        </a:lnTo>
                        <a:lnTo>
                          <a:pt x="434" y="628"/>
                        </a:lnTo>
                        <a:lnTo>
                          <a:pt x="430" y="572"/>
                        </a:lnTo>
                        <a:lnTo>
                          <a:pt x="435" y="523"/>
                        </a:lnTo>
                        <a:lnTo>
                          <a:pt x="439" y="478"/>
                        </a:lnTo>
                        <a:lnTo>
                          <a:pt x="414" y="524"/>
                        </a:lnTo>
                        <a:lnTo>
                          <a:pt x="400" y="563"/>
                        </a:lnTo>
                        <a:lnTo>
                          <a:pt x="390" y="605"/>
                        </a:lnTo>
                        <a:lnTo>
                          <a:pt x="382" y="655"/>
                        </a:lnTo>
                        <a:lnTo>
                          <a:pt x="385" y="715"/>
                        </a:lnTo>
                        <a:lnTo>
                          <a:pt x="394" y="775"/>
                        </a:lnTo>
                        <a:lnTo>
                          <a:pt x="412" y="823"/>
                        </a:lnTo>
                        <a:lnTo>
                          <a:pt x="438" y="885"/>
                        </a:lnTo>
                        <a:lnTo>
                          <a:pt x="478" y="963"/>
                        </a:lnTo>
                        <a:lnTo>
                          <a:pt x="414" y="872"/>
                        </a:lnTo>
                        <a:lnTo>
                          <a:pt x="399" y="848"/>
                        </a:lnTo>
                        <a:lnTo>
                          <a:pt x="371" y="811"/>
                        </a:lnTo>
                        <a:lnTo>
                          <a:pt x="336" y="775"/>
                        </a:lnTo>
                        <a:lnTo>
                          <a:pt x="281" y="732"/>
                        </a:lnTo>
                        <a:lnTo>
                          <a:pt x="313" y="780"/>
                        </a:lnTo>
                        <a:lnTo>
                          <a:pt x="333" y="810"/>
                        </a:lnTo>
                        <a:lnTo>
                          <a:pt x="351" y="840"/>
                        </a:lnTo>
                        <a:lnTo>
                          <a:pt x="384" y="905"/>
                        </a:lnTo>
                        <a:lnTo>
                          <a:pt x="409" y="958"/>
                        </a:lnTo>
                        <a:lnTo>
                          <a:pt x="445" y="1046"/>
                        </a:lnTo>
                        <a:lnTo>
                          <a:pt x="401" y="1031"/>
                        </a:lnTo>
                        <a:lnTo>
                          <a:pt x="361" y="1004"/>
                        </a:lnTo>
                        <a:lnTo>
                          <a:pt x="318" y="970"/>
                        </a:lnTo>
                        <a:lnTo>
                          <a:pt x="283" y="937"/>
                        </a:lnTo>
                        <a:lnTo>
                          <a:pt x="236" y="896"/>
                        </a:lnTo>
                        <a:lnTo>
                          <a:pt x="202" y="872"/>
                        </a:lnTo>
                        <a:lnTo>
                          <a:pt x="173" y="852"/>
                        </a:lnTo>
                        <a:lnTo>
                          <a:pt x="141" y="837"/>
                        </a:lnTo>
                        <a:lnTo>
                          <a:pt x="110" y="830"/>
                        </a:lnTo>
                        <a:lnTo>
                          <a:pt x="78" y="823"/>
                        </a:lnTo>
                        <a:lnTo>
                          <a:pt x="0" y="809"/>
                        </a:lnTo>
                        <a:lnTo>
                          <a:pt x="72" y="833"/>
                        </a:lnTo>
                        <a:lnTo>
                          <a:pt x="123" y="856"/>
                        </a:lnTo>
                        <a:lnTo>
                          <a:pt x="158" y="880"/>
                        </a:lnTo>
                        <a:lnTo>
                          <a:pt x="183" y="899"/>
                        </a:lnTo>
                        <a:lnTo>
                          <a:pt x="222" y="945"/>
                        </a:lnTo>
                        <a:lnTo>
                          <a:pt x="259" y="995"/>
                        </a:lnTo>
                        <a:lnTo>
                          <a:pt x="308" y="1051"/>
                        </a:lnTo>
                        <a:lnTo>
                          <a:pt x="344" y="1075"/>
                        </a:lnTo>
                        <a:lnTo>
                          <a:pt x="394" y="1102"/>
                        </a:lnTo>
                        <a:lnTo>
                          <a:pt x="479" y="1137"/>
                        </a:lnTo>
                        <a:lnTo>
                          <a:pt x="552" y="1149"/>
                        </a:lnTo>
                        <a:lnTo>
                          <a:pt x="640" y="1140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2138760" y="3581280"/>
                    <a:ext cx="1434600" cy="18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1144">
                        <a:moveTo>
                          <a:pt x="624" y="1134"/>
                        </a:moveTo>
                        <a:lnTo>
                          <a:pt x="667" y="1125"/>
                        </a:lnTo>
                        <a:lnTo>
                          <a:pt x="731" y="1107"/>
                        </a:lnTo>
                        <a:lnTo>
                          <a:pt x="778" y="1080"/>
                        </a:lnTo>
                        <a:lnTo>
                          <a:pt x="806" y="1048"/>
                        </a:lnTo>
                        <a:lnTo>
                          <a:pt x="828" y="1014"/>
                        </a:lnTo>
                        <a:lnTo>
                          <a:pt x="844" y="983"/>
                        </a:lnTo>
                        <a:lnTo>
                          <a:pt x="858" y="941"/>
                        </a:lnTo>
                        <a:lnTo>
                          <a:pt x="867" y="886"/>
                        </a:lnTo>
                        <a:lnTo>
                          <a:pt x="874" y="828"/>
                        </a:lnTo>
                        <a:lnTo>
                          <a:pt x="874" y="789"/>
                        </a:lnTo>
                        <a:lnTo>
                          <a:pt x="880" y="756"/>
                        </a:lnTo>
                        <a:lnTo>
                          <a:pt x="887" y="735"/>
                        </a:lnTo>
                        <a:lnTo>
                          <a:pt x="900" y="711"/>
                        </a:lnTo>
                        <a:lnTo>
                          <a:pt x="913" y="682"/>
                        </a:lnTo>
                        <a:lnTo>
                          <a:pt x="927" y="662"/>
                        </a:lnTo>
                        <a:lnTo>
                          <a:pt x="943" y="641"/>
                        </a:lnTo>
                        <a:lnTo>
                          <a:pt x="957" y="632"/>
                        </a:lnTo>
                        <a:lnTo>
                          <a:pt x="974" y="620"/>
                        </a:lnTo>
                        <a:lnTo>
                          <a:pt x="1016" y="603"/>
                        </a:lnTo>
                        <a:lnTo>
                          <a:pt x="966" y="612"/>
                        </a:lnTo>
                        <a:lnTo>
                          <a:pt x="933" y="621"/>
                        </a:lnTo>
                        <a:lnTo>
                          <a:pt x="900" y="637"/>
                        </a:lnTo>
                        <a:lnTo>
                          <a:pt x="874" y="653"/>
                        </a:lnTo>
                        <a:lnTo>
                          <a:pt x="849" y="671"/>
                        </a:lnTo>
                        <a:lnTo>
                          <a:pt x="828" y="696"/>
                        </a:lnTo>
                        <a:lnTo>
                          <a:pt x="803" y="729"/>
                        </a:lnTo>
                        <a:lnTo>
                          <a:pt x="784" y="754"/>
                        </a:lnTo>
                        <a:lnTo>
                          <a:pt x="766" y="782"/>
                        </a:lnTo>
                        <a:lnTo>
                          <a:pt x="783" y="742"/>
                        </a:lnTo>
                        <a:lnTo>
                          <a:pt x="794" y="709"/>
                        </a:lnTo>
                        <a:lnTo>
                          <a:pt x="802" y="671"/>
                        </a:lnTo>
                        <a:lnTo>
                          <a:pt x="806" y="622"/>
                        </a:lnTo>
                        <a:lnTo>
                          <a:pt x="805" y="573"/>
                        </a:lnTo>
                        <a:lnTo>
                          <a:pt x="798" y="529"/>
                        </a:lnTo>
                        <a:lnTo>
                          <a:pt x="789" y="483"/>
                        </a:lnTo>
                        <a:lnTo>
                          <a:pt x="779" y="444"/>
                        </a:lnTo>
                        <a:lnTo>
                          <a:pt x="767" y="407"/>
                        </a:lnTo>
                        <a:lnTo>
                          <a:pt x="751" y="368"/>
                        </a:lnTo>
                        <a:lnTo>
                          <a:pt x="722" y="323"/>
                        </a:lnTo>
                        <a:lnTo>
                          <a:pt x="702" y="292"/>
                        </a:lnTo>
                        <a:lnTo>
                          <a:pt x="673" y="246"/>
                        </a:lnTo>
                        <a:lnTo>
                          <a:pt x="649" y="197"/>
                        </a:lnTo>
                        <a:lnTo>
                          <a:pt x="631" y="151"/>
                        </a:lnTo>
                        <a:lnTo>
                          <a:pt x="619" y="119"/>
                        </a:lnTo>
                        <a:lnTo>
                          <a:pt x="612" y="82"/>
                        </a:lnTo>
                        <a:lnTo>
                          <a:pt x="614" y="49"/>
                        </a:lnTo>
                        <a:lnTo>
                          <a:pt x="618" y="30"/>
                        </a:lnTo>
                        <a:lnTo>
                          <a:pt x="633" y="0"/>
                        </a:lnTo>
                        <a:lnTo>
                          <a:pt x="607" y="33"/>
                        </a:lnTo>
                        <a:lnTo>
                          <a:pt x="595" y="55"/>
                        </a:lnTo>
                        <a:lnTo>
                          <a:pt x="587" y="74"/>
                        </a:lnTo>
                        <a:lnTo>
                          <a:pt x="581" y="95"/>
                        </a:lnTo>
                        <a:lnTo>
                          <a:pt x="581" y="123"/>
                        </a:lnTo>
                        <a:lnTo>
                          <a:pt x="582" y="165"/>
                        </a:lnTo>
                        <a:lnTo>
                          <a:pt x="594" y="201"/>
                        </a:lnTo>
                        <a:lnTo>
                          <a:pt x="607" y="236"/>
                        </a:lnTo>
                        <a:lnTo>
                          <a:pt x="622" y="267"/>
                        </a:lnTo>
                        <a:lnTo>
                          <a:pt x="633" y="307"/>
                        </a:lnTo>
                        <a:lnTo>
                          <a:pt x="637" y="346"/>
                        </a:lnTo>
                        <a:lnTo>
                          <a:pt x="641" y="387"/>
                        </a:lnTo>
                        <a:lnTo>
                          <a:pt x="644" y="430"/>
                        </a:lnTo>
                        <a:lnTo>
                          <a:pt x="644" y="470"/>
                        </a:lnTo>
                        <a:lnTo>
                          <a:pt x="636" y="534"/>
                        </a:lnTo>
                        <a:lnTo>
                          <a:pt x="624" y="573"/>
                        </a:lnTo>
                        <a:lnTo>
                          <a:pt x="590" y="630"/>
                        </a:lnTo>
                        <a:lnTo>
                          <a:pt x="564" y="688"/>
                        </a:lnTo>
                        <a:lnTo>
                          <a:pt x="543" y="743"/>
                        </a:lnTo>
                        <a:lnTo>
                          <a:pt x="527" y="712"/>
                        </a:lnTo>
                        <a:lnTo>
                          <a:pt x="517" y="678"/>
                        </a:lnTo>
                        <a:lnTo>
                          <a:pt x="509" y="642"/>
                        </a:lnTo>
                        <a:lnTo>
                          <a:pt x="506" y="586"/>
                        </a:lnTo>
                        <a:lnTo>
                          <a:pt x="518" y="487"/>
                        </a:lnTo>
                        <a:lnTo>
                          <a:pt x="523" y="459"/>
                        </a:lnTo>
                        <a:lnTo>
                          <a:pt x="524" y="425"/>
                        </a:lnTo>
                        <a:lnTo>
                          <a:pt x="524" y="392"/>
                        </a:lnTo>
                        <a:lnTo>
                          <a:pt x="518" y="350"/>
                        </a:lnTo>
                        <a:lnTo>
                          <a:pt x="509" y="308"/>
                        </a:lnTo>
                        <a:lnTo>
                          <a:pt x="493" y="267"/>
                        </a:lnTo>
                        <a:lnTo>
                          <a:pt x="465" y="211"/>
                        </a:lnTo>
                        <a:lnTo>
                          <a:pt x="480" y="278"/>
                        </a:lnTo>
                        <a:lnTo>
                          <a:pt x="489" y="334"/>
                        </a:lnTo>
                        <a:lnTo>
                          <a:pt x="489" y="382"/>
                        </a:lnTo>
                        <a:lnTo>
                          <a:pt x="486" y="422"/>
                        </a:lnTo>
                        <a:lnTo>
                          <a:pt x="474" y="458"/>
                        </a:lnTo>
                        <a:lnTo>
                          <a:pt x="459" y="501"/>
                        </a:lnTo>
                        <a:lnTo>
                          <a:pt x="416" y="596"/>
                        </a:lnTo>
                        <a:lnTo>
                          <a:pt x="419" y="538"/>
                        </a:lnTo>
                        <a:lnTo>
                          <a:pt x="430" y="489"/>
                        </a:lnTo>
                        <a:lnTo>
                          <a:pt x="439" y="454"/>
                        </a:lnTo>
                        <a:lnTo>
                          <a:pt x="408" y="495"/>
                        </a:lnTo>
                        <a:lnTo>
                          <a:pt x="390" y="528"/>
                        </a:lnTo>
                        <a:lnTo>
                          <a:pt x="375" y="572"/>
                        </a:lnTo>
                        <a:lnTo>
                          <a:pt x="365" y="623"/>
                        </a:lnTo>
                        <a:lnTo>
                          <a:pt x="366" y="688"/>
                        </a:lnTo>
                        <a:lnTo>
                          <a:pt x="378" y="750"/>
                        </a:lnTo>
                        <a:lnTo>
                          <a:pt x="394" y="801"/>
                        </a:lnTo>
                        <a:lnTo>
                          <a:pt x="421" y="866"/>
                        </a:lnTo>
                        <a:lnTo>
                          <a:pt x="462" y="948"/>
                        </a:lnTo>
                        <a:lnTo>
                          <a:pt x="397" y="852"/>
                        </a:lnTo>
                        <a:lnTo>
                          <a:pt x="381" y="827"/>
                        </a:lnTo>
                        <a:lnTo>
                          <a:pt x="353" y="788"/>
                        </a:lnTo>
                        <a:lnTo>
                          <a:pt x="317" y="750"/>
                        </a:lnTo>
                        <a:lnTo>
                          <a:pt x="262" y="705"/>
                        </a:lnTo>
                        <a:lnTo>
                          <a:pt x="295" y="756"/>
                        </a:lnTo>
                        <a:lnTo>
                          <a:pt x="315" y="787"/>
                        </a:lnTo>
                        <a:lnTo>
                          <a:pt x="333" y="819"/>
                        </a:lnTo>
                        <a:lnTo>
                          <a:pt x="366" y="887"/>
                        </a:lnTo>
                        <a:lnTo>
                          <a:pt x="391" y="943"/>
                        </a:lnTo>
                        <a:lnTo>
                          <a:pt x="428" y="1035"/>
                        </a:lnTo>
                        <a:lnTo>
                          <a:pt x="383" y="1019"/>
                        </a:lnTo>
                        <a:lnTo>
                          <a:pt x="343" y="991"/>
                        </a:lnTo>
                        <a:lnTo>
                          <a:pt x="300" y="954"/>
                        </a:lnTo>
                        <a:lnTo>
                          <a:pt x="264" y="919"/>
                        </a:lnTo>
                        <a:lnTo>
                          <a:pt x="217" y="877"/>
                        </a:lnTo>
                        <a:lnTo>
                          <a:pt x="182" y="851"/>
                        </a:lnTo>
                        <a:lnTo>
                          <a:pt x="153" y="831"/>
                        </a:lnTo>
                        <a:lnTo>
                          <a:pt x="122" y="815"/>
                        </a:lnTo>
                        <a:lnTo>
                          <a:pt x="90" y="808"/>
                        </a:lnTo>
                        <a:lnTo>
                          <a:pt x="58" y="804"/>
                        </a:lnTo>
                        <a:lnTo>
                          <a:pt x="0" y="805"/>
                        </a:lnTo>
                        <a:lnTo>
                          <a:pt x="49" y="814"/>
                        </a:lnTo>
                        <a:lnTo>
                          <a:pt x="74" y="821"/>
                        </a:lnTo>
                        <a:lnTo>
                          <a:pt x="104" y="836"/>
                        </a:lnTo>
                        <a:lnTo>
                          <a:pt x="139" y="860"/>
                        </a:lnTo>
                        <a:lnTo>
                          <a:pt x="163" y="880"/>
                        </a:lnTo>
                        <a:lnTo>
                          <a:pt x="203" y="927"/>
                        </a:lnTo>
                        <a:lnTo>
                          <a:pt x="241" y="980"/>
                        </a:lnTo>
                        <a:lnTo>
                          <a:pt x="290" y="1039"/>
                        </a:lnTo>
                        <a:lnTo>
                          <a:pt x="326" y="1065"/>
                        </a:lnTo>
                        <a:lnTo>
                          <a:pt x="378" y="1093"/>
                        </a:lnTo>
                        <a:lnTo>
                          <a:pt x="463" y="1130"/>
                        </a:lnTo>
                        <a:lnTo>
                          <a:pt x="535" y="1143"/>
                        </a:lnTo>
                        <a:lnTo>
                          <a:pt x="624" y="1134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2192400" y="3662280"/>
                    <a:ext cx="135288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9" h="1084">
                        <a:moveTo>
                          <a:pt x="595" y="1074"/>
                        </a:moveTo>
                        <a:lnTo>
                          <a:pt x="634" y="1067"/>
                        </a:lnTo>
                        <a:lnTo>
                          <a:pt x="694" y="1050"/>
                        </a:lnTo>
                        <a:lnTo>
                          <a:pt x="738" y="1025"/>
                        </a:lnTo>
                        <a:lnTo>
                          <a:pt x="764" y="997"/>
                        </a:lnTo>
                        <a:lnTo>
                          <a:pt x="784" y="966"/>
                        </a:lnTo>
                        <a:lnTo>
                          <a:pt x="799" y="938"/>
                        </a:lnTo>
                        <a:lnTo>
                          <a:pt x="812" y="899"/>
                        </a:lnTo>
                        <a:lnTo>
                          <a:pt x="820" y="850"/>
                        </a:lnTo>
                        <a:lnTo>
                          <a:pt x="826" y="798"/>
                        </a:lnTo>
                        <a:lnTo>
                          <a:pt x="827" y="761"/>
                        </a:lnTo>
                        <a:lnTo>
                          <a:pt x="834" y="732"/>
                        </a:lnTo>
                        <a:lnTo>
                          <a:pt x="839" y="713"/>
                        </a:lnTo>
                        <a:lnTo>
                          <a:pt x="851" y="690"/>
                        </a:lnTo>
                        <a:lnTo>
                          <a:pt x="863" y="665"/>
                        </a:lnTo>
                        <a:lnTo>
                          <a:pt x="877" y="646"/>
                        </a:lnTo>
                        <a:lnTo>
                          <a:pt x="891" y="628"/>
                        </a:lnTo>
                        <a:lnTo>
                          <a:pt x="902" y="616"/>
                        </a:lnTo>
                        <a:lnTo>
                          <a:pt x="920" y="603"/>
                        </a:lnTo>
                        <a:lnTo>
                          <a:pt x="958" y="580"/>
                        </a:lnTo>
                        <a:lnTo>
                          <a:pt x="913" y="593"/>
                        </a:lnTo>
                        <a:lnTo>
                          <a:pt x="881" y="604"/>
                        </a:lnTo>
                        <a:lnTo>
                          <a:pt x="851" y="620"/>
                        </a:lnTo>
                        <a:lnTo>
                          <a:pt x="827" y="636"/>
                        </a:lnTo>
                        <a:lnTo>
                          <a:pt x="805" y="654"/>
                        </a:lnTo>
                        <a:lnTo>
                          <a:pt x="785" y="677"/>
                        </a:lnTo>
                        <a:lnTo>
                          <a:pt x="762" y="707"/>
                        </a:lnTo>
                        <a:lnTo>
                          <a:pt x="743" y="730"/>
                        </a:lnTo>
                        <a:lnTo>
                          <a:pt x="727" y="754"/>
                        </a:lnTo>
                        <a:lnTo>
                          <a:pt x="743" y="719"/>
                        </a:lnTo>
                        <a:lnTo>
                          <a:pt x="753" y="688"/>
                        </a:lnTo>
                        <a:lnTo>
                          <a:pt x="761" y="654"/>
                        </a:lnTo>
                        <a:lnTo>
                          <a:pt x="764" y="611"/>
                        </a:lnTo>
                        <a:lnTo>
                          <a:pt x="763" y="566"/>
                        </a:lnTo>
                        <a:lnTo>
                          <a:pt x="756" y="525"/>
                        </a:lnTo>
                        <a:lnTo>
                          <a:pt x="748" y="484"/>
                        </a:lnTo>
                        <a:lnTo>
                          <a:pt x="739" y="448"/>
                        </a:lnTo>
                        <a:lnTo>
                          <a:pt x="727" y="414"/>
                        </a:lnTo>
                        <a:lnTo>
                          <a:pt x="712" y="381"/>
                        </a:lnTo>
                        <a:lnTo>
                          <a:pt x="687" y="338"/>
                        </a:lnTo>
                        <a:lnTo>
                          <a:pt x="667" y="310"/>
                        </a:lnTo>
                        <a:lnTo>
                          <a:pt x="642" y="269"/>
                        </a:lnTo>
                        <a:lnTo>
                          <a:pt x="618" y="224"/>
                        </a:lnTo>
                        <a:lnTo>
                          <a:pt x="601" y="182"/>
                        </a:lnTo>
                        <a:lnTo>
                          <a:pt x="591" y="153"/>
                        </a:lnTo>
                        <a:lnTo>
                          <a:pt x="584" y="120"/>
                        </a:lnTo>
                        <a:lnTo>
                          <a:pt x="580" y="87"/>
                        </a:lnTo>
                        <a:lnTo>
                          <a:pt x="580" y="60"/>
                        </a:lnTo>
                        <a:lnTo>
                          <a:pt x="581" y="35"/>
                        </a:lnTo>
                        <a:lnTo>
                          <a:pt x="583" y="0"/>
                        </a:lnTo>
                        <a:lnTo>
                          <a:pt x="568" y="46"/>
                        </a:lnTo>
                        <a:lnTo>
                          <a:pt x="558" y="85"/>
                        </a:lnTo>
                        <a:lnTo>
                          <a:pt x="553" y="119"/>
                        </a:lnTo>
                        <a:lnTo>
                          <a:pt x="552" y="153"/>
                        </a:lnTo>
                        <a:lnTo>
                          <a:pt x="557" y="194"/>
                        </a:lnTo>
                        <a:lnTo>
                          <a:pt x="567" y="228"/>
                        </a:lnTo>
                        <a:lnTo>
                          <a:pt x="579" y="259"/>
                        </a:lnTo>
                        <a:lnTo>
                          <a:pt x="592" y="287"/>
                        </a:lnTo>
                        <a:lnTo>
                          <a:pt x="603" y="323"/>
                        </a:lnTo>
                        <a:lnTo>
                          <a:pt x="607" y="360"/>
                        </a:lnTo>
                        <a:lnTo>
                          <a:pt x="610" y="398"/>
                        </a:lnTo>
                        <a:lnTo>
                          <a:pt x="613" y="436"/>
                        </a:lnTo>
                        <a:lnTo>
                          <a:pt x="613" y="472"/>
                        </a:lnTo>
                        <a:lnTo>
                          <a:pt x="607" y="529"/>
                        </a:lnTo>
                        <a:lnTo>
                          <a:pt x="594" y="566"/>
                        </a:lnTo>
                        <a:lnTo>
                          <a:pt x="564" y="618"/>
                        </a:lnTo>
                        <a:lnTo>
                          <a:pt x="540" y="669"/>
                        </a:lnTo>
                        <a:lnTo>
                          <a:pt x="519" y="720"/>
                        </a:lnTo>
                        <a:lnTo>
                          <a:pt x="505" y="692"/>
                        </a:lnTo>
                        <a:lnTo>
                          <a:pt x="495" y="660"/>
                        </a:lnTo>
                        <a:lnTo>
                          <a:pt x="489" y="628"/>
                        </a:lnTo>
                        <a:lnTo>
                          <a:pt x="485" y="577"/>
                        </a:lnTo>
                        <a:lnTo>
                          <a:pt x="496" y="488"/>
                        </a:lnTo>
                        <a:lnTo>
                          <a:pt x="501" y="462"/>
                        </a:lnTo>
                        <a:lnTo>
                          <a:pt x="502" y="431"/>
                        </a:lnTo>
                        <a:lnTo>
                          <a:pt x="502" y="401"/>
                        </a:lnTo>
                        <a:lnTo>
                          <a:pt x="496" y="362"/>
                        </a:lnTo>
                        <a:lnTo>
                          <a:pt x="489" y="324"/>
                        </a:lnTo>
                        <a:lnTo>
                          <a:pt x="474" y="288"/>
                        </a:lnTo>
                        <a:lnTo>
                          <a:pt x="448" y="237"/>
                        </a:lnTo>
                        <a:lnTo>
                          <a:pt x="462" y="298"/>
                        </a:lnTo>
                        <a:lnTo>
                          <a:pt x="471" y="349"/>
                        </a:lnTo>
                        <a:lnTo>
                          <a:pt x="470" y="392"/>
                        </a:lnTo>
                        <a:lnTo>
                          <a:pt x="466" y="428"/>
                        </a:lnTo>
                        <a:lnTo>
                          <a:pt x="456" y="461"/>
                        </a:lnTo>
                        <a:lnTo>
                          <a:pt x="441" y="501"/>
                        </a:lnTo>
                        <a:lnTo>
                          <a:pt x="403" y="587"/>
                        </a:lnTo>
                        <a:lnTo>
                          <a:pt x="402" y="533"/>
                        </a:lnTo>
                        <a:lnTo>
                          <a:pt x="404" y="487"/>
                        </a:lnTo>
                        <a:lnTo>
                          <a:pt x="402" y="415"/>
                        </a:lnTo>
                        <a:lnTo>
                          <a:pt x="378" y="485"/>
                        </a:lnTo>
                        <a:lnTo>
                          <a:pt x="368" y="524"/>
                        </a:lnTo>
                        <a:lnTo>
                          <a:pt x="360" y="565"/>
                        </a:lnTo>
                        <a:lnTo>
                          <a:pt x="354" y="611"/>
                        </a:lnTo>
                        <a:lnTo>
                          <a:pt x="356" y="670"/>
                        </a:lnTo>
                        <a:lnTo>
                          <a:pt x="366" y="726"/>
                        </a:lnTo>
                        <a:lnTo>
                          <a:pt x="382" y="773"/>
                        </a:lnTo>
                        <a:lnTo>
                          <a:pt x="405" y="832"/>
                        </a:lnTo>
                        <a:lnTo>
                          <a:pt x="443" y="906"/>
                        </a:lnTo>
                        <a:lnTo>
                          <a:pt x="384" y="819"/>
                        </a:lnTo>
                        <a:lnTo>
                          <a:pt x="369" y="796"/>
                        </a:lnTo>
                        <a:lnTo>
                          <a:pt x="342" y="761"/>
                        </a:lnTo>
                        <a:lnTo>
                          <a:pt x="310" y="726"/>
                        </a:lnTo>
                        <a:lnTo>
                          <a:pt x="240" y="665"/>
                        </a:lnTo>
                        <a:lnTo>
                          <a:pt x="290" y="732"/>
                        </a:lnTo>
                        <a:lnTo>
                          <a:pt x="306" y="760"/>
                        </a:lnTo>
                        <a:lnTo>
                          <a:pt x="323" y="789"/>
                        </a:lnTo>
                        <a:lnTo>
                          <a:pt x="355" y="851"/>
                        </a:lnTo>
                        <a:lnTo>
                          <a:pt x="378" y="901"/>
                        </a:lnTo>
                        <a:lnTo>
                          <a:pt x="413" y="984"/>
                        </a:lnTo>
                        <a:lnTo>
                          <a:pt x="371" y="971"/>
                        </a:lnTo>
                        <a:lnTo>
                          <a:pt x="333" y="945"/>
                        </a:lnTo>
                        <a:lnTo>
                          <a:pt x="294" y="912"/>
                        </a:lnTo>
                        <a:lnTo>
                          <a:pt x="260" y="881"/>
                        </a:lnTo>
                        <a:lnTo>
                          <a:pt x="217" y="841"/>
                        </a:lnTo>
                        <a:lnTo>
                          <a:pt x="185" y="818"/>
                        </a:lnTo>
                        <a:lnTo>
                          <a:pt x="157" y="800"/>
                        </a:lnTo>
                        <a:lnTo>
                          <a:pt x="129" y="785"/>
                        </a:lnTo>
                        <a:lnTo>
                          <a:pt x="103" y="777"/>
                        </a:lnTo>
                        <a:lnTo>
                          <a:pt x="70" y="771"/>
                        </a:lnTo>
                        <a:lnTo>
                          <a:pt x="32" y="767"/>
                        </a:lnTo>
                        <a:lnTo>
                          <a:pt x="0" y="763"/>
                        </a:lnTo>
                        <a:lnTo>
                          <a:pt x="62" y="782"/>
                        </a:lnTo>
                        <a:lnTo>
                          <a:pt x="112" y="804"/>
                        </a:lnTo>
                        <a:lnTo>
                          <a:pt x="145" y="826"/>
                        </a:lnTo>
                        <a:lnTo>
                          <a:pt x="167" y="844"/>
                        </a:lnTo>
                        <a:lnTo>
                          <a:pt x="205" y="888"/>
                        </a:lnTo>
                        <a:lnTo>
                          <a:pt x="240" y="935"/>
                        </a:lnTo>
                        <a:lnTo>
                          <a:pt x="285" y="989"/>
                        </a:lnTo>
                        <a:lnTo>
                          <a:pt x="319" y="1013"/>
                        </a:lnTo>
                        <a:lnTo>
                          <a:pt x="366" y="1038"/>
                        </a:lnTo>
                        <a:lnTo>
                          <a:pt x="445" y="1071"/>
                        </a:lnTo>
                        <a:lnTo>
                          <a:pt x="513" y="1083"/>
                        </a:lnTo>
                        <a:lnTo>
                          <a:pt x="595" y="1074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2220480" y="3638520"/>
                    <a:ext cx="1344240" cy="17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953" h="1108">
                        <a:moveTo>
                          <a:pt x="563" y="1098"/>
                        </a:moveTo>
                        <a:lnTo>
                          <a:pt x="600" y="1091"/>
                        </a:lnTo>
                        <a:lnTo>
                          <a:pt x="660" y="1074"/>
                        </a:lnTo>
                        <a:lnTo>
                          <a:pt x="703" y="1048"/>
                        </a:lnTo>
                        <a:lnTo>
                          <a:pt x="728" y="1019"/>
                        </a:lnTo>
                        <a:lnTo>
                          <a:pt x="747" y="987"/>
                        </a:lnTo>
                        <a:lnTo>
                          <a:pt x="761" y="958"/>
                        </a:lnTo>
                        <a:lnTo>
                          <a:pt x="774" y="920"/>
                        </a:lnTo>
                        <a:lnTo>
                          <a:pt x="783" y="870"/>
                        </a:lnTo>
                        <a:lnTo>
                          <a:pt x="787" y="815"/>
                        </a:lnTo>
                        <a:lnTo>
                          <a:pt x="789" y="778"/>
                        </a:lnTo>
                        <a:lnTo>
                          <a:pt x="795" y="748"/>
                        </a:lnTo>
                        <a:lnTo>
                          <a:pt x="801" y="728"/>
                        </a:lnTo>
                        <a:lnTo>
                          <a:pt x="812" y="705"/>
                        </a:lnTo>
                        <a:lnTo>
                          <a:pt x="824" y="679"/>
                        </a:lnTo>
                        <a:lnTo>
                          <a:pt x="837" y="661"/>
                        </a:lnTo>
                        <a:lnTo>
                          <a:pt x="850" y="641"/>
                        </a:lnTo>
                        <a:lnTo>
                          <a:pt x="861" y="629"/>
                        </a:lnTo>
                        <a:lnTo>
                          <a:pt x="879" y="617"/>
                        </a:lnTo>
                        <a:lnTo>
                          <a:pt x="952" y="576"/>
                        </a:lnTo>
                        <a:lnTo>
                          <a:pt x="910" y="587"/>
                        </a:lnTo>
                        <a:lnTo>
                          <a:pt x="870" y="603"/>
                        </a:lnTo>
                        <a:lnTo>
                          <a:pt x="841" y="618"/>
                        </a:lnTo>
                        <a:lnTo>
                          <a:pt x="812" y="634"/>
                        </a:lnTo>
                        <a:lnTo>
                          <a:pt x="788" y="650"/>
                        </a:lnTo>
                        <a:lnTo>
                          <a:pt x="767" y="669"/>
                        </a:lnTo>
                        <a:lnTo>
                          <a:pt x="748" y="692"/>
                        </a:lnTo>
                        <a:lnTo>
                          <a:pt x="724" y="722"/>
                        </a:lnTo>
                        <a:lnTo>
                          <a:pt x="707" y="746"/>
                        </a:lnTo>
                        <a:lnTo>
                          <a:pt x="692" y="771"/>
                        </a:lnTo>
                        <a:lnTo>
                          <a:pt x="707" y="735"/>
                        </a:lnTo>
                        <a:lnTo>
                          <a:pt x="716" y="703"/>
                        </a:lnTo>
                        <a:lnTo>
                          <a:pt x="724" y="669"/>
                        </a:lnTo>
                        <a:lnTo>
                          <a:pt x="728" y="624"/>
                        </a:lnTo>
                        <a:lnTo>
                          <a:pt x="726" y="578"/>
                        </a:lnTo>
                        <a:lnTo>
                          <a:pt x="720" y="537"/>
                        </a:lnTo>
                        <a:lnTo>
                          <a:pt x="712" y="495"/>
                        </a:lnTo>
                        <a:lnTo>
                          <a:pt x="703" y="458"/>
                        </a:lnTo>
                        <a:lnTo>
                          <a:pt x="692" y="424"/>
                        </a:lnTo>
                        <a:lnTo>
                          <a:pt x="677" y="388"/>
                        </a:lnTo>
                        <a:lnTo>
                          <a:pt x="652" y="345"/>
                        </a:lnTo>
                        <a:lnTo>
                          <a:pt x="634" y="317"/>
                        </a:lnTo>
                        <a:lnTo>
                          <a:pt x="609" y="275"/>
                        </a:lnTo>
                        <a:lnTo>
                          <a:pt x="586" y="229"/>
                        </a:lnTo>
                        <a:lnTo>
                          <a:pt x="569" y="186"/>
                        </a:lnTo>
                        <a:lnTo>
                          <a:pt x="559" y="156"/>
                        </a:lnTo>
                        <a:lnTo>
                          <a:pt x="553" y="122"/>
                        </a:lnTo>
                        <a:lnTo>
                          <a:pt x="549" y="88"/>
                        </a:lnTo>
                        <a:lnTo>
                          <a:pt x="549" y="61"/>
                        </a:lnTo>
                        <a:lnTo>
                          <a:pt x="550" y="35"/>
                        </a:lnTo>
                        <a:lnTo>
                          <a:pt x="552" y="0"/>
                        </a:lnTo>
                        <a:lnTo>
                          <a:pt x="537" y="46"/>
                        </a:lnTo>
                        <a:lnTo>
                          <a:pt x="528" y="87"/>
                        </a:lnTo>
                        <a:lnTo>
                          <a:pt x="522" y="121"/>
                        </a:lnTo>
                        <a:lnTo>
                          <a:pt x="522" y="156"/>
                        </a:lnTo>
                        <a:lnTo>
                          <a:pt x="526" y="198"/>
                        </a:lnTo>
                        <a:lnTo>
                          <a:pt x="536" y="233"/>
                        </a:lnTo>
                        <a:lnTo>
                          <a:pt x="548" y="264"/>
                        </a:lnTo>
                        <a:lnTo>
                          <a:pt x="561" y="293"/>
                        </a:lnTo>
                        <a:lnTo>
                          <a:pt x="571" y="330"/>
                        </a:lnTo>
                        <a:lnTo>
                          <a:pt x="576" y="368"/>
                        </a:lnTo>
                        <a:lnTo>
                          <a:pt x="578" y="405"/>
                        </a:lnTo>
                        <a:lnTo>
                          <a:pt x="581" y="445"/>
                        </a:lnTo>
                        <a:lnTo>
                          <a:pt x="581" y="482"/>
                        </a:lnTo>
                        <a:lnTo>
                          <a:pt x="575" y="542"/>
                        </a:lnTo>
                        <a:lnTo>
                          <a:pt x="563" y="578"/>
                        </a:lnTo>
                        <a:lnTo>
                          <a:pt x="534" y="631"/>
                        </a:lnTo>
                        <a:lnTo>
                          <a:pt x="510" y="685"/>
                        </a:lnTo>
                        <a:lnTo>
                          <a:pt x="490" y="737"/>
                        </a:lnTo>
                        <a:lnTo>
                          <a:pt x="477" y="707"/>
                        </a:lnTo>
                        <a:lnTo>
                          <a:pt x="466" y="675"/>
                        </a:lnTo>
                        <a:lnTo>
                          <a:pt x="460" y="642"/>
                        </a:lnTo>
                        <a:lnTo>
                          <a:pt x="457" y="589"/>
                        </a:lnTo>
                        <a:lnTo>
                          <a:pt x="468" y="498"/>
                        </a:lnTo>
                        <a:lnTo>
                          <a:pt x="472" y="471"/>
                        </a:lnTo>
                        <a:lnTo>
                          <a:pt x="473" y="440"/>
                        </a:lnTo>
                        <a:lnTo>
                          <a:pt x="473" y="410"/>
                        </a:lnTo>
                        <a:lnTo>
                          <a:pt x="468" y="370"/>
                        </a:lnTo>
                        <a:lnTo>
                          <a:pt x="460" y="331"/>
                        </a:lnTo>
                        <a:lnTo>
                          <a:pt x="446" y="294"/>
                        </a:lnTo>
                        <a:lnTo>
                          <a:pt x="420" y="242"/>
                        </a:lnTo>
                        <a:lnTo>
                          <a:pt x="435" y="304"/>
                        </a:lnTo>
                        <a:lnTo>
                          <a:pt x="443" y="357"/>
                        </a:lnTo>
                        <a:lnTo>
                          <a:pt x="442" y="400"/>
                        </a:lnTo>
                        <a:lnTo>
                          <a:pt x="438" y="437"/>
                        </a:lnTo>
                        <a:lnTo>
                          <a:pt x="429" y="471"/>
                        </a:lnTo>
                        <a:lnTo>
                          <a:pt x="414" y="512"/>
                        </a:lnTo>
                        <a:lnTo>
                          <a:pt x="378" y="599"/>
                        </a:lnTo>
                        <a:lnTo>
                          <a:pt x="374" y="545"/>
                        </a:lnTo>
                        <a:lnTo>
                          <a:pt x="378" y="497"/>
                        </a:lnTo>
                        <a:lnTo>
                          <a:pt x="381" y="453"/>
                        </a:lnTo>
                        <a:lnTo>
                          <a:pt x="358" y="497"/>
                        </a:lnTo>
                        <a:lnTo>
                          <a:pt x="345" y="536"/>
                        </a:lnTo>
                        <a:lnTo>
                          <a:pt x="336" y="577"/>
                        </a:lnTo>
                        <a:lnTo>
                          <a:pt x="329" y="625"/>
                        </a:lnTo>
                        <a:lnTo>
                          <a:pt x="331" y="685"/>
                        </a:lnTo>
                        <a:lnTo>
                          <a:pt x="342" y="743"/>
                        </a:lnTo>
                        <a:lnTo>
                          <a:pt x="356" y="790"/>
                        </a:lnTo>
                        <a:lnTo>
                          <a:pt x="380" y="850"/>
                        </a:lnTo>
                        <a:lnTo>
                          <a:pt x="416" y="926"/>
                        </a:lnTo>
                        <a:lnTo>
                          <a:pt x="358" y="837"/>
                        </a:lnTo>
                        <a:lnTo>
                          <a:pt x="344" y="813"/>
                        </a:lnTo>
                        <a:lnTo>
                          <a:pt x="319" y="778"/>
                        </a:lnTo>
                        <a:lnTo>
                          <a:pt x="288" y="743"/>
                        </a:lnTo>
                        <a:lnTo>
                          <a:pt x="237" y="699"/>
                        </a:lnTo>
                        <a:lnTo>
                          <a:pt x="267" y="747"/>
                        </a:lnTo>
                        <a:lnTo>
                          <a:pt x="284" y="777"/>
                        </a:lnTo>
                        <a:lnTo>
                          <a:pt x="301" y="806"/>
                        </a:lnTo>
                        <a:lnTo>
                          <a:pt x="331" y="870"/>
                        </a:lnTo>
                        <a:lnTo>
                          <a:pt x="354" y="921"/>
                        </a:lnTo>
                        <a:lnTo>
                          <a:pt x="387" y="1006"/>
                        </a:lnTo>
                        <a:lnTo>
                          <a:pt x="346" y="992"/>
                        </a:lnTo>
                        <a:lnTo>
                          <a:pt x="310" y="966"/>
                        </a:lnTo>
                        <a:lnTo>
                          <a:pt x="271" y="933"/>
                        </a:lnTo>
                        <a:lnTo>
                          <a:pt x="239" y="900"/>
                        </a:lnTo>
                        <a:lnTo>
                          <a:pt x="196" y="861"/>
                        </a:lnTo>
                        <a:lnTo>
                          <a:pt x="164" y="836"/>
                        </a:lnTo>
                        <a:lnTo>
                          <a:pt x="138" y="818"/>
                        </a:lnTo>
                        <a:lnTo>
                          <a:pt x="111" y="803"/>
                        </a:lnTo>
                        <a:lnTo>
                          <a:pt x="82" y="795"/>
                        </a:lnTo>
                        <a:lnTo>
                          <a:pt x="54" y="790"/>
                        </a:lnTo>
                        <a:lnTo>
                          <a:pt x="0" y="785"/>
                        </a:lnTo>
                        <a:lnTo>
                          <a:pt x="47" y="799"/>
                        </a:lnTo>
                        <a:lnTo>
                          <a:pt x="94" y="821"/>
                        </a:lnTo>
                        <a:lnTo>
                          <a:pt x="127" y="845"/>
                        </a:lnTo>
                        <a:lnTo>
                          <a:pt x="147" y="863"/>
                        </a:lnTo>
                        <a:lnTo>
                          <a:pt x="184" y="907"/>
                        </a:lnTo>
                        <a:lnTo>
                          <a:pt x="218" y="956"/>
                        </a:lnTo>
                        <a:lnTo>
                          <a:pt x="262" y="1011"/>
                        </a:lnTo>
                        <a:lnTo>
                          <a:pt x="295" y="1036"/>
                        </a:lnTo>
                        <a:lnTo>
                          <a:pt x="342" y="1061"/>
                        </a:lnTo>
                        <a:lnTo>
                          <a:pt x="418" y="1095"/>
                        </a:lnTo>
                        <a:lnTo>
                          <a:pt x="485" y="1107"/>
                        </a:lnTo>
                        <a:lnTo>
                          <a:pt x="563" y="1098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2214720" y="3714840"/>
                    <a:ext cx="1340280" cy="1673280"/>
                  </a:xfrm>
                  <a:custGeom>
                    <a:avLst/>
                    <a:gdLst/>
                    <a:ahLst/>
                    <a:rect l="l" t="t" r="r" b="b"/>
                    <a:pathLst>
                      <a:path w="950" h="1054">
                        <a:moveTo>
                          <a:pt x="586" y="1044"/>
                        </a:moveTo>
                        <a:lnTo>
                          <a:pt x="624" y="1037"/>
                        </a:lnTo>
                        <a:lnTo>
                          <a:pt x="684" y="1021"/>
                        </a:lnTo>
                        <a:lnTo>
                          <a:pt x="729" y="996"/>
                        </a:lnTo>
                        <a:lnTo>
                          <a:pt x="756" y="968"/>
                        </a:lnTo>
                        <a:lnTo>
                          <a:pt x="774" y="939"/>
                        </a:lnTo>
                        <a:lnTo>
                          <a:pt x="790" y="910"/>
                        </a:lnTo>
                        <a:lnTo>
                          <a:pt x="803" y="874"/>
                        </a:lnTo>
                        <a:lnTo>
                          <a:pt x="811" y="827"/>
                        </a:lnTo>
                        <a:lnTo>
                          <a:pt x="818" y="775"/>
                        </a:lnTo>
                        <a:lnTo>
                          <a:pt x="819" y="739"/>
                        </a:lnTo>
                        <a:lnTo>
                          <a:pt x="825" y="711"/>
                        </a:lnTo>
                        <a:lnTo>
                          <a:pt x="829" y="692"/>
                        </a:lnTo>
                        <a:lnTo>
                          <a:pt x="842" y="671"/>
                        </a:lnTo>
                        <a:lnTo>
                          <a:pt x="854" y="646"/>
                        </a:lnTo>
                        <a:lnTo>
                          <a:pt x="866" y="628"/>
                        </a:lnTo>
                        <a:lnTo>
                          <a:pt x="882" y="610"/>
                        </a:lnTo>
                        <a:lnTo>
                          <a:pt x="893" y="599"/>
                        </a:lnTo>
                        <a:lnTo>
                          <a:pt x="911" y="586"/>
                        </a:lnTo>
                        <a:lnTo>
                          <a:pt x="949" y="564"/>
                        </a:lnTo>
                        <a:lnTo>
                          <a:pt x="903" y="576"/>
                        </a:lnTo>
                        <a:lnTo>
                          <a:pt x="872" y="587"/>
                        </a:lnTo>
                        <a:lnTo>
                          <a:pt x="842" y="602"/>
                        </a:lnTo>
                        <a:lnTo>
                          <a:pt x="818" y="618"/>
                        </a:lnTo>
                        <a:lnTo>
                          <a:pt x="794" y="636"/>
                        </a:lnTo>
                        <a:lnTo>
                          <a:pt x="775" y="657"/>
                        </a:lnTo>
                        <a:lnTo>
                          <a:pt x="753" y="687"/>
                        </a:lnTo>
                        <a:lnTo>
                          <a:pt x="735" y="709"/>
                        </a:lnTo>
                        <a:lnTo>
                          <a:pt x="718" y="733"/>
                        </a:lnTo>
                        <a:lnTo>
                          <a:pt x="733" y="699"/>
                        </a:lnTo>
                        <a:lnTo>
                          <a:pt x="744" y="669"/>
                        </a:lnTo>
                        <a:lnTo>
                          <a:pt x="751" y="636"/>
                        </a:lnTo>
                        <a:lnTo>
                          <a:pt x="756" y="593"/>
                        </a:lnTo>
                        <a:lnTo>
                          <a:pt x="755" y="551"/>
                        </a:lnTo>
                        <a:lnTo>
                          <a:pt x="747" y="510"/>
                        </a:lnTo>
                        <a:lnTo>
                          <a:pt x="738" y="469"/>
                        </a:lnTo>
                        <a:lnTo>
                          <a:pt x="729" y="436"/>
                        </a:lnTo>
                        <a:lnTo>
                          <a:pt x="719" y="403"/>
                        </a:lnTo>
                        <a:lnTo>
                          <a:pt x="702" y="370"/>
                        </a:lnTo>
                        <a:lnTo>
                          <a:pt x="676" y="329"/>
                        </a:lnTo>
                        <a:lnTo>
                          <a:pt x="658" y="301"/>
                        </a:lnTo>
                        <a:lnTo>
                          <a:pt x="631" y="262"/>
                        </a:lnTo>
                        <a:lnTo>
                          <a:pt x="609" y="217"/>
                        </a:lnTo>
                        <a:lnTo>
                          <a:pt x="592" y="176"/>
                        </a:lnTo>
                        <a:lnTo>
                          <a:pt x="580" y="149"/>
                        </a:lnTo>
                        <a:lnTo>
                          <a:pt x="574" y="117"/>
                        </a:lnTo>
                        <a:lnTo>
                          <a:pt x="570" y="85"/>
                        </a:lnTo>
                        <a:lnTo>
                          <a:pt x="570" y="58"/>
                        </a:lnTo>
                        <a:lnTo>
                          <a:pt x="570" y="33"/>
                        </a:lnTo>
                        <a:lnTo>
                          <a:pt x="573" y="0"/>
                        </a:lnTo>
                        <a:lnTo>
                          <a:pt x="559" y="45"/>
                        </a:lnTo>
                        <a:lnTo>
                          <a:pt x="549" y="83"/>
                        </a:lnTo>
                        <a:lnTo>
                          <a:pt x="542" y="116"/>
                        </a:lnTo>
                        <a:lnTo>
                          <a:pt x="541" y="149"/>
                        </a:lnTo>
                        <a:lnTo>
                          <a:pt x="547" y="189"/>
                        </a:lnTo>
                        <a:lnTo>
                          <a:pt x="558" y="222"/>
                        </a:lnTo>
                        <a:lnTo>
                          <a:pt x="569" y="251"/>
                        </a:lnTo>
                        <a:lnTo>
                          <a:pt x="583" y="279"/>
                        </a:lnTo>
                        <a:lnTo>
                          <a:pt x="593" y="314"/>
                        </a:lnTo>
                        <a:lnTo>
                          <a:pt x="597" y="350"/>
                        </a:lnTo>
                        <a:lnTo>
                          <a:pt x="601" y="386"/>
                        </a:lnTo>
                        <a:lnTo>
                          <a:pt x="604" y="423"/>
                        </a:lnTo>
                        <a:lnTo>
                          <a:pt x="604" y="459"/>
                        </a:lnTo>
                        <a:lnTo>
                          <a:pt x="596" y="515"/>
                        </a:lnTo>
                        <a:lnTo>
                          <a:pt x="585" y="551"/>
                        </a:lnTo>
                        <a:lnTo>
                          <a:pt x="553" y="600"/>
                        </a:lnTo>
                        <a:lnTo>
                          <a:pt x="530" y="649"/>
                        </a:lnTo>
                        <a:lnTo>
                          <a:pt x="509" y="700"/>
                        </a:lnTo>
                        <a:lnTo>
                          <a:pt x="496" y="672"/>
                        </a:lnTo>
                        <a:lnTo>
                          <a:pt x="485" y="642"/>
                        </a:lnTo>
                        <a:lnTo>
                          <a:pt x="478" y="611"/>
                        </a:lnTo>
                        <a:lnTo>
                          <a:pt x="475" y="560"/>
                        </a:lnTo>
                        <a:lnTo>
                          <a:pt x="487" y="474"/>
                        </a:lnTo>
                        <a:lnTo>
                          <a:pt x="490" y="449"/>
                        </a:lnTo>
                        <a:lnTo>
                          <a:pt x="491" y="419"/>
                        </a:lnTo>
                        <a:lnTo>
                          <a:pt x="491" y="390"/>
                        </a:lnTo>
                        <a:lnTo>
                          <a:pt x="487" y="351"/>
                        </a:lnTo>
                        <a:lnTo>
                          <a:pt x="478" y="314"/>
                        </a:lnTo>
                        <a:lnTo>
                          <a:pt x="463" y="279"/>
                        </a:lnTo>
                        <a:lnTo>
                          <a:pt x="437" y="230"/>
                        </a:lnTo>
                        <a:lnTo>
                          <a:pt x="452" y="290"/>
                        </a:lnTo>
                        <a:lnTo>
                          <a:pt x="461" y="339"/>
                        </a:lnTo>
                        <a:lnTo>
                          <a:pt x="461" y="380"/>
                        </a:lnTo>
                        <a:lnTo>
                          <a:pt x="455" y="416"/>
                        </a:lnTo>
                        <a:lnTo>
                          <a:pt x="446" y="448"/>
                        </a:lnTo>
                        <a:lnTo>
                          <a:pt x="432" y="486"/>
                        </a:lnTo>
                        <a:lnTo>
                          <a:pt x="392" y="570"/>
                        </a:lnTo>
                        <a:lnTo>
                          <a:pt x="389" y="518"/>
                        </a:lnTo>
                        <a:lnTo>
                          <a:pt x="394" y="472"/>
                        </a:lnTo>
                        <a:lnTo>
                          <a:pt x="398" y="431"/>
                        </a:lnTo>
                        <a:lnTo>
                          <a:pt x="373" y="473"/>
                        </a:lnTo>
                        <a:lnTo>
                          <a:pt x="360" y="510"/>
                        </a:lnTo>
                        <a:lnTo>
                          <a:pt x="351" y="549"/>
                        </a:lnTo>
                        <a:lnTo>
                          <a:pt x="343" y="594"/>
                        </a:lnTo>
                        <a:lnTo>
                          <a:pt x="345" y="650"/>
                        </a:lnTo>
                        <a:lnTo>
                          <a:pt x="355" y="706"/>
                        </a:lnTo>
                        <a:lnTo>
                          <a:pt x="371" y="751"/>
                        </a:lnTo>
                        <a:lnTo>
                          <a:pt x="396" y="808"/>
                        </a:lnTo>
                        <a:lnTo>
                          <a:pt x="433" y="880"/>
                        </a:lnTo>
                        <a:lnTo>
                          <a:pt x="373" y="796"/>
                        </a:lnTo>
                        <a:lnTo>
                          <a:pt x="360" y="773"/>
                        </a:lnTo>
                        <a:lnTo>
                          <a:pt x="333" y="739"/>
                        </a:lnTo>
                        <a:lnTo>
                          <a:pt x="299" y="706"/>
                        </a:lnTo>
                        <a:lnTo>
                          <a:pt x="247" y="665"/>
                        </a:lnTo>
                        <a:lnTo>
                          <a:pt x="279" y="711"/>
                        </a:lnTo>
                        <a:lnTo>
                          <a:pt x="297" y="739"/>
                        </a:lnTo>
                        <a:lnTo>
                          <a:pt x="314" y="766"/>
                        </a:lnTo>
                        <a:lnTo>
                          <a:pt x="344" y="827"/>
                        </a:lnTo>
                        <a:lnTo>
                          <a:pt x="369" y="876"/>
                        </a:lnTo>
                        <a:lnTo>
                          <a:pt x="403" y="957"/>
                        </a:lnTo>
                        <a:lnTo>
                          <a:pt x="361" y="943"/>
                        </a:lnTo>
                        <a:lnTo>
                          <a:pt x="323" y="918"/>
                        </a:lnTo>
                        <a:lnTo>
                          <a:pt x="283" y="886"/>
                        </a:lnTo>
                        <a:lnTo>
                          <a:pt x="251" y="855"/>
                        </a:lnTo>
                        <a:lnTo>
                          <a:pt x="206" y="818"/>
                        </a:lnTo>
                        <a:lnTo>
                          <a:pt x="174" y="795"/>
                        </a:lnTo>
                        <a:lnTo>
                          <a:pt x="146" y="777"/>
                        </a:lnTo>
                        <a:lnTo>
                          <a:pt x="118" y="763"/>
                        </a:lnTo>
                        <a:lnTo>
                          <a:pt x="87" y="756"/>
                        </a:lnTo>
                        <a:lnTo>
                          <a:pt x="58" y="751"/>
                        </a:lnTo>
                        <a:lnTo>
                          <a:pt x="0" y="743"/>
                        </a:lnTo>
                        <a:lnTo>
                          <a:pt x="51" y="760"/>
                        </a:lnTo>
                        <a:lnTo>
                          <a:pt x="101" y="781"/>
                        </a:lnTo>
                        <a:lnTo>
                          <a:pt x="133" y="804"/>
                        </a:lnTo>
                        <a:lnTo>
                          <a:pt x="156" y="820"/>
                        </a:lnTo>
                        <a:lnTo>
                          <a:pt x="193" y="863"/>
                        </a:lnTo>
                        <a:lnTo>
                          <a:pt x="228" y="909"/>
                        </a:lnTo>
                        <a:lnTo>
                          <a:pt x="273" y="961"/>
                        </a:lnTo>
                        <a:lnTo>
                          <a:pt x="308" y="984"/>
                        </a:lnTo>
                        <a:lnTo>
                          <a:pt x="355" y="1008"/>
                        </a:lnTo>
                        <a:lnTo>
                          <a:pt x="434" y="1041"/>
                        </a:lnTo>
                        <a:lnTo>
                          <a:pt x="504" y="1053"/>
                        </a:lnTo>
                        <a:lnTo>
                          <a:pt x="586" y="1044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2238840" y="3733920"/>
                    <a:ext cx="1292400" cy="169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1066">
                        <a:moveTo>
                          <a:pt x="570" y="1056"/>
                        </a:moveTo>
                        <a:lnTo>
                          <a:pt x="608" y="1049"/>
                        </a:lnTo>
                        <a:lnTo>
                          <a:pt x="668" y="1033"/>
                        </a:lnTo>
                        <a:lnTo>
                          <a:pt x="710" y="1008"/>
                        </a:lnTo>
                        <a:lnTo>
                          <a:pt x="736" y="979"/>
                        </a:lnTo>
                        <a:lnTo>
                          <a:pt x="756" y="950"/>
                        </a:lnTo>
                        <a:lnTo>
                          <a:pt x="769" y="921"/>
                        </a:lnTo>
                        <a:lnTo>
                          <a:pt x="783" y="884"/>
                        </a:lnTo>
                        <a:lnTo>
                          <a:pt x="792" y="836"/>
                        </a:lnTo>
                        <a:lnTo>
                          <a:pt x="796" y="784"/>
                        </a:lnTo>
                        <a:lnTo>
                          <a:pt x="797" y="748"/>
                        </a:lnTo>
                        <a:lnTo>
                          <a:pt x="803" y="720"/>
                        </a:lnTo>
                        <a:lnTo>
                          <a:pt x="810" y="701"/>
                        </a:lnTo>
                        <a:lnTo>
                          <a:pt x="821" y="678"/>
                        </a:lnTo>
                        <a:lnTo>
                          <a:pt x="833" y="653"/>
                        </a:lnTo>
                        <a:lnTo>
                          <a:pt x="846" y="635"/>
                        </a:lnTo>
                        <a:lnTo>
                          <a:pt x="860" y="617"/>
                        </a:lnTo>
                        <a:lnTo>
                          <a:pt x="872" y="605"/>
                        </a:lnTo>
                        <a:lnTo>
                          <a:pt x="883" y="593"/>
                        </a:lnTo>
                        <a:lnTo>
                          <a:pt x="915" y="569"/>
                        </a:lnTo>
                        <a:lnTo>
                          <a:pt x="881" y="580"/>
                        </a:lnTo>
                        <a:lnTo>
                          <a:pt x="850" y="594"/>
                        </a:lnTo>
                        <a:lnTo>
                          <a:pt x="821" y="610"/>
                        </a:lnTo>
                        <a:lnTo>
                          <a:pt x="797" y="625"/>
                        </a:lnTo>
                        <a:lnTo>
                          <a:pt x="775" y="643"/>
                        </a:lnTo>
                        <a:lnTo>
                          <a:pt x="757" y="665"/>
                        </a:lnTo>
                        <a:lnTo>
                          <a:pt x="733" y="695"/>
                        </a:lnTo>
                        <a:lnTo>
                          <a:pt x="715" y="718"/>
                        </a:lnTo>
                        <a:lnTo>
                          <a:pt x="700" y="742"/>
                        </a:lnTo>
                        <a:lnTo>
                          <a:pt x="714" y="707"/>
                        </a:lnTo>
                        <a:lnTo>
                          <a:pt x="724" y="677"/>
                        </a:lnTo>
                        <a:lnTo>
                          <a:pt x="732" y="643"/>
                        </a:lnTo>
                        <a:lnTo>
                          <a:pt x="736" y="601"/>
                        </a:lnTo>
                        <a:lnTo>
                          <a:pt x="734" y="556"/>
                        </a:lnTo>
                        <a:lnTo>
                          <a:pt x="728" y="516"/>
                        </a:lnTo>
                        <a:lnTo>
                          <a:pt x="721" y="476"/>
                        </a:lnTo>
                        <a:lnTo>
                          <a:pt x="711" y="441"/>
                        </a:lnTo>
                        <a:lnTo>
                          <a:pt x="700" y="408"/>
                        </a:lnTo>
                        <a:lnTo>
                          <a:pt x="685" y="374"/>
                        </a:lnTo>
                        <a:lnTo>
                          <a:pt x="659" y="332"/>
                        </a:lnTo>
                        <a:lnTo>
                          <a:pt x="641" y="305"/>
                        </a:lnTo>
                        <a:lnTo>
                          <a:pt x="616" y="264"/>
                        </a:lnTo>
                        <a:lnTo>
                          <a:pt x="593" y="220"/>
                        </a:lnTo>
                        <a:lnTo>
                          <a:pt x="576" y="179"/>
                        </a:lnTo>
                        <a:lnTo>
                          <a:pt x="566" y="150"/>
                        </a:lnTo>
                        <a:lnTo>
                          <a:pt x="559" y="118"/>
                        </a:lnTo>
                        <a:lnTo>
                          <a:pt x="555" y="86"/>
                        </a:lnTo>
                        <a:lnTo>
                          <a:pt x="555" y="58"/>
                        </a:lnTo>
                        <a:lnTo>
                          <a:pt x="557" y="34"/>
                        </a:lnTo>
                        <a:lnTo>
                          <a:pt x="558" y="0"/>
                        </a:lnTo>
                        <a:lnTo>
                          <a:pt x="544" y="46"/>
                        </a:lnTo>
                        <a:lnTo>
                          <a:pt x="534" y="83"/>
                        </a:lnTo>
                        <a:lnTo>
                          <a:pt x="528" y="117"/>
                        </a:lnTo>
                        <a:lnTo>
                          <a:pt x="528" y="150"/>
                        </a:lnTo>
                        <a:lnTo>
                          <a:pt x="532" y="191"/>
                        </a:lnTo>
                        <a:lnTo>
                          <a:pt x="543" y="224"/>
                        </a:lnTo>
                        <a:lnTo>
                          <a:pt x="554" y="254"/>
                        </a:lnTo>
                        <a:lnTo>
                          <a:pt x="568" y="282"/>
                        </a:lnTo>
                        <a:lnTo>
                          <a:pt x="578" y="318"/>
                        </a:lnTo>
                        <a:lnTo>
                          <a:pt x="582" y="354"/>
                        </a:lnTo>
                        <a:lnTo>
                          <a:pt x="585" y="390"/>
                        </a:lnTo>
                        <a:lnTo>
                          <a:pt x="588" y="428"/>
                        </a:lnTo>
                        <a:lnTo>
                          <a:pt x="588" y="464"/>
                        </a:lnTo>
                        <a:lnTo>
                          <a:pt x="581" y="520"/>
                        </a:lnTo>
                        <a:lnTo>
                          <a:pt x="570" y="556"/>
                        </a:lnTo>
                        <a:lnTo>
                          <a:pt x="540" y="607"/>
                        </a:lnTo>
                        <a:lnTo>
                          <a:pt x="516" y="657"/>
                        </a:lnTo>
                        <a:lnTo>
                          <a:pt x="496" y="709"/>
                        </a:lnTo>
                        <a:lnTo>
                          <a:pt x="482" y="679"/>
                        </a:lnTo>
                        <a:lnTo>
                          <a:pt x="472" y="648"/>
                        </a:lnTo>
                        <a:lnTo>
                          <a:pt x="465" y="618"/>
                        </a:lnTo>
                        <a:lnTo>
                          <a:pt x="463" y="567"/>
                        </a:lnTo>
                        <a:lnTo>
                          <a:pt x="474" y="479"/>
                        </a:lnTo>
                        <a:lnTo>
                          <a:pt x="478" y="453"/>
                        </a:lnTo>
                        <a:lnTo>
                          <a:pt x="479" y="423"/>
                        </a:lnTo>
                        <a:lnTo>
                          <a:pt x="479" y="395"/>
                        </a:lnTo>
                        <a:lnTo>
                          <a:pt x="474" y="355"/>
                        </a:lnTo>
                        <a:lnTo>
                          <a:pt x="465" y="318"/>
                        </a:lnTo>
                        <a:lnTo>
                          <a:pt x="452" y="282"/>
                        </a:lnTo>
                        <a:lnTo>
                          <a:pt x="426" y="233"/>
                        </a:lnTo>
                        <a:lnTo>
                          <a:pt x="440" y="293"/>
                        </a:lnTo>
                        <a:lnTo>
                          <a:pt x="449" y="343"/>
                        </a:lnTo>
                        <a:lnTo>
                          <a:pt x="449" y="385"/>
                        </a:lnTo>
                        <a:lnTo>
                          <a:pt x="443" y="420"/>
                        </a:lnTo>
                        <a:lnTo>
                          <a:pt x="434" y="453"/>
                        </a:lnTo>
                        <a:lnTo>
                          <a:pt x="419" y="492"/>
                        </a:lnTo>
                        <a:lnTo>
                          <a:pt x="381" y="577"/>
                        </a:lnTo>
                        <a:lnTo>
                          <a:pt x="379" y="523"/>
                        </a:lnTo>
                        <a:lnTo>
                          <a:pt x="382" y="478"/>
                        </a:lnTo>
                        <a:lnTo>
                          <a:pt x="386" y="436"/>
                        </a:lnTo>
                        <a:lnTo>
                          <a:pt x="363" y="478"/>
                        </a:lnTo>
                        <a:lnTo>
                          <a:pt x="351" y="515"/>
                        </a:lnTo>
                        <a:lnTo>
                          <a:pt x="342" y="555"/>
                        </a:lnTo>
                        <a:lnTo>
                          <a:pt x="333" y="601"/>
                        </a:lnTo>
                        <a:lnTo>
                          <a:pt x="336" y="658"/>
                        </a:lnTo>
                        <a:lnTo>
                          <a:pt x="345" y="714"/>
                        </a:lnTo>
                        <a:lnTo>
                          <a:pt x="361" y="760"/>
                        </a:lnTo>
                        <a:lnTo>
                          <a:pt x="386" y="818"/>
                        </a:lnTo>
                        <a:lnTo>
                          <a:pt x="422" y="890"/>
                        </a:lnTo>
                        <a:lnTo>
                          <a:pt x="363" y="805"/>
                        </a:lnTo>
                        <a:lnTo>
                          <a:pt x="350" y="783"/>
                        </a:lnTo>
                        <a:lnTo>
                          <a:pt x="324" y="748"/>
                        </a:lnTo>
                        <a:lnTo>
                          <a:pt x="291" y="714"/>
                        </a:lnTo>
                        <a:lnTo>
                          <a:pt x="266" y="687"/>
                        </a:lnTo>
                        <a:lnTo>
                          <a:pt x="226" y="654"/>
                        </a:lnTo>
                        <a:lnTo>
                          <a:pt x="271" y="719"/>
                        </a:lnTo>
                        <a:lnTo>
                          <a:pt x="289" y="747"/>
                        </a:lnTo>
                        <a:lnTo>
                          <a:pt x="305" y="775"/>
                        </a:lnTo>
                        <a:lnTo>
                          <a:pt x="335" y="836"/>
                        </a:lnTo>
                        <a:lnTo>
                          <a:pt x="359" y="886"/>
                        </a:lnTo>
                        <a:lnTo>
                          <a:pt x="392" y="968"/>
                        </a:lnTo>
                        <a:lnTo>
                          <a:pt x="351" y="953"/>
                        </a:lnTo>
                        <a:lnTo>
                          <a:pt x="315" y="929"/>
                        </a:lnTo>
                        <a:lnTo>
                          <a:pt x="275" y="897"/>
                        </a:lnTo>
                        <a:lnTo>
                          <a:pt x="243" y="865"/>
                        </a:lnTo>
                        <a:lnTo>
                          <a:pt x="200" y="828"/>
                        </a:lnTo>
                        <a:lnTo>
                          <a:pt x="167" y="804"/>
                        </a:lnTo>
                        <a:lnTo>
                          <a:pt x="141" y="784"/>
                        </a:lnTo>
                        <a:lnTo>
                          <a:pt x="114" y="767"/>
                        </a:lnTo>
                        <a:lnTo>
                          <a:pt x="92" y="758"/>
                        </a:lnTo>
                        <a:lnTo>
                          <a:pt x="57" y="749"/>
                        </a:lnTo>
                        <a:lnTo>
                          <a:pt x="0" y="738"/>
                        </a:lnTo>
                        <a:lnTo>
                          <a:pt x="56" y="764"/>
                        </a:lnTo>
                        <a:lnTo>
                          <a:pt x="96" y="786"/>
                        </a:lnTo>
                        <a:lnTo>
                          <a:pt x="128" y="812"/>
                        </a:lnTo>
                        <a:lnTo>
                          <a:pt x="150" y="829"/>
                        </a:lnTo>
                        <a:lnTo>
                          <a:pt x="187" y="873"/>
                        </a:lnTo>
                        <a:lnTo>
                          <a:pt x="221" y="919"/>
                        </a:lnTo>
                        <a:lnTo>
                          <a:pt x="266" y="972"/>
                        </a:lnTo>
                        <a:lnTo>
                          <a:pt x="299" y="995"/>
                        </a:lnTo>
                        <a:lnTo>
                          <a:pt x="345" y="1020"/>
                        </a:lnTo>
                        <a:lnTo>
                          <a:pt x="423" y="1053"/>
                        </a:lnTo>
                        <a:lnTo>
                          <a:pt x="490" y="1065"/>
                        </a:lnTo>
                        <a:lnTo>
                          <a:pt x="570" y="10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2" name=""/>
              <p:cNvGrpSpPr/>
              <p:nvPr/>
            </p:nvGrpSpPr>
            <p:grpSpPr>
              <a:xfrm>
                <a:off x="2291040" y="4290840"/>
                <a:ext cx="1121400" cy="1687680"/>
                <a:chOff x="2291040" y="4290840"/>
                <a:chExt cx="1121400" cy="168768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2649240" y="4290840"/>
                  <a:ext cx="763200" cy="1197000"/>
                </a:xfrm>
                <a:custGeom>
                  <a:avLst/>
                  <a:gdLst/>
                  <a:ahLst/>
                  <a:rect l="l" t="t" r="r" b="b"/>
                  <a:pathLst>
                    <a:path w="541" h="754">
                      <a:moveTo>
                        <a:pt x="0" y="426"/>
                      </a:moveTo>
                      <a:lnTo>
                        <a:pt x="24" y="445"/>
                      </a:lnTo>
                      <a:lnTo>
                        <a:pt x="36" y="465"/>
                      </a:lnTo>
                      <a:lnTo>
                        <a:pt x="47" y="495"/>
                      </a:lnTo>
                      <a:lnTo>
                        <a:pt x="63" y="527"/>
                      </a:lnTo>
                      <a:lnTo>
                        <a:pt x="63" y="549"/>
                      </a:lnTo>
                      <a:lnTo>
                        <a:pt x="63" y="578"/>
                      </a:lnTo>
                      <a:lnTo>
                        <a:pt x="58" y="602"/>
                      </a:lnTo>
                      <a:lnTo>
                        <a:pt x="55" y="626"/>
                      </a:lnTo>
                      <a:lnTo>
                        <a:pt x="55" y="649"/>
                      </a:lnTo>
                      <a:lnTo>
                        <a:pt x="59" y="670"/>
                      </a:lnTo>
                      <a:lnTo>
                        <a:pt x="66" y="693"/>
                      </a:lnTo>
                      <a:lnTo>
                        <a:pt x="78" y="709"/>
                      </a:lnTo>
                      <a:lnTo>
                        <a:pt x="95" y="725"/>
                      </a:lnTo>
                      <a:lnTo>
                        <a:pt x="113" y="736"/>
                      </a:lnTo>
                      <a:lnTo>
                        <a:pt x="133" y="744"/>
                      </a:lnTo>
                      <a:lnTo>
                        <a:pt x="156" y="749"/>
                      </a:lnTo>
                      <a:lnTo>
                        <a:pt x="181" y="753"/>
                      </a:lnTo>
                      <a:lnTo>
                        <a:pt x="207" y="753"/>
                      </a:lnTo>
                      <a:lnTo>
                        <a:pt x="230" y="750"/>
                      </a:lnTo>
                      <a:lnTo>
                        <a:pt x="255" y="746"/>
                      </a:lnTo>
                      <a:lnTo>
                        <a:pt x="281" y="741"/>
                      </a:lnTo>
                      <a:lnTo>
                        <a:pt x="306" y="733"/>
                      </a:lnTo>
                      <a:lnTo>
                        <a:pt x="329" y="723"/>
                      </a:lnTo>
                      <a:lnTo>
                        <a:pt x="346" y="713"/>
                      </a:lnTo>
                      <a:lnTo>
                        <a:pt x="365" y="701"/>
                      </a:lnTo>
                      <a:lnTo>
                        <a:pt x="383" y="687"/>
                      </a:lnTo>
                      <a:lnTo>
                        <a:pt x="394" y="673"/>
                      </a:lnTo>
                      <a:lnTo>
                        <a:pt x="406" y="658"/>
                      </a:lnTo>
                      <a:lnTo>
                        <a:pt x="417" y="638"/>
                      </a:lnTo>
                      <a:lnTo>
                        <a:pt x="425" y="621"/>
                      </a:lnTo>
                      <a:lnTo>
                        <a:pt x="434" y="605"/>
                      </a:lnTo>
                      <a:lnTo>
                        <a:pt x="444" y="590"/>
                      </a:lnTo>
                      <a:lnTo>
                        <a:pt x="465" y="569"/>
                      </a:lnTo>
                      <a:lnTo>
                        <a:pt x="477" y="561"/>
                      </a:lnTo>
                      <a:lnTo>
                        <a:pt x="493" y="549"/>
                      </a:lnTo>
                      <a:lnTo>
                        <a:pt x="540" y="532"/>
                      </a:lnTo>
                      <a:lnTo>
                        <a:pt x="501" y="533"/>
                      </a:lnTo>
                      <a:lnTo>
                        <a:pt x="478" y="539"/>
                      </a:lnTo>
                      <a:lnTo>
                        <a:pt x="461" y="542"/>
                      </a:lnTo>
                      <a:lnTo>
                        <a:pt x="441" y="553"/>
                      </a:lnTo>
                      <a:lnTo>
                        <a:pt x="434" y="558"/>
                      </a:lnTo>
                      <a:lnTo>
                        <a:pt x="418" y="572"/>
                      </a:lnTo>
                      <a:lnTo>
                        <a:pt x="406" y="587"/>
                      </a:lnTo>
                      <a:lnTo>
                        <a:pt x="375" y="629"/>
                      </a:lnTo>
                      <a:lnTo>
                        <a:pt x="356" y="645"/>
                      </a:lnTo>
                      <a:lnTo>
                        <a:pt x="335" y="657"/>
                      </a:lnTo>
                      <a:lnTo>
                        <a:pt x="309" y="671"/>
                      </a:lnTo>
                      <a:lnTo>
                        <a:pt x="283" y="680"/>
                      </a:lnTo>
                      <a:lnTo>
                        <a:pt x="301" y="659"/>
                      </a:lnTo>
                      <a:lnTo>
                        <a:pt x="316" y="641"/>
                      </a:lnTo>
                      <a:lnTo>
                        <a:pt x="333" y="619"/>
                      </a:lnTo>
                      <a:lnTo>
                        <a:pt x="342" y="589"/>
                      </a:lnTo>
                      <a:lnTo>
                        <a:pt x="361" y="542"/>
                      </a:lnTo>
                      <a:lnTo>
                        <a:pt x="403" y="483"/>
                      </a:lnTo>
                      <a:lnTo>
                        <a:pt x="355" y="525"/>
                      </a:lnTo>
                      <a:lnTo>
                        <a:pt x="342" y="538"/>
                      </a:lnTo>
                      <a:lnTo>
                        <a:pt x="312" y="588"/>
                      </a:lnTo>
                      <a:lnTo>
                        <a:pt x="334" y="508"/>
                      </a:lnTo>
                      <a:lnTo>
                        <a:pt x="343" y="462"/>
                      </a:lnTo>
                      <a:lnTo>
                        <a:pt x="344" y="426"/>
                      </a:lnTo>
                      <a:lnTo>
                        <a:pt x="342" y="399"/>
                      </a:lnTo>
                      <a:lnTo>
                        <a:pt x="333" y="376"/>
                      </a:lnTo>
                      <a:lnTo>
                        <a:pt x="324" y="349"/>
                      </a:lnTo>
                      <a:lnTo>
                        <a:pt x="310" y="320"/>
                      </a:lnTo>
                      <a:lnTo>
                        <a:pt x="317" y="377"/>
                      </a:lnTo>
                      <a:lnTo>
                        <a:pt x="315" y="415"/>
                      </a:lnTo>
                      <a:lnTo>
                        <a:pt x="284" y="350"/>
                      </a:lnTo>
                      <a:lnTo>
                        <a:pt x="272" y="321"/>
                      </a:lnTo>
                      <a:lnTo>
                        <a:pt x="268" y="293"/>
                      </a:lnTo>
                      <a:lnTo>
                        <a:pt x="270" y="264"/>
                      </a:lnTo>
                      <a:lnTo>
                        <a:pt x="274" y="237"/>
                      </a:lnTo>
                      <a:lnTo>
                        <a:pt x="281" y="209"/>
                      </a:lnTo>
                      <a:lnTo>
                        <a:pt x="270" y="223"/>
                      </a:lnTo>
                      <a:lnTo>
                        <a:pt x="263" y="240"/>
                      </a:lnTo>
                      <a:lnTo>
                        <a:pt x="254" y="273"/>
                      </a:lnTo>
                      <a:lnTo>
                        <a:pt x="249" y="295"/>
                      </a:lnTo>
                      <a:lnTo>
                        <a:pt x="248" y="321"/>
                      </a:lnTo>
                      <a:lnTo>
                        <a:pt x="255" y="356"/>
                      </a:lnTo>
                      <a:lnTo>
                        <a:pt x="265" y="431"/>
                      </a:lnTo>
                      <a:lnTo>
                        <a:pt x="248" y="499"/>
                      </a:lnTo>
                      <a:lnTo>
                        <a:pt x="202" y="391"/>
                      </a:lnTo>
                      <a:lnTo>
                        <a:pt x="192" y="365"/>
                      </a:lnTo>
                      <a:lnTo>
                        <a:pt x="185" y="333"/>
                      </a:lnTo>
                      <a:lnTo>
                        <a:pt x="182" y="299"/>
                      </a:lnTo>
                      <a:lnTo>
                        <a:pt x="185" y="265"/>
                      </a:lnTo>
                      <a:lnTo>
                        <a:pt x="190" y="237"/>
                      </a:lnTo>
                      <a:lnTo>
                        <a:pt x="198" y="211"/>
                      </a:lnTo>
                      <a:lnTo>
                        <a:pt x="207" y="184"/>
                      </a:lnTo>
                      <a:lnTo>
                        <a:pt x="216" y="159"/>
                      </a:lnTo>
                      <a:lnTo>
                        <a:pt x="219" y="135"/>
                      </a:lnTo>
                      <a:lnTo>
                        <a:pt x="221" y="108"/>
                      </a:lnTo>
                      <a:lnTo>
                        <a:pt x="219" y="77"/>
                      </a:lnTo>
                      <a:lnTo>
                        <a:pt x="213" y="43"/>
                      </a:lnTo>
                      <a:lnTo>
                        <a:pt x="200" y="0"/>
                      </a:lnTo>
                      <a:lnTo>
                        <a:pt x="201" y="42"/>
                      </a:lnTo>
                      <a:lnTo>
                        <a:pt x="204" y="67"/>
                      </a:lnTo>
                      <a:lnTo>
                        <a:pt x="201" y="100"/>
                      </a:lnTo>
                      <a:lnTo>
                        <a:pt x="191" y="131"/>
                      </a:lnTo>
                      <a:lnTo>
                        <a:pt x="180" y="160"/>
                      </a:lnTo>
                      <a:lnTo>
                        <a:pt x="166" y="188"/>
                      </a:lnTo>
                      <a:lnTo>
                        <a:pt x="153" y="214"/>
                      </a:lnTo>
                      <a:lnTo>
                        <a:pt x="135" y="245"/>
                      </a:lnTo>
                      <a:lnTo>
                        <a:pt x="118" y="287"/>
                      </a:lnTo>
                      <a:lnTo>
                        <a:pt x="108" y="322"/>
                      </a:lnTo>
                      <a:lnTo>
                        <a:pt x="96" y="445"/>
                      </a:lnTo>
                      <a:lnTo>
                        <a:pt x="103" y="471"/>
                      </a:lnTo>
                      <a:lnTo>
                        <a:pt x="118" y="517"/>
                      </a:lnTo>
                      <a:lnTo>
                        <a:pt x="63" y="447"/>
                      </a:lnTo>
                      <a:lnTo>
                        <a:pt x="0" y="426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2291040" y="5357880"/>
                  <a:ext cx="1073520" cy="620640"/>
                </a:xfrm>
                <a:custGeom>
                  <a:avLst/>
                  <a:gdLst/>
                  <a:ahLst/>
                  <a:rect l="l" t="t" r="r" b="b"/>
                  <a:pathLst>
                    <a:path w="761" h="391">
                      <a:moveTo>
                        <a:pt x="378" y="18"/>
                      </a:moveTo>
                      <a:lnTo>
                        <a:pt x="0" y="138"/>
                      </a:lnTo>
                      <a:lnTo>
                        <a:pt x="371" y="0"/>
                      </a:lnTo>
                      <a:lnTo>
                        <a:pt x="459" y="4"/>
                      </a:lnTo>
                      <a:lnTo>
                        <a:pt x="544" y="18"/>
                      </a:lnTo>
                      <a:lnTo>
                        <a:pt x="760" y="182"/>
                      </a:lnTo>
                      <a:lnTo>
                        <a:pt x="507" y="29"/>
                      </a:lnTo>
                      <a:lnTo>
                        <a:pt x="725" y="390"/>
                      </a:lnTo>
                      <a:lnTo>
                        <a:pt x="478" y="29"/>
                      </a:lnTo>
                      <a:lnTo>
                        <a:pt x="457" y="50"/>
                      </a:lnTo>
                      <a:lnTo>
                        <a:pt x="401" y="216"/>
                      </a:lnTo>
                      <a:lnTo>
                        <a:pt x="427" y="42"/>
                      </a:lnTo>
                      <a:lnTo>
                        <a:pt x="156" y="374"/>
                      </a:lnTo>
                      <a:lnTo>
                        <a:pt x="403" y="24"/>
                      </a:lnTo>
                      <a:lnTo>
                        <a:pt x="378" y="18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2682000" y="4438800"/>
                  <a:ext cx="638640" cy="992160"/>
                </a:xfrm>
                <a:custGeom>
                  <a:avLst/>
                  <a:gdLst/>
                  <a:ahLst/>
                  <a:rect l="l" t="t" r="r" b="b"/>
                  <a:pathLst>
                    <a:path w="453" h="625">
                      <a:moveTo>
                        <a:pt x="0" y="344"/>
                      </a:moveTo>
                      <a:lnTo>
                        <a:pt x="21" y="361"/>
                      </a:lnTo>
                      <a:lnTo>
                        <a:pt x="30" y="382"/>
                      </a:lnTo>
                      <a:lnTo>
                        <a:pt x="40" y="409"/>
                      </a:lnTo>
                      <a:lnTo>
                        <a:pt x="53" y="440"/>
                      </a:lnTo>
                      <a:lnTo>
                        <a:pt x="53" y="461"/>
                      </a:lnTo>
                      <a:lnTo>
                        <a:pt x="52" y="487"/>
                      </a:lnTo>
                      <a:lnTo>
                        <a:pt x="59" y="515"/>
                      </a:lnTo>
                      <a:lnTo>
                        <a:pt x="62" y="536"/>
                      </a:lnTo>
                      <a:lnTo>
                        <a:pt x="70" y="554"/>
                      </a:lnTo>
                      <a:lnTo>
                        <a:pt x="77" y="571"/>
                      </a:lnTo>
                      <a:lnTo>
                        <a:pt x="88" y="587"/>
                      </a:lnTo>
                      <a:lnTo>
                        <a:pt x="100" y="598"/>
                      </a:lnTo>
                      <a:lnTo>
                        <a:pt x="116" y="609"/>
                      </a:lnTo>
                      <a:lnTo>
                        <a:pt x="137" y="617"/>
                      </a:lnTo>
                      <a:lnTo>
                        <a:pt x="164" y="622"/>
                      </a:lnTo>
                      <a:lnTo>
                        <a:pt x="192" y="624"/>
                      </a:lnTo>
                      <a:lnTo>
                        <a:pt x="218" y="621"/>
                      </a:lnTo>
                      <a:lnTo>
                        <a:pt x="243" y="616"/>
                      </a:lnTo>
                      <a:lnTo>
                        <a:pt x="272" y="608"/>
                      </a:lnTo>
                      <a:lnTo>
                        <a:pt x="296" y="594"/>
                      </a:lnTo>
                      <a:lnTo>
                        <a:pt x="315" y="578"/>
                      </a:lnTo>
                      <a:lnTo>
                        <a:pt x="330" y="560"/>
                      </a:lnTo>
                      <a:lnTo>
                        <a:pt x="341" y="542"/>
                      </a:lnTo>
                      <a:lnTo>
                        <a:pt x="356" y="518"/>
                      </a:lnTo>
                      <a:lnTo>
                        <a:pt x="372" y="496"/>
                      </a:lnTo>
                      <a:lnTo>
                        <a:pt x="389" y="475"/>
                      </a:lnTo>
                      <a:lnTo>
                        <a:pt x="413" y="458"/>
                      </a:lnTo>
                      <a:lnTo>
                        <a:pt x="452" y="444"/>
                      </a:lnTo>
                      <a:lnTo>
                        <a:pt x="420" y="446"/>
                      </a:lnTo>
                      <a:lnTo>
                        <a:pt x="402" y="451"/>
                      </a:lnTo>
                      <a:lnTo>
                        <a:pt x="382" y="462"/>
                      </a:lnTo>
                      <a:lnTo>
                        <a:pt x="369" y="473"/>
                      </a:lnTo>
                      <a:lnTo>
                        <a:pt x="350" y="492"/>
                      </a:lnTo>
                      <a:lnTo>
                        <a:pt x="330" y="517"/>
                      </a:lnTo>
                      <a:lnTo>
                        <a:pt x="314" y="535"/>
                      </a:lnTo>
                      <a:lnTo>
                        <a:pt x="299" y="550"/>
                      </a:lnTo>
                      <a:lnTo>
                        <a:pt x="281" y="563"/>
                      </a:lnTo>
                      <a:lnTo>
                        <a:pt x="259" y="575"/>
                      </a:lnTo>
                      <a:lnTo>
                        <a:pt x="238" y="584"/>
                      </a:lnTo>
                      <a:lnTo>
                        <a:pt x="252" y="563"/>
                      </a:lnTo>
                      <a:lnTo>
                        <a:pt x="264" y="547"/>
                      </a:lnTo>
                      <a:lnTo>
                        <a:pt x="278" y="526"/>
                      </a:lnTo>
                      <a:lnTo>
                        <a:pt x="287" y="498"/>
                      </a:lnTo>
                      <a:lnTo>
                        <a:pt x="302" y="454"/>
                      </a:lnTo>
                      <a:lnTo>
                        <a:pt x="338" y="398"/>
                      </a:lnTo>
                      <a:lnTo>
                        <a:pt x="297" y="437"/>
                      </a:lnTo>
                      <a:lnTo>
                        <a:pt x="286" y="450"/>
                      </a:lnTo>
                      <a:lnTo>
                        <a:pt x="261" y="496"/>
                      </a:lnTo>
                      <a:lnTo>
                        <a:pt x="279" y="421"/>
                      </a:lnTo>
                      <a:lnTo>
                        <a:pt x="287" y="379"/>
                      </a:lnTo>
                      <a:lnTo>
                        <a:pt x="288" y="344"/>
                      </a:lnTo>
                      <a:lnTo>
                        <a:pt x="279" y="297"/>
                      </a:lnTo>
                      <a:lnTo>
                        <a:pt x="272" y="272"/>
                      </a:lnTo>
                      <a:lnTo>
                        <a:pt x="263" y="255"/>
                      </a:lnTo>
                      <a:lnTo>
                        <a:pt x="265" y="298"/>
                      </a:lnTo>
                      <a:lnTo>
                        <a:pt x="264" y="335"/>
                      </a:lnTo>
                      <a:lnTo>
                        <a:pt x="238" y="271"/>
                      </a:lnTo>
                      <a:lnTo>
                        <a:pt x="231" y="247"/>
                      </a:lnTo>
                      <a:lnTo>
                        <a:pt x="229" y="217"/>
                      </a:lnTo>
                      <a:lnTo>
                        <a:pt x="230" y="191"/>
                      </a:lnTo>
                      <a:lnTo>
                        <a:pt x="237" y="140"/>
                      </a:lnTo>
                      <a:lnTo>
                        <a:pt x="218" y="199"/>
                      </a:lnTo>
                      <a:lnTo>
                        <a:pt x="212" y="229"/>
                      </a:lnTo>
                      <a:lnTo>
                        <a:pt x="212" y="255"/>
                      </a:lnTo>
                      <a:lnTo>
                        <a:pt x="215" y="282"/>
                      </a:lnTo>
                      <a:lnTo>
                        <a:pt x="220" y="313"/>
                      </a:lnTo>
                      <a:lnTo>
                        <a:pt x="222" y="350"/>
                      </a:lnTo>
                      <a:lnTo>
                        <a:pt x="208" y="413"/>
                      </a:lnTo>
                      <a:lnTo>
                        <a:pt x="161" y="310"/>
                      </a:lnTo>
                      <a:lnTo>
                        <a:pt x="156" y="288"/>
                      </a:lnTo>
                      <a:lnTo>
                        <a:pt x="154" y="258"/>
                      </a:lnTo>
                      <a:lnTo>
                        <a:pt x="155" y="228"/>
                      </a:lnTo>
                      <a:lnTo>
                        <a:pt x="160" y="199"/>
                      </a:lnTo>
                      <a:lnTo>
                        <a:pt x="169" y="166"/>
                      </a:lnTo>
                      <a:lnTo>
                        <a:pt x="179" y="142"/>
                      </a:lnTo>
                      <a:lnTo>
                        <a:pt x="186" y="115"/>
                      </a:lnTo>
                      <a:lnTo>
                        <a:pt x="190" y="87"/>
                      </a:lnTo>
                      <a:lnTo>
                        <a:pt x="190" y="66"/>
                      </a:lnTo>
                      <a:lnTo>
                        <a:pt x="186" y="36"/>
                      </a:lnTo>
                      <a:lnTo>
                        <a:pt x="173" y="0"/>
                      </a:lnTo>
                      <a:lnTo>
                        <a:pt x="174" y="38"/>
                      </a:lnTo>
                      <a:lnTo>
                        <a:pt x="172" y="70"/>
                      </a:lnTo>
                      <a:lnTo>
                        <a:pt x="165" y="99"/>
                      </a:lnTo>
                      <a:lnTo>
                        <a:pt x="155" y="124"/>
                      </a:lnTo>
                      <a:lnTo>
                        <a:pt x="136" y="159"/>
                      </a:lnTo>
                      <a:lnTo>
                        <a:pt x="113" y="213"/>
                      </a:lnTo>
                      <a:lnTo>
                        <a:pt x="100" y="247"/>
                      </a:lnTo>
                      <a:lnTo>
                        <a:pt x="82" y="362"/>
                      </a:lnTo>
                      <a:lnTo>
                        <a:pt x="86" y="387"/>
                      </a:lnTo>
                      <a:lnTo>
                        <a:pt x="98" y="430"/>
                      </a:lnTo>
                      <a:lnTo>
                        <a:pt x="52" y="364"/>
                      </a:lnTo>
                      <a:lnTo>
                        <a:pt x="0" y="344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6" name=""/>
            <p:cNvSpPr/>
            <p:nvPr/>
          </p:nvSpPr>
          <p:spPr>
            <a:xfrm>
              <a:off x="5609160" y="2638440"/>
              <a:ext cx="33264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889600" y="260676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139440" y="2898720"/>
              <a:ext cx="42444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328000" y="309240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013800" y="3156120"/>
              <a:ext cx="36288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203800" y="318924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172840" y="2962440"/>
              <a:ext cx="26928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298480" y="270360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671080" y="322272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201720" y="2736720"/>
              <a:ext cx="3312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108480" y="2606760"/>
              <a:ext cx="30024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283000" y="2687760"/>
              <a:ext cx="120780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837400" y="3409920"/>
              <a:ext cx="3330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118560" y="337824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368040" y="3670200"/>
              <a:ext cx="42444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556600" y="386388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242760" y="3927600"/>
              <a:ext cx="36252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432400" y="396072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401440" y="3733920"/>
              <a:ext cx="26964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527080" y="347508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899680" y="399420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429960" y="3508200"/>
              <a:ext cx="3312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337080" y="3378240"/>
              <a:ext cx="30024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511240" y="3459240"/>
              <a:ext cx="120780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989680" y="4010040"/>
              <a:ext cx="3330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270840" y="397836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520320" y="4270320"/>
              <a:ext cx="42480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709240" y="446400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395040" y="4527720"/>
              <a:ext cx="36252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585040" y="456084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554080" y="4334040"/>
              <a:ext cx="26928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79360" y="407520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1960" y="459432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82600" y="4108320"/>
              <a:ext cx="33156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489360" y="3978360"/>
              <a:ext cx="30060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663880" y="4059360"/>
              <a:ext cx="120744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eploying New Workgroup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346680" y="1963800"/>
            <a:ext cx="5835960" cy="2386080"/>
            <a:chOff x="346680" y="1963800"/>
            <a:chExt cx="5835960" cy="2386080"/>
          </a:xfrm>
        </p:grpSpPr>
        <p:grpSp>
          <p:nvGrpSpPr>
            <p:cNvPr id="3514" name=""/>
            <p:cNvGrpSpPr/>
            <p:nvPr/>
          </p:nvGrpSpPr>
          <p:grpSpPr>
            <a:xfrm>
              <a:off x="4789440" y="3292560"/>
              <a:ext cx="1393200" cy="1057320"/>
              <a:chOff x="4789440" y="3292560"/>
              <a:chExt cx="1393200" cy="1057320"/>
            </a:xfrm>
          </p:grpSpPr>
          <p:grpSp>
            <p:nvGrpSpPr>
              <p:cNvPr id="3515" name=""/>
              <p:cNvGrpSpPr/>
              <p:nvPr/>
            </p:nvGrpSpPr>
            <p:grpSpPr>
              <a:xfrm>
                <a:off x="4791600" y="3292560"/>
                <a:ext cx="1391040" cy="1057320"/>
                <a:chOff x="4791600" y="3292560"/>
                <a:chExt cx="1391040" cy="1057320"/>
              </a:xfrm>
            </p:grpSpPr>
            <p:sp>
              <p:nvSpPr>
                <p:cNvPr id="3516" name=""/>
                <p:cNvSpPr/>
                <p:nvPr/>
              </p:nvSpPr>
              <p:spPr>
                <a:xfrm>
                  <a:off x="5227560" y="3324240"/>
                  <a:ext cx="333000" cy="34452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5508720" y="3292560"/>
                  <a:ext cx="267840" cy="279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5758200" y="3584520"/>
                  <a:ext cx="424440" cy="441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4946760" y="3778200"/>
                  <a:ext cx="489600" cy="5079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5632920" y="3841920"/>
                  <a:ext cx="362520" cy="37764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4822560" y="3875040"/>
                  <a:ext cx="270720" cy="279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791600" y="3648240"/>
                  <a:ext cx="269640" cy="28080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4917240" y="3389400"/>
                  <a:ext cx="424440" cy="44280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289840" y="3908520"/>
                  <a:ext cx="427320" cy="441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5820120" y="3422520"/>
                  <a:ext cx="331200" cy="34452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5727240" y="3292560"/>
                  <a:ext cx="300240" cy="31104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4901400" y="3373560"/>
                  <a:ext cx="120780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8" name=""/>
              <p:cNvSpPr/>
              <p:nvPr/>
            </p:nvSpPr>
            <p:spPr>
              <a:xfrm>
                <a:off x="4789440" y="3630600"/>
                <a:ext cx="1273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4/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346680" y="1963800"/>
              <a:ext cx="2583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rop in some IPv4/IPv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ybrid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207360" y="1787400"/>
            <a:ext cx="7804080" cy="4647960"/>
            <a:chOff x="207360" y="1787400"/>
            <a:chExt cx="7804080" cy="4647960"/>
          </a:xfrm>
        </p:grpSpPr>
        <p:grpSp>
          <p:nvGrpSpPr>
            <p:cNvPr id="3531" name=""/>
            <p:cNvGrpSpPr/>
            <p:nvPr/>
          </p:nvGrpSpPr>
          <p:grpSpPr>
            <a:xfrm>
              <a:off x="4402080" y="1787400"/>
              <a:ext cx="3609360" cy="4543560"/>
              <a:chOff x="4402080" y="1787400"/>
              <a:chExt cx="3609360" cy="4543560"/>
            </a:xfrm>
          </p:grpSpPr>
          <p:grpSp>
            <p:nvGrpSpPr>
              <p:cNvPr id="3532" name=""/>
              <p:cNvGrpSpPr/>
              <p:nvPr/>
            </p:nvGrpSpPr>
            <p:grpSpPr>
              <a:xfrm>
                <a:off x="6010560" y="2460600"/>
                <a:ext cx="1391040" cy="1057320"/>
                <a:chOff x="6010560" y="2460600"/>
                <a:chExt cx="1391040" cy="1057320"/>
              </a:xfrm>
            </p:grpSpPr>
            <p:grpSp>
              <p:nvGrpSpPr>
                <p:cNvPr id="3533" name=""/>
                <p:cNvGrpSpPr/>
                <p:nvPr/>
              </p:nvGrpSpPr>
              <p:grpSpPr>
                <a:xfrm>
                  <a:off x="6010560" y="2460600"/>
                  <a:ext cx="1391040" cy="1057320"/>
                  <a:chOff x="6010560" y="2460600"/>
                  <a:chExt cx="1391040" cy="1057320"/>
                </a:xfrm>
              </p:grpSpPr>
              <p:sp>
                <p:nvSpPr>
                  <p:cNvPr id="3534" name=""/>
                  <p:cNvSpPr/>
                  <p:nvPr/>
                </p:nvSpPr>
                <p:spPr>
                  <a:xfrm>
                    <a:off x="6446520" y="249228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6727680" y="246060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6977160" y="275256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6165720" y="294624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6851880" y="300996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6041520" y="304308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6010560" y="281628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6136200" y="255744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6508800" y="307656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039080" y="25909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6946200" y="246060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6120360" y="254160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6" name=""/>
                <p:cNvSpPr/>
                <p:nvPr/>
              </p:nvSpPr>
              <p:spPr>
                <a:xfrm>
                  <a:off x="6269040" y="281448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7" name=""/>
              <p:cNvGrpSpPr/>
              <p:nvPr/>
            </p:nvGrpSpPr>
            <p:grpSpPr>
              <a:xfrm>
                <a:off x="6391800" y="3216240"/>
                <a:ext cx="1391040" cy="1057320"/>
                <a:chOff x="6391800" y="3216240"/>
                <a:chExt cx="1391040" cy="1057320"/>
              </a:xfrm>
            </p:grpSpPr>
            <p:grpSp>
              <p:nvGrpSpPr>
                <p:cNvPr id="3548" name=""/>
                <p:cNvGrpSpPr/>
                <p:nvPr/>
              </p:nvGrpSpPr>
              <p:grpSpPr>
                <a:xfrm>
                  <a:off x="6391800" y="3216240"/>
                  <a:ext cx="1391040" cy="1057320"/>
                  <a:chOff x="6391800" y="3216240"/>
                  <a:chExt cx="1391040" cy="105732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>
                    <a:off x="6827760" y="3247920"/>
                    <a:ext cx="33264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7108560" y="32162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7358400" y="35082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6546960" y="37018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7232760" y="3765600"/>
                    <a:ext cx="36288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6422760" y="37987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6391800" y="3571920"/>
                    <a:ext cx="26928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6517440" y="33130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6890040" y="38322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7420320" y="33465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7327440" y="32162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6501600" y="32972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1" name=""/>
                <p:cNvSpPr/>
                <p:nvPr/>
              </p:nvSpPr>
              <p:spPr>
                <a:xfrm>
                  <a:off x="6649920" y="35701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"/>
              <p:cNvGrpSpPr/>
              <p:nvPr/>
            </p:nvGrpSpPr>
            <p:grpSpPr>
              <a:xfrm>
                <a:off x="6620400" y="3978360"/>
                <a:ext cx="1391040" cy="1057320"/>
                <a:chOff x="6620400" y="3978360"/>
                <a:chExt cx="1391040" cy="1057320"/>
              </a:xfrm>
            </p:grpSpPr>
            <p:grpSp>
              <p:nvGrpSpPr>
                <p:cNvPr id="3563" name=""/>
                <p:cNvGrpSpPr/>
                <p:nvPr/>
              </p:nvGrpSpPr>
              <p:grpSpPr>
                <a:xfrm>
                  <a:off x="6620400" y="3978360"/>
                  <a:ext cx="1391040" cy="1057320"/>
                  <a:chOff x="6620400" y="3978360"/>
                  <a:chExt cx="1391040" cy="1057320"/>
                </a:xfrm>
              </p:grpSpPr>
              <p:sp>
                <p:nvSpPr>
                  <p:cNvPr id="3564" name=""/>
                  <p:cNvSpPr/>
                  <p:nvPr/>
                </p:nvSpPr>
                <p:spPr>
                  <a:xfrm>
                    <a:off x="7056360" y="401004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7337520" y="397836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7587000" y="427032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6775560" y="446400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7461720" y="452772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6651360" y="456084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>
                    <a:off x="6620400" y="433404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6746040" y="407520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7118640" y="459432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7648920" y="41083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7556040" y="397836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6730200" y="405936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6" name=""/>
                <p:cNvSpPr/>
                <p:nvPr/>
              </p:nvSpPr>
              <p:spPr>
                <a:xfrm>
                  <a:off x="6878880" y="433224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7" name=""/>
              <p:cNvGrpSpPr/>
              <p:nvPr/>
            </p:nvGrpSpPr>
            <p:grpSpPr>
              <a:xfrm>
                <a:off x="6239520" y="4740120"/>
                <a:ext cx="1391040" cy="1057320"/>
                <a:chOff x="6239520" y="4740120"/>
                <a:chExt cx="1391040" cy="1057320"/>
              </a:xfrm>
            </p:grpSpPr>
            <p:grpSp>
              <p:nvGrpSpPr>
                <p:cNvPr id="3578" name=""/>
                <p:cNvGrpSpPr/>
                <p:nvPr/>
              </p:nvGrpSpPr>
              <p:grpSpPr>
                <a:xfrm>
                  <a:off x="6239520" y="4740120"/>
                  <a:ext cx="1391040" cy="1057320"/>
                  <a:chOff x="6239520" y="4740120"/>
                  <a:chExt cx="1391040" cy="105732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>
                    <a:off x="6675120" y="477216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6956280" y="4740120"/>
                    <a:ext cx="26784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7205760" y="5032440"/>
                    <a:ext cx="42480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6394680" y="522612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7080480" y="528948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6270480" y="532296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>
                    <a:off x="6239520" y="5095800"/>
                    <a:ext cx="26928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6364800" y="4836960"/>
                    <a:ext cx="42480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6737400" y="5356080"/>
                    <a:ext cx="42768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7268040" y="4870440"/>
                    <a:ext cx="33156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7174800" y="4740120"/>
                    <a:ext cx="30060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6349320" y="4821120"/>
                    <a:ext cx="120744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1" name=""/>
                <p:cNvSpPr/>
                <p:nvPr/>
              </p:nvSpPr>
              <p:spPr>
                <a:xfrm>
                  <a:off x="6497640" y="509436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2" name=""/>
              <p:cNvGrpSpPr/>
              <p:nvPr/>
            </p:nvGrpSpPr>
            <p:grpSpPr>
              <a:xfrm>
                <a:off x="4402080" y="1787400"/>
                <a:ext cx="1391040" cy="1057320"/>
                <a:chOff x="4402080" y="1787400"/>
                <a:chExt cx="1391040" cy="1057320"/>
              </a:xfrm>
            </p:grpSpPr>
            <p:grpSp>
              <p:nvGrpSpPr>
                <p:cNvPr id="3593" name=""/>
                <p:cNvGrpSpPr/>
                <p:nvPr/>
              </p:nvGrpSpPr>
              <p:grpSpPr>
                <a:xfrm>
                  <a:off x="4402080" y="1787400"/>
                  <a:ext cx="1391040" cy="1057320"/>
                  <a:chOff x="4402080" y="1787400"/>
                  <a:chExt cx="1391040" cy="1057320"/>
                </a:xfrm>
              </p:grpSpPr>
              <p:sp>
                <p:nvSpPr>
                  <p:cNvPr id="3594" name=""/>
                  <p:cNvSpPr/>
                  <p:nvPr/>
                </p:nvSpPr>
                <p:spPr>
                  <a:xfrm>
                    <a:off x="4838040" y="1819440"/>
                    <a:ext cx="333000" cy="344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5118840" y="178740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5368680" y="207972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4557240" y="227340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>
                    <a:off x="5243400" y="233676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4433040" y="237024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4402080" y="2143080"/>
                    <a:ext cx="26964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4527720" y="1884240"/>
                    <a:ext cx="42444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4900320" y="240336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5430600" y="19177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5337720" y="1787400"/>
                    <a:ext cx="30024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4511880" y="186840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6" name=""/>
                <p:cNvSpPr/>
                <p:nvPr/>
              </p:nvSpPr>
              <p:spPr>
                <a:xfrm>
                  <a:off x="4660200" y="214164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7" name=""/>
              <p:cNvGrpSpPr/>
              <p:nvPr/>
            </p:nvGrpSpPr>
            <p:grpSpPr>
              <a:xfrm>
                <a:off x="4410720" y="5197320"/>
                <a:ext cx="1391040" cy="1057320"/>
                <a:chOff x="4410720" y="5197320"/>
                <a:chExt cx="1391040" cy="1057320"/>
              </a:xfrm>
            </p:grpSpPr>
            <p:grpSp>
              <p:nvGrpSpPr>
                <p:cNvPr id="3608" name=""/>
                <p:cNvGrpSpPr/>
                <p:nvPr/>
              </p:nvGrpSpPr>
              <p:grpSpPr>
                <a:xfrm>
                  <a:off x="4410720" y="5197320"/>
                  <a:ext cx="1391040" cy="1057320"/>
                  <a:chOff x="4410720" y="5197320"/>
                  <a:chExt cx="1391040" cy="1057320"/>
                </a:xfrm>
              </p:grpSpPr>
              <p:sp>
                <p:nvSpPr>
                  <p:cNvPr id="3609" name=""/>
                  <p:cNvSpPr/>
                  <p:nvPr/>
                </p:nvSpPr>
                <p:spPr>
                  <a:xfrm>
                    <a:off x="4846320" y="522936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5127480" y="5197320"/>
                    <a:ext cx="26784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5376960" y="5489640"/>
                    <a:ext cx="42480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>
                    <a:off x="4565880" y="568332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5251680" y="574668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4441680" y="578016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4410720" y="5553000"/>
                    <a:ext cx="26928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4536000" y="5294160"/>
                    <a:ext cx="42480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4908600" y="5813280"/>
                    <a:ext cx="42768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5439240" y="5327640"/>
                    <a:ext cx="33156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5346000" y="5197320"/>
                    <a:ext cx="30060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4520520" y="5278320"/>
                    <a:ext cx="120744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1" name=""/>
                <p:cNvSpPr/>
                <p:nvPr/>
              </p:nvSpPr>
              <p:spPr>
                <a:xfrm>
                  <a:off x="4668840" y="555156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2" name=""/>
              <p:cNvGrpSpPr/>
              <p:nvPr/>
            </p:nvGrpSpPr>
            <p:grpSpPr>
              <a:xfrm>
                <a:off x="5401080" y="1844640"/>
                <a:ext cx="1391040" cy="1057320"/>
                <a:chOff x="5401080" y="1844640"/>
                <a:chExt cx="1391040" cy="1057320"/>
              </a:xfrm>
            </p:grpSpPr>
            <p:grpSp>
              <p:nvGrpSpPr>
                <p:cNvPr id="3623" name=""/>
                <p:cNvGrpSpPr/>
                <p:nvPr/>
              </p:nvGrpSpPr>
              <p:grpSpPr>
                <a:xfrm>
                  <a:off x="5401080" y="1844640"/>
                  <a:ext cx="1391040" cy="1057320"/>
                  <a:chOff x="5401080" y="1844640"/>
                  <a:chExt cx="1391040" cy="1057320"/>
                </a:xfrm>
              </p:grpSpPr>
              <p:sp>
                <p:nvSpPr>
                  <p:cNvPr id="3624" name=""/>
                  <p:cNvSpPr/>
                  <p:nvPr/>
                </p:nvSpPr>
                <p:spPr>
                  <a:xfrm>
                    <a:off x="5837040" y="187632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6118200" y="18446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6367680" y="21366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5556240" y="23302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6242400" y="239400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5432040" y="24271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5401080" y="220032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5526720" y="19414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5899320" y="24606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6429600" y="19749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6336720" y="18446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>
                    <a:off x="5510880" y="19256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6" name=""/>
                <p:cNvSpPr/>
                <p:nvPr/>
              </p:nvSpPr>
              <p:spPr>
                <a:xfrm>
                  <a:off x="5659560" y="21985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7" name=""/>
              <p:cNvGrpSpPr/>
              <p:nvPr/>
            </p:nvGrpSpPr>
            <p:grpSpPr>
              <a:xfrm>
                <a:off x="5401080" y="5273640"/>
                <a:ext cx="1391040" cy="1057320"/>
                <a:chOff x="5401080" y="5273640"/>
                <a:chExt cx="1391040" cy="1057320"/>
              </a:xfrm>
            </p:grpSpPr>
            <p:grpSp>
              <p:nvGrpSpPr>
                <p:cNvPr id="3638" name=""/>
                <p:cNvGrpSpPr/>
                <p:nvPr/>
              </p:nvGrpSpPr>
              <p:grpSpPr>
                <a:xfrm>
                  <a:off x="5401080" y="5273640"/>
                  <a:ext cx="1391040" cy="1057320"/>
                  <a:chOff x="5401080" y="5273640"/>
                  <a:chExt cx="1391040" cy="1057320"/>
                </a:xfrm>
              </p:grpSpPr>
              <p:sp>
                <p:nvSpPr>
                  <p:cNvPr id="3639" name=""/>
                  <p:cNvSpPr/>
                  <p:nvPr/>
                </p:nvSpPr>
                <p:spPr>
                  <a:xfrm>
                    <a:off x="5837040" y="530532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>
                    <a:off x="6118200" y="52736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6367680" y="55656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5556240" y="57592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6242400" y="582300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5432040" y="58561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5401080" y="562932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5526720" y="53704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5899320" y="58896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429600" y="54039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6336720" y="52736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5510880" y="53546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1" name=""/>
                <p:cNvSpPr/>
                <p:nvPr/>
              </p:nvSpPr>
              <p:spPr>
                <a:xfrm>
                  <a:off x="5659560" y="56275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2" name=""/>
            <p:cNvSpPr/>
            <p:nvPr/>
          </p:nvSpPr>
          <p:spPr>
            <a:xfrm>
              <a:off x="207360" y="5794200"/>
              <a:ext cx="329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n add in IPv6 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 Clients at w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6164280" y="1816200"/>
            <a:ext cx="2685240" cy="4908600"/>
            <a:chOff x="6164280" y="1816200"/>
            <a:chExt cx="2685240" cy="4908600"/>
          </a:xfrm>
        </p:grpSpPr>
        <p:grpSp>
          <p:nvGrpSpPr>
            <p:cNvPr id="3654" name=""/>
            <p:cNvGrpSpPr/>
            <p:nvPr/>
          </p:nvGrpSpPr>
          <p:grpSpPr>
            <a:xfrm>
              <a:off x="6572880" y="1816200"/>
              <a:ext cx="1390680" cy="1057320"/>
              <a:chOff x="6572880" y="1816200"/>
              <a:chExt cx="1390680" cy="1057320"/>
            </a:xfrm>
          </p:grpSpPr>
          <p:grpSp>
            <p:nvGrpSpPr>
              <p:cNvPr id="3655" name=""/>
              <p:cNvGrpSpPr/>
              <p:nvPr/>
            </p:nvGrpSpPr>
            <p:grpSpPr>
              <a:xfrm>
                <a:off x="6572880" y="1816200"/>
                <a:ext cx="1390680" cy="1057320"/>
                <a:chOff x="6572880" y="1816200"/>
                <a:chExt cx="1390680" cy="1057320"/>
              </a:xfrm>
            </p:grpSpPr>
            <p:sp>
              <p:nvSpPr>
                <p:cNvPr id="3656" name=""/>
                <p:cNvSpPr/>
                <p:nvPr/>
              </p:nvSpPr>
              <p:spPr>
                <a:xfrm>
                  <a:off x="7008480" y="184788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7289640" y="1816200"/>
                  <a:ext cx="26748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7539120" y="210816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6728040" y="230184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7413480" y="2365200"/>
                  <a:ext cx="362160" cy="3780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6604200" y="239868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6572880" y="217188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6698520" y="191304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7070760" y="243216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7601040" y="194616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7507800" y="181620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6682680" y="189720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8" name=""/>
              <p:cNvSpPr/>
              <p:nvPr/>
            </p:nvSpPr>
            <p:spPr>
              <a:xfrm>
                <a:off x="6831000" y="21700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02000" y="2606760"/>
              <a:ext cx="1390680" cy="1057320"/>
              <a:chOff x="7002000" y="2606760"/>
              <a:chExt cx="1390680" cy="1057320"/>
            </a:xfrm>
          </p:grpSpPr>
          <p:grpSp>
            <p:nvGrpSpPr>
              <p:cNvPr id="3670" name=""/>
              <p:cNvGrpSpPr/>
              <p:nvPr/>
            </p:nvGrpSpPr>
            <p:grpSpPr>
              <a:xfrm>
                <a:off x="7002000" y="2606760"/>
                <a:ext cx="1390680" cy="1057320"/>
                <a:chOff x="7002000" y="2606760"/>
                <a:chExt cx="1390680" cy="105732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7437600" y="263844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7718400" y="260676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7968240" y="289872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156800" y="309240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7842240" y="3156120"/>
                  <a:ext cx="36252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7032960" y="3189240"/>
                  <a:ext cx="27072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7002000" y="296244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7127640" y="270360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7499880" y="322272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8030160" y="273672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7936920" y="260676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7111800" y="268776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3" name=""/>
              <p:cNvSpPr/>
              <p:nvPr/>
            </p:nvSpPr>
            <p:spPr>
              <a:xfrm>
                <a:off x="7259760" y="29606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4" name=""/>
            <p:cNvGrpSpPr/>
            <p:nvPr/>
          </p:nvGrpSpPr>
          <p:grpSpPr>
            <a:xfrm>
              <a:off x="7459200" y="3378240"/>
              <a:ext cx="1390320" cy="1057320"/>
              <a:chOff x="7459200" y="3378240"/>
              <a:chExt cx="1390320" cy="1057320"/>
            </a:xfrm>
          </p:grpSpPr>
          <p:grpSp>
            <p:nvGrpSpPr>
              <p:cNvPr id="3685" name=""/>
              <p:cNvGrpSpPr/>
              <p:nvPr/>
            </p:nvGrpSpPr>
            <p:grpSpPr>
              <a:xfrm>
                <a:off x="7459200" y="3378240"/>
                <a:ext cx="1390320" cy="1057320"/>
                <a:chOff x="7459200" y="3378240"/>
                <a:chExt cx="1390320" cy="105732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7894800" y="340992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8175600" y="337824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8425080" y="367020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7614000" y="386388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8299440" y="3927600"/>
                  <a:ext cx="36216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7490160" y="396072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7459200" y="373392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7584480" y="347508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7956720" y="399420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8487000" y="350820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8394120" y="337824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7569000" y="345924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8" name=""/>
              <p:cNvSpPr/>
              <p:nvPr/>
            </p:nvSpPr>
            <p:spPr>
              <a:xfrm>
                <a:off x="7716960" y="3732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"/>
            <p:cNvGrpSpPr/>
            <p:nvPr/>
          </p:nvGrpSpPr>
          <p:grpSpPr>
            <a:xfrm>
              <a:off x="7459200" y="4359240"/>
              <a:ext cx="1390320" cy="1057320"/>
              <a:chOff x="7459200" y="4359240"/>
              <a:chExt cx="1390320" cy="1057320"/>
            </a:xfrm>
          </p:grpSpPr>
          <p:grpSp>
            <p:nvGrpSpPr>
              <p:cNvPr id="3700" name=""/>
              <p:cNvGrpSpPr/>
              <p:nvPr/>
            </p:nvGrpSpPr>
            <p:grpSpPr>
              <a:xfrm>
                <a:off x="7459200" y="4359240"/>
                <a:ext cx="1390320" cy="1057320"/>
                <a:chOff x="7459200" y="4359240"/>
                <a:chExt cx="1390320" cy="1057320"/>
              </a:xfrm>
            </p:grpSpPr>
            <p:sp>
              <p:nvSpPr>
                <p:cNvPr id="3701" name=""/>
                <p:cNvSpPr/>
                <p:nvPr/>
              </p:nvSpPr>
              <p:spPr>
                <a:xfrm>
                  <a:off x="7894800" y="439092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8175600" y="435924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8425080" y="465120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7614000" y="4844880"/>
                  <a:ext cx="489240" cy="5083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8299440" y="4908600"/>
                  <a:ext cx="36216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7490160" y="4941720"/>
                  <a:ext cx="270360" cy="279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7459200" y="471492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7584480" y="445608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7956720" y="497520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8487000" y="448956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8394120" y="435924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7569000" y="444024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3" name=""/>
              <p:cNvSpPr/>
              <p:nvPr/>
            </p:nvSpPr>
            <p:spPr>
              <a:xfrm>
                <a:off x="7716960" y="4713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7143120" y="5133960"/>
              <a:ext cx="1390680" cy="1057320"/>
              <a:chOff x="7143120" y="5133960"/>
              <a:chExt cx="1390680" cy="1057320"/>
            </a:xfrm>
          </p:grpSpPr>
          <p:grpSp>
            <p:nvGrpSpPr>
              <p:cNvPr id="3715" name=""/>
              <p:cNvGrpSpPr/>
              <p:nvPr/>
            </p:nvGrpSpPr>
            <p:grpSpPr>
              <a:xfrm>
                <a:off x="7143120" y="5133960"/>
                <a:ext cx="1390680" cy="1057320"/>
                <a:chOff x="7143120" y="5133960"/>
                <a:chExt cx="1390680" cy="105732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7578720" y="516564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7859520" y="513396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8109360" y="542592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7297920" y="5619600"/>
                  <a:ext cx="489240" cy="5083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7983360" y="5683320"/>
                  <a:ext cx="36252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7174080" y="5716440"/>
                  <a:ext cx="270720" cy="279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7143120" y="548964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7268400" y="523080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7641000" y="574992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8171280" y="526428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8078040" y="513396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252920" y="521496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8" name=""/>
              <p:cNvSpPr/>
              <p:nvPr/>
            </p:nvSpPr>
            <p:spPr>
              <a:xfrm>
                <a:off x="7400880" y="54878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9" name=""/>
            <p:cNvGrpSpPr/>
            <p:nvPr/>
          </p:nvGrpSpPr>
          <p:grpSpPr>
            <a:xfrm>
              <a:off x="6164280" y="5667480"/>
              <a:ext cx="1390320" cy="1057320"/>
              <a:chOff x="6164280" y="5667480"/>
              <a:chExt cx="1390320" cy="1057320"/>
            </a:xfrm>
          </p:grpSpPr>
          <p:grpSp>
            <p:nvGrpSpPr>
              <p:cNvPr id="3730" name=""/>
              <p:cNvGrpSpPr/>
              <p:nvPr/>
            </p:nvGrpSpPr>
            <p:grpSpPr>
              <a:xfrm>
                <a:off x="6164280" y="5667480"/>
                <a:ext cx="1390320" cy="1057320"/>
                <a:chOff x="6164280" y="5667480"/>
                <a:chExt cx="1390320" cy="105732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6599880" y="569916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6880680" y="566748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130160" y="595944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319080" y="615312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004520" y="6216480"/>
                  <a:ext cx="362160" cy="3780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6195240" y="624996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6164280" y="6022800"/>
                  <a:ext cx="269280" cy="2811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289560" y="576432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6661800" y="628344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192080" y="579744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7099200" y="566748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6274080" y="574848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3" name=""/>
              <p:cNvSpPr/>
              <p:nvPr/>
            </p:nvSpPr>
            <p:spPr>
              <a:xfrm>
                <a:off x="6422040" y="602136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2299320" y="3352680"/>
            <a:ext cx="4612320" cy="2463120"/>
            <a:chOff x="2299320" y="3352680"/>
            <a:chExt cx="4612320" cy="2463120"/>
          </a:xfrm>
        </p:grpSpPr>
        <p:sp>
          <p:nvSpPr>
            <p:cNvPr id="3745" name=""/>
            <p:cNvSpPr/>
            <p:nvPr/>
          </p:nvSpPr>
          <p:spPr>
            <a:xfrm>
              <a:off x="2982240" y="3352680"/>
              <a:ext cx="3189600" cy="176400"/>
            </a:xfrm>
            <a:prstGeom prst="rect">
              <a:avLst/>
            </a:prstGeom>
            <a:gradFill rotWithShape="0">
              <a:gsLst>
                <a:gs pos="0">
                  <a:srgbClr val="6ab16a"/>
                </a:gs>
                <a:gs pos="50000">
                  <a:srgbClr val="99ff99"/>
                </a:gs>
                <a:gs pos="100000">
                  <a:srgbClr val="6ab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299320" y="5113440"/>
              <a:ext cx="4612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Pv6 nodes in different Intranets 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ked by IPv6 over IPv4 Tu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7" name=""/>
          <p:cNvSpPr/>
          <p:nvPr/>
        </p:nvSpPr>
        <p:spPr>
          <a:xfrm flipH="1">
            <a:off x="2684520" y="4527720"/>
            <a:ext cx="82224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 flipH="1">
            <a:off x="2736360" y="3830760"/>
            <a:ext cx="82260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2641680" y="3090960"/>
            <a:ext cx="8208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549600" y="3710160"/>
            <a:ext cx="986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460760" y="3710160"/>
            <a:ext cx="987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2" name=""/>
          <p:cNvGraphicFramePr/>
          <p:nvPr/>
        </p:nvGraphicFramePr>
        <p:xfrm>
          <a:off x="5327640" y="2743200"/>
          <a:ext cx="44280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7640" y="2743200"/>
                    <a:ext cx="4428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4" name=""/>
          <p:cNvGrpSpPr/>
          <p:nvPr/>
        </p:nvGrpSpPr>
        <p:grpSpPr>
          <a:xfrm>
            <a:off x="4152960" y="3251160"/>
            <a:ext cx="909360" cy="852480"/>
            <a:chOff x="4152960" y="3251160"/>
            <a:chExt cx="909360" cy="852480"/>
          </a:xfrm>
        </p:grpSpPr>
        <p:sp>
          <p:nvSpPr>
            <p:cNvPr id="3755" name=""/>
            <p:cNvSpPr/>
            <p:nvPr/>
          </p:nvSpPr>
          <p:spPr>
            <a:xfrm>
              <a:off x="4439160" y="3274920"/>
              <a:ext cx="212760" cy="2764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22400" y="3251160"/>
              <a:ext cx="172080" cy="2206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87280" y="3484440"/>
              <a:ext cx="275040" cy="3574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254120" y="3643200"/>
              <a:ext cx="317520" cy="40824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03040" y="3693960"/>
              <a:ext cx="235080" cy="3049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170960" y="3722760"/>
              <a:ext cx="176040" cy="2221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152960" y="3535200"/>
              <a:ext cx="173160" cy="22716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234680" y="3327480"/>
              <a:ext cx="274680" cy="3556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480200" y="3746520"/>
              <a:ext cx="275040" cy="3571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27240" y="3351240"/>
              <a:ext cx="214200" cy="27936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66400" y="3251160"/>
              <a:ext cx="194760" cy="24624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224600" y="3311640"/>
              <a:ext cx="791280" cy="685800"/>
            </a:xfrm>
            <a:custGeom>
              <a:avLst/>
              <a:gdLst/>
              <a:ahLst/>
              <a:rect l="l" t="t" r="r" b="b"/>
              <a:pathLst>
                <a:path w="561" h="432">
                  <a:moveTo>
                    <a:pt x="172" y="43"/>
                  </a:moveTo>
                  <a:lnTo>
                    <a:pt x="196" y="12"/>
                  </a:lnTo>
                  <a:lnTo>
                    <a:pt x="300" y="14"/>
                  </a:lnTo>
                  <a:lnTo>
                    <a:pt x="374" y="0"/>
                  </a:lnTo>
                  <a:lnTo>
                    <a:pt x="468" y="51"/>
                  </a:lnTo>
                  <a:lnTo>
                    <a:pt x="514" y="36"/>
                  </a:lnTo>
                  <a:lnTo>
                    <a:pt x="540" y="43"/>
                  </a:lnTo>
                  <a:lnTo>
                    <a:pt x="545" y="170"/>
                  </a:lnTo>
                  <a:lnTo>
                    <a:pt x="560" y="191"/>
                  </a:lnTo>
                  <a:lnTo>
                    <a:pt x="516" y="290"/>
                  </a:lnTo>
                  <a:lnTo>
                    <a:pt x="469" y="222"/>
                  </a:lnTo>
                  <a:lnTo>
                    <a:pt x="457" y="257"/>
                  </a:lnTo>
                  <a:lnTo>
                    <a:pt x="390" y="393"/>
                  </a:lnTo>
                  <a:lnTo>
                    <a:pt x="169" y="431"/>
                  </a:lnTo>
                  <a:lnTo>
                    <a:pt x="54" y="404"/>
                  </a:lnTo>
                  <a:lnTo>
                    <a:pt x="18" y="319"/>
                  </a:lnTo>
                  <a:lnTo>
                    <a:pt x="18" y="232"/>
                  </a:lnTo>
                  <a:lnTo>
                    <a:pt x="0" y="160"/>
                  </a:lnTo>
                  <a:lnTo>
                    <a:pt x="172" y="43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4160520" y="3357720"/>
            <a:ext cx="83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4681440" y="3710160"/>
            <a:ext cx="920880" cy="1196640"/>
            <a:chOff x="4681440" y="3710160"/>
            <a:chExt cx="920880" cy="1196640"/>
          </a:xfrm>
        </p:grpSpPr>
        <p:grpSp>
          <p:nvGrpSpPr>
            <p:cNvPr id="3769" name=""/>
            <p:cNvGrpSpPr/>
            <p:nvPr/>
          </p:nvGrpSpPr>
          <p:grpSpPr>
            <a:xfrm>
              <a:off x="4681440" y="3710160"/>
              <a:ext cx="920880" cy="928440"/>
              <a:chOff x="4681440" y="3710160"/>
              <a:chExt cx="920880" cy="928440"/>
            </a:xfrm>
          </p:grpSpPr>
          <p:sp>
            <p:nvSpPr>
              <p:cNvPr id="3770" name=""/>
              <p:cNvSpPr/>
              <p:nvPr/>
            </p:nvSpPr>
            <p:spPr>
              <a:xfrm>
                <a:off x="4681440" y="3762360"/>
                <a:ext cx="920880" cy="852480"/>
              </a:xfrm>
              <a:custGeom>
                <a:avLst/>
                <a:gdLst/>
                <a:ahLst/>
                <a:rect l="l" t="t" r="r" b="b"/>
                <a:pathLst>
                  <a:path w="652" h="537">
                    <a:moveTo>
                      <a:pt x="358" y="517"/>
                    </a:moveTo>
                    <a:lnTo>
                      <a:pt x="197" y="536"/>
                    </a:lnTo>
                    <a:lnTo>
                      <a:pt x="339" y="512"/>
                    </a:lnTo>
                    <a:lnTo>
                      <a:pt x="339" y="505"/>
                    </a:lnTo>
                    <a:lnTo>
                      <a:pt x="0" y="450"/>
                    </a:lnTo>
                    <a:lnTo>
                      <a:pt x="330" y="491"/>
                    </a:lnTo>
                    <a:lnTo>
                      <a:pt x="343" y="471"/>
                    </a:lnTo>
                    <a:lnTo>
                      <a:pt x="17" y="0"/>
                    </a:lnTo>
                    <a:lnTo>
                      <a:pt x="327" y="427"/>
                    </a:lnTo>
                    <a:lnTo>
                      <a:pt x="300" y="353"/>
                    </a:lnTo>
                    <a:lnTo>
                      <a:pt x="358" y="445"/>
                    </a:lnTo>
                    <a:lnTo>
                      <a:pt x="364" y="466"/>
                    </a:lnTo>
                    <a:lnTo>
                      <a:pt x="387" y="89"/>
                    </a:lnTo>
                    <a:lnTo>
                      <a:pt x="378" y="478"/>
                    </a:lnTo>
                    <a:lnTo>
                      <a:pt x="397" y="275"/>
                    </a:lnTo>
                    <a:lnTo>
                      <a:pt x="406" y="444"/>
                    </a:lnTo>
                    <a:lnTo>
                      <a:pt x="651" y="112"/>
                    </a:lnTo>
                    <a:lnTo>
                      <a:pt x="392" y="485"/>
                    </a:lnTo>
                    <a:lnTo>
                      <a:pt x="391" y="498"/>
                    </a:lnTo>
                    <a:lnTo>
                      <a:pt x="651" y="398"/>
                    </a:lnTo>
                    <a:lnTo>
                      <a:pt x="393" y="506"/>
                    </a:lnTo>
                    <a:lnTo>
                      <a:pt x="392" y="513"/>
                    </a:lnTo>
                    <a:lnTo>
                      <a:pt x="363" y="519"/>
                    </a:lnTo>
                    <a:lnTo>
                      <a:pt x="358" y="5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1" name=""/>
              <p:cNvGrpSpPr/>
              <p:nvPr/>
            </p:nvGrpSpPr>
            <p:grpSpPr>
              <a:xfrm>
                <a:off x="4867920" y="3710160"/>
                <a:ext cx="622080" cy="928440"/>
                <a:chOff x="4867920" y="3710160"/>
                <a:chExt cx="622080" cy="928440"/>
              </a:xfrm>
            </p:grpSpPr>
            <p:sp>
              <p:nvSpPr>
                <p:cNvPr id="3772" name=""/>
                <p:cNvSpPr/>
                <p:nvPr/>
              </p:nvSpPr>
              <p:spPr>
                <a:xfrm>
                  <a:off x="4879080" y="3718080"/>
                  <a:ext cx="610920" cy="920520"/>
                </a:xfrm>
                <a:custGeom>
                  <a:avLst/>
                  <a:gdLst/>
                  <a:ahLst/>
                  <a:rect l="l" t="t" r="r" b="b"/>
                  <a:pathLst>
                    <a:path w="433" h="580">
                      <a:moveTo>
                        <a:pt x="267" y="574"/>
                      </a:moveTo>
                      <a:lnTo>
                        <a:pt x="286" y="570"/>
                      </a:lnTo>
                      <a:lnTo>
                        <a:pt x="313" y="561"/>
                      </a:lnTo>
                      <a:lnTo>
                        <a:pt x="334" y="548"/>
                      </a:lnTo>
                      <a:lnTo>
                        <a:pt x="345" y="532"/>
                      </a:lnTo>
                      <a:lnTo>
                        <a:pt x="355" y="516"/>
                      </a:lnTo>
                      <a:lnTo>
                        <a:pt x="362" y="501"/>
                      </a:lnTo>
                      <a:lnTo>
                        <a:pt x="368" y="480"/>
                      </a:lnTo>
                      <a:lnTo>
                        <a:pt x="372" y="454"/>
                      </a:lnTo>
                      <a:lnTo>
                        <a:pt x="375" y="425"/>
                      </a:lnTo>
                      <a:lnTo>
                        <a:pt x="375" y="406"/>
                      </a:lnTo>
                      <a:lnTo>
                        <a:pt x="378" y="390"/>
                      </a:lnTo>
                      <a:lnTo>
                        <a:pt x="380" y="381"/>
                      </a:lnTo>
                      <a:lnTo>
                        <a:pt x="386" y="368"/>
                      </a:lnTo>
                      <a:lnTo>
                        <a:pt x="392" y="355"/>
                      </a:lnTo>
                      <a:lnTo>
                        <a:pt x="397" y="345"/>
                      </a:lnTo>
                      <a:lnTo>
                        <a:pt x="402" y="336"/>
                      </a:lnTo>
                      <a:lnTo>
                        <a:pt x="408" y="329"/>
                      </a:lnTo>
                      <a:lnTo>
                        <a:pt x="416" y="320"/>
                      </a:lnTo>
                      <a:lnTo>
                        <a:pt x="432" y="307"/>
                      </a:lnTo>
                      <a:lnTo>
                        <a:pt x="408" y="316"/>
                      </a:lnTo>
                      <a:lnTo>
                        <a:pt x="396" y="323"/>
                      </a:lnTo>
                      <a:lnTo>
                        <a:pt x="386" y="331"/>
                      </a:lnTo>
                      <a:lnTo>
                        <a:pt x="375" y="340"/>
                      </a:lnTo>
                      <a:lnTo>
                        <a:pt x="364" y="350"/>
                      </a:lnTo>
                      <a:lnTo>
                        <a:pt x="355" y="362"/>
                      </a:lnTo>
                      <a:lnTo>
                        <a:pt x="345" y="377"/>
                      </a:lnTo>
                      <a:lnTo>
                        <a:pt x="336" y="390"/>
                      </a:lnTo>
                      <a:lnTo>
                        <a:pt x="329" y="403"/>
                      </a:lnTo>
                      <a:lnTo>
                        <a:pt x="336" y="384"/>
                      </a:lnTo>
                      <a:lnTo>
                        <a:pt x="341" y="368"/>
                      </a:lnTo>
                      <a:lnTo>
                        <a:pt x="344" y="350"/>
                      </a:lnTo>
                      <a:lnTo>
                        <a:pt x="345" y="326"/>
                      </a:lnTo>
                      <a:lnTo>
                        <a:pt x="345" y="302"/>
                      </a:lnTo>
                      <a:lnTo>
                        <a:pt x="342" y="280"/>
                      </a:lnTo>
                      <a:lnTo>
                        <a:pt x="338" y="259"/>
                      </a:lnTo>
                      <a:lnTo>
                        <a:pt x="334" y="239"/>
                      </a:lnTo>
                      <a:lnTo>
                        <a:pt x="329" y="222"/>
                      </a:lnTo>
                      <a:lnTo>
                        <a:pt x="322" y="203"/>
                      </a:lnTo>
                      <a:lnTo>
                        <a:pt x="309" y="180"/>
                      </a:lnTo>
                      <a:lnTo>
                        <a:pt x="301" y="165"/>
                      </a:lnTo>
                      <a:lnTo>
                        <a:pt x="289" y="143"/>
                      </a:lnTo>
                      <a:lnTo>
                        <a:pt x="278" y="119"/>
                      </a:lnTo>
                      <a:lnTo>
                        <a:pt x="270" y="97"/>
                      </a:lnTo>
                      <a:lnTo>
                        <a:pt x="265" y="81"/>
                      </a:lnTo>
                      <a:lnTo>
                        <a:pt x="262" y="63"/>
                      </a:lnTo>
                      <a:lnTo>
                        <a:pt x="260" y="46"/>
                      </a:lnTo>
                      <a:lnTo>
                        <a:pt x="260" y="31"/>
                      </a:lnTo>
                      <a:lnTo>
                        <a:pt x="261" y="18"/>
                      </a:lnTo>
                      <a:lnTo>
                        <a:pt x="262" y="0"/>
                      </a:lnTo>
                      <a:lnTo>
                        <a:pt x="255" y="24"/>
                      </a:lnTo>
                      <a:lnTo>
                        <a:pt x="250" y="45"/>
                      </a:lnTo>
                      <a:lnTo>
                        <a:pt x="247" y="63"/>
                      </a:lnTo>
                      <a:lnTo>
                        <a:pt x="247" y="81"/>
                      </a:lnTo>
                      <a:lnTo>
                        <a:pt x="250" y="104"/>
                      </a:lnTo>
                      <a:lnTo>
                        <a:pt x="254" y="121"/>
                      </a:lnTo>
                      <a:lnTo>
                        <a:pt x="260" y="138"/>
                      </a:lnTo>
                      <a:lnTo>
                        <a:pt x="266" y="153"/>
                      </a:lnTo>
                      <a:lnTo>
                        <a:pt x="271" y="173"/>
                      </a:lnTo>
                      <a:lnTo>
                        <a:pt x="273" y="192"/>
                      </a:lnTo>
                      <a:lnTo>
                        <a:pt x="274" y="211"/>
                      </a:lnTo>
                      <a:lnTo>
                        <a:pt x="276" y="232"/>
                      </a:lnTo>
                      <a:lnTo>
                        <a:pt x="276" y="251"/>
                      </a:lnTo>
                      <a:lnTo>
                        <a:pt x="272" y="283"/>
                      </a:lnTo>
                      <a:lnTo>
                        <a:pt x="267" y="302"/>
                      </a:lnTo>
                      <a:lnTo>
                        <a:pt x="253" y="330"/>
                      </a:lnTo>
                      <a:lnTo>
                        <a:pt x="241" y="357"/>
                      </a:lnTo>
                      <a:lnTo>
                        <a:pt x="232" y="385"/>
                      </a:lnTo>
                      <a:lnTo>
                        <a:pt x="226" y="369"/>
                      </a:lnTo>
                      <a:lnTo>
                        <a:pt x="221" y="352"/>
                      </a:lnTo>
                      <a:lnTo>
                        <a:pt x="218" y="335"/>
                      </a:lnTo>
                      <a:lnTo>
                        <a:pt x="216" y="308"/>
                      </a:lnTo>
                      <a:lnTo>
                        <a:pt x="222" y="260"/>
                      </a:lnTo>
                      <a:lnTo>
                        <a:pt x="224" y="246"/>
                      </a:lnTo>
                      <a:lnTo>
                        <a:pt x="224" y="230"/>
                      </a:lnTo>
                      <a:lnTo>
                        <a:pt x="224" y="214"/>
                      </a:lnTo>
                      <a:lnTo>
                        <a:pt x="222" y="193"/>
                      </a:lnTo>
                      <a:lnTo>
                        <a:pt x="218" y="173"/>
                      </a:lnTo>
                      <a:lnTo>
                        <a:pt x="211" y="153"/>
                      </a:lnTo>
                      <a:lnTo>
                        <a:pt x="199" y="126"/>
                      </a:lnTo>
                      <a:lnTo>
                        <a:pt x="205" y="158"/>
                      </a:lnTo>
                      <a:lnTo>
                        <a:pt x="210" y="186"/>
                      </a:lnTo>
                      <a:lnTo>
                        <a:pt x="210" y="210"/>
                      </a:lnTo>
                      <a:lnTo>
                        <a:pt x="207" y="228"/>
                      </a:lnTo>
                      <a:lnTo>
                        <a:pt x="203" y="246"/>
                      </a:lnTo>
                      <a:lnTo>
                        <a:pt x="196" y="267"/>
                      </a:lnTo>
                      <a:lnTo>
                        <a:pt x="178" y="313"/>
                      </a:lnTo>
                      <a:lnTo>
                        <a:pt x="177" y="284"/>
                      </a:lnTo>
                      <a:lnTo>
                        <a:pt x="178" y="259"/>
                      </a:lnTo>
                      <a:lnTo>
                        <a:pt x="180" y="237"/>
                      </a:lnTo>
                      <a:lnTo>
                        <a:pt x="169" y="260"/>
                      </a:lnTo>
                      <a:lnTo>
                        <a:pt x="163" y="280"/>
                      </a:lnTo>
                      <a:lnTo>
                        <a:pt x="159" y="301"/>
                      </a:lnTo>
                      <a:lnTo>
                        <a:pt x="155" y="327"/>
                      </a:lnTo>
                      <a:lnTo>
                        <a:pt x="156" y="357"/>
                      </a:lnTo>
                      <a:lnTo>
                        <a:pt x="161" y="388"/>
                      </a:lnTo>
                      <a:lnTo>
                        <a:pt x="168" y="413"/>
                      </a:lnTo>
                      <a:lnTo>
                        <a:pt x="180" y="444"/>
                      </a:lnTo>
                      <a:lnTo>
                        <a:pt x="197" y="484"/>
                      </a:lnTo>
                      <a:lnTo>
                        <a:pt x="169" y="438"/>
                      </a:lnTo>
                      <a:lnTo>
                        <a:pt x="163" y="425"/>
                      </a:lnTo>
                      <a:lnTo>
                        <a:pt x="150" y="406"/>
                      </a:lnTo>
                      <a:lnTo>
                        <a:pt x="135" y="388"/>
                      </a:lnTo>
                      <a:lnTo>
                        <a:pt x="111" y="366"/>
                      </a:lnTo>
                      <a:lnTo>
                        <a:pt x="126" y="390"/>
                      </a:lnTo>
                      <a:lnTo>
                        <a:pt x="133" y="405"/>
                      </a:lnTo>
                      <a:lnTo>
                        <a:pt x="142" y="421"/>
                      </a:lnTo>
                      <a:lnTo>
                        <a:pt x="156" y="454"/>
                      </a:lnTo>
                      <a:lnTo>
                        <a:pt x="167" y="481"/>
                      </a:lnTo>
                      <a:lnTo>
                        <a:pt x="183" y="526"/>
                      </a:lnTo>
                      <a:lnTo>
                        <a:pt x="163" y="519"/>
                      </a:lnTo>
                      <a:lnTo>
                        <a:pt x="146" y="505"/>
                      </a:lnTo>
                      <a:lnTo>
                        <a:pt x="128" y="487"/>
                      </a:lnTo>
                      <a:lnTo>
                        <a:pt x="112" y="471"/>
                      </a:lnTo>
                      <a:lnTo>
                        <a:pt x="92" y="450"/>
                      </a:lnTo>
                      <a:lnTo>
                        <a:pt x="77" y="437"/>
                      </a:lnTo>
                      <a:lnTo>
                        <a:pt x="64" y="427"/>
                      </a:lnTo>
                      <a:lnTo>
                        <a:pt x="51" y="420"/>
                      </a:lnTo>
                      <a:lnTo>
                        <a:pt x="37" y="416"/>
                      </a:lnTo>
                      <a:lnTo>
                        <a:pt x="23" y="413"/>
                      </a:lnTo>
                      <a:lnTo>
                        <a:pt x="0" y="408"/>
                      </a:lnTo>
                      <a:lnTo>
                        <a:pt x="20" y="418"/>
                      </a:lnTo>
                      <a:lnTo>
                        <a:pt x="42" y="430"/>
                      </a:lnTo>
                      <a:lnTo>
                        <a:pt x="58" y="442"/>
                      </a:lnTo>
                      <a:lnTo>
                        <a:pt x="68" y="451"/>
                      </a:lnTo>
                      <a:lnTo>
                        <a:pt x="86" y="474"/>
                      </a:lnTo>
                      <a:lnTo>
                        <a:pt x="102" y="500"/>
                      </a:lnTo>
                      <a:lnTo>
                        <a:pt x="123" y="528"/>
                      </a:lnTo>
                      <a:lnTo>
                        <a:pt x="139" y="541"/>
                      </a:lnTo>
                      <a:lnTo>
                        <a:pt x="161" y="554"/>
                      </a:lnTo>
                      <a:lnTo>
                        <a:pt x="198" y="572"/>
                      </a:lnTo>
                      <a:lnTo>
                        <a:pt x="229" y="579"/>
                      </a:lnTo>
                      <a:lnTo>
                        <a:pt x="267" y="574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4879080" y="3710160"/>
                  <a:ext cx="605520" cy="919080"/>
                </a:xfrm>
                <a:custGeom>
                  <a:avLst/>
                  <a:gdLst/>
                  <a:ahLst/>
                  <a:rect l="l" t="t" r="r" b="b"/>
                  <a:pathLst>
                    <a:path w="429" h="579">
                      <a:moveTo>
                        <a:pt x="262" y="573"/>
                      </a:moveTo>
                      <a:lnTo>
                        <a:pt x="279" y="569"/>
                      </a:lnTo>
                      <a:lnTo>
                        <a:pt x="306" y="560"/>
                      </a:lnTo>
                      <a:lnTo>
                        <a:pt x="326" y="547"/>
                      </a:lnTo>
                      <a:lnTo>
                        <a:pt x="338" y="531"/>
                      </a:lnTo>
                      <a:lnTo>
                        <a:pt x="347" y="515"/>
                      </a:lnTo>
                      <a:lnTo>
                        <a:pt x="353" y="500"/>
                      </a:lnTo>
                      <a:lnTo>
                        <a:pt x="359" y="479"/>
                      </a:lnTo>
                      <a:lnTo>
                        <a:pt x="363" y="453"/>
                      </a:lnTo>
                      <a:lnTo>
                        <a:pt x="366" y="425"/>
                      </a:lnTo>
                      <a:lnTo>
                        <a:pt x="366" y="406"/>
                      </a:lnTo>
                      <a:lnTo>
                        <a:pt x="369" y="390"/>
                      </a:lnTo>
                      <a:lnTo>
                        <a:pt x="372" y="380"/>
                      </a:lnTo>
                      <a:lnTo>
                        <a:pt x="377" y="368"/>
                      </a:lnTo>
                      <a:lnTo>
                        <a:pt x="383" y="354"/>
                      </a:lnTo>
                      <a:lnTo>
                        <a:pt x="388" y="345"/>
                      </a:lnTo>
                      <a:lnTo>
                        <a:pt x="395" y="334"/>
                      </a:lnTo>
                      <a:lnTo>
                        <a:pt x="400" y="328"/>
                      </a:lnTo>
                      <a:lnTo>
                        <a:pt x="408" y="321"/>
                      </a:lnTo>
                      <a:lnTo>
                        <a:pt x="428" y="313"/>
                      </a:lnTo>
                      <a:lnTo>
                        <a:pt x="405" y="317"/>
                      </a:lnTo>
                      <a:lnTo>
                        <a:pt x="391" y="322"/>
                      </a:lnTo>
                      <a:lnTo>
                        <a:pt x="377" y="330"/>
                      </a:lnTo>
                      <a:lnTo>
                        <a:pt x="366" y="339"/>
                      </a:lnTo>
                      <a:lnTo>
                        <a:pt x="356" y="349"/>
                      </a:lnTo>
                      <a:lnTo>
                        <a:pt x="348" y="361"/>
                      </a:lnTo>
                      <a:lnTo>
                        <a:pt x="337" y="377"/>
                      </a:lnTo>
                      <a:lnTo>
                        <a:pt x="328" y="389"/>
                      </a:lnTo>
                      <a:lnTo>
                        <a:pt x="321" y="402"/>
                      </a:lnTo>
                      <a:lnTo>
                        <a:pt x="328" y="383"/>
                      </a:lnTo>
                      <a:lnTo>
                        <a:pt x="333" y="367"/>
                      </a:lnTo>
                      <a:lnTo>
                        <a:pt x="336" y="349"/>
                      </a:lnTo>
                      <a:lnTo>
                        <a:pt x="338" y="326"/>
                      </a:lnTo>
                      <a:lnTo>
                        <a:pt x="337" y="301"/>
                      </a:lnTo>
                      <a:lnTo>
                        <a:pt x="334" y="280"/>
                      </a:lnTo>
                      <a:lnTo>
                        <a:pt x="331" y="258"/>
                      </a:lnTo>
                      <a:lnTo>
                        <a:pt x="326" y="239"/>
                      </a:lnTo>
                      <a:lnTo>
                        <a:pt x="322" y="221"/>
                      </a:lnTo>
                      <a:lnTo>
                        <a:pt x="314" y="202"/>
                      </a:lnTo>
                      <a:lnTo>
                        <a:pt x="303" y="180"/>
                      </a:lnTo>
                      <a:lnTo>
                        <a:pt x="294" y="165"/>
                      </a:lnTo>
                      <a:lnTo>
                        <a:pt x="282" y="143"/>
                      </a:lnTo>
                      <a:lnTo>
                        <a:pt x="272" y="118"/>
                      </a:lnTo>
                      <a:lnTo>
                        <a:pt x="264" y="96"/>
                      </a:lnTo>
                      <a:lnTo>
                        <a:pt x="259" y="81"/>
                      </a:lnTo>
                      <a:lnTo>
                        <a:pt x="257" y="63"/>
                      </a:lnTo>
                      <a:lnTo>
                        <a:pt x="254" y="46"/>
                      </a:lnTo>
                      <a:lnTo>
                        <a:pt x="254" y="31"/>
                      </a:lnTo>
                      <a:lnTo>
                        <a:pt x="255" y="17"/>
                      </a:lnTo>
                      <a:lnTo>
                        <a:pt x="256" y="0"/>
                      </a:lnTo>
                      <a:lnTo>
                        <a:pt x="249" y="24"/>
                      </a:lnTo>
                      <a:lnTo>
                        <a:pt x="245" y="44"/>
                      </a:lnTo>
                      <a:lnTo>
                        <a:pt x="243" y="63"/>
                      </a:lnTo>
                      <a:lnTo>
                        <a:pt x="242" y="81"/>
                      </a:lnTo>
                      <a:lnTo>
                        <a:pt x="244" y="103"/>
                      </a:lnTo>
                      <a:lnTo>
                        <a:pt x="249" y="120"/>
                      </a:lnTo>
                      <a:lnTo>
                        <a:pt x="254" y="137"/>
                      </a:lnTo>
                      <a:lnTo>
                        <a:pt x="260" y="152"/>
                      </a:lnTo>
                      <a:lnTo>
                        <a:pt x="265" y="172"/>
                      </a:lnTo>
                      <a:lnTo>
                        <a:pt x="267" y="191"/>
                      </a:lnTo>
                      <a:lnTo>
                        <a:pt x="268" y="211"/>
                      </a:lnTo>
                      <a:lnTo>
                        <a:pt x="269" y="231"/>
                      </a:lnTo>
                      <a:lnTo>
                        <a:pt x="269" y="251"/>
                      </a:lnTo>
                      <a:lnTo>
                        <a:pt x="267" y="282"/>
                      </a:lnTo>
                      <a:lnTo>
                        <a:pt x="261" y="301"/>
                      </a:lnTo>
                      <a:lnTo>
                        <a:pt x="248" y="329"/>
                      </a:lnTo>
                      <a:lnTo>
                        <a:pt x="236" y="357"/>
                      </a:lnTo>
                      <a:lnTo>
                        <a:pt x="228" y="384"/>
                      </a:lnTo>
                      <a:lnTo>
                        <a:pt x="221" y="369"/>
                      </a:lnTo>
                      <a:lnTo>
                        <a:pt x="217" y="352"/>
                      </a:lnTo>
                      <a:lnTo>
                        <a:pt x="214" y="334"/>
                      </a:lnTo>
                      <a:lnTo>
                        <a:pt x="212" y="307"/>
                      </a:lnTo>
                      <a:lnTo>
                        <a:pt x="217" y="260"/>
                      </a:lnTo>
                      <a:lnTo>
                        <a:pt x="219" y="246"/>
                      </a:lnTo>
                      <a:lnTo>
                        <a:pt x="219" y="229"/>
                      </a:lnTo>
                      <a:lnTo>
                        <a:pt x="219" y="214"/>
                      </a:lnTo>
                      <a:lnTo>
                        <a:pt x="217" y="193"/>
                      </a:lnTo>
                      <a:lnTo>
                        <a:pt x="214" y="172"/>
                      </a:lnTo>
                      <a:lnTo>
                        <a:pt x="207" y="153"/>
                      </a:lnTo>
                      <a:lnTo>
                        <a:pt x="195" y="126"/>
                      </a:lnTo>
                      <a:lnTo>
                        <a:pt x="202" y="158"/>
                      </a:lnTo>
                      <a:lnTo>
                        <a:pt x="205" y="186"/>
                      </a:lnTo>
                      <a:lnTo>
                        <a:pt x="205" y="209"/>
                      </a:lnTo>
                      <a:lnTo>
                        <a:pt x="203" y="228"/>
                      </a:lnTo>
                      <a:lnTo>
                        <a:pt x="199" y="245"/>
                      </a:lnTo>
                      <a:lnTo>
                        <a:pt x="192" y="266"/>
                      </a:lnTo>
                      <a:lnTo>
                        <a:pt x="174" y="313"/>
                      </a:lnTo>
                      <a:lnTo>
                        <a:pt x="173" y="284"/>
                      </a:lnTo>
                      <a:lnTo>
                        <a:pt x="175" y="259"/>
                      </a:lnTo>
                      <a:lnTo>
                        <a:pt x="177" y="236"/>
                      </a:lnTo>
                      <a:lnTo>
                        <a:pt x="166" y="260"/>
                      </a:lnTo>
                      <a:lnTo>
                        <a:pt x="160" y="279"/>
                      </a:lnTo>
                      <a:lnTo>
                        <a:pt x="156" y="301"/>
                      </a:lnTo>
                      <a:lnTo>
                        <a:pt x="153" y="326"/>
                      </a:lnTo>
                      <a:lnTo>
                        <a:pt x="154" y="357"/>
                      </a:lnTo>
                      <a:lnTo>
                        <a:pt x="158" y="387"/>
                      </a:lnTo>
                      <a:lnTo>
                        <a:pt x="165" y="412"/>
                      </a:lnTo>
                      <a:lnTo>
                        <a:pt x="176" y="444"/>
                      </a:lnTo>
                      <a:lnTo>
                        <a:pt x="193" y="483"/>
                      </a:lnTo>
                      <a:lnTo>
                        <a:pt x="166" y="436"/>
                      </a:lnTo>
                      <a:lnTo>
                        <a:pt x="159" y="424"/>
                      </a:lnTo>
                      <a:lnTo>
                        <a:pt x="148" y="406"/>
                      </a:lnTo>
                      <a:lnTo>
                        <a:pt x="133" y="387"/>
                      </a:lnTo>
                      <a:lnTo>
                        <a:pt x="109" y="365"/>
                      </a:lnTo>
                      <a:lnTo>
                        <a:pt x="124" y="390"/>
                      </a:lnTo>
                      <a:lnTo>
                        <a:pt x="132" y="405"/>
                      </a:lnTo>
                      <a:lnTo>
                        <a:pt x="139" y="420"/>
                      </a:lnTo>
                      <a:lnTo>
                        <a:pt x="154" y="453"/>
                      </a:lnTo>
                      <a:lnTo>
                        <a:pt x="164" y="480"/>
                      </a:lnTo>
                      <a:lnTo>
                        <a:pt x="179" y="525"/>
                      </a:lnTo>
                      <a:lnTo>
                        <a:pt x="161" y="518"/>
                      </a:lnTo>
                      <a:lnTo>
                        <a:pt x="144" y="504"/>
                      </a:lnTo>
                      <a:lnTo>
                        <a:pt x="125" y="486"/>
                      </a:lnTo>
                      <a:lnTo>
                        <a:pt x="111" y="469"/>
                      </a:lnTo>
                      <a:lnTo>
                        <a:pt x="91" y="448"/>
                      </a:lnTo>
                      <a:lnTo>
                        <a:pt x="76" y="436"/>
                      </a:lnTo>
                      <a:lnTo>
                        <a:pt x="64" y="427"/>
                      </a:lnTo>
                      <a:lnTo>
                        <a:pt x="51" y="419"/>
                      </a:lnTo>
                      <a:lnTo>
                        <a:pt x="38" y="415"/>
                      </a:lnTo>
                      <a:lnTo>
                        <a:pt x="24" y="412"/>
                      </a:lnTo>
                      <a:lnTo>
                        <a:pt x="0" y="409"/>
                      </a:lnTo>
                      <a:lnTo>
                        <a:pt x="21" y="416"/>
                      </a:lnTo>
                      <a:lnTo>
                        <a:pt x="43" y="429"/>
                      </a:lnTo>
                      <a:lnTo>
                        <a:pt x="58" y="441"/>
                      </a:lnTo>
                      <a:lnTo>
                        <a:pt x="68" y="450"/>
                      </a:lnTo>
                      <a:lnTo>
                        <a:pt x="85" y="473"/>
                      </a:lnTo>
                      <a:lnTo>
                        <a:pt x="101" y="499"/>
                      </a:lnTo>
                      <a:lnTo>
                        <a:pt x="121" y="528"/>
                      </a:lnTo>
                      <a:lnTo>
                        <a:pt x="137" y="540"/>
                      </a:lnTo>
                      <a:lnTo>
                        <a:pt x="158" y="554"/>
                      </a:lnTo>
                      <a:lnTo>
                        <a:pt x="194" y="571"/>
                      </a:lnTo>
                      <a:lnTo>
                        <a:pt x="225" y="578"/>
                      </a:lnTo>
                      <a:lnTo>
                        <a:pt x="262" y="57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4881960" y="3735360"/>
                  <a:ext cx="588240" cy="900000"/>
                </a:xfrm>
                <a:custGeom>
                  <a:avLst/>
                  <a:gdLst/>
                  <a:ahLst/>
                  <a:rect l="l" t="t" r="r" b="b"/>
                  <a:pathLst>
                    <a:path w="417" h="567">
                      <a:moveTo>
                        <a:pt x="255" y="561"/>
                      </a:moveTo>
                      <a:lnTo>
                        <a:pt x="272" y="557"/>
                      </a:lnTo>
                      <a:lnTo>
                        <a:pt x="299" y="549"/>
                      </a:lnTo>
                      <a:lnTo>
                        <a:pt x="319" y="535"/>
                      </a:lnTo>
                      <a:lnTo>
                        <a:pt x="330" y="520"/>
                      </a:lnTo>
                      <a:lnTo>
                        <a:pt x="339" y="504"/>
                      </a:lnTo>
                      <a:lnTo>
                        <a:pt x="345" y="489"/>
                      </a:lnTo>
                      <a:lnTo>
                        <a:pt x="351" y="469"/>
                      </a:lnTo>
                      <a:lnTo>
                        <a:pt x="355" y="444"/>
                      </a:lnTo>
                      <a:lnTo>
                        <a:pt x="358" y="417"/>
                      </a:lnTo>
                      <a:lnTo>
                        <a:pt x="358" y="398"/>
                      </a:lnTo>
                      <a:lnTo>
                        <a:pt x="361" y="382"/>
                      </a:lnTo>
                      <a:lnTo>
                        <a:pt x="363" y="372"/>
                      </a:lnTo>
                      <a:lnTo>
                        <a:pt x="369" y="360"/>
                      </a:lnTo>
                      <a:lnTo>
                        <a:pt x="374" y="347"/>
                      </a:lnTo>
                      <a:lnTo>
                        <a:pt x="380" y="337"/>
                      </a:lnTo>
                      <a:lnTo>
                        <a:pt x="386" y="327"/>
                      </a:lnTo>
                      <a:lnTo>
                        <a:pt x="391" y="321"/>
                      </a:lnTo>
                      <a:lnTo>
                        <a:pt x="399" y="315"/>
                      </a:lnTo>
                      <a:lnTo>
                        <a:pt x="416" y="303"/>
                      </a:lnTo>
                      <a:lnTo>
                        <a:pt x="396" y="309"/>
                      </a:lnTo>
                      <a:lnTo>
                        <a:pt x="382" y="315"/>
                      </a:lnTo>
                      <a:lnTo>
                        <a:pt x="369" y="323"/>
                      </a:lnTo>
                      <a:lnTo>
                        <a:pt x="358" y="332"/>
                      </a:lnTo>
                      <a:lnTo>
                        <a:pt x="348" y="341"/>
                      </a:lnTo>
                      <a:lnTo>
                        <a:pt x="340" y="353"/>
                      </a:lnTo>
                      <a:lnTo>
                        <a:pt x="329" y="369"/>
                      </a:lnTo>
                      <a:lnTo>
                        <a:pt x="321" y="381"/>
                      </a:lnTo>
                      <a:lnTo>
                        <a:pt x="314" y="394"/>
                      </a:lnTo>
                      <a:lnTo>
                        <a:pt x="321" y="375"/>
                      </a:lnTo>
                      <a:lnTo>
                        <a:pt x="325" y="359"/>
                      </a:lnTo>
                      <a:lnTo>
                        <a:pt x="329" y="341"/>
                      </a:lnTo>
                      <a:lnTo>
                        <a:pt x="330" y="319"/>
                      </a:lnTo>
                      <a:lnTo>
                        <a:pt x="330" y="295"/>
                      </a:lnTo>
                      <a:lnTo>
                        <a:pt x="327" y="274"/>
                      </a:lnTo>
                      <a:lnTo>
                        <a:pt x="323" y="252"/>
                      </a:lnTo>
                      <a:lnTo>
                        <a:pt x="319" y="234"/>
                      </a:lnTo>
                      <a:lnTo>
                        <a:pt x="314" y="216"/>
                      </a:lnTo>
                      <a:lnTo>
                        <a:pt x="307" y="198"/>
                      </a:lnTo>
                      <a:lnTo>
                        <a:pt x="295" y="176"/>
                      </a:lnTo>
                      <a:lnTo>
                        <a:pt x="287" y="161"/>
                      </a:lnTo>
                      <a:lnTo>
                        <a:pt x="276" y="140"/>
                      </a:lnTo>
                      <a:lnTo>
                        <a:pt x="265" y="116"/>
                      </a:lnTo>
                      <a:lnTo>
                        <a:pt x="258" y="95"/>
                      </a:lnTo>
                      <a:lnTo>
                        <a:pt x="254" y="80"/>
                      </a:lnTo>
                      <a:lnTo>
                        <a:pt x="250" y="62"/>
                      </a:lnTo>
                      <a:lnTo>
                        <a:pt x="249" y="45"/>
                      </a:lnTo>
                      <a:lnTo>
                        <a:pt x="249" y="30"/>
                      </a:lnTo>
                      <a:lnTo>
                        <a:pt x="249" y="17"/>
                      </a:lnTo>
                      <a:lnTo>
                        <a:pt x="250" y="0"/>
                      </a:lnTo>
                      <a:lnTo>
                        <a:pt x="243" y="24"/>
                      </a:lnTo>
                      <a:lnTo>
                        <a:pt x="239" y="44"/>
                      </a:lnTo>
                      <a:lnTo>
                        <a:pt x="236" y="62"/>
                      </a:lnTo>
                      <a:lnTo>
                        <a:pt x="236" y="80"/>
                      </a:lnTo>
                      <a:lnTo>
                        <a:pt x="239" y="101"/>
                      </a:lnTo>
                      <a:lnTo>
                        <a:pt x="243" y="119"/>
                      </a:lnTo>
                      <a:lnTo>
                        <a:pt x="248" y="135"/>
                      </a:lnTo>
                      <a:lnTo>
                        <a:pt x="254" y="149"/>
                      </a:lnTo>
                      <a:lnTo>
                        <a:pt x="259" y="168"/>
                      </a:lnTo>
                      <a:lnTo>
                        <a:pt x="261" y="188"/>
                      </a:lnTo>
                      <a:lnTo>
                        <a:pt x="262" y="207"/>
                      </a:lnTo>
                      <a:lnTo>
                        <a:pt x="263" y="227"/>
                      </a:lnTo>
                      <a:lnTo>
                        <a:pt x="263" y="246"/>
                      </a:lnTo>
                      <a:lnTo>
                        <a:pt x="260" y="276"/>
                      </a:lnTo>
                      <a:lnTo>
                        <a:pt x="255" y="295"/>
                      </a:lnTo>
                      <a:lnTo>
                        <a:pt x="242" y="322"/>
                      </a:lnTo>
                      <a:lnTo>
                        <a:pt x="231" y="349"/>
                      </a:lnTo>
                      <a:lnTo>
                        <a:pt x="222" y="376"/>
                      </a:lnTo>
                      <a:lnTo>
                        <a:pt x="216" y="361"/>
                      </a:lnTo>
                      <a:lnTo>
                        <a:pt x="211" y="345"/>
                      </a:lnTo>
                      <a:lnTo>
                        <a:pt x="208" y="328"/>
                      </a:lnTo>
                      <a:lnTo>
                        <a:pt x="207" y="301"/>
                      </a:lnTo>
                      <a:lnTo>
                        <a:pt x="212" y="255"/>
                      </a:lnTo>
                      <a:lnTo>
                        <a:pt x="214" y="241"/>
                      </a:lnTo>
                      <a:lnTo>
                        <a:pt x="214" y="225"/>
                      </a:lnTo>
                      <a:lnTo>
                        <a:pt x="214" y="209"/>
                      </a:lnTo>
                      <a:lnTo>
                        <a:pt x="212" y="189"/>
                      </a:lnTo>
                      <a:lnTo>
                        <a:pt x="208" y="169"/>
                      </a:lnTo>
                      <a:lnTo>
                        <a:pt x="202" y="150"/>
                      </a:lnTo>
                      <a:lnTo>
                        <a:pt x="190" y="123"/>
                      </a:lnTo>
                      <a:lnTo>
                        <a:pt x="196" y="155"/>
                      </a:lnTo>
                      <a:lnTo>
                        <a:pt x="200" y="182"/>
                      </a:lnTo>
                      <a:lnTo>
                        <a:pt x="200" y="204"/>
                      </a:lnTo>
                      <a:lnTo>
                        <a:pt x="198" y="224"/>
                      </a:lnTo>
                      <a:lnTo>
                        <a:pt x="194" y="240"/>
                      </a:lnTo>
                      <a:lnTo>
                        <a:pt x="187" y="261"/>
                      </a:lnTo>
                      <a:lnTo>
                        <a:pt x="170" y="306"/>
                      </a:lnTo>
                      <a:lnTo>
                        <a:pt x="169" y="278"/>
                      </a:lnTo>
                      <a:lnTo>
                        <a:pt x="170" y="254"/>
                      </a:lnTo>
                      <a:lnTo>
                        <a:pt x="172" y="231"/>
                      </a:lnTo>
                      <a:lnTo>
                        <a:pt x="161" y="254"/>
                      </a:lnTo>
                      <a:lnTo>
                        <a:pt x="156" y="274"/>
                      </a:lnTo>
                      <a:lnTo>
                        <a:pt x="152" y="294"/>
                      </a:lnTo>
                      <a:lnTo>
                        <a:pt x="149" y="319"/>
                      </a:lnTo>
                      <a:lnTo>
                        <a:pt x="150" y="349"/>
                      </a:lnTo>
                      <a:lnTo>
                        <a:pt x="154" y="379"/>
                      </a:lnTo>
                      <a:lnTo>
                        <a:pt x="161" y="404"/>
                      </a:lnTo>
                      <a:lnTo>
                        <a:pt x="172" y="434"/>
                      </a:lnTo>
                      <a:lnTo>
                        <a:pt x="188" y="473"/>
                      </a:lnTo>
                      <a:lnTo>
                        <a:pt x="161" y="427"/>
                      </a:lnTo>
                      <a:lnTo>
                        <a:pt x="155" y="416"/>
                      </a:lnTo>
                      <a:lnTo>
                        <a:pt x="144" y="397"/>
                      </a:lnTo>
                      <a:lnTo>
                        <a:pt x="129" y="379"/>
                      </a:lnTo>
                      <a:lnTo>
                        <a:pt x="106" y="357"/>
                      </a:lnTo>
                      <a:lnTo>
                        <a:pt x="120" y="382"/>
                      </a:lnTo>
                      <a:lnTo>
                        <a:pt x="128" y="397"/>
                      </a:lnTo>
                      <a:lnTo>
                        <a:pt x="135" y="412"/>
                      </a:lnTo>
                      <a:lnTo>
                        <a:pt x="150" y="444"/>
                      </a:lnTo>
                      <a:lnTo>
                        <a:pt x="160" y="470"/>
                      </a:lnTo>
                      <a:lnTo>
                        <a:pt x="175" y="514"/>
                      </a:lnTo>
                      <a:lnTo>
                        <a:pt x="156" y="507"/>
                      </a:lnTo>
                      <a:lnTo>
                        <a:pt x="140" y="494"/>
                      </a:lnTo>
                      <a:lnTo>
                        <a:pt x="122" y="476"/>
                      </a:lnTo>
                      <a:lnTo>
                        <a:pt x="107" y="460"/>
                      </a:lnTo>
                      <a:lnTo>
                        <a:pt x="88" y="439"/>
                      </a:lnTo>
                      <a:lnTo>
                        <a:pt x="74" y="427"/>
                      </a:lnTo>
                      <a:lnTo>
                        <a:pt x="61" y="418"/>
                      </a:lnTo>
                      <a:lnTo>
                        <a:pt x="49" y="410"/>
                      </a:lnTo>
                      <a:lnTo>
                        <a:pt x="35" y="406"/>
                      </a:lnTo>
                      <a:lnTo>
                        <a:pt x="23" y="404"/>
                      </a:lnTo>
                      <a:lnTo>
                        <a:pt x="0" y="400"/>
                      </a:lnTo>
                      <a:lnTo>
                        <a:pt x="20" y="408"/>
                      </a:lnTo>
                      <a:lnTo>
                        <a:pt x="41" y="420"/>
                      </a:lnTo>
                      <a:lnTo>
                        <a:pt x="56" y="432"/>
                      </a:lnTo>
                      <a:lnTo>
                        <a:pt x="65" y="441"/>
                      </a:lnTo>
                      <a:lnTo>
                        <a:pt x="83" y="464"/>
                      </a:lnTo>
                      <a:lnTo>
                        <a:pt x="98" y="488"/>
                      </a:lnTo>
                      <a:lnTo>
                        <a:pt x="118" y="517"/>
                      </a:lnTo>
                      <a:lnTo>
                        <a:pt x="133" y="529"/>
                      </a:lnTo>
                      <a:lnTo>
                        <a:pt x="154" y="542"/>
                      </a:lnTo>
                      <a:lnTo>
                        <a:pt x="189" y="559"/>
                      </a:lnTo>
                      <a:lnTo>
                        <a:pt x="219" y="566"/>
                      </a:lnTo>
                      <a:lnTo>
                        <a:pt x="255" y="56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4871880" y="3735360"/>
                  <a:ext cx="590040" cy="889200"/>
                </a:xfrm>
                <a:custGeom>
                  <a:avLst/>
                  <a:gdLst/>
                  <a:ahLst/>
                  <a:rect l="l" t="t" r="r" b="b"/>
                  <a:pathLst>
                    <a:path w="418" h="560">
                      <a:moveTo>
                        <a:pt x="260" y="554"/>
                      </a:moveTo>
                      <a:lnTo>
                        <a:pt x="277" y="551"/>
                      </a:lnTo>
                      <a:lnTo>
                        <a:pt x="303" y="542"/>
                      </a:lnTo>
                      <a:lnTo>
                        <a:pt x="322" y="529"/>
                      </a:lnTo>
                      <a:lnTo>
                        <a:pt x="333" y="515"/>
                      </a:lnTo>
                      <a:lnTo>
                        <a:pt x="341" y="499"/>
                      </a:lnTo>
                      <a:lnTo>
                        <a:pt x="348" y="484"/>
                      </a:lnTo>
                      <a:lnTo>
                        <a:pt x="354" y="465"/>
                      </a:lnTo>
                      <a:lnTo>
                        <a:pt x="357" y="440"/>
                      </a:lnTo>
                      <a:lnTo>
                        <a:pt x="360" y="413"/>
                      </a:lnTo>
                      <a:lnTo>
                        <a:pt x="360" y="395"/>
                      </a:lnTo>
                      <a:lnTo>
                        <a:pt x="363" y="379"/>
                      </a:lnTo>
                      <a:lnTo>
                        <a:pt x="365" y="370"/>
                      </a:lnTo>
                      <a:lnTo>
                        <a:pt x="370" y="359"/>
                      </a:lnTo>
                      <a:lnTo>
                        <a:pt x="376" y="345"/>
                      </a:lnTo>
                      <a:lnTo>
                        <a:pt x="381" y="335"/>
                      </a:lnTo>
                      <a:lnTo>
                        <a:pt x="388" y="326"/>
                      </a:lnTo>
                      <a:lnTo>
                        <a:pt x="393" y="320"/>
                      </a:lnTo>
                      <a:lnTo>
                        <a:pt x="400" y="314"/>
                      </a:lnTo>
                      <a:lnTo>
                        <a:pt x="417" y="302"/>
                      </a:lnTo>
                      <a:lnTo>
                        <a:pt x="397" y="308"/>
                      </a:lnTo>
                      <a:lnTo>
                        <a:pt x="384" y="314"/>
                      </a:lnTo>
                      <a:lnTo>
                        <a:pt x="370" y="323"/>
                      </a:lnTo>
                      <a:lnTo>
                        <a:pt x="360" y="331"/>
                      </a:lnTo>
                      <a:lnTo>
                        <a:pt x="350" y="340"/>
                      </a:lnTo>
                      <a:lnTo>
                        <a:pt x="342" y="351"/>
                      </a:lnTo>
                      <a:lnTo>
                        <a:pt x="332" y="366"/>
                      </a:lnTo>
                      <a:lnTo>
                        <a:pt x="324" y="378"/>
                      </a:lnTo>
                      <a:lnTo>
                        <a:pt x="317" y="391"/>
                      </a:lnTo>
                      <a:lnTo>
                        <a:pt x="323" y="373"/>
                      </a:lnTo>
                      <a:lnTo>
                        <a:pt x="328" y="358"/>
                      </a:lnTo>
                      <a:lnTo>
                        <a:pt x="331" y="340"/>
                      </a:lnTo>
                      <a:lnTo>
                        <a:pt x="333" y="318"/>
                      </a:lnTo>
                      <a:lnTo>
                        <a:pt x="332" y="295"/>
                      </a:lnTo>
                      <a:lnTo>
                        <a:pt x="330" y="274"/>
                      </a:lnTo>
                      <a:lnTo>
                        <a:pt x="326" y="253"/>
                      </a:lnTo>
                      <a:lnTo>
                        <a:pt x="322" y="235"/>
                      </a:lnTo>
                      <a:lnTo>
                        <a:pt x="317" y="217"/>
                      </a:lnTo>
                      <a:lnTo>
                        <a:pt x="310" y="200"/>
                      </a:lnTo>
                      <a:lnTo>
                        <a:pt x="299" y="179"/>
                      </a:lnTo>
                      <a:lnTo>
                        <a:pt x="291" y="164"/>
                      </a:lnTo>
                      <a:lnTo>
                        <a:pt x="280" y="143"/>
                      </a:lnTo>
                      <a:lnTo>
                        <a:pt x="270" y="120"/>
                      </a:lnTo>
                      <a:lnTo>
                        <a:pt x="262" y="98"/>
                      </a:lnTo>
                      <a:lnTo>
                        <a:pt x="257" y="84"/>
                      </a:lnTo>
                      <a:lnTo>
                        <a:pt x="255" y="67"/>
                      </a:lnTo>
                      <a:lnTo>
                        <a:pt x="253" y="50"/>
                      </a:lnTo>
                      <a:lnTo>
                        <a:pt x="253" y="36"/>
                      </a:lnTo>
                      <a:lnTo>
                        <a:pt x="252" y="20"/>
                      </a:lnTo>
                      <a:lnTo>
                        <a:pt x="256" y="0"/>
                      </a:lnTo>
                      <a:lnTo>
                        <a:pt x="246" y="17"/>
                      </a:lnTo>
                      <a:lnTo>
                        <a:pt x="241" y="40"/>
                      </a:lnTo>
                      <a:lnTo>
                        <a:pt x="241" y="66"/>
                      </a:lnTo>
                      <a:lnTo>
                        <a:pt x="241" y="84"/>
                      </a:lnTo>
                      <a:lnTo>
                        <a:pt x="243" y="105"/>
                      </a:lnTo>
                      <a:lnTo>
                        <a:pt x="247" y="122"/>
                      </a:lnTo>
                      <a:lnTo>
                        <a:pt x="252" y="138"/>
                      </a:lnTo>
                      <a:lnTo>
                        <a:pt x="258" y="152"/>
                      </a:lnTo>
                      <a:lnTo>
                        <a:pt x="263" y="170"/>
                      </a:lnTo>
                      <a:lnTo>
                        <a:pt x="265" y="189"/>
                      </a:lnTo>
                      <a:lnTo>
                        <a:pt x="267" y="208"/>
                      </a:lnTo>
                      <a:lnTo>
                        <a:pt x="267" y="228"/>
                      </a:lnTo>
                      <a:lnTo>
                        <a:pt x="267" y="247"/>
                      </a:lnTo>
                      <a:lnTo>
                        <a:pt x="264" y="276"/>
                      </a:lnTo>
                      <a:lnTo>
                        <a:pt x="259" y="295"/>
                      </a:lnTo>
                      <a:lnTo>
                        <a:pt x="246" y="321"/>
                      </a:lnTo>
                      <a:lnTo>
                        <a:pt x="235" y="347"/>
                      </a:lnTo>
                      <a:lnTo>
                        <a:pt x="227" y="374"/>
                      </a:lnTo>
                      <a:lnTo>
                        <a:pt x="221" y="359"/>
                      </a:lnTo>
                      <a:lnTo>
                        <a:pt x="216" y="343"/>
                      </a:lnTo>
                      <a:lnTo>
                        <a:pt x="213" y="326"/>
                      </a:lnTo>
                      <a:lnTo>
                        <a:pt x="212" y="300"/>
                      </a:lnTo>
                      <a:lnTo>
                        <a:pt x="217" y="255"/>
                      </a:lnTo>
                      <a:lnTo>
                        <a:pt x="219" y="241"/>
                      </a:lnTo>
                      <a:lnTo>
                        <a:pt x="219" y="226"/>
                      </a:lnTo>
                      <a:lnTo>
                        <a:pt x="219" y="211"/>
                      </a:lnTo>
                      <a:lnTo>
                        <a:pt x="217" y="191"/>
                      </a:lnTo>
                      <a:lnTo>
                        <a:pt x="213" y="171"/>
                      </a:lnTo>
                      <a:lnTo>
                        <a:pt x="207" y="152"/>
                      </a:lnTo>
                      <a:lnTo>
                        <a:pt x="196" y="126"/>
                      </a:lnTo>
                      <a:lnTo>
                        <a:pt x="202" y="158"/>
                      </a:lnTo>
                      <a:lnTo>
                        <a:pt x="206" y="184"/>
                      </a:lnTo>
                      <a:lnTo>
                        <a:pt x="205" y="206"/>
                      </a:lnTo>
                      <a:lnTo>
                        <a:pt x="204" y="224"/>
                      </a:lnTo>
                      <a:lnTo>
                        <a:pt x="200" y="241"/>
                      </a:lnTo>
                      <a:lnTo>
                        <a:pt x="193" y="261"/>
                      </a:lnTo>
                      <a:lnTo>
                        <a:pt x="176" y="305"/>
                      </a:lnTo>
                      <a:lnTo>
                        <a:pt x="175" y="278"/>
                      </a:lnTo>
                      <a:lnTo>
                        <a:pt x="176" y="254"/>
                      </a:lnTo>
                      <a:lnTo>
                        <a:pt x="178" y="232"/>
                      </a:lnTo>
                      <a:lnTo>
                        <a:pt x="168" y="254"/>
                      </a:lnTo>
                      <a:lnTo>
                        <a:pt x="162" y="273"/>
                      </a:lnTo>
                      <a:lnTo>
                        <a:pt x="158" y="294"/>
                      </a:lnTo>
                      <a:lnTo>
                        <a:pt x="155" y="318"/>
                      </a:lnTo>
                      <a:lnTo>
                        <a:pt x="156" y="347"/>
                      </a:lnTo>
                      <a:lnTo>
                        <a:pt x="160" y="377"/>
                      </a:lnTo>
                      <a:lnTo>
                        <a:pt x="167" y="400"/>
                      </a:lnTo>
                      <a:lnTo>
                        <a:pt x="178" y="430"/>
                      </a:lnTo>
                      <a:lnTo>
                        <a:pt x="194" y="468"/>
                      </a:lnTo>
                      <a:lnTo>
                        <a:pt x="168" y="424"/>
                      </a:lnTo>
                      <a:lnTo>
                        <a:pt x="162" y="412"/>
                      </a:lnTo>
                      <a:lnTo>
                        <a:pt x="150" y="394"/>
                      </a:lnTo>
                      <a:lnTo>
                        <a:pt x="136" y="377"/>
                      </a:lnTo>
                      <a:lnTo>
                        <a:pt x="114" y="356"/>
                      </a:lnTo>
                      <a:lnTo>
                        <a:pt x="127" y="379"/>
                      </a:lnTo>
                      <a:lnTo>
                        <a:pt x="135" y="394"/>
                      </a:lnTo>
                      <a:lnTo>
                        <a:pt x="142" y="408"/>
                      </a:lnTo>
                      <a:lnTo>
                        <a:pt x="156" y="440"/>
                      </a:lnTo>
                      <a:lnTo>
                        <a:pt x="166" y="466"/>
                      </a:lnTo>
                      <a:lnTo>
                        <a:pt x="181" y="508"/>
                      </a:lnTo>
                      <a:lnTo>
                        <a:pt x="163" y="501"/>
                      </a:lnTo>
                      <a:lnTo>
                        <a:pt x="146" y="488"/>
                      </a:lnTo>
                      <a:lnTo>
                        <a:pt x="129" y="471"/>
                      </a:lnTo>
                      <a:lnTo>
                        <a:pt x="115" y="455"/>
                      </a:lnTo>
                      <a:lnTo>
                        <a:pt x="96" y="435"/>
                      </a:lnTo>
                      <a:lnTo>
                        <a:pt x="82" y="424"/>
                      </a:lnTo>
                      <a:lnTo>
                        <a:pt x="70" y="414"/>
                      </a:lnTo>
                      <a:lnTo>
                        <a:pt x="57" y="407"/>
                      </a:lnTo>
                      <a:lnTo>
                        <a:pt x="44" y="403"/>
                      </a:lnTo>
                      <a:lnTo>
                        <a:pt x="32" y="400"/>
                      </a:lnTo>
                      <a:lnTo>
                        <a:pt x="0" y="393"/>
                      </a:lnTo>
                      <a:lnTo>
                        <a:pt x="29" y="405"/>
                      </a:lnTo>
                      <a:lnTo>
                        <a:pt x="50" y="416"/>
                      </a:lnTo>
                      <a:lnTo>
                        <a:pt x="64" y="428"/>
                      </a:lnTo>
                      <a:lnTo>
                        <a:pt x="74" y="437"/>
                      </a:lnTo>
                      <a:lnTo>
                        <a:pt x="90" y="459"/>
                      </a:lnTo>
                      <a:lnTo>
                        <a:pt x="105" y="484"/>
                      </a:lnTo>
                      <a:lnTo>
                        <a:pt x="125" y="511"/>
                      </a:lnTo>
                      <a:lnTo>
                        <a:pt x="139" y="522"/>
                      </a:lnTo>
                      <a:lnTo>
                        <a:pt x="160" y="536"/>
                      </a:lnTo>
                      <a:lnTo>
                        <a:pt x="194" y="553"/>
                      </a:lnTo>
                      <a:lnTo>
                        <a:pt x="224" y="559"/>
                      </a:lnTo>
                      <a:lnTo>
                        <a:pt x="260" y="554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4867920" y="3741840"/>
                  <a:ext cx="584280" cy="882720"/>
                </a:xfrm>
                <a:custGeom>
                  <a:avLst/>
                  <a:gdLst/>
                  <a:ahLst/>
                  <a:rect l="l" t="t" r="r" b="b"/>
                  <a:pathLst>
                    <a:path w="414" h="556">
                      <a:moveTo>
                        <a:pt x="253" y="550"/>
                      </a:moveTo>
                      <a:lnTo>
                        <a:pt x="271" y="546"/>
                      </a:lnTo>
                      <a:lnTo>
                        <a:pt x="297" y="537"/>
                      </a:lnTo>
                      <a:lnTo>
                        <a:pt x="316" y="524"/>
                      </a:lnTo>
                      <a:lnTo>
                        <a:pt x="327" y="508"/>
                      </a:lnTo>
                      <a:lnTo>
                        <a:pt x="336" y="492"/>
                      </a:lnTo>
                      <a:lnTo>
                        <a:pt x="343" y="477"/>
                      </a:lnTo>
                      <a:lnTo>
                        <a:pt x="348" y="456"/>
                      </a:lnTo>
                      <a:lnTo>
                        <a:pt x="352" y="430"/>
                      </a:lnTo>
                      <a:lnTo>
                        <a:pt x="355" y="402"/>
                      </a:lnTo>
                      <a:lnTo>
                        <a:pt x="355" y="383"/>
                      </a:lnTo>
                      <a:lnTo>
                        <a:pt x="358" y="367"/>
                      </a:lnTo>
                      <a:lnTo>
                        <a:pt x="360" y="356"/>
                      </a:lnTo>
                      <a:lnTo>
                        <a:pt x="365" y="345"/>
                      </a:lnTo>
                      <a:lnTo>
                        <a:pt x="371" y="331"/>
                      </a:lnTo>
                      <a:lnTo>
                        <a:pt x="376" y="321"/>
                      </a:lnTo>
                      <a:lnTo>
                        <a:pt x="383" y="311"/>
                      </a:lnTo>
                      <a:lnTo>
                        <a:pt x="389" y="306"/>
                      </a:lnTo>
                      <a:lnTo>
                        <a:pt x="396" y="301"/>
                      </a:lnTo>
                      <a:lnTo>
                        <a:pt x="413" y="292"/>
                      </a:lnTo>
                      <a:lnTo>
                        <a:pt x="392" y="297"/>
                      </a:lnTo>
                      <a:lnTo>
                        <a:pt x="379" y="301"/>
                      </a:lnTo>
                      <a:lnTo>
                        <a:pt x="365" y="309"/>
                      </a:lnTo>
                      <a:lnTo>
                        <a:pt x="355" y="317"/>
                      </a:lnTo>
                      <a:lnTo>
                        <a:pt x="345" y="325"/>
                      </a:lnTo>
                      <a:lnTo>
                        <a:pt x="336" y="337"/>
                      </a:lnTo>
                      <a:lnTo>
                        <a:pt x="326" y="353"/>
                      </a:lnTo>
                      <a:lnTo>
                        <a:pt x="318" y="366"/>
                      </a:lnTo>
                      <a:lnTo>
                        <a:pt x="311" y="379"/>
                      </a:lnTo>
                      <a:lnTo>
                        <a:pt x="318" y="360"/>
                      </a:lnTo>
                      <a:lnTo>
                        <a:pt x="322" y="344"/>
                      </a:lnTo>
                      <a:lnTo>
                        <a:pt x="326" y="325"/>
                      </a:lnTo>
                      <a:lnTo>
                        <a:pt x="327" y="302"/>
                      </a:lnTo>
                      <a:lnTo>
                        <a:pt x="327" y="278"/>
                      </a:lnTo>
                      <a:lnTo>
                        <a:pt x="324" y="256"/>
                      </a:lnTo>
                      <a:lnTo>
                        <a:pt x="321" y="234"/>
                      </a:lnTo>
                      <a:lnTo>
                        <a:pt x="316" y="215"/>
                      </a:lnTo>
                      <a:lnTo>
                        <a:pt x="311" y="197"/>
                      </a:lnTo>
                      <a:lnTo>
                        <a:pt x="305" y="178"/>
                      </a:lnTo>
                      <a:lnTo>
                        <a:pt x="293" y="156"/>
                      </a:lnTo>
                      <a:lnTo>
                        <a:pt x="285" y="141"/>
                      </a:lnTo>
                      <a:lnTo>
                        <a:pt x="273" y="119"/>
                      </a:lnTo>
                      <a:lnTo>
                        <a:pt x="263" y="95"/>
                      </a:lnTo>
                      <a:lnTo>
                        <a:pt x="256" y="73"/>
                      </a:lnTo>
                      <a:lnTo>
                        <a:pt x="252" y="57"/>
                      </a:lnTo>
                      <a:lnTo>
                        <a:pt x="248" y="39"/>
                      </a:lnTo>
                      <a:lnTo>
                        <a:pt x="249" y="23"/>
                      </a:lnTo>
                      <a:lnTo>
                        <a:pt x="251" y="14"/>
                      </a:lnTo>
                      <a:lnTo>
                        <a:pt x="257" y="0"/>
                      </a:lnTo>
                      <a:lnTo>
                        <a:pt x="246" y="16"/>
                      </a:lnTo>
                      <a:lnTo>
                        <a:pt x="241" y="26"/>
                      </a:lnTo>
                      <a:lnTo>
                        <a:pt x="238" y="35"/>
                      </a:lnTo>
                      <a:lnTo>
                        <a:pt x="236" y="46"/>
                      </a:lnTo>
                      <a:lnTo>
                        <a:pt x="236" y="59"/>
                      </a:lnTo>
                      <a:lnTo>
                        <a:pt x="236" y="80"/>
                      </a:lnTo>
                      <a:lnTo>
                        <a:pt x="241" y="97"/>
                      </a:lnTo>
                      <a:lnTo>
                        <a:pt x="246" y="114"/>
                      </a:lnTo>
                      <a:lnTo>
                        <a:pt x="252" y="129"/>
                      </a:lnTo>
                      <a:lnTo>
                        <a:pt x="257" y="149"/>
                      </a:lnTo>
                      <a:lnTo>
                        <a:pt x="259" y="168"/>
                      </a:lnTo>
                      <a:lnTo>
                        <a:pt x="260" y="187"/>
                      </a:lnTo>
                      <a:lnTo>
                        <a:pt x="262" y="208"/>
                      </a:lnTo>
                      <a:lnTo>
                        <a:pt x="262" y="228"/>
                      </a:lnTo>
                      <a:lnTo>
                        <a:pt x="258" y="259"/>
                      </a:lnTo>
                      <a:lnTo>
                        <a:pt x="253" y="278"/>
                      </a:lnTo>
                      <a:lnTo>
                        <a:pt x="240" y="305"/>
                      </a:lnTo>
                      <a:lnTo>
                        <a:pt x="229" y="334"/>
                      </a:lnTo>
                      <a:lnTo>
                        <a:pt x="220" y="360"/>
                      </a:lnTo>
                      <a:lnTo>
                        <a:pt x="214" y="345"/>
                      </a:lnTo>
                      <a:lnTo>
                        <a:pt x="210" y="329"/>
                      </a:lnTo>
                      <a:lnTo>
                        <a:pt x="207" y="311"/>
                      </a:lnTo>
                      <a:lnTo>
                        <a:pt x="205" y="284"/>
                      </a:lnTo>
                      <a:lnTo>
                        <a:pt x="210" y="236"/>
                      </a:lnTo>
                      <a:lnTo>
                        <a:pt x="212" y="222"/>
                      </a:lnTo>
                      <a:lnTo>
                        <a:pt x="213" y="206"/>
                      </a:lnTo>
                      <a:lnTo>
                        <a:pt x="213" y="190"/>
                      </a:lnTo>
                      <a:lnTo>
                        <a:pt x="210" y="169"/>
                      </a:lnTo>
                      <a:lnTo>
                        <a:pt x="207" y="149"/>
                      </a:lnTo>
                      <a:lnTo>
                        <a:pt x="200" y="129"/>
                      </a:lnTo>
                      <a:lnTo>
                        <a:pt x="189" y="102"/>
                      </a:lnTo>
                      <a:lnTo>
                        <a:pt x="195" y="134"/>
                      </a:lnTo>
                      <a:lnTo>
                        <a:pt x="198" y="162"/>
                      </a:lnTo>
                      <a:lnTo>
                        <a:pt x="198" y="185"/>
                      </a:lnTo>
                      <a:lnTo>
                        <a:pt x="197" y="204"/>
                      </a:lnTo>
                      <a:lnTo>
                        <a:pt x="193" y="222"/>
                      </a:lnTo>
                      <a:lnTo>
                        <a:pt x="186" y="243"/>
                      </a:lnTo>
                      <a:lnTo>
                        <a:pt x="169" y="289"/>
                      </a:lnTo>
                      <a:lnTo>
                        <a:pt x="170" y="261"/>
                      </a:lnTo>
                      <a:lnTo>
                        <a:pt x="175" y="237"/>
                      </a:lnTo>
                      <a:lnTo>
                        <a:pt x="178" y="220"/>
                      </a:lnTo>
                      <a:lnTo>
                        <a:pt x="166" y="240"/>
                      </a:lnTo>
                      <a:lnTo>
                        <a:pt x="158" y="256"/>
                      </a:lnTo>
                      <a:lnTo>
                        <a:pt x="152" y="277"/>
                      </a:lnTo>
                      <a:lnTo>
                        <a:pt x="148" y="302"/>
                      </a:lnTo>
                      <a:lnTo>
                        <a:pt x="149" y="334"/>
                      </a:lnTo>
                      <a:lnTo>
                        <a:pt x="153" y="364"/>
                      </a:lnTo>
                      <a:lnTo>
                        <a:pt x="160" y="388"/>
                      </a:lnTo>
                      <a:lnTo>
                        <a:pt x="171" y="420"/>
                      </a:lnTo>
                      <a:lnTo>
                        <a:pt x="187" y="460"/>
                      </a:lnTo>
                      <a:lnTo>
                        <a:pt x="161" y="413"/>
                      </a:lnTo>
                      <a:lnTo>
                        <a:pt x="155" y="401"/>
                      </a:lnTo>
                      <a:lnTo>
                        <a:pt x="143" y="382"/>
                      </a:lnTo>
                      <a:lnTo>
                        <a:pt x="128" y="364"/>
                      </a:lnTo>
                      <a:lnTo>
                        <a:pt x="106" y="342"/>
                      </a:lnTo>
                      <a:lnTo>
                        <a:pt x="120" y="367"/>
                      </a:lnTo>
                      <a:lnTo>
                        <a:pt x="128" y="382"/>
                      </a:lnTo>
                      <a:lnTo>
                        <a:pt x="135" y="397"/>
                      </a:lnTo>
                      <a:lnTo>
                        <a:pt x="149" y="430"/>
                      </a:lnTo>
                      <a:lnTo>
                        <a:pt x="159" y="457"/>
                      </a:lnTo>
                      <a:lnTo>
                        <a:pt x="174" y="502"/>
                      </a:lnTo>
                      <a:lnTo>
                        <a:pt x="155" y="494"/>
                      </a:lnTo>
                      <a:lnTo>
                        <a:pt x="139" y="481"/>
                      </a:lnTo>
                      <a:lnTo>
                        <a:pt x="122" y="463"/>
                      </a:lnTo>
                      <a:lnTo>
                        <a:pt x="107" y="446"/>
                      </a:lnTo>
                      <a:lnTo>
                        <a:pt x="88" y="425"/>
                      </a:lnTo>
                      <a:lnTo>
                        <a:pt x="74" y="413"/>
                      </a:lnTo>
                      <a:lnTo>
                        <a:pt x="62" y="403"/>
                      </a:lnTo>
                      <a:lnTo>
                        <a:pt x="49" y="395"/>
                      </a:lnTo>
                      <a:lnTo>
                        <a:pt x="36" y="392"/>
                      </a:lnTo>
                      <a:lnTo>
                        <a:pt x="23" y="390"/>
                      </a:lnTo>
                      <a:lnTo>
                        <a:pt x="0" y="390"/>
                      </a:lnTo>
                      <a:lnTo>
                        <a:pt x="20" y="395"/>
                      </a:lnTo>
                      <a:lnTo>
                        <a:pt x="30" y="398"/>
                      </a:lnTo>
                      <a:lnTo>
                        <a:pt x="42" y="405"/>
                      </a:lnTo>
                      <a:lnTo>
                        <a:pt x="56" y="417"/>
                      </a:lnTo>
                      <a:lnTo>
                        <a:pt x="66" y="427"/>
                      </a:lnTo>
                      <a:lnTo>
                        <a:pt x="82" y="450"/>
                      </a:lnTo>
                      <a:lnTo>
                        <a:pt x="98" y="475"/>
                      </a:lnTo>
                      <a:lnTo>
                        <a:pt x="118" y="504"/>
                      </a:lnTo>
                      <a:lnTo>
                        <a:pt x="132" y="517"/>
                      </a:lnTo>
                      <a:lnTo>
                        <a:pt x="153" y="530"/>
                      </a:lnTo>
                      <a:lnTo>
                        <a:pt x="188" y="548"/>
                      </a:lnTo>
                      <a:lnTo>
                        <a:pt x="217" y="555"/>
                      </a:lnTo>
                      <a:lnTo>
                        <a:pt x="253" y="55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4890240" y="3780000"/>
                  <a:ext cx="549000" cy="838080"/>
                </a:xfrm>
                <a:custGeom>
                  <a:avLst/>
                  <a:gdLst/>
                  <a:ahLst/>
                  <a:rect l="l" t="t" r="r" b="b"/>
                  <a:pathLst>
                    <a:path w="389" h="528">
                      <a:moveTo>
                        <a:pt x="241" y="522"/>
                      </a:moveTo>
                      <a:lnTo>
                        <a:pt x="256" y="519"/>
                      </a:lnTo>
                      <a:lnTo>
                        <a:pt x="281" y="510"/>
                      </a:lnTo>
                      <a:lnTo>
                        <a:pt x="299" y="498"/>
                      </a:lnTo>
                      <a:lnTo>
                        <a:pt x="309" y="485"/>
                      </a:lnTo>
                      <a:lnTo>
                        <a:pt x="317" y="470"/>
                      </a:lnTo>
                      <a:lnTo>
                        <a:pt x="323" y="456"/>
                      </a:lnTo>
                      <a:lnTo>
                        <a:pt x="329" y="437"/>
                      </a:lnTo>
                      <a:lnTo>
                        <a:pt x="332" y="413"/>
                      </a:lnTo>
                      <a:lnTo>
                        <a:pt x="334" y="388"/>
                      </a:lnTo>
                      <a:lnTo>
                        <a:pt x="335" y="370"/>
                      </a:lnTo>
                      <a:lnTo>
                        <a:pt x="337" y="356"/>
                      </a:lnTo>
                      <a:lnTo>
                        <a:pt x="340" y="346"/>
                      </a:lnTo>
                      <a:lnTo>
                        <a:pt x="344" y="335"/>
                      </a:lnTo>
                      <a:lnTo>
                        <a:pt x="349" y="323"/>
                      </a:lnTo>
                      <a:lnTo>
                        <a:pt x="355" y="314"/>
                      </a:lnTo>
                      <a:lnTo>
                        <a:pt x="361" y="305"/>
                      </a:lnTo>
                      <a:lnTo>
                        <a:pt x="365" y="299"/>
                      </a:lnTo>
                      <a:lnTo>
                        <a:pt x="372" y="293"/>
                      </a:lnTo>
                      <a:lnTo>
                        <a:pt x="388" y="282"/>
                      </a:lnTo>
                      <a:lnTo>
                        <a:pt x="369" y="288"/>
                      </a:lnTo>
                      <a:lnTo>
                        <a:pt x="357" y="293"/>
                      </a:lnTo>
                      <a:lnTo>
                        <a:pt x="344" y="301"/>
                      </a:lnTo>
                      <a:lnTo>
                        <a:pt x="335" y="309"/>
                      </a:lnTo>
                      <a:lnTo>
                        <a:pt x="326" y="318"/>
                      </a:lnTo>
                      <a:lnTo>
                        <a:pt x="318" y="329"/>
                      </a:lnTo>
                      <a:lnTo>
                        <a:pt x="308" y="344"/>
                      </a:lnTo>
                      <a:lnTo>
                        <a:pt x="301" y="355"/>
                      </a:lnTo>
                      <a:lnTo>
                        <a:pt x="294" y="366"/>
                      </a:lnTo>
                      <a:lnTo>
                        <a:pt x="301" y="349"/>
                      </a:lnTo>
                      <a:lnTo>
                        <a:pt x="305" y="334"/>
                      </a:lnTo>
                      <a:lnTo>
                        <a:pt x="308" y="318"/>
                      </a:lnTo>
                      <a:lnTo>
                        <a:pt x="309" y="297"/>
                      </a:lnTo>
                      <a:lnTo>
                        <a:pt x="309" y="275"/>
                      </a:lnTo>
                      <a:lnTo>
                        <a:pt x="306" y="255"/>
                      </a:lnTo>
                      <a:lnTo>
                        <a:pt x="303" y="235"/>
                      </a:lnTo>
                      <a:lnTo>
                        <a:pt x="299" y="218"/>
                      </a:lnTo>
                      <a:lnTo>
                        <a:pt x="294" y="201"/>
                      </a:lnTo>
                      <a:lnTo>
                        <a:pt x="288" y="185"/>
                      </a:lnTo>
                      <a:lnTo>
                        <a:pt x="278" y="164"/>
                      </a:lnTo>
                      <a:lnTo>
                        <a:pt x="270" y="150"/>
                      </a:lnTo>
                      <a:lnTo>
                        <a:pt x="260" y="130"/>
                      </a:lnTo>
                      <a:lnTo>
                        <a:pt x="250" y="109"/>
                      </a:lnTo>
                      <a:lnTo>
                        <a:pt x="243" y="88"/>
                      </a:lnTo>
                      <a:lnTo>
                        <a:pt x="239" y="74"/>
                      </a:lnTo>
                      <a:lnTo>
                        <a:pt x="236" y="58"/>
                      </a:lnTo>
                      <a:lnTo>
                        <a:pt x="234" y="42"/>
                      </a:lnTo>
                      <a:lnTo>
                        <a:pt x="234" y="29"/>
                      </a:lnTo>
                      <a:lnTo>
                        <a:pt x="235" y="17"/>
                      </a:lnTo>
                      <a:lnTo>
                        <a:pt x="236" y="0"/>
                      </a:lnTo>
                      <a:lnTo>
                        <a:pt x="230" y="22"/>
                      </a:lnTo>
                      <a:lnTo>
                        <a:pt x="226" y="41"/>
                      </a:lnTo>
                      <a:lnTo>
                        <a:pt x="224" y="57"/>
                      </a:lnTo>
                      <a:lnTo>
                        <a:pt x="223" y="74"/>
                      </a:lnTo>
                      <a:lnTo>
                        <a:pt x="225" y="94"/>
                      </a:lnTo>
                      <a:lnTo>
                        <a:pt x="229" y="110"/>
                      </a:lnTo>
                      <a:lnTo>
                        <a:pt x="234" y="126"/>
                      </a:lnTo>
                      <a:lnTo>
                        <a:pt x="239" y="139"/>
                      </a:lnTo>
                      <a:lnTo>
                        <a:pt x="244" y="157"/>
                      </a:lnTo>
                      <a:lnTo>
                        <a:pt x="245" y="175"/>
                      </a:lnTo>
                      <a:lnTo>
                        <a:pt x="247" y="193"/>
                      </a:lnTo>
                      <a:lnTo>
                        <a:pt x="248" y="212"/>
                      </a:lnTo>
                      <a:lnTo>
                        <a:pt x="248" y="229"/>
                      </a:lnTo>
                      <a:lnTo>
                        <a:pt x="245" y="257"/>
                      </a:lnTo>
                      <a:lnTo>
                        <a:pt x="240" y="275"/>
                      </a:lnTo>
                      <a:lnTo>
                        <a:pt x="228" y="300"/>
                      </a:lnTo>
                      <a:lnTo>
                        <a:pt x="219" y="325"/>
                      </a:lnTo>
                      <a:lnTo>
                        <a:pt x="210" y="350"/>
                      </a:lnTo>
                      <a:lnTo>
                        <a:pt x="204" y="336"/>
                      </a:lnTo>
                      <a:lnTo>
                        <a:pt x="200" y="321"/>
                      </a:lnTo>
                      <a:lnTo>
                        <a:pt x="198" y="305"/>
                      </a:lnTo>
                      <a:lnTo>
                        <a:pt x="196" y="280"/>
                      </a:lnTo>
                      <a:lnTo>
                        <a:pt x="201" y="237"/>
                      </a:lnTo>
                      <a:lnTo>
                        <a:pt x="203" y="224"/>
                      </a:lnTo>
                      <a:lnTo>
                        <a:pt x="203" y="209"/>
                      </a:lnTo>
                      <a:lnTo>
                        <a:pt x="203" y="195"/>
                      </a:lnTo>
                      <a:lnTo>
                        <a:pt x="201" y="176"/>
                      </a:lnTo>
                      <a:lnTo>
                        <a:pt x="198" y="157"/>
                      </a:lnTo>
                      <a:lnTo>
                        <a:pt x="192" y="140"/>
                      </a:lnTo>
                      <a:lnTo>
                        <a:pt x="181" y="115"/>
                      </a:lnTo>
                      <a:lnTo>
                        <a:pt x="187" y="145"/>
                      </a:lnTo>
                      <a:lnTo>
                        <a:pt x="190" y="169"/>
                      </a:lnTo>
                      <a:lnTo>
                        <a:pt x="190" y="190"/>
                      </a:lnTo>
                      <a:lnTo>
                        <a:pt x="188" y="208"/>
                      </a:lnTo>
                      <a:lnTo>
                        <a:pt x="184" y="224"/>
                      </a:lnTo>
                      <a:lnTo>
                        <a:pt x="178" y="243"/>
                      </a:lnTo>
                      <a:lnTo>
                        <a:pt x="163" y="285"/>
                      </a:lnTo>
                      <a:lnTo>
                        <a:pt x="163" y="259"/>
                      </a:lnTo>
                      <a:lnTo>
                        <a:pt x="163" y="236"/>
                      </a:lnTo>
                      <a:lnTo>
                        <a:pt x="163" y="201"/>
                      </a:lnTo>
                      <a:lnTo>
                        <a:pt x="153" y="236"/>
                      </a:lnTo>
                      <a:lnTo>
                        <a:pt x="149" y="254"/>
                      </a:lnTo>
                      <a:lnTo>
                        <a:pt x="146" y="274"/>
                      </a:lnTo>
                      <a:lnTo>
                        <a:pt x="143" y="297"/>
                      </a:lnTo>
                      <a:lnTo>
                        <a:pt x="144" y="326"/>
                      </a:lnTo>
                      <a:lnTo>
                        <a:pt x="148" y="353"/>
                      </a:lnTo>
                      <a:lnTo>
                        <a:pt x="154" y="376"/>
                      </a:lnTo>
                      <a:lnTo>
                        <a:pt x="164" y="404"/>
                      </a:lnTo>
                      <a:lnTo>
                        <a:pt x="179" y="440"/>
                      </a:lnTo>
                      <a:lnTo>
                        <a:pt x="155" y="398"/>
                      </a:lnTo>
                      <a:lnTo>
                        <a:pt x="149" y="387"/>
                      </a:lnTo>
                      <a:lnTo>
                        <a:pt x="138" y="370"/>
                      </a:lnTo>
                      <a:lnTo>
                        <a:pt x="125" y="353"/>
                      </a:lnTo>
                      <a:lnTo>
                        <a:pt x="97" y="323"/>
                      </a:lnTo>
                      <a:lnTo>
                        <a:pt x="117" y="356"/>
                      </a:lnTo>
                      <a:lnTo>
                        <a:pt x="124" y="369"/>
                      </a:lnTo>
                      <a:lnTo>
                        <a:pt x="131" y="383"/>
                      </a:lnTo>
                      <a:lnTo>
                        <a:pt x="143" y="414"/>
                      </a:lnTo>
                      <a:lnTo>
                        <a:pt x="153" y="438"/>
                      </a:lnTo>
                      <a:lnTo>
                        <a:pt x="167" y="478"/>
                      </a:lnTo>
                      <a:lnTo>
                        <a:pt x="150" y="472"/>
                      </a:lnTo>
                      <a:lnTo>
                        <a:pt x="135" y="459"/>
                      </a:lnTo>
                      <a:lnTo>
                        <a:pt x="119" y="443"/>
                      </a:lnTo>
                      <a:lnTo>
                        <a:pt x="105" y="428"/>
                      </a:lnTo>
                      <a:lnTo>
                        <a:pt x="87" y="409"/>
                      </a:lnTo>
                      <a:lnTo>
                        <a:pt x="75" y="398"/>
                      </a:lnTo>
                      <a:lnTo>
                        <a:pt x="63" y="389"/>
                      </a:lnTo>
                      <a:lnTo>
                        <a:pt x="52" y="381"/>
                      </a:lnTo>
                      <a:lnTo>
                        <a:pt x="41" y="378"/>
                      </a:lnTo>
                      <a:lnTo>
                        <a:pt x="28" y="375"/>
                      </a:lnTo>
                      <a:lnTo>
                        <a:pt x="13" y="373"/>
                      </a:lnTo>
                      <a:lnTo>
                        <a:pt x="0" y="371"/>
                      </a:lnTo>
                      <a:lnTo>
                        <a:pt x="25" y="380"/>
                      </a:lnTo>
                      <a:lnTo>
                        <a:pt x="45" y="391"/>
                      </a:lnTo>
                      <a:lnTo>
                        <a:pt x="58" y="401"/>
                      </a:lnTo>
                      <a:lnTo>
                        <a:pt x="67" y="410"/>
                      </a:lnTo>
                      <a:lnTo>
                        <a:pt x="83" y="432"/>
                      </a:lnTo>
                      <a:lnTo>
                        <a:pt x="97" y="454"/>
                      </a:lnTo>
                      <a:lnTo>
                        <a:pt x="115" y="481"/>
                      </a:lnTo>
                      <a:lnTo>
                        <a:pt x="129" y="492"/>
                      </a:lnTo>
                      <a:lnTo>
                        <a:pt x="148" y="505"/>
                      </a:lnTo>
                      <a:lnTo>
                        <a:pt x="180" y="521"/>
                      </a:lnTo>
                      <a:lnTo>
                        <a:pt x="208" y="527"/>
                      </a:lnTo>
                      <a:lnTo>
                        <a:pt x="241" y="52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4899960" y="3768840"/>
                  <a:ext cx="544680" cy="855720"/>
                </a:xfrm>
                <a:custGeom>
                  <a:avLst/>
                  <a:gdLst/>
                  <a:ahLst/>
                  <a:rect l="l" t="t" r="r" b="b"/>
                  <a:pathLst>
                    <a:path w="386" h="539">
                      <a:moveTo>
                        <a:pt x="227" y="533"/>
                      </a:moveTo>
                      <a:lnTo>
                        <a:pt x="243" y="530"/>
                      </a:lnTo>
                      <a:lnTo>
                        <a:pt x="267" y="521"/>
                      </a:lnTo>
                      <a:lnTo>
                        <a:pt x="284" y="509"/>
                      </a:lnTo>
                      <a:lnTo>
                        <a:pt x="294" y="495"/>
                      </a:lnTo>
                      <a:lnTo>
                        <a:pt x="302" y="479"/>
                      </a:lnTo>
                      <a:lnTo>
                        <a:pt x="308" y="465"/>
                      </a:lnTo>
                      <a:lnTo>
                        <a:pt x="313" y="447"/>
                      </a:lnTo>
                      <a:lnTo>
                        <a:pt x="316" y="422"/>
                      </a:lnTo>
                      <a:lnTo>
                        <a:pt x="318" y="396"/>
                      </a:lnTo>
                      <a:lnTo>
                        <a:pt x="319" y="378"/>
                      </a:lnTo>
                      <a:lnTo>
                        <a:pt x="321" y="363"/>
                      </a:lnTo>
                      <a:lnTo>
                        <a:pt x="324" y="353"/>
                      </a:lnTo>
                      <a:lnTo>
                        <a:pt x="328" y="342"/>
                      </a:lnTo>
                      <a:lnTo>
                        <a:pt x="333" y="329"/>
                      </a:lnTo>
                      <a:lnTo>
                        <a:pt x="338" y="321"/>
                      </a:lnTo>
                      <a:lnTo>
                        <a:pt x="344" y="311"/>
                      </a:lnTo>
                      <a:lnTo>
                        <a:pt x="348" y="305"/>
                      </a:lnTo>
                      <a:lnTo>
                        <a:pt x="355" y="299"/>
                      </a:lnTo>
                      <a:lnTo>
                        <a:pt x="385" y="279"/>
                      </a:lnTo>
                      <a:lnTo>
                        <a:pt x="368" y="285"/>
                      </a:lnTo>
                      <a:lnTo>
                        <a:pt x="352" y="293"/>
                      </a:lnTo>
                      <a:lnTo>
                        <a:pt x="340" y="300"/>
                      </a:lnTo>
                      <a:lnTo>
                        <a:pt x="328" y="308"/>
                      </a:lnTo>
                      <a:lnTo>
                        <a:pt x="319" y="315"/>
                      </a:lnTo>
                      <a:lnTo>
                        <a:pt x="310" y="325"/>
                      </a:lnTo>
                      <a:lnTo>
                        <a:pt x="302" y="336"/>
                      </a:lnTo>
                      <a:lnTo>
                        <a:pt x="293" y="350"/>
                      </a:lnTo>
                      <a:lnTo>
                        <a:pt x="286" y="362"/>
                      </a:lnTo>
                      <a:lnTo>
                        <a:pt x="279" y="374"/>
                      </a:lnTo>
                      <a:lnTo>
                        <a:pt x="286" y="357"/>
                      </a:lnTo>
                      <a:lnTo>
                        <a:pt x="289" y="341"/>
                      </a:lnTo>
                      <a:lnTo>
                        <a:pt x="293" y="325"/>
                      </a:lnTo>
                      <a:lnTo>
                        <a:pt x="294" y="303"/>
                      </a:lnTo>
                      <a:lnTo>
                        <a:pt x="293" y="280"/>
                      </a:lnTo>
                      <a:lnTo>
                        <a:pt x="291" y="260"/>
                      </a:lnTo>
                      <a:lnTo>
                        <a:pt x="288" y="240"/>
                      </a:lnTo>
                      <a:lnTo>
                        <a:pt x="284" y="222"/>
                      </a:lnTo>
                      <a:lnTo>
                        <a:pt x="279" y="206"/>
                      </a:lnTo>
                      <a:lnTo>
                        <a:pt x="273" y="188"/>
                      </a:lnTo>
                      <a:lnTo>
                        <a:pt x="263" y="167"/>
                      </a:lnTo>
                      <a:lnTo>
                        <a:pt x="256" y="154"/>
                      </a:lnTo>
                      <a:lnTo>
                        <a:pt x="246" y="133"/>
                      </a:lnTo>
                      <a:lnTo>
                        <a:pt x="237" y="111"/>
                      </a:lnTo>
                      <a:lnTo>
                        <a:pt x="230" y="90"/>
                      </a:lnTo>
                      <a:lnTo>
                        <a:pt x="226" y="75"/>
                      </a:lnTo>
                      <a:lnTo>
                        <a:pt x="223" y="59"/>
                      </a:lnTo>
                      <a:lnTo>
                        <a:pt x="222" y="42"/>
                      </a:lnTo>
                      <a:lnTo>
                        <a:pt x="222" y="29"/>
                      </a:lnTo>
                      <a:lnTo>
                        <a:pt x="222" y="17"/>
                      </a:lnTo>
                      <a:lnTo>
                        <a:pt x="223" y="0"/>
                      </a:lnTo>
                      <a:lnTo>
                        <a:pt x="217" y="22"/>
                      </a:lnTo>
                      <a:lnTo>
                        <a:pt x="213" y="42"/>
                      </a:lnTo>
                      <a:lnTo>
                        <a:pt x="211" y="58"/>
                      </a:lnTo>
                      <a:lnTo>
                        <a:pt x="211" y="75"/>
                      </a:lnTo>
                      <a:lnTo>
                        <a:pt x="212" y="96"/>
                      </a:lnTo>
                      <a:lnTo>
                        <a:pt x="217" y="113"/>
                      </a:lnTo>
                      <a:lnTo>
                        <a:pt x="221" y="128"/>
                      </a:lnTo>
                      <a:lnTo>
                        <a:pt x="227" y="142"/>
                      </a:lnTo>
                      <a:lnTo>
                        <a:pt x="231" y="160"/>
                      </a:lnTo>
                      <a:lnTo>
                        <a:pt x="233" y="178"/>
                      </a:lnTo>
                      <a:lnTo>
                        <a:pt x="233" y="196"/>
                      </a:lnTo>
                      <a:lnTo>
                        <a:pt x="235" y="216"/>
                      </a:lnTo>
                      <a:lnTo>
                        <a:pt x="235" y="234"/>
                      </a:lnTo>
                      <a:lnTo>
                        <a:pt x="232" y="263"/>
                      </a:lnTo>
                      <a:lnTo>
                        <a:pt x="227" y="280"/>
                      </a:lnTo>
                      <a:lnTo>
                        <a:pt x="216" y="306"/>
                      </a:lnTo>
                      <a:lnTo>
                        <a:pt x="206" y="332"/>
                      </a:lnTo>
                      <a:lnTo>
                        <a:pt x="198" y="358"/>
                      </a:lnTo>
                      <a:lnTo>
                        <a:pt x="192" y="343"/>
                      </a:lnTo>
                      <a:lnTo>
                        <a:pt x="188" y="328"/>
                      </a:lnTo>
                      <a:lnTo>
                        <a:pt x="186" y="312"/>
                      </a:lnTo>
                      <a:lnTo>
                        <a:pt x="185" y="286"/>
                      </a:lnTo>
                      <a:lnTo>
                        <a:pt x="189" y="242"/>
                      </a:lnTo>
                      <a:lnTo>
                        <a:pt x="191" y="228"/>
                      </a:lnTo>
                      <a:lnTo>
                        <a:pt x="191" y="213"/>
                      </a:lnTo>
                      <a:lnTo>
                        <a:pt x="191" y="199"/>
                      </a:lnTo>
                      <a:lnTo>
                        <a:pt x="189" y="179"/>
                      </a:lnTo>
                      <a:lnTo>
                        <a:pt x="186" y="160"/>
                      </a:lnTo>
                      <a:lnTo>
                        <a:pt x="180" y="142"/>
                      </a:lnTo>
                      <a:lnTo>
                        <a:pt x="170" y="117"/>
                      </a:lnTo>
                      <a:lnTo>
                        <a:pt x="176" y="147"/>
                      </a:lnTo>
                      <a:lnTo>
                        <a:pt x="179" y="173"/>
                      </a:lnTo>
                      <a:lnTo>
                        <a:pt x="178" y="194"/>
                      </a:lnTo>
                      <a:lnTo>
                        <a:pt x="177" y="212"/>
                      </a:lnTo>
                      <a:lnTo>
                        <a:pt x="173" y="228"/>
                      </a:lnTo>
                      <a:lnTo>
                        <a:pt x="167" y="248"/>
                      </a:lnTo>
                      <a:lnTo>
                        <a:pt x="152" y="291"/>
                      </a:lnTo>
                      <a:lnTo>
                        <a:pt x="151" y="264"/>
                      </a:lnTo>
                      <a:lnTo>
                        <a:pt x="152" y="241"/>
                      </a:lnTo>
                      <a:lnTo>
                        <a:pt x="154" y="220"/>
                      </a:lnTo>
                      <a:lnTo>
                        <a:pt x="145" y="241"/>
                      </a:lnTo>
                      <a:lnTo>
                        <a:pt x="139" y="260"/>
                      </a:lnTo>
                      <a:lnTo>
                        <a:pt x="136" y="280"/>
                      </a:lnTo>
                      <a:lnTo>
                        <a:pt x="133" y="303"/>
                      </a:lnTo>
                      <a:lnTo>
                        <a:pt x="134" y="332"/>
                      </a:lnTo>
                      <a:lnTo>
                        <a:pt x="138" y="361"/>
                      </a:lnTo>
                      <a:lnTo>
                        <a:pt x="144" y="383"/>
                      </a:lnTo>
                      <a:lnTo>
                        <a:pt x="153" y="413"/>
                      </a:lnTo>
                      <a:lnTo>
                        <a:pt x="168" y="450"/>
                      </a:lnTo>
                      <a:lnTo>
                        <a:pt x="145" y="406"/>
                      </a:lnTo>
                      <a:lnTo>
                        <a:pt x="139" y="395"/>
                      </a:lnTo>
                      <a:lnTo>
                        <a:pt x="129" y="378"/>
                      </a:lnTo>
                      <a:lnTo>
                        <a:pt x="116" y="361"/>
                      </a:lnTo>
                      <a:lnTo>
                        <a:pt x="96" y="339"/>
                      </a:lnTo>
                      <a:lnTo>
                        <a:pt x="108" y="363"/>
                      </a:lnTo>
                      <a:lnTo>
                        <a:pt x="115" y="377"/>
                      </a:lnTo>
                      <a:lnTo>
                        <a:pt x="121" y="391"/>
                      </a:lnTo>
                      <a:lnTo>
                        <a:pt x="134" y="422"/>
                      </a:lnTo>
                      <a:lnTo>
                        <a:pt x="143" y="447"/>
                      </a:lnTo>
                      <a:lnTo>
                        <a:pt x="156" y="488"/>
                      </a:lnTo>
                      <a:lnTo>
                        <a:pt x="140" y="482"/>
                      </a:lnTo>
                      <a:lnTo>
                        <a:pt x="125" y="469"/>
                      </a:lnTo>
                      <a:lnTo>
                        <a:pt x="109" y="453"/>
                      </a:lnTo>
                      <a:lnTo>
                        <a:pt x="96" y="437"/>
                      </a:lnTo>
                      <a:lnTo>
                        <a:pt x="79" y="418"/>
                      </a:lnTo>
                      <a:lnTo>
                        <a:pt x="66" y="406"/>
                      </a:lnTo>
                      <a:lnTo>
                        <a:pt x="55" y="397"/>
                      </a:lnTo>
                      <a:lnTo>
                        <a:pt x="45" y="390"/>
                      </a:lnTo>
                      <a:lnTo>
                        <a:pt x="33" y="386"/>
                      </a:lnTo>
                      <a:lnTo>
                        <a:pt x="21" y="383"/>
                      </a:lnTo>
                      <a:lnTo>
                        <a:pt x="0" y="381"/>
                      </a:lnTo>
                      <a:lnTo>
                        <a:pt x="19" y="388"/>
                      </a:lnTo>
                      <a:lnTo>
                        <a:pt x="38" y="399"/>
                      </a:lnTo>
                      <a:lnTo>
                        <a:pt x="51" y="410"/>
                      </a:lnTo>
                      <a:lnTo>
                        <a:pt x="59" y="419"/>
                      </a:lnTo>
                      <a:lnTo>
                        <a:pt x="74" y="440"/>
                      </a:lnTo>
                      <a:lnTo>
                        <a:pt x="88" y="464"/>
                      </a:lnTo>
                      <a:lnTo>
                        <a:pt x="106" y="491"/>
                      </a:lnTo>
                      <a:lnTo>
                        <a:pt x="119" y="503"/>
                      </a:lnTo>
                      <a:lnTo>
                        <a:pt x="138" y="515"/>
                      </a:lnTo>
                      <a:lnTo>
                        <a:pt x="169" y="532"/>
                      </a:lnTo>
                      <a:lnTo>
                        <a:pt x="196" y="538"/>
                      </a:lnTo>
                      <a:lnTo>
                        <a:pt x="227" y="53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4898880" y="3805200"/>
                  <a:ext cx="544680" cy="816120"/>
                </a:xfrm>
                <a:custGeom>
                  <a:avLst/>
                  <a:gdLst/>
                  <a:ahLst/>
                  <a:rect l="l" t="t" r="r" b="b"/>
                  <a:pathLst>
                    <a:path w="386" h="514">
                      <a:moveTo>
                        <a:pt x="237" y="508"/>
                      </a:moveTo>
                      <a:lnTo>
                        <a:pt x="253" y="505"/>
                      </a:lnTo>
                      <a:lnTo>
                        <a:pt x="277" y="497"/>
                      </a:lnTo>
                      <a:lnTo>
                        <a:pt x="295" y="485"/>
                      </a:lnTo>
                      <a:lnTo>
                        <a:pt x="306" y="471"/>
                      </a:lnTo>
                      <a:lnTo>
                        <a:pt x="314" y="457"/>
                      </a:lnTo>
                      <a:lnTo>
                        <a:pt x="320" y="443"/>
                      </a:lnTo>
                      <a:lnTo>
                        <a:pt x="326" y="425"/>
                      </a:lnTo>
                      <a:lnTo>
                        <a:pt x="329" y="402"/>
                      </a:lnTo>
                      <a:lnTo>
                        <a:pt x="332" y="377"/>
                      </a:lnTo>
                      <a:lnTo>
                        <a:pt x="332" y="360"/>
                      </a:lnTo>
                      <a:lnTo>
                        <a:pt x="334" y="346"/>
                      </a:lnTo>
                      <a:lnTo>
                        <a:pt x="336" y="337"/>
                      </a:lnTo>
                      <a:lnTo>
                        <a:pt x="341" y="326"/>
                      </a:lnTo>
                      <a:lnTo>
                        <a:pt x="346" y="314"/>
                      </a:lnTo>
                      <a:lnTo>
                        <a:pt x="351" y="305"/>
                      </a:lnTo>
                      <a:lnTo>
                        <a:pt x="358" y="297"/>
                      </a:lnTo>
                      <a:lnTo>
                        <a:pt x="362" y="291"/>
                      </a:lnTo>
                      <a:lnTo>
                        <a:pt x="369" y="285"/>
                      </a:lnTo>
                      <a:lnTo>
                        <a:pt x="385" y="274"/>
                      </a:lnTo>
                      <a:lnTo>
                        <a:pt x="366" y="280"/>
                      </a:lnTo>
                      <a:lnTo>
                        <a:pt x="353" y="285"/>
                      </a:lnTo>
                      <a:lnTo>
                        <a:pt x="341" y="293"/>
                      </a:lnTo>
                      <a:lnTo>
                        <a:pt x="332" y="301"/>
                      </a:lnTo>
                      <a:lnTo>
                        <a:pt x="322" y="309"/>
                      </a:lnTo>
                      <a:lnTo>
                        <a:pt x="314" y="320"/>
                      </a:lnTo>
                      <a:lnTo>
                        <a:pt x="305" y="334"/>
                      </a:lnTo>
                      <a:lnTo>
                        <a:pt x="298" y="345"/>
                      </a:lnTo>
                      <a:lnTo>
                        <a:pt x="291" y="357"/>
                      </a:lnTo>
                      <a:lnTo>
                        <a:pt x="297" y="340"/>
                      </a:lnTo>
                      <a:lnTo>
                        <a:pt x="301" y="325"/>
                      </a:lnTo>
                      <a:lnTo>
                        <a:pt x="305" y="309"/>
                      </a:lnTo>
                      <a:lnTo>
                        <a:pt x="306" y="288"/>
                      </a:lnTo>
                      <a:lnTo>
                        <a:pt x="306" y="268"/>
                      </a:lnTo>
                      <a:lnTo>
                        <a:pt x="303" y="248"/>
                      </a:lnTo>
                      <a:lnTo>
                        <a:pt x="299" y="228"/>
                      </a:lnTo>
                      <a:lnTo>
                        <a:pt x="295" y="212"/>
                      </a:lnTo>
                      <a:lnTo>
                        <a:pt x="291" y="196"/>
                      </a:lnTo>
                      <a:lnTo>
                        <a:pt x="284" y="180"/>
                      </a:lnTo>
                      <a:lnTo>
                        <a:pt x="274" y="160"/>
                      </a:lnTo>
                      <a:lnTo>
                        <a:pt x="267" y="146"/>
                      </a:lnTo>
                      <a:lnTo>
                        <a:pt x="256" y="127"/>
                      </a:lnTo>
                      <a:lnTo>
                        <a:pt x="247" y="105"/>
                      </a:lnTo>
                      <a:lnTo>
                        <a:pt x="240" y="85"/>
                      </a:lnTo>
                      <a:lnTo>
                        <a:pt x="235" y="72"/>
                      </a:lnTo>
                      <a:lnTo>
                        <a:pt x="232" y="57"/>
                      </a:lnTo>
                      <a:lnTo>
                        <a:pt x="231" y="41"/>
                      </a:lnTo>
                      <a:lnTo>
                        <a:pt x="231" y="28"/>
                      </a:lnTo>
                      <a:lnTo>
                        <a:pt x="231" y="16"/>
                      </a:lnTo>
                      <a:lnTo>
                        <a:pt x="232" y="0"/>
                      </a:lnTo>
                      <a:lnTo>
                        <a:pt x="226" y="21"/>
                      </a:lnTo>
                      <a:lnTo>
                        <a:pt x="222" y="40"/>
                      </a:lnTo>
                      <a:lnTo>
                        <a:pt x="220" y="56"/>
                      </a:lnTo>
                      <a:lnTo>
                        <a:pt x="219" y="72"/>
                      </a:lnTo>
                      <a:lnTo>
                        <a:pt x="221" y="92"/>
                      </a:lnTo>
                      <a:lnTo>
                        <a:pt x="226" y="108"/>
                      </a:lnTo>
                      <a:lnTo>
                        <a:pt x="231" y="122"/>
                      </a:lnTo>
                      <a:lnTo>
                        <a:pt x="236" y="135"/>
                      </a:lnTo>
                      <a:lnTo>
                        <a:pt x="240" y="152"/>
                      </a:lnTo>
                      <a:lnTo>
                        <a:pt x="242" y="170"/>
                      </a:lnTo>
                      <a:lnTo>
                        <a:pt x="243" y="188"/>
                      </a:lnTo>
                      <a:lnTo>
                        <a:pt x="245" y="206"/>
                      </a:lnTo>
                      <a:lnTo>
                        <a:pt x="245" y="223"/>
                      </a:lnTo>
                      <a:lnTo>
                        <a:pt x="242" y="250"/>
                      </a:lnTo>
                      <a:lnTo>
                        <a:pt x="237" y="268"/>
                      </a:lnTo>
                      <a:lnTo>
                        <a:pt x="224" y="292"/>
                      </a:lnTo>
                      <a:lnTo>
                        <a:pt x="215" y="316"/>
                      </a:lnTo>
                      <a:lnTo>
                        <a:pt x="206" y="341"/>
                      </a:lnTo>
                      <a:lnTo>
                        <a:pt x="201" y="327"/>
                      </a:lnTo>
                      <a:lnTo>
                        <a:pt x="196" y="312"/>
                      </a:lnTo>
                      <a:lnTo>
                        <a:pt x="194" y="297"/>
                      </a:lnTo>
                      <a:lnTo>
                        <a:pt x="192" y="272"/>
                      </a:lnTo>
                      <a:lnTo>
                        <a:pt x="197" y="230"/>
                      </a:lnTo>
                      <a:lnTo>
                        <a:pt x="199" y="218"/>
                      </a:lnTo>
                      <a:lnTo>
                        <a:pt x="199" y="204"/>
                      </a:lnTo>
                      <a:lnTo>
                        <a:pt x="199" y="190"/>
                      </a:lnTo>
                      <a:lnTo>
                        <a:pt x="197" y="171"/>
                      </a:lnTo>
                      <a:lnTo>
                        <a:pt x="194" y="152"/>
                      </a:lnTo>
                      <a:lnTo>
                        <a:pt x="188" y="135"/>
                      </a:lnTo>
                      <a:lnTo>
                        <a:pt x="177" y="112"/>
                      </a:lnTo>
                      <a:lnTo>
                        <a:pt x="183" y="141"/>
                      </a:lnTo>
                      <a:lnTo>
                        <a:pt x="187" y="165"/>
                      </a:lnTo>
                      <a:lnTo>
                        <a:pt x="187" y="185"/>
                      </a:lnTo>
                      <a:lnTo>
                        <a:pt x="184" y="202"/>
                      </a:lnTo>
                      <a:lnTo>
                        <a:pt x="181" y="218"/>
                      </a:lnTo>
                      <a:lnTo>
                        <a:pt x="175" y="236"/>
                      </a:lnTo>
                      <a:lnTo>
                        <a:pt x="159" y="277"/>
                      </a:lnTo>
                      <a:lnTo>
                        <a:pt x="158" y="252"/>
                      </a:lnTo>
                      <a:lnTo>
                        <a:pt x="159" y="229"/>
                      </a:lnTo>
                      <a:lnTo>
                        <a:pt x="161" y="209"/>
                      </a:lnTo>
                      <a:lnTo>
                        <a:pt x="151" y="230"/>
                      </a:lnTo>
                      <a:lnTo>
                        <a:pt x="146" y="248"/>
                      </a:lnTo>
                      <a:lnTo>
                        <a:pt x="142" y="267"/>
                      </a:lnTo>
                      <a:lnTo>
                        <a:pt x="139" y="289"/>
                      </a:lnTo>
                      <a:lnTo>
                        <a:pt x="140" y="316"/>
                      </a:lnTo>
                      <a:lnTo>
                        <a:pt x="144" y="343"/>
                      </a:lnTo>
                      <a:lnTo>
                        <a:pt x="150" y="365"/>
                      </a:lnTo>
                      <a:lnTo>
                        <a:pt x="160" y="393"/>
                      </a:lnTo>
                      <a:lnTo>
                        <a:pt x="175" y="428"/>
                      </a:lnTo>
                      <a:lnTo>
                        <a:pt x="151" y="387"/>
                      </a:lnTo>
                      <a:lnTo>
                        <a:pt x="146" y="376"/>
                      </a:lnTo>
                      <a:lnTo>
                        <a:pt x="135" y="360"/>
                      </a:lnTo>
                      <a:lnTo>
                        <a:pt x="121" y="343"/>
                      </a:lnTo>
                      <a:lnTo>
                        <a:pt x="100" y="323"/>
                      </a:lnTo>
                      <a:lnTo>
                        <a:pt x="113" y="346"/>
                      </a:lnTo>
                      <a:lnTo>
                        <a:pt x="120" y="360"/>
                      </a:lnTo>
                      <a:lnTo>
                        <a:pt x="127" y="373"/>
                      </a:lnTo>
                      <a:lnTo>
                        <a:pt x="139" y="402"/>
                      </a:lnTo>
                      <a:lnTo>
                        <a:pt x="149" y="426"/>
                      </a:lnTo>
                      <a:lnTo>
                        <a:pt x="163" y="466"/>
                      </a:lnTo>
                      <a:lnTo>
                        <a:pt x="146" y="459"/>
                      </a:lnTo>
                      <a:lnTo>
                        <a:pt x="131" y="447"/>
                      </a:lnTo>
                      <a:lnTo>
                        <a:pt x="115" y="431"/>
                      </a:lnTo>
                      <a:lnTo>
                        <a:pt x="101" y="416"/>
                      </a:lnTo>
                      <a:lnTo>
                        <a:pt x="83" y="398"/>
                      </a:lnTo>
                      <a:lnTo>
                        <a:pt x="70" y="387"/>
                      </a:lnTo>
                      <a:lnTo>
                        <a:pt x="59" y="378"/>
                      </a:lnTo>
                      <a:lnTo>
                        <a:pt x="47" y="371"/>
                      </a:lnTo>
                      <a:lnTo>
                        <a:pt x="35" y="368"/>
                      </a:lnTo>
                      <a:lnTo>
                        <a:pt x="23" y="365"/>
                      </a:lnTo>
                      <a:lnTo>
                        <a:pt x="0" y="361"/>
                      </a:lnTo>
                      <a:lnTo>
                        <a:pt x="21" y="370"/>
                      </a:lnTo>
                      <a:lnTo>
                        <a:pt x="41" y="380"/>
                      </a:lnTo>
                      <a:lnTo>
                        <a:pt x="54" y="391"/>
                      </a:lnTo>
                      <a:lnTo>
                        <a:pt x="63" y="399"/>
                      </a:lnTo>
                      <a:lnTo>
                        <a:pt x="78" y="420"/>
                      </a:lnTo>
                      <a:lnTo>
                        <a:pt x="92" y="442"/>
                      </a:lnTo>
                      <a:lnTo>
                        <a:pt x="110" y="468"/>
                      </a:lnTo>
                      <a:lnTo>
                        <a:pt x="125" y="479"/>
                      </a:lnTo>
                      <a:lnTo>
                        <a:pt x="144" y="491"/>
                      </a:lnTo>
                      <a:lnTo>
                        <a:pt x="176" y="507"/>
                      </a:lnTo>
                      <a:lnTo>
                        <a:pt x="204" y="513"/>
                      </a:lnTo>
                      <a:lnTo>
                        <a:pt x="237" y="508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4910040" y="3814920"/>
                  <a:ext cx="522000" cy="823680"/>
                </a:xfrm>
                <a:custGeom>
                  <a:avLst/>
                  <a:gdLst/>
                  <a:ahLst/>
                  <a:rect l="l" t="t" r="r" b="b"/>
                  <a:pathLst>
                    <a:path w="370" h="519">
                      <a:moveTo>
                        <a:pt x="230" y="513"/>
                      </a:moveTo>
                      <a:lnTo>
                        <a:pt x="245" y="510"/>
                      </a:lnTo>
                      <a:lnTo>
                        <a:pt x="269" y="502"/>
                      </a:lnTo>
                      <a:lnTo>
                        <a:pt x="286" y="490"/>
                      </a:lnTo>
                      <a:lnTo>
                        <a:pt x="296" y="476"/>
                      </a:lnTo>
                      <a:lnTo>
                        <a:pt x="305" y="462"/>
                      </a:lnTo>
                      <a:lnTo>
                        <a:pt x="310" y="447"/>
                      </a:lnTo>
                      <a:lnTo>
                        <a:pt x="315" y="429"/>
                      </a:lnTo>
                      <a:lnTo>
                        <a:pt x="319" y="406"/>
                      </a:lnTo>
                      <a:lnTo>
                        <a:pt x="321" y="381"/>
                      </a:lnTo>
                      <a:lnTo>
                        <a:pt x="321" y="363"/>
                      </a:lnTo>
                      <a:lnTo>
                        <a:pt x="324" y="350"/>
                      </a:lnTo>
                      <a:lnTo>
                        <a:pt x="326" y="340"/>
                      </a:lnTo>
                      <a:lnTo>
                        <a:pt x="331" y="329"/>
                      </a:lnTo>
                      <a:lnTo>
                        <a:pt x="336" y="317"/>
                      </a:lnTo>
                      <a:lnTo>
                        <a:pt x="341" y="308"/>
                      </a:lnTo>
                      <a:lnTo>
                        <a:pt x="347" y="300"/>
                      </a:lnTo>
                      <a:lnTo>
                        <a:pt x="351" y="294"/>
                      </a:lnTo>
                      <a:lnTo>
                        <a:pt x="356" y="288"/>
                      </a:lnTo>
                      <a:lnTo>
                        <a:pt x="369" y="276"/>
                      </a:lnTo>
                      <a:lnTo>
                        <a:pt x="355" y="282"/>
                      </a:lnTo>
                      <a:lnTo>
                        <a:pt x="343" y="288"/>
                      </a:lnTo>
                      <a:lnTo>
                        <a:pt x="331" y="296"/>
                      </a:lnTo>
                      <a:lnTo>
                        <a:pt x="321" y="303"/>
                      </a:lnTo>
                      <a:lnTo>
                        <a:pt x="312" y="312"/>
                      </a:lnTo>
                      <a:lnTo>
                        <a:pt x="305" y="323"/>
                      </a:lnTo>
                      <a:lnTo>
                        <a:pt x="295" y="338"/>
                      </a:lnTo>
                      <a:lnTo>
                        <a:pt x="288" y="349"/>
                      </a:lnTo>
                      <a:lnTo>
                        <a:pt x="282" y="360"/>
                      </a:lnTo>
                      <a:lnTo>
                        <a:pt x="288" y="343"/>
                      </a:lnTo>
                      <a:lnTo>
                        <a:pt x="292" y="329"/>
                      </a:lnTo>
                      <a:lnTo>
                        <a:pt x="295" y="312"/>
                      </a:lnTo>
                      <a:lnTo>
                        <a:pt x="296" y="292"/>
                      </a:lnTo>
                      <a:lnTo>
                        <a:pt x="296" y="270"/>
                      </a:lnTo>
                      <a:lnTo>
                        <a:pt x="293" y="250"/>
                      </a:lnTo>
                      <a:lnTo>
                        <a:pt x="290" y="231"/>
                      </a:lnTo>
                      <a:lnTo>
                        <a:pt x="286" y="214"/>
                      </a:lnTo>
                      <a:lnTo>
                        <a:pt x="282" y="198"/>
                      </a:lnTo>
                      <a:lnTo>
                        <a:pt x="276" y="181"/>
                      </a:lnTo>
                      <a:lnTo>
                        <a:pt x="265" y="161"/>
                      </a:lnTo>
                      <a:lnTo>
                        <a:pt x="258" y="148"/>
                      </a:lnTo>
                      <a:lnTo>
                        <a:pt x="248" y="128"/>
                      </a:lnTo>
                      <a:lnTo>
                        <a:pt x="239" y="107"/>
                      </a:lnTo>
                      <a:lnTo>
                        <a:pt x="232" y="87"/>
                      </a:lnTo>
                      <a:lnTo>
                        <a:pt x="228" y="72"/>
                      </a:lnTo>
                      <a:lnTo>
                        <a:pt x="225" y="57"/>
                      </a:lnTo>
                      <a:lnTo>
                        <a:pt x="224" y="41"/>
                      </a:lnTo>
                      <a:lnTo>
                        <a:pt x="224" y="28"/>
                      </a:lnTo>
                      <a:lnTo>
                        <a:pt x="224" y="16"/>
                      </a:lnTo>
                      <a:lnTo>
                        <a:pt x="225" y="0"/>
                      </a:lnTo>
                      <a:lnTo>
                        <a:pt x="219" y="22"/>
                      </a:lnTo>
                      <a:lnTo>
                        <a:pt x="215" y="40"/>
                      </a:lnTo>
                      <a:lnTo>
                        <a:pt x="213" y="56"/>
                      </a:lnTo>
                      <a:lnTo>
                        <a:pt x="213" y="72"/>
                      </a:lnTo>
                      <a:lnTo>
                        <a:pt x="214" y="92"/>
                      </a:lnTo>
                      <a:lnTo>
                        <a:pt x="219" y="108"/>
                      </a:lnTo>
                      <a:lnTo>
                        <a:pt x="223" y="123"/>
                      </a:lnTo>
                      <a:lnTo>
                        <a:pt x="229" y="137"/>
                      </a:lnTo>
                      <a:lnTo>
                        <a:pt x="233" y="154"/>
                      </a:lnTo>
                      <a:lnTo>
                        <a:pt x="235" y="172"/>
                      </a:lnTo>
                      <a:lnTo>
                        <a:pt x="236" y="189"/>
                      </a:lnTo>
                      <a:lnTo>
                        <a:pt x="237" y="208"/>
                      </a:lnTo>
                      <a:lnTo>
                        <a:pt x="237" y="225"/>
                      </a:lnTo>
                      <a:lnTo>
                        <a:pt x="234" y="252"/>
                      </a:lnTo>
                      <a:lnTo>
                        <a:pt x="230" y="270"/>
                      </a:lnTo>
                      <a:lnTo>
                        <a:pt x="217" y="295"/>
                      </a:lnTo>
                      <a:lnTo>
                        <a:pt x="208" y="319"/>
                      </a:lnTo>
                      <a:lnTo>
                        <a:pt x="200" y="344"/>
                      </a:lnTo>
                      <a:lnTo>
                        <a:pt x="194" y="330"/>
                      </a:lnTo>
                      <a:lnTo>
                        <a:pt x="190" y="315"/>
                      </a:lnTo>
                      <a:lnTo>
                        <a:pt x="187" y="300"/>
                      </a:lnTo>
                      <a:lnTo>
                        <a:pt x="186" y="275"/>
                      </a:lnTo>
                      <a:lnTo>
                        <a:pt x="191" y="232"/>
                      </a:lnTo>
                      <a:lnTo>
                        <a:pt x="192" y="220"/>
                      </a:lnTo>
                      <a:lnTo>
                        <a:pt x="193" y="205"/>
                      </a:lnTo>
                      <a:lnTo>
                        <a:pt x="193" y="192"/>
                      </a:lnTo>
                      <a:lnTo>
                        <a:pt x="191" y="172"/>
                      </a:lnTo>
                      <a:lnTo>
                        <a:pt x="187" y="154"/>
                      </a:lnTo>
                      <a:lnTo>
                        <a:pt x="182" y="137"/>
                      </a:lnTo>
                      <a:lnTo>
                        <a:pt x="172" y="113"/>
                      </a:lnTo>
                      <a:lnTo>
                        <a:pt x="177" y="142"/>
                      </a:lnTo>
                      <a:lnTo>
                        <a:pt x="181" y="166"/>
                      </a:lnTo>
                      <a:lnTo>
                        <a:pt x="181" y="187"/>
                      </a:lnTo>
                      <a:lnTo>
                        <a:pt x="178" y="204"/>
                      </a:lnTo>
                      <a:lnTo>
                        <a:pt x="175" y="220"/>
                      </a:lnTo>
                      <a:lnTo>
                        <a:pt x="169" y="239"/>
                      </a:lnTo>
                      <a:lnTo>
                        <a:pt x="153" y="280"/>
                      </a:lnTo>
                      <a:lnTo>
                        <a:pt x="152" y="254"/>
                      </a:lnTo>
                      <a:lnTo>
                        <a:pt x="154" y="232"/>
                      </a:lnTo>
                      <a:lnTo>
                        <a:pt x="155" y="212"/>
                      </a:lnTo>
                      <a:lnTo>
                        <a:pt x="146" y="232"/>
                      </a:lnTo>
                      <a:lnTo>
                        <a:pt x="141" y="250"/>
                      </a:lnTo>
                      <a:lnTo>
                        <a:pt x="137" y="269"/>
                      </a:lnTo>
                      <a:lnTo>
                        <a:pt x="134" y="292"/>
                      </a:lnTo>
                      <a:lnTo>
                        <a:pt x="135" y="320"/>
                      </a:lnTo>
                      <a:lnTo>
                        <a:pt x="139" y="347"/>
                      </a:lnTo>
                      <a:lnTo>
                        <a:pt x="145" y="369"/>
                      </a:lnTo>
                      <a:lnTo>
                        <a:pt x="155" y="397"/>
                      </a:lnTo>
                      <a:lnTo>
                        <a:pt x="170" y="432"/>
                      </a:lnTo>
                      <a:lnTo>
                        <a:pt x="146" y="391"/>
                      </a:lnTo>
                      <a:lnTo>
                        <a:pt x="141" y="380"/>
                      </a:lnTo>
                      <a:lnTo>
                        <a:pt x="130" y="363"/>
                      </a:lnTo>
                      <a:lnTo>
                        <a:pt x="117" y="347"/>
                      </a:lnTo>
                      <a:lnTo>
                        <a:pt x="107" y="334"/>
                      </a:lnTo>
                      <a:lnTo>
                        <a:pt x="91" y="318"/>
                      </a:lnTo>
                      <a:lnTo>
                        <a:pt x="109" y="349"/>
                      </a:lnTo>
                      <a:lnTo>
                        <a:pt x="116" y="363"/>
                      </a:lnTo>
                      <a:lnTo>
                        <a:pt x="123" y="376"/>
                      </a:lnTo>
                      <a:lnTo>
                        <a:pt x="135" y="406"/>
                      </a:lnTo>
                      <a:lnTo>
                        <a:pt x="144" y="430"/>
                      </a:lnTo>
                      <a:lnTo>
                        <a:pt x="158" y="470"/>
                      </a:lnTo>
                      <a:lnTo>
                        <a:pt x="141" y="463"/>
                      </a:lnTo>
                      <a:lnTo>
                        <a:pt x="127" y="451"/>
                      </a:lnTo>
                      <a:lnTo>
                        <a:pt x="111" y="436"/>
                      </a:lnTo>
                      <a:lnTo>
                        <a:pt x="98" y="420"/>
                      </a:lnTo>
                      <a:lnTo>
                        <a:pt x="80" y="402"/>
                      </a:lnTo>
                      <a:lnTo>
                        <a:pt x="67" y="391"/>
                      </a:lnTo>
                      <a:lnTo>
                        <a:pt x="57" y="381"/>
                      </a:lnTo>
                      <a:lnTo>
                        <a:pt x="46" y="373"/>
                      </a:lnTo>
                      <a:lnTo>
                        <a:pt x="37" y="368"/>
                      </a:lnTo>
                      <a:lnTo>
                        <a:pt x="23" y="364"/>
                      </a:lnTo>
                      <a:lnTo>
                        <a:pt x="0" y="358"/>
                      </a:lnTo>
                      <a:lnTo>
                        <a:pt x="22" y="371"/>
                      </a:lnTo>
                      <a:lnTo>
                        <a:pt x="39" y="382"/>
                      </a:lnTo>
                      <a:lnTo>
                        <a:pt x="51" y="394"/>
                      </a:lnTo>
                      <a:lnTo>
                        <a:pt x="60" y="403"/>
                      </a:lnTo>
                      <a:lnTo>
                        <a:pt x="75" y="424"/>
                      </a:lnTo>
                      <a:lnTo>
                        <a:pt x="89" y="446"/>
                      </a:lnTo>
                      <a:lnTo>
                        <a:pt x="107" y="472"/>
                      </a:lnTo>
                      <a:lnTo>
                        <a:pt x="120" y="483"/>
                      </a:lnTo>
                      <a:lnTo>
                        <a:pt x="139" y="496"/>
                      </a:lnTo>
                      <a:lnTo>
                        <a:pt x="170" y="512"/>
                      </a:lnTo>
                      <a:lnTo>
                        <a:pt x="197" y="518"/>
                      </a:lnTo>
                      <a:lnTo>
                        <a:pt x="230" y="51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81" name=""/>
            <p:cNvGrpSpPr/>
            <p:nvPr/>
          </p:nvGrpSpPr>
          <p:grpSpPr>
            <a:xfrm>
              <a:off x="4931280" y="4086360"/>
              <a:ext cx="454320" cy="820440"/>
              <a:chOff x="4931280" y="4086360"/>
              <a:chExt cx="454320" cy="820440"/>
            </a:xfrm>
          </p:grpSpPr>
          <p:sp>
            <p:nvSpPr>
              <p:cNvPr id="3782" name=""/>
              <p:cNvSpPr/>
              <p:nvPr/>
            </p:nvSpPr>
            <p:spPr>
              <a:xfrm>
                <a:off x="5076360" y="4086360"/>
                <a:ext cx="309240" cy="582480"/>
              </a:xfrm>
              <a:custGeom>
                <a:avLst/>
                <a:gdLst/>
                <a:ahLst/>
                <a:rect l="l" t="t" r="r" b="b"/>
                <a:pathLst>
                  <a:path w="219" h="367">
                    <a:moveTo>
                      <a:pt x="0" y="207"/>
                    </a:moveTo>
                    <a:lnTo>
                      <a:pt x="9" y="216"/>
                    </a:lnTo>
                    <a:lnTo>
                      <a:pt x="14" y="226"/>
                    </a:lnTo>
                    <a:lnTo>
                      <a:pt x="19" y="240"/>
                    </a:lnTo>
                    <a:lnTo>
                      <a:pt x="25" y="256"/>
                    </a:lnTo>
                    <a:lnTo>
                      <a:pt x="25" y="266"/>
                    </a:lnTo>
                    <a:lnTo>
                      <a:pt x="25" y="280"/>
                    </a:lnTo>
                    <a:lnTo>
                      <a:pt x="23" y="292"/>
                    </a:lnTo>
                    <a:lnTo>
                      <a:pt x="22" y="304"/>
                    </a:lnTo>
                    <a:lnTo>
                      <a:pt x="22" y="315"/>
                    </a:lnTo>
                    <a:lnTo>
                      <a:pt x="24" y="325"/>
                    </a:lnTo>
                    <a:lnTo>
                      <a:pt x="26" y="336"/>
                    </a:lnTo>
                    <a:lnTo>
                      <a:pt x="31" y="344"/>
                    </a:lnTo>
                    <a:lnTo>
                      <a:pt x="38" y="352"/>
                    </a:lnTo>
                    <a:lnTo>
                      <a:pt x="45" y="357"/>
                    </a:lnTo>
                    <a:lnTo>
                      <a:pt x="54" y="361"/>
                    </a:lnTo>
                    <a:lnTo>
                      <a:pt x="63" y="364"/>
                    </a:lnTo>
                    <a:lnTo>
                      <a:pt x="73" y="366"/>
                    </a:lnTo>
                    <a:lnTo>
                      <a:pt x="83" y="366"/>
                    </a:lnTo>
                    <a:lnTo>
                      <a:pt x="93" y="364"/>
                    </a:lnTo>
                    <a:lnTo>
                      <a:pt x="103" y="362"/>
                    </a:lnTo>
                    <a:lnTo>
                      <a:pt x="113" y="360"/>
                    </a:lnTo>
                    <a:lnTo>
                      <a:pt x="123" y="356"/>
                    </a:lnTo>
                    <a:lnTo>
                      <a:pt x="133" y="351"/>
                    </a:lnTo>
                    <a:lnTo>
                      <a:pt x="139" y="346"/>
                    </a:lnTo>
                    <a:lnTo>
                      <a:pt x="147" y="340"/>
                    </a:lnTo>
                    <a:lnTo>
                      <a:pt x="154" y="333"/>
                    </a:lnTo>
                    <a:lnTo>
                      <a:pt x="159" y="327"/>
                    </a:lnTo>
                    <a:lnTo>
                      <a:pt x="163" y="319"/>
                    </a:lnTo>
                    <a:lnTo>
                      <a:pt x="168" y="310"/>
                    </a:lnTo>
                    <a:lnTo>
                      <a:pt x="171" y="301"/>
                    </a:lnTo>
                    <a:lnTo>
                      <a:pt x="175" y="294"/>
                    </a:lnTo>
                    <a:lnTo>
                      <a:pt x="179" y="286"/>
                    </a:lnTo>
                    <a:lnTo>
                      <a:pt x="188" y="276"/>
                    </a:lnTo>
                    <a:lnTo>
                      <a:pt x="192" y="272"/>
                    </a:lnTo>
                    <a:lnTo>
                      <a:pt x="199" y="266"/>
                    </a:lnTo>
                    <a:lnTo>
                      <a:pt x="218" y="258"/>
                    </a:lnTo>
                    <a:lnTo>
                      <a:pt x="202" y="259"/>
                    </a:lnTo>
                    <a:lnTo>
                      <a:pt x="193" y="261"/>
                    </a:lnTo>
                    <a:lnTo>
                      <a:pt x="186" y="263"/>
                    </a:lnTo>
                    <a:lnTo>
                      <a:pt x="178" y="268"/>
                    </a:lnTo>
                    <a:lnTo>
                      <a:pt x="175" y="271"/>
                    </a:lnTo>
                    <a:lnTo>
                      <a:pt x="168" y="278"/>
                    </a:lnTo>
                    <a:lnTo>
                      <a:pt x="163" y="285"/>
                    </a:lnTo>
                    <a:lnTo>
                      <a:pt x="151" y="305"/>
                    </a:lnTo>
                    <a:lnTo>
                      <a:pt x="143" y="313"/>
                    </a:lnTo>
                    <a:lnTo>
                      <a:pt x="135" y="319"/>
                    </a:lnTo>
                    <a:lnTo>
                      <a:pt x="124" y="326"/>
                    </a:lnTo>
                    <a:lnTo>
                      <a:pt x="114" y="330"/>
                    </a:lnTo>
                    <a:lnTo>
                      <a:pt x="121" y="320"/>
                    </a:lnTo>
                    <a:lnTo>
                      <a:pt x="127" y="311"/>
                    </a:lnTo>
                    <a:lnTo>
                      <a:pt x="134" y="300"/>
                    </a:lnTo>
                    <a:lnTo>
                      <a:pt x="138" y="286"/>
                    </a:lnTo>
                    <a:lnTo>
                      <a:pt x="145" y="263"/>
                    </a:lnTo>
                    <a:lnTo>
                      <a:pt x="163" y="234"/>
                    </a:lnTo>
                    <a:lnTo>
                      <a:pt x="143" y="255"/>
                    </a:lnTo>
                    <a:lnTo>
                      <a:pt x="138" y="261"/>
                    </a:lnTo>
                    <a:lnTo>
                      <a:pt x="126" y="285"/>
                    </a:lnTo>
                    <a:lnTo>
                      <a:pt x="134" y="246"/>
                    </a:lnTo>
                    <a:lnTo>
                      <a:pt x="138" y="224"/>
                    </a:lnTo>
                    <a:lnTo>
                      <a:pt x="138" y="207"/>
                    </a:lnTo>
                    <a:lnTo>
                      <a:pt x="138" y="193"/>
                    </a:lnTo>
                    <a:lnTo>
                      <a:pt x="134" y="182"/>
                    </a:lnTo>
                    <a:lnTo>
                      <a:pt x="130" y="169"/>
                    </a:lnTo>
                    <a:lnTo>
                      <a:pt x="125" y="155"/>
                    </a:lnTo>
                    <a:lnTo>
                      <a:pt x="128" y="183"/>
                    </a:lnTo>
                    <a:lnTo>
                      <a:pt x="127" y="201"/>
                    </a:lnTo>
                    <a:lnTo>
                      <a:pt x="114" y="170"/>
                    </a:lnTo>
                    <a:lnTo>
                      <a:pt x="109" y="156"/>
                    </a:lnTo>
                    <a:lnTo>
                      <a:pt x="108" y="142"/>
                    </a:lnTo>
                    <a:lnTo>
                      <a:pt x="109" y="128"/>
                    </a:lnTo>
                    <a:lnTo>
                      <a:pt x="110" y="115"/>
                    </a:lnTo>
                    <a:lnTo>
                      <a:pt x="113" y="101"/>
                    </a:lnTo>
                    <a:lnTo>
                      <a:pt x="109" y="108"/>
                    </a:lnTo>
                    <a:lnTo>
                      <a:pt x="106" y="116"/>
                    </a:lnTo>
                    <a:lnTo>
                      <a:pt x="102" y="132"/>
                    </a:lnTo>
                    <a:lnTo>
                      <a:pt x="100" y="143"/>
                    </a:lnTo>
                    <a:lnTo>
                      <a:pt x="100" y="156"/>
                    </a:lnTo>
                    <a:lnTo>
                      <a:pt x="103" y="173"/>
                    </a:lnTo>
                    <a:lnTo>
                      <a:pt x="107" y="209"/>
                    </a:lnTo>
                    <a:lnTo>
                      <a:pt x="100" y="242"/>
                    </a:lnTo>
                    <a:lnTo>
                      <a:pt x="81" y="190"/>
                    </a:lnTo>
                    <a:lnTo>
                      <a:pt x="77" y="177"/>
                    </a:lnTo>
                    <a:lnTo>
                      <a:pt x="74" y="161"/>
                    </a:lnTo>
                    <a:lnTo>
                      <a:pt x="73" y="145"/>
                    </a:lnTo>
                    <a:lnTo>
                      <a:pt x="74" y="128"/>
                    </a:lnTo>
                    <a:lnTo>
                      <a:pt x="76" y="115"/>
                    </a:lnTo>
                    <a:lnTo>
                      <a:pt x="79" y="102"/>
                    </a:lnTo>
                    <a:lnTo>
                      <a:pt x="83" y="89"/>
                    </a:lnTo>
                    <a:lnTo>
                      <a:pt x="87" y="77"/>
                    </a:lnTo>
                    <a:lnTo>
                      <a:pt x="88" y="65"/>
                    </a:lnTo>
                    <a:lnTo>
                      <a:pt x="89" y="52"/>
                    </a:lnTo>
                    <a:lnTo>
                      <a:pt x="88" y="37"/>
                    </a:lnTo>
                    <a:lnTo>
                      <a:pt x="86" y="20"/>
                    </a:lnTo>
                    <a:lnTo>
                      <a:pt x="80" y="0"/>
                    </a:lnTo>
                    <a:lnTo>
                      <a:pt x="81" y="20"/>
                    </a:lnTo>
                    <a:lnTo>
                      <a:pt x="82" y="32"/>
                    </a:lnTo>
                    <a:lnTo>
                      <a:pt x="81" y="48"/>
                    </a:lnTo>
                    <a:lnTo>
                      <a:pt x="77" y="63"/>
                    </a:lnTo>
                    <a:lnTo>
                      <a:pt x="72" y="77"/>
                    </a:lnTo>
                    <a:lnTo>
                      <a:pt x="67" y="91"/>
                    </a:lnTo>
                    <a:lnTo>
                      <a:pt x="61" y="104"/>
                    </a:lnTo>
                    <a:lnTo>
                      <a:pt x="54" y="119"/>
                    </a:lnTo>
                    <a:lnTo>
                      <a:pt x="47" y="139"/>
                    </a:lnTo>
                    <a:lnTo>
                      <a:pt x="43" y="156"/>
                    </a:lnTo>
                    <a:lnTo>
                      <a:pt x="39" y="216"/>
                    </a:lnTo>
                    <a:lnTo>
                      <a:pt x="41" y="228"/>
                    </a:lnTo>
                    <a:lnTo>
                      <a:pt x="47" y="251"/>
                    </a:lnTo>
                    <a:lnTo>
                      <a:pt x="25" y="217"/>
                    </a:lnTo>
                    <a:lnTo>
                      <a:pt x="0" y="207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931280" y="4605480"/>
                <a:ext cx="433440" cy="301320"/>
              </a:xfrm>
              <a:custGeom>
                <a:avLst/>
                <a:gdLst/>
                <a:ahLst/>
                <a:rect l="l" t="t" r="r" b="b"/>
                <a:pathLst>
                  <a:path w="307" h="190">
                    <a:moveTo>
                      <a:pt x="152" y="8"/>
                    </a:moveTo>
                    <a:lnTo>
                      <a:pt x="0" y="66"/>
                    </a:lnTo>
                    <a:lnTo>
                      <a:pt x="149" y="0"/>
                    </a:lnTo>
                    <a:lnTo>
                      <a:pt x="184" y="1"/>
                    </a:lnTo>
                    <a:lnTo>
                      <a:pt x="219" y="8"/>
                    </a:lnTo>
                    <a:lnTo>
                      <a:pt x="306" y="88"/>
                    </a:lnTo>
                    <a:lnTo>
                      <a:pt x="204" y="14"/>
                    </a:lnTo>
                    <a:lnTo>
                      <a:pt x="291" y="189"/>
                    </a:lnTo>
                    <a:lnTo>
                      <a:pt x="192" y="14"/>
                    </a:lnTo>
                    <a:lnTo>
                      <a:pt x="184" y="24"/>
                    </a:lnTo>
                    <a:lnTo>
                      <a:pt x="161" y="104"/>
                    </a:lnTo>
                    <a:lnTo>
                      <a:pt x="172" y="20"/>
                    </a:lnTo>
                    <a:lnTo>
                      <a:pt x="63" y="181"/>
                    </a:lnTo>
                    <a:lnTo>
                      <a:pt x="162" y="11"/>
                    </a:lnTo>
                    <a:lnTo>
                      <a:pt x="152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89320" y="4157640"/>
                <a:ext cx="259560" cy="48276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0" y="167"/>
                    </a:moveTo>
                    <a:lnTo>
                      <a:pt x="8" y="175"/>
                    </a:lnTo>
                    <a:lnTo>
                      <a:pt x="12" y="185"/>
                    </a:lnTo>
                    <a:lnTo>
                      <a:pt x="16" y="198"/>
                    </a:lnTo>
                    <a:lnTo>
                      <a:pt x="21" y="213"/>
                    </a:lnTo>
                    <a:lnTo>
                      <a:pt x="21" y="223"/>
                    </a:lnTo>
                    <a:lnTo>
                      <a:pt x="21" y="236"/>
                    </a:lnTo>
                    <a:lnTo>
                      <a:pt x="24" y="250"/>
                    </a:lnTo>
                    <a:lnTo>
                      <a:pt x="25" y="260"/>
                    </a:lnTo>
                    <a:lnTo>
                      <a:pt x="28" y="269"/>
                    </a:lnTo>
                    <a:lnTo>
                      <a:pt x="31" y="277"/>
                    </a:lnTo>
                    <a:lnTo>
                      <a:pt x="35" y="285"/>
                    </a:lnTo>
                    <a:lnTo>
                      <a:pt x="40" y="290"/>
                    </a:lnTo>
                    <a:lnTo>
                      <a:pt x="47" y="295"/>
                    </a:lnTo>
                    <a:lnTo>
                      <a:pt x="55" y="299"/>
                    </a:lnTo>
                    <a:lnTo>
                      <a:pt x="66" y="302"/>
                    </a:lnTo>
                    <a:lnTo>
                      <a:pt x="77" y="303"/>
                    </a:lnTo>
                    <a:lnTo>
                      <a:pt x="88" y="301"/>
                    </a:lnTo>
                    <a:lnTo>
                      <a:pt x="98" y="299"/>
                    </a:lnTo>
                    <a:lnTo>
                      <a:pt x="110" y="295"/>
                    </a:lnTo>
                    <a:lnTo>
                      <a:pt x="120" y="288"/>
                    </a:lnTo>
                    <a:lnTo>
                      <a:pt x="127" y="280"/>
                    </a:lnTo>
                    <a:lnTo>
                      <a:pt x="133" y="271"/>
                    </a:lnTo>
                    <a:lnTo>
                      <a:pt x="138" y="263"/>
                    </a:lnTo>
                    <a:lnTo>
                      <a:pt x="144" y="251"/>
                    </a:lnTo>
                    <a:lnTo>
                      <a:pt x="150" y="240"/>
                    </a:lnTo>
                    <a:lnTo>
                      <a:pt x="157" y="230"/>
                    </a:lnTo>
                    <a:lnTo>
                      <a:pt x="167" y="222"/>
                    </a:lnTo>
                    <a:lnTo>
                      <a:pt x="183" y="215"/>
                    </a:lnTo>
                    <a:lnTo>
                      <a:pt x="170" y="216"/>
                    </a:lnTo>
                    <a:lnTo>
                      <a:pt x="162" y="218"/>
                    </a:lnTo>
                    <a:lnTo>
                      <a:pt x="154" y="224"/>
                    </a:lnTo>
                    <a:lnTo>
                      <a:pt x="149" y="229"/>
                    </a:lnTo>
                    <a:lnTo>
                      <a:pt x="142" y="238"/>
                    </a:lnTo>
                    <a:lnTo>
                      <a:pt x="133" y="251"/>
                    </a:lnTo>
                    <a:lnTo>
                      <a:pt x="127" y="259"/>
                    </a:lnTo>
                    <a:lnTo>
                      <a:pt x="121" y="267"/>
                    </a:lnTo>
                    <a:lnTo>
                      <a:pt x="113" y="273"/>
                    </a:lnTo>
                    <a:lnTo>
                      <a:pt x="105" y="279"/>
                    </a:lnTo>
                    <a:lnTo>
                      <a:pt x="96" y="283"/>
                    </a:lnTo>
                    <a:lnTo>
                      <a:pt x="102" y="273"/>
                    </a:lnTo>
                    <a:lnTo>
                      <a:pt x="106" y="265"/>
                    </a:lnTo>
                    <a:lnTo>
                      <a:pt x="112" y="255"/>
                    </a:lnTo>
                    <a:lnTo>
                      <a:pt x="116" y="241"/>
                    </a:lnTo>
                    <a:lnTo>
                      <a:pt x="122" y="220"/>
                    </a:lnTo>
                    <a:lnTo>
                      <a:pt x="137" y="193"/>
                    </a:lnTo>
                    <a:lnTo>
                      <a:pt x="120" y="212"/>
                    </a:lnTo>
                    <a:lnTo>
                      <a:pt x="116" y="218"/>
                    </a:lnTo>
                    <a:lnTo>
                      <a:pt x="106" y="240"/>
                    </a:lnTo>
                    <a:lnTo>
                      <a:pt x="113" y="204"/>
                    </a:lnTo>
                    <a:lnTo>
                      <a:pt x="116" y="184"/>
                    </a:lnTo>
                    <a:lnTo>
                      <a:pt x="116" y="167"/>
                    </a:lnTo>
                    <a:lnTo>
                      <a:pt x="113" y="144"/>
                    </a:lnTo>
                    <a:lnTo>
                      <a:pt x="110" y="132"/>
                    </a:lnTo>
                    <a:lnTo>
                      <a:pt x="106" y="123"/>
                    </a:lnTo>
                    <a:lnTo>
                      <a:pt x="107" y="144"/>
                    </a:lnTo>
                    <a:lnTo>
                      <a:pt x="106" y="162"/>
                    </a:lnTo>
                    <a:lnTo>
                      <a:pt x="96" y="131"/>
                    </a:lnTo>
                    <a:lnTo>
                      <a:pt x="93" y="119"/>
                    </a:lnTo>
                    <a:lnTo>
                      <a:pt x="92" y="105"/>
                    </a:lnTo>
                    <a:lnTo>
                      <a:pt x="93" y="92"/>
                    </a:lnTo>
                    <a:lnTo>
                      <a:pt x="96" y="67"/>
                    </a:lnTo>
                    <a:lnTo>
                      <a:pt x="88" y="96"/>
                    </a:lnTo>
                    <a:lnTo>
                      <a:pt x="86" y="111"/>
                    </a:lnTo>
                    <a:lnTo>
                      <a:pt x="86" y="123"/>
                    </a:lnTo>
                    <a:lnTo>
                      <a:pt x="87" y="136"/>
                    </a:lnTo>
                    <a:lnTo>
                      <a:pt x="89" y="151"/>
                    </a:lnTo>
                    <a:lnTo>
                      <a:pt x="90" y="169"/>
                    </a:lnTo>
                    <a:lnTo>
                      <a:pt x="84" y="200"/>
                    </a:lnTo>
                    <a:lnTo>
                      <a:pt x="65" y="150"/>
                    </a:lnTo>
                    <a:lnTo>
                      <a:pt x="63" y="139"/>
                    </a:lnTo>
                    <a:lnTo>
                      <a:pt x="62" y="125"/>
                    </a:lnTo>
                    <a:lnTo>
                      <a:pt x="62" y="110"/>
                    </a:lnTo>
                    <a:lnTo>
                      <a:pt x="65" y="96"/>
                    </a:lnTo>
                    <a:lnTo>
                      <a:pt x="68" y="80"/>
                    </a:lnTo>
                    <a:lnTo>
                      <a:pt x="72" y="68"/>
                    </a:lnTo>
                    <a:lnTo>
                      <a:pt x="75" y="55"/>
                    </a:lnTo>
                    <a:lnTo>
                      <a:pt x="76" y="42"/>
                    </a:lnTo>
                    <a:lnTo>
                      <a:pt x="76" y="32"/>
                    </a:lnTo>
                    <a:lnTo>
                      <a:pt x="75" y="17"/>
                    </a:lnTo>
                    <a:lnTo>
                      <a:pt x="70" y="0"/>
                    </a:lnTo>
                    <a:lnTo>
                      <a:pt x="70" y="18"/>
                    </a:lnTo>
                    <a:lnTo>
                      <a:pt x="69" y="33"/>
                    </a:lnTo>
                    <a:lnTo>
                      <a:pt x="66" y="48"/>
                    </a:lnTo>
                    <a:lnTo>
                      <a:pt x="62" y="60"/>
                    </a:lnTo>
                    <a:lnTo>
                      <a:pt x="55" y="77"/>
                    </a:lnTo>
                    <a:lnTo>
                      <a:pt x="45" y="103"/>
                    </a:lnTo>
                    <a:lnTo>
                      <a:pt x="40" y="119"/>
                    </a:lnTo>
                    <a:lnTo>
                      <a:pt x="33" y="175"/>
                    </a:lnTo>
                    <a:lnTo>
                      <a:pt x="35" y="187"/>
                    </a:lnTo>
                    <a:lnTo>
                      <a:pt x="40" y="208"/>
                    </a:lnTo>
                    <a:lnTo>
                      <a:pt x="21" y="176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5" name=""/>
          <p:cNvGrpSpPr/>
          <p:nvPr/>
        </p:nvGrpSpPr>
        <p:grpSpPr>
          <a:xfrm>
            <a:off x="5621400" y="2846520"/>
            <a:ext cx="1576080" cy="2030400"/>
            <a:chOff x="5621400" y="2846520"/>
            <a:chExt cx="1576080" cy="2030400"/>
          </a:xfrm>
        </p:grpSpPr>
        <p:sp>
          <p:nvSpPr>
            <p:cNvPr id="3786" name=""/>
            <p:cNvSpPr/>
            <p:nvPr/>
          </p:nvSpPr>
          <p:spPr>
            <a:xfrm>
              <a:off x="5696280" y="3078000"/>
              <a:ext cx="82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621400" y="3773520"/>
              <a:ext cx="82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696280" y="4514760"/>
              <a:ext cx="82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6546960" y="4257720"/>
              <a:ext cx="1566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684120" y="423720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805440" y="4416480"/>
              <a:ext cx="203040" cy="261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407640" y="4533840"/>
              <a:ext cx="234000" cy="30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746040" y="457344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346800" y="4591080"/>
              <a:ext cx="1267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30960" y="445464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394680" y="4297320"/>
              <a:ext cx="2001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573960" y="4613400"/>
              <a:ext cx="2073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836400" y="4317840"/>
              <a:ext cx="15660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789960" y="4237200"/>
              <a:ext cx="146520" cy="18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6382080" y="4284720"/>
              <a:ext cx="595440" cy="51588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244920" y="3840120"/>
              <a:ext cx="1594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383520" y="3821040"/>
              <a:ext cx="12816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507720" y="399564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108480" y="4114800"/>
              <a:ext cx="2354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45800" y="4154400"/>
              <a:ext cx="1702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46200" y="4175280"/>
              <a:ext cx="12528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030720" y="403560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094080" y="3879720"/>
              <a:ext cx="20160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277680" y="419580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538680" y="3900600"/>
              <a:ext cx="1562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491880" y="382104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082560" y="386712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244920" y="3328920"/>
              <a:ext cx="1594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383520" y="330840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507720" y="3489480"/>
              <a:ext cx="203040" cy="26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108480" y="3608280"/>
              <a:ext cx="235440" cy="30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6445800" y="3643200"/>
              <a:ext cx="17028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046200" y="3662280"/>
              <a:ext cx="12528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030720" y="3527280"/>
              <a:ext cx="12564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94080" y="3368520"/>
              <a:ext cx="20160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77680" y="3684600"/>
              <a:ext cx="2044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538680" y="3386160"/>
              <a:ext cx="15624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491880" y="3308400"/>
              <a:ext cx="14112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082560" y="335592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06760" y="2865600"/>
              <a:ext cx="16092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346800" y="2846520"/>
              <a:ext cx="12672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469560" y="302436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70320" y="314172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6407640" y="3182760"/>
              <a:ext cx="17028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6008040" y="3201840"/>
              <a:ext cx="128160" cy="163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992560" y="306216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054480" y="2906640"/>
              <a:ext cx="20304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238080" y="322092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500520" y="2924280"/>
              <a:ext cx="1562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454080" y="284652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044760" y="2892600"/>
              <a:ext cx="595440" cy="51588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6546960" y="3051000"/>
              <a:ext cx="15660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684120" y="3029040"/>
              <a:ext cx="1267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805440" y="3209760"/>
              <a:ext cx="20304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407640" y="3327480"/>
              <a:ext cx="234000" cy="30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746040" y="336708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346800" y="338472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330960" y="325116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394680" y="3090960"/>
              <a:ext cx="2001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573960" y="3405240"/>
              <a:ext cx="2073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836400" y="3110040"/>
              <a:ext cx="15660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789960" y="3029040"/>
              <a:ext cx="146520" cy="18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382080" y="3078000"/>
              <a:ext cx="595440" cy="51624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658560" y="3522600"/>
              <a:ext cx="15804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797160" y="350028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919560" y="3678120"/>
              <a:ext cx="20304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520320" y="3795840"/>
              <a:ext cx="23292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859080" y="3835440"/>
              <a:ext cx="1702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459840" y="3855960"/>
              <a:ext cx="1252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444000" y="3718080"/>
              <a:ext cx="12564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504840" y="356220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688080" y="387504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949440" y="358128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904080" y="3500280"/>
              <a:ext cx="14112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494760" y="354960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6733440" y="3886200"/>
              <a:ext cx="15912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6873120" y="3867120"/>
              <a:ext cx="1252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994440" y="40449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6595200" y="416232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932520" y="4200480"/>
              <a:ext cx="1720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534360" y="422280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18880" y="4083120"/>
              <a:ext cx="12672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581160" y="3924360"/>
              <a:ext cx="203040" cy="268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762960" y="4241880"/>
              <a:ext cx="20592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024320" y="3948120"/>
              <a:ext cx="15768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978960" y="3867120"/>
              <a:ext cx="14112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568200" y="3914640"/>
              <a:ext cx="596880" cy="513000"/>
            </a:xfrm>
            <a:custGeom>
              <a:avLst/>
              <a:gdLst/>
              <a:ahLst/>
              <a:rect l="l" t="t" r="r" b="b"/>
              <a:pathLst>
                <a:path w="423" h="323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2" y="0"/>
                  </a:lnTo>
                  <a:lnTo>
                    <a:pt x="352" y="38"/>
                  </a:lnTo>
                  <a:lnTo>
                    <a:pt x="388" y="27"/>
                  </a:lnTo>
                  <a:lnTo>
                    <a:pt x="407" y="32"/>
                  </a:lnTo>
                  <a:lnTo>
                    <a:pt x="410" y="127"/>
                  </a:lnTo>
                  <a:lnTo>
                    <a:pt x="422" y="143"/>
                  </a:lnTo>
                  <a:lnTo>
                    <a:pt x="389" y="217"/>
                  </a:lnTo>
                  <a:lnTo>
                    <a:pt x="354" y="166"/>
                  </a:lnTo>
                  <a:lnTo>
                    <a:pt x="344" y="192"/>
                  </a:lnTo>
                  <a:lnTo>
                    <a:pt x="294" y="294"/>
                  </a:lnTo>
                  <a:lnTo>
                    <a:pt x="127" y="322"/>
                  </a:lnTo>
                  <a:lnTo>
                    <a:pt x="40" y="301"/>
                  </a:lnTo>
                  <a:lnTo>
                    <a:pt x="13" y="238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73" name=""/>
          <p:cNvGraphicFramePr/>
          <p:nvPr/>
        </p:nvGraphicFramePr>
        <p:xfrm>
          <a:off x="3276720" y="2743200"/>
          <a:ext cx="442800" cy="20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43200"/>
                    <a:ext cx="4428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75" name=""/>
          <p:cNvGrpSpPr/>
          <p:nvPr/>
        </p:nvGrpSpPr>
        <p:grpSpPr>
          <a:xfrm>
            <a:off x="3409920" y="3798720"/>
            <a:ext cx="919080" cy="1057320"/>
            <a:chOff x="3409920" y="3798720"/>
            <a:chExt cx="919080" cy="1057320"/>
          </a:xfrm>
        </p:grpSpPr>
        <p:grpSp>
          <p:nvGrpSpPr>
            <p:cNvPr id="3876" name=""/>
            <p:cNvGrpSpPr/>
            <p:nvPr/>
          </p:nvGrpSpPr>
          <p:grpSpPr>
            <a:xfrm>
              <a:off x="3409920" y="3798720"/>
              <a:ext cx="919080" cy="820800"/>
              <a:chOff x="3409920" y="3798720"/>
              <a:chExt cx="919080" cy="820800"/>
            </a:xfrm>
          </p:grpSpPr>
          <p:sp>
            <p:nvSpPr>
              <p:cNvPr id="3877" name=""/>
              <p:cNvSpPr/>
              <p:nvPr/>
            </p:nvSpPr>
            <p:spPr>
              <a:xfrm>
                <a:off x="3409920" y="3844800"/>
                <a:ext cx="919080" cy="752760"/>
              </a:xfrm>
              <a:custGeom>
                <a:avLst/>
                <a:gdLst/>
                <a:ahLst/>
                <a:rect l="l" t="t" r="r" b="b"/>
                <a:pathLst>
                  <a:path w="651" h="474">
                    <a:moveTo>
                      <a:pt x="357" y="456"/>
                    </a:moveTo>
                    <a:lnTo>
                      <a:pt x="197" y="473"/>
                    </a:lnTo>
                    <a:lnTo>
                      <a:pt x="339" y="452"/>
                    </a:lnTo>
                    <a:lnTo>
                      <a:pt x="339" y="445"/>
                    </a:lnTo>
                    <a:lnTo>
                      <a:pt x="0" y="397"/>
                    </a:lnTo>
                    <a:lnTo>
                      <a:pt x="329" y="433"/>
                    </a:lnTo>
                    <a:lnTo>
                      <a:pt x="343" y="416"/>
                    </a:lnTo>
                    <a:lnTo>
                      <a:pt x="17" y="0"/>
                    </a:lnTo>
                    <a:lnTo>
                      <a:pt x="326" y="377"/>
                    </a:lnTo>
                    <a:lnTo>
                      <a:pt x="300" y="312"/>
                    </a:lnTo>
                    <a:lnTo>
                      <a:pt x="357" y="393"/>
                    </a:lnTo>
                    <a:lnTo>
                      <a:pt x="363" y="411"/>
                    </a:lnTo>
                    <a:lnTo>
                      <a:pt x="387" y="78"/>
                    </a:lnTo>
                    <a:lnTo>
                      <a:pt x="377" y="422"/>
                    </a:lnTo>
                    <a:lnTo>
                      <a:pt x="396" y="243"/>
                    </a:lnTo>
                    <a:lnTo>
                      <a:pt x="406" y="392"/>
                    </a:lnTo>
                    <a:lnTo>
                      <a:pt x="650" y="99"/>
                    </a:lnTo>
                    <a:lnTo>
                      <a:pt x="391" y="428"/>
                    </a:lnTo>
                    <a:lnTo>
                      <a:pt x="391" y="439"/>
                    </a:lnTo>
                    <a:lnTo>
                      <a:pt x="650" y="351"/>
                    </a:lnTo>
                    <a:lnTo>
                      <a:pt x="392" y="446"/>
                    </a:lnTo>
                    <a:lnTo>
                      <a:pt x="391" y="453"/>
                    </a:lnTo>
                    <a:lnTo>
                      <a:pt x="362" y="458"/>
                    </a:lnTo>
                    <a:lnTo>
                      <a:pt x="357" y="45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3596040" y="3798720"/>
                <a:ext cx="622440" cy="820800"/>
                <a:chOff x="3596040" y="3798720"/>
                <a:chExt cx="622440" cy="8208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3607560" y="3803760"/>
                  <a:ext cx="610920" cy="815760"/>
                </a:xfrm>
                <a:custGeom>
                  <a:avLst/>
                  <a:gdLst/>
                  <a:ahLst/>
                  <a:rect l="l" t="t" r="r" b="b"/>
                  <a:pathLst>
                    <a:path w="433" h="514">
                      <a:moveTo>
                        <a:pt x="267" y="509"/>
                      </a:moveTo>
                      <a:lnTo>
                        <a:pt x="286" y="505"/>
                      </a:lnTo>
                      <a:lnTo>
                        <a:pt x="313" y="497"/>
                      </a:lnTo>
                      <a:lnTo>
                        <a:pt x="334" y="485"/>
                      </a:lnTo>
                      <a:lnTo>
                        <a:pt x="345" y="472"/>
                      </a:lnTo>
                      <a:lnTo>
                        <a:pt x="355" y="457"/>
                      </a:lnTo>
                      <a:lnTo>
                        <a:pt x="362" y="444"/>
                      </a:lnTo>
                      <a:lnTo>
                        <a:pt x="368" y="425"/>
                      </a:lnTo>
                      <a:lnTo>
                        <a:pt x="372" y="402"/>
                      </a:lnTo>
                      <a:lnTo>
                        <a:pt x="375" y="377"/>
                      </a:lnTo>
                      <a:lnTo>
                        <a:pt x="375" y="360"/>
                      </a:lnTo>
                      <a:lnTo>
                        <a:pt x="378" y="346"/>
                      </a:lnTo>
                      <a:lnTo>
                        <a:pt x="380" y="337"/>
                      </a:lnTo>
                      <a:lnTo>
                        <a:pt x="386" y="326"/>
                      </a:lnTo>
                      <a:lnTo>
                        <a:pt x="392" y="314"/>
                      </a:lnTo>
                      <a:lnTo>
                        <a:pt x="397" y="306"/>
                      </a:lnTo>
                      <a:lnTo>
                        <a:pt x="402" y="298"/>
                      </a:lnTo>
                      <a:lnTo>
                        <a:pt x="408" y="291"/>
                      </a:lnTo>
                      <a:lnTo>
                        <a:pt x="416" y="283"/>
                      </a:lnTo>
                      <a:lnTo>
                        <a:pt x="432" y="272"/>
                      </a:lnTo>
                      <a:lnTo>
                        <a:pt x="408" y="280"/>
                      </a:lnTo>
                      <a:lnTo>
                        <a:pt x="396" y="286"/>
                      </a:lnTo>
                      <a:lnTo>
                        <a:pt x="386" y="293"/>
                      </a:lnTo>
                      <a:lnTo>
                        <a:pt x="375" y="301"/>
                      </a:lnTo>
                      <a:lnTo>
                        <a:pt x="364" y="310"/>
                      </a:lnTo>
                      <a:lnTo>
                        <a:pt x="355" y="320"/>
                      </a:lnTo>
                      <a:lnTo>
                        <a:pt x="345" y="334"/>
                      </a:lnTo>
                      <a:lnTo>
                        <a:pt x="336" y="345"/>
                      </a:lnTo>
                      <a:lnTo>
                        <a:pt x="329" y="357"/>
                      </a:lnTo>
                      <a:lnTo>
                        <a:pt x="336" y="340"/>
                      </a:lnTo>
                      <a:lnTo>
                        <a:pt x="341" y="326"/>
                      </a:lnTo>
                      <a:lnTo>
                        <a:pt x="344" y="310"/>
                      </a:lnTo>
                      <a:lnTo>
                        <a:pt x="345" y="289"/>
                      </a:lnTo>
                      <a:lnTo>
                        <a:pt x="345" y="268"/>
                      </a:lnTo>
                      <a:lnTo>
                        <a:pt x="342" y="248"/>
                      </a:lnTo>
                      <a:lnTo>
                        <a:pt x="338" y="229"/>
                      </a:lnTo>
                      <a:lnTo>
                        <a:pt x="334" y="211"/>
                      </a:lnTo>
                      <a:lnTo>
                        <a:pt x="329" y="196"/>
                      </a:lnTo>
                      <a:lnTo>
                        <a:pt x="322" y="180"/>
                      </a:lnTo>
                      <a:lnTo>
                        <a:pt x="309" y="160"/>
                      </a:lnTo>
                      <a:lnTo>
                        <a:pt x="301" y="146"/>
                      </a:lnTo>
                      <a:lnTo>
                        <a:pt x="289" y="127"/>
                      </a:lnTo>
                      <a:lnTo>
                        <a:pt x="278" y="105"/>
                      </a:lnTo>
                      <a:lnTo>
                        <a:pt x="270" y="86"/>
                      </a:lnTo>
                      <a:lnTo>
                        <a:pt x="265" y="72"/>
                      </a:lnTo>
                      <a:lnTo>
                        <a:pt x="262" y="56"/>
                      </a:lnTo>
                      <a:lnTo>
                        <a:pt x="260" y="41"/>
                      </a:lnTo>
                      <a:lnTo>
                        <a:pt x="260" y="27"/>
                      </a:lnTo>
                      <a:lnTo>
                        <a:pt x="261" y="16"/>
                      </a:lnTo>
                      <a:lnTo>
                        <a:pt x="262" y="0"/>
                      </a:lnTo>
                      <a:lnTo>
                        <a:pt x="255" y="21"/>
                      </a:lnTo>
                      <a:lnTo>
                        <a:pt x="250" y="40"/>
                      </a:lnTo>
                      <a:lnTo>
                        <a:pt x="247" y="55"/>
                      </a:lnTo>
                      <a:lnTo>
                        <a:pt x="247" y="72"/>
                      </a:lnTo>
                      <a:lnTo>
                        <a:pt x="250" y="92"/>
                      </a:lnTo>
                      <a:lnTo>
                        <a:pt x="254" y="107"/>
                      </a:lnTo>
                      <a:lnTo>
                        <a:pt x="260" y="122"/>
                      </a:lnTo>
                      <a:lnTo>
                        <a:pt x="266" y="135"/>
                      </a:lnTo>
                      <a:lnTo>
                        <a:pt x="271" y="153"/>
                      </a:lnTo>
                      <a:lnTo>
                        <a:pt x="273" y="170"/>
                      </a:lnTo>
                      <a:lnTo>
                        <a:pt x="274" y="187"/>
                      </a:lnTo>
                      <a:lnTo>
                        <a:pt x="276" y="206"/>
                      </a:lnTo>
                      <a:lnTo>
                        <a:pt x="276" y="223"/>
                      </a:lnTo>
                      <a:lnTo>
                        <a:pt x="272" y="251"/>
                      </a:lnTo>
                      <a:lnTo>
                        <a:pt x="267" y="268"/>
                      </a:lnTo>
                      <a:lnTo>
                        <a:pt x="253" y="292"/>
                      </a:lnTo>
                      <a:lnTo>
                        <a:pt x="241" y="317"/>
                      </a:lnTo>
                      <a:lnTo>
                        <a:pt x="232" y="341"/>
                      </a:lnTo>
                      <a:lnTo>
                        <a:pt x="226" y="327"/>
                      </a:lnTo>
                      <a:lnTo>
                        <a:pt x="221" y="312"/>
                      </a:lnTo>
                      <a:lnTo>
                        <a:pt x="218" y="297"/>
                      </a:lnTo>
                      <a:lnTo>
                        <a:pt x="216" y="273"/>
                      </a:lnTo>
                      <a:lnTo>
                        <a:pt x="222" y="230"/>
                      </a:lnTo>
                      <a:lnTo>
                        <a:pt x="224" y="218"/>
                      </a:lnTo>
                      <a:lnTo>
                        <a:pt x="224" y="204"/>
                      </a:lnTo>
                      <a:lnTo>
                        <a:pt x="224" y="189"/>
                      </a:lnTo>
                      <a:lnTo>
                        <a:pt x="222" y="171"/>
                      </a:lnTo>
                      <a:lnTo>
                        <a:pt x="218" y="153"/>
                      </a:lnTo>
                      <a:lnTo>
                        <a:pt x="211" y="136"/>
                      </a:lnTo>
                      <a:lnTo>
                        <a:pt x="199" y="111"/>
                      </a:lnTo>
                      <a:lnTo>
                        <a:pt x="205" y="140"/>
                      </a:lnTo>
                      <a:lnTo>
                        <a:pt x="210" y="165"/>
                      </a:lnTo>
                      <a:lnTo>
                        <a:pt x="210" y="186"/>
                      </a:lnTo>
                      <a:lnTo>
                        <a:pt x="207" y="202"/>
                      </a:lnTo>
                      <a:lnTo>
                        <a:pt x="203" y="218"/>
                      </a:lnTo>
                      <a:lnTo>
                        <a:pt x="196" y="236"/>
                      </a:lnTo>
                      <a:lnTo>
                        <a:pt x="178" y="277"/>
                      </a:lnTo>
                      <a:lnTo>
                        <a:pt x="177" y="252"/>
                      </a:lnTo>
                      <a:lnTo>
                        <a:pt x="178" y="230"/>
                      </a:lnTo>
                      <a:lnTo>
                        <a:pt x="180" y="210"/>
                      </a:lnTo>
                      <a:lnTo>
                        <a:pt x="169" y="230"/>
                      </a:lnTo>
                      <a:lnTo>
                        <a:pt x="163" y="248"/>
                      </a:lnTo>
                      <a:lnTo>
                        <a:pt x="159" y="267"/>
                      </a:lnTo>
                      <a:lnTo>
                        <a:pt x="155" y="289"/>
                      </a:lnTo>
                      <a:lnTo>
                        <a:pt x="156" y="317"/>
                      </a:lnTo>
                      <a:lnTo>
                        <a:pt x="161" y="344"/>
                      </a:lnTo>
                      <a:lnTo>
                        <a:pt x="168" y="366"/>
                      </a:lnTo>
                      <a:lnTo>
                        <a:pt x="180" y="393"/>
                      </a:lnTo>
                      <a:lnTo>
                        <a:pt x="197" y="429"/>
                      </a:lnTo>
                      <a:lnTo>
                        <a:pt x="169" y="388"/>
                      </a:lnTo>
                      <a:lnTo>
                        <a:pt x="163" y="377"/>
                      </a:lnTo>
                      <a:lnTo>
                        <a:pt x="150" y="360"/>
                      </a:lnTo>
                      <a:lnTo>
                        <a:pt x="135" y="344"/>
                      </a:lnTo>
                      <a:lnTo>
                        <a:pt x="111" y="324"/>
                      </a:lnTo>
                      <a:lnTo>
                        <a:pt x="126" y="346"/>
                      </a:lnTo>
                      <a:lnTo>
                        <a:pt x="133" y="359"/>
                      </a:lnTo>
                      <a:lnTo>
                        <a:pt x="142" y="373"/>
                      </a:lnTo>
                      <a:lnTo>
                        <a:pt x="156" y="402"/>
                      </a:lnTo>
                      <a:lnTo>
                        <a:pt x="167" y="426"/>
                      </a:lnTo>
                      <a:lnTo>
                        <a:pt x="183" y="466"/>
                      </a:lnTo>
                      <a:lnTo>
                        <a:pt x="163" y="460"/>
                      </a:lnTo>
                      <a:lnTo>
                        <a:pt x="146" y="447"/>
                      </a:lnTo>
                      <a:lnTo>
                        <a:pt x="128" y="432"/>
                      </a:lnTo>
                      <a:lnTo>
                        <a:pt x="112" y="417"/>
                      </a:lnTo>
                      <a:lnTo>
                        <a:pt x="92" y="398"/>
                      </a:lnTo>
                      <a:lnTo>
                        <a:pt x="77" y="387"/>
                      </a:lnTo>
                      <a:lnTo>
                        <a:pt x="64" y="379"/>
                      </a:lnTo>
                      <a:lnTo>
                        <a:pt x="51" y="372"/>
                      </a:lnTo>
                      <a:lnTo>
                        <a:pt x="37" y="368"/>
                      </a:lnTo>
                      <a:lnTo>
                        <a:pt x="23" y="366"/>
                      </a:lnTo>
                      <a:lnTo>
                        <a:pt x="0" y="362"/>
                      </a:lnTo>
                      <a:lnTo>
                        <a:pt x="20" y="370"/>
                      </a:lnTo>
                      <a:lnTo>
                        <a:pt x="42" y="381"/>
                      </a:lnTo>
                      <a:lnTo>
                        <a:pt x="58" y="391"/>
                      </a:lnTo>
                      <a:lnTo>
                        <a:pt x="68" y="399"/>
                      </a:lnTo>
                      <a:lnTo>
                        <a:pt x="86" y="420"/>
                      </a:lnTo>
                      <a:lnTo>
                        <a:pt x="102" y="443"/>
                      </a:lnTo>
                      <a:lnTo>
                        <a:pt x="123" y="468"/>
                      </a:lnTo>
                      <a:lnTo>
                        <a:pt x="139" y="479"/>
                      </a:lnTo>
                      <a:lnTo>
                        <a:pt x="161" y="491"/>
                      </a:lnTo>
                      <a:lnTo>
                        <a:pt x="198" y="507"/>
                      </a:lnTo>
                      <a:lnTo>
                        <a:pt x="229" y="513"/>
                      </a:lnTo>
                      <a:lnTo>
                        <a:pt x="267" y="509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3607560" y="3798720"/>
                  <a:ext cx="605160" cy="811440"/>
                </a:xfrm>
                <a:custGeom>
                  <a:avLst/>
                  <a:gdLst/>
                  <a:ahLst/>
                  <a:rect l="l" t="t" r="r" b="b"/>
                  <a:pathLst>
                    <a:path w="429" h="511">
                      <a:moveTo>
                        <a:pt x="262" y="506"/>
                      </a:moveTo>
                      <a:lnTo>
                        <a:pt x="279" y="502"/>
                      </a:lnTo>
                      <a:lnTo>
                        <a:pt x="306" y="494"/>
                      </a:lnTo>
                      <a:lnTo>
                        <a:pt x="326" y="483"/>
                      </a:lnTo>
                      <a:lnTo>
                        <a:pt x="338" y="469"/>
                      </a:lnTo>
                      <a:lnTo>
                        <a:pt x="347" y="454"/>
                      </a:lnTo>
                      <a:lnTo>
                        <a:pt x="353" y="441"/>
                      </a:lnTo>
                      <a:lnTo>
                        <a:pt x="359" y="423"/>
                      </a:lnTo>
                      <a:lnTo>
                        <a:pt x="363" y="400"/>
                      </a:lnTo>
                      <a:lnTo>
                        <a:pt x="366" y="375"/>
                      </a:lnTo>
                      <a:lnTo>
                        <a:pt x="366" y="358"/>
                      </a:lnTo>
                      <a:lnTo>
                        <a:pt x="369" y="344"/>
                      </a:lnTo>
                      <a:lnTo>
                        <a:pt x="372" y="335"/>
                      </a:lnTo>
                      <a:lnTo>
                        <a:pt x="377" y="325"/>
                      </a:lnTo>
                      <a:lnTo>
                        <a:pt x="383" y="313"/>
                      </a:lnTo>
                      <a:lnTo>
                        <a:pt x="388" y="304"/>
                      </a:lnTo>
                      <a:lnTo>
                        <a:pt x="395" y="295"/>
                      </a:lnTo>
                      <a:lnTo>
                        <a:pt x="400" y="289"/>
                      </a:lnTo>
                      <a:lnTo>
                        <a:pt x="408" y="283"/>
                      </a:lnTo>
                      <a:lnTo>
                        <a:pt x="428" y="276"/>
                      </a:lnTo>
                      <a:lnTo>
                        <a:pt x="405" y="280"/>
                      </a:lnTo>
                      <a:lnTo>
                        <a:pt x="391" y="284"/>
                      </a:lnTo>
                      <a:lnTo>
                        <a:pt x="377" y="292"/>
                      </a:lnTo>
                      <a:lnTo>
                        <a:pt x="366" y="299"/>
                      </a:lnTo>
                      <a:lnTo>
                        <a:pt x="356" y="308"/>
                      </a:lnTo>
                      <a:lnTo>
                        <a:pt x="348" y="319"/>
                      </a:lnTo>
                      <a:lnTo>
                        <a:pt x="337" y="332"/>
                      </a:lnTo>
                      <a:lnTo>
                        <a:pt x="328" y="343"/>
                      </a:lnTo>
                      <a:lnTo>
                        <a:pt x="321" y="355"/>
                      </a:lnTo>
                      <a:lnTo>
                        <a:pt x="328" y="338"/>
                      </a:lnTo>
                      <a:lnTo>
                        <a:pt x="333" y="324"/>
                      </a:lnTo>
                      <a:lnTo>
                        <a:pt x="336" y="308"/>
                      </a:lnTo>
                      <a:lnTo>
                        <a:pt x="338" y="287"/>
                      </a:lnTo>
                      <a:lnTo>
                        <a:pt x="337" y="266"/>
                      </a:lnTo>
                      <a:lnTo>
                        <a:pt x="334" y="247"/>
                      </a:lnTo>
                      <a:lnTo>
                        <a:pt x="331" y="227"/>
                      </a:lnTo>
                      <a:lnTo>
                        <a:pt x="326" y="211"/>
                      </a:lnTo>
                      <a:lnTo>
                        <a:pt x="322" y="195"/>
                      </a:lnTo>
                      <a:lnTo>
                        <a:pt x="314" y="178"/>
                      </a:lnTo>
                      <a:lnTo>
                        <a:pt x="303" y="158"/>
                      </a:lnTo>
                      <a:lnTo>
                        <a:pt x="294" y="146"/>
                      </a:lnTo>
                      <a:lnTo>
                        <a:pt x="282" y="126"/>
                      </a:lnTo>
                      <a:lnTo>
                        <a:pt x="272" y="104"/>
                      </a:lnTo>
                      <a:lnTo>
                        <a:pt x="264" y="85"/>
                      </a:lnTo>
                      <a:lnTo>
                        <a:pt x="259" y="71"/>
                      </a:lnTo>
                      <a:lnTo>
                        <a:pt x="257" y="56"/>
                      </a:lnTo>
                      <a:lnTo>
                        <a:pt x="254" y="40"/>
                      </a:lnTo>
                      <a:lnTo>
                        <a:pt x="254" y="27"/>
                      </a:lnTo>
                      <a:lnTo>
                        <a:pt x="255" y="15"/>
                      </a:lnTo>
                      <a:lnTo>
                        <a:pt x="256" y="0"/>
                      </a:lnTo>
                      <a:lnTo>
                        <a:pt x="249" y="21"/>
                      </a:lnTo>
                      <a:lnTo>
                        <a:pt x="245" y="39"/>
                      </a:lnTo>
                      <a:lnTo>
                        <a:pt x="243" y="56"/>
                      </a:lnTo>
                      <a:lnTo>
                        <a:pt x="242" y="71"/>
                      </a:lnTo>
                      <a:lnTo>
                        <a:pt x="244" y="91"/>
                      </a:lnTo>
                      <a:lnTo>
                        <a:pt x="249" y="106"/>
                      </a:lnTo>
                      <a:lnTo>
                        <a:pt x="254" y="121"/>
                      </a:lnTo>
                      <a:lnTo>
                        <a:pt x="260" y="134"/>
                      </a:lnTo>
                      <a:lnTo>
                        <a:pt x="265" y="152"/>
                      </a:lnTo>
                      <a:lnTo>
                        <a:pt x="267" y="169"/>
                      </a:lnTo>
                      <a:lnTo>
                        <a:pt x="268" y="186"/>
                      </a:lnTo>
                      <a:lnTo>
                        <a:pt x="269" y="204"/>
                      </a:lnTo>
                      <a:lnTo>
                        <a:pt x="269" y="222"/>
                      </a:lnTo>
                      <a:lnTo>
                        <a:pt x="267" y="249"/>
                      </a:lnTo>
                      <a:lnTo>
                        <a:pt x="261" y="266"/>
                      </a:lnTo>
                      <a:lnTo>
                        <a:pt x="248" y="290"/>
                      </a:lnTo>
                      <a:lnTo>
                        <a:pt x="236" y="315"/>
                      </a:lnTo>
                      <a:lnTo>
                        <a:pt x="228" y="339"/>
                      </a:lnTo>
                      <a:lnTo>
                        <a:pt x="221" y="325"/>
                      </a:lnTo>
                      <a:lnTo>
                        <a:pt x="217" y="310"/>
                      </a:lnTo>
                      <a:lnTo>
                        <a:pt x="214" y="295"/>
                      </a:lnTo>
                      <a:lnTo>
                        <a:pt x="212" y="271"/>
                      </a:lnTo>
                      <a:lnTo>
                        <a:pt x="217" y="229"/>
                      </a:lnTo>
                      <a:lnTo>
                        <a:pt x="219" y="217"/>
                      </a:lnTo>
                      <a:lnTo>
                        <a:pt x="219" y="202"/>
                      </a:lnTo>
                      <a:lnTo>
                        <a:pt x="219" y="188"/>
                      </a:lnTo>
                      <a:lnTo>
                        <a:pt x="217" y="170"/>
                      </a:lnTo>
                      <a:lnTo>
                        <a:pt x="214" y="152"/>
                      </a:lnTo>
                      <a:lnTo>
                        <a:pt x="207" y="135"/>
                      </a:lnTo>
                      <a:lnTo>
                        <a:pt x="195" y="111"/>
                      </a:lnTo>
                      <a:lnTo>
                        <a:pt x="202" y="140"/>
                      </a:lnTo>
                      <a:lnTo>
                        <a:pt x="205" y="164"/>
                      </a:lnTo>
                      <a:lnTo>
                        <a:pt x="205" y="184"/>
                      </a:lnTo>
                      <a:lnTo>
                        <a:pt x="203" y="201"/>
                      </a:lnTo>
                      <a:lnTo>
                        <a:pt x="199" y="216"/>
                      </a:lnTo>
                      <a:lnTo>
                        <a:pt x="192" y="235"/>
                      </a:lnTo>
                      <a:lnTo>
                        <a:pt x="174" y="276"/>
                      </a:lnTo>
                      <a:lnTo>
                        <a:pt x="173" y="250"/>
                      </a:lnTo>
                      <a:lnTo>
                        <a:pt x="175" y="229"/>
                      </a:lnTo>
                      <a:lnTo>
                        <a:pt x="177" y="208"/>
                      </a:lnTo>
                      <a:lnTo>
                        <a:pt x="166" y="229"/>
                      </a:lnTo>
                      <a:lnTo>
                        <a:pt x="160" y="246"/>
                      </a:lnTo>
                      <a:lnTo>
                        <a:pt x="156" y="265"/>
                      </a:lnTo>
                      <a:lnTo>
                        <a:pt x="153" y="287"/>
                      </a:lnTo>
                      <a:lnTo>
                        <a:pt x="154" y="315"/>
                      </a:lnTo>
                      <a:lnTo>
                        <a:pt x="158" y="341"/>
                      </a:lnTo>
                      <a:lnTo>
                        <a:pt x="165" y="363"/>
                      </a:lnTo>
                      <a:lnTo>
                        <a:pt x="176" y="391"/>
                      </a:lnTo>
                      <a:lnTo>
                        <a:pt x="193" y="426"/>
                      </a:lnTo>
                      <a:lnTo>
                        <a:pt x="166" y="385"/>
                      </a:lnTo>
                      <a:lnTo>
                        <a:pt x="159" y="374"/>
                      </a:lnTo>
                      <a:lnTo>
                        <a:pt x="148" y="358"/>
                      </a:lnTo>
                      <a:lnTo>
                        <a:pt x="133" y="341"/>
                      </a:lnTo>
                      <a:lnTo>
                        <a:pt x="109" y="322"/>
                      </a:lnTo>
                      <a:lnTo>
                        <a:pt x="124" y="344"/>
                      </a:lnTo>
                      <a:lnTo>
                        <a:pt x="132" y="357"/>
                      </a:lnTo>
                      <a:lnTo>
                        <a:pt x="139" y="371"/>
                      </a:lnTo>
                      <a:lnTo>
                        <a:pt x="154" y="400"/>
                      </a:lnTo>
                      <a:lnTo>
                        <a:pt x="164" y="424"/>
                      </a:lnTo>
                      <a:lnTo>
                        <a:pt x="179" y="463"/>
                      </a:lnTo>
                      <a:lnTo>
                        <a:pt x="161" y="457"/>
                      </a:lnTo>
                      <a:lnTo>
                        <a:pt x="144" y="445"/>
                      </a:lnTo>
                      <a:lnTo>
                        <a:pt x="125" y="429"/>
                      </a:lnTo>
                      <a:lnTo>
                        <a:pt x="111" y="414"/>
                      </a:lnTo>
                      <a:lnTo>
                        <a:pt x="91" y="396"/>
                      </a:lnTo>
                      <a:lnTo>
                        <a:pt x="76" y="385"/>
                      </a:lnTo>
                      <a:lnTo>
                        <a:pt x="64" y="376"/>
                      </a:lnTo>
                      <a:lnTo>
                        <a:pt x="51" y="369"/>
                      </a:lnTo>
                      <a:lnTo>
                        <a:pt x="38" y="366"/>
                      </a:lnTo>
                      <a:lnTo>
                        <a:pt x="24" y="363"/>
                      </a:lnTo>
                      <a:lnTo>
                        <a:pt x="0" y="361"/>
                      </a:lnTo>
                      <a:lnTo>
                        <a:pt x="21" y="367"/>
                      </a:lnTo>
                      <a:lnTo>
                        <a:pt x="43" y="378"/>
                      </a:lnTo>
                      <a:lnTo>
                        <a:pt x="58" y="389"/>
                      </a:lnTo>
                      <a:lnTo>
                        <a:pt x="68" y="397"/>
                      </a:lnTo>
                      <a:lnTo>
                        <a:pt x="85" y="417"/>
                      </a:lnTo>
                      <a:lnTo>
                        <a:pt x="101" y="440"/>
                      </a:lnTo>
                      <a:lnTo>
                        <a:pt x="121" y="465"/>
                      </a:lnTo>
                      <a:lnTo>
                        <a:pt x="137" y="476"/>
                      </a:lnTo>
                      <a:lnTo>
                        <a:pt x="158" y="489"/>
                      </a:lnTo>
                      <a:lnTo>
                        <a:pt x="194" y="504"/>
                      </a:lnTo>
                      <a:lnTo>
                        <a:pt x="225" y="510"/>
                      </a:lnTo>
                      <a:lnTo>
                        <a:pt x="262" y="506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3610080" y="3821040"/>
                  <a:ext cx="588240" cy="797040"/>
                </a:xfrm>
                <a:custGeom>
                  <a:avLst/>
                  <a:gdLst/>
                  <a:ahLst/>
                  <a:rect l="l" t="t" r="r" b="b"/>
                  <a:pathLst>
                    <a:path w="417" h="502">
                      <a:moveTo>
                        <a:pt x="255" y="497"/>
                      </a:moveTo>
                      <a:lnTo>
                        <a:pt x="272" y="493"/>
                      </a:lnTo>
                      <a:lnTo>
                        <a:pt x="299" y="485"/>
                      </a:lnTo>
                      <a:lnTo>
                        <a:pt x="319" y="474"/>
                      </a:lnTo>
                      <a:lnTo>
                        <a:pt x="330" y="461"/>
                      </a:lnTo>
                      <a:lnTo>
                        <a:pt x="339" y="446"/>
                      </a:lnTo>
                      <a:lnTo>
                        <a:pt x="345" y="433"/>
                      </a:lnTo>
                      <a:lnTo>
                        <a:pt x="351" y="415"/>
                      </a:lnTo>
                      <a:lnTo>
                        <a:pt x="355" y="393"/>
                      </a:lnTo>
                      <a:lnTo>
                        <a:pt x="358" y="369"/>
                      </a:lnTo>
                      <a:lnTo>
                        <a:pt x="358" y="352"/>
                      </a:lnTo>
                      <a:lnTo>
                        <a:pt x="361" y="338"/>
                      </a:lnTo>
                      <a:lnTo>
                        <a:pt x="363" y="330"/>
                      </a:lnTo>
                      <a:lnTo>
                        <a:pt x="369" y="318"/>
                      </a:lnTo>
                      <a:lnTo>
                        <a:pt x="374" y="307"/>
                      </a:lnTo>
                      <a:lnTo>
                        <a:pt x="380" y="298"/>
                      </a:lnTo>
                      <a:lnTo>
                        <a:pt x="386" y="290"/>
                      </a:lnTo>
                      <a:lnTo>
                        <a:pt x="391" y="284"/>
                      </a:lnTo>
                      <a:lnTo>
                        <a:pt x="399" y="279"/>
                      </a:lnTo>
                      <a:lnTo>
                        <a:pt x="416" y="268"/>
                      </a:lnTo>
                      <a:lnTo>
                        <a:pt x="396" y="274"/>
                      </a:lnTo>
                      <a:lnTo>
                        <a:pt x="382" y="279"/>
                      </a:lnTo>
                      <a:lnTo>
                        <a:pt x="369" y="286"/>
                      </a:lnTo>
                      <a:lnTo>
                        <a:pt x="358" y="294"/>
                      </a:lnTo>
                      <a:lnTo>
                        <a:pt x="348" y="302"/>
                      </a:lnTo>
                      <a:lnTo>
                        <a:pt x="340" y="312"/>
                      </a:lnTo>
                      <a:lnTo>
                        <a:pt x="329" y="327"/>
                      </a:lnTo>
                      <a:lnTo>
                        <a:pt x="321" y="337"/>
                      </a:lnTo>
                      <a:lnTo>
                        <a:pt x="314" y="349"/>
                      </a:lnTo>
                      <a:lnTo>
                        <a:pt x="321" y="332"/>
                      </a:lnTo>
                      <a:lnTo>
                        <a:pt x="325" y="318"/>
                      </a:lnTo>
                      <a:lnTo>
                        <a:pt x="329" y="302"/>
                      </a:lnTo>
                      <a:lnTo>
                        <a:pt x="330" y="282"/>
                      </a:lnTo>
                      <a:lnTo>
                        <a:pt x="330" y="261"/>
                      </a:lnTo>
                      <a:lnTo>
                        <a:pt x="327" y="242"/>
                      </a:lnTo>
                      <a:lnTo>
                        <a:pt x="323" y="223"/>
                      </a:lnTo>
                      <a:lnTo>
                        <a:pt x="319" y="207"/>
                      </a:lnTo>
                      <a:lnTo>
                        <a:pt x="314" y="191"/>
                      </a:lnTo>
                      <a:lnTo>
                        <a:pt x="307" y="176"/>
                      </a:lnTo>
                      <a:lnTo>
                        <a:pt x="295" y="156"/>
                      </a:lnTo>
                      <a:lnTo>
                        <a:pt x="287" y="143"/>
                      </a:lnTo>
                      <a:lnTo>
                        <a:pt x="276" y="124"/>
                      </a:lnTo>
                      <a:lnTo>
                        <a:pt x="265" y="103"/>
                      </a:lnTo>
                      <a:lnTo>
                        <a:pt x="258" y="84"/>
                      </a:lnTo>
                      <a:lnTo>
                        <a:pt x="254" y="70"/>
                      </a:lnTo>
                      <a:lnTo>
                        <a:pt x="250" y="55"/>
                      </a:lnTo>
                      <a:lnTo>
                        <a:pt x="249" y="40"/>
                      </a:lnTo>
                      <a:lnTo>
                        <a:pt x="249" y="27"/>
                      </a:lnTo>
                      <a:lnTo>
                        <a:pt x="249" y="15"/>
                      </a:lnTo>
                      <a:lnTo>
                        <a:pt x="250" y="0"/>
                      </a:lnTo>
                      <a:lnTo>
                        <a:pt x="243" y="21"/>
                      </a:lnTo>
                      <a:lnTo>
                        <a:pt x="239" y="39"/>
                      </a:lnTo>
                      <a:lnTo>
                        <a:pt x="236" y="55"/>
                      </a:lnTo>
                      <a:lnTo>
                        <a:pt x="236" y="70"/>
                      </a:lnTo>
                      <a:lnTo>
                        <a:pt x="239" y="89"/>
                      </a:lnTo>
                      <a:lnTo>
                        <a:pt x="243" y="105"/>
                      </a:lnTo>
                      <a:lnTo>
                        <a:pt x="248" y="119"/>
                      </a:lnTo>
                      <a:lnTo>
                        <a:pt x="254" y="132"/>
                      </a:lnTo>
                      <a:lnTo>
                        <a:pt x="259" y="149"/>
                      </a:lnTo>
                      <a:lnTo>
                        <a:pt x="261" y="166"/>
                      </a:lnTo>
                      <a:lnTo>
                        <a:pt x="262" y="183"/>
                      </a:lnTo>
                      <a:lnTo>
                        <a:pt x="263" y="201"/>
                      </a:lnTo>
                      <a:lnTo>
                        <a:pt x="263" y="218"/>
                      </a:lnTo>
                      <a:lnTo>
                        <a:pt x="260" y="245"/>
                      </a:lnTo>
                      <a:lnTo>
                        <a:pt x="255" y="261"/>
                      </a:lnTo>
                      <a:lnTo>
                        <a:pt x="242" y="285"/>
                      </a:lnTo>
                      <a:lnTo>
                        <a:pt x="231" y="309"/>
                      </a:lnTo>
                      <a:lnTo>
                        <a:pt x="222" y="333"/>
                      </a:lnTo>
                      <a:lnTo>
                        <a:pt x="216" y="319"/>
                      </a:lnTo>
                      <a:lnTo>
                        <a:pt x="211" y="305"/>
                      </a:lnTo>
                      <a:lnTo>
                        <a:pt x="208" y="290"/>
                      </a:lnTo>
                      <a:lnTo>
                        <a:pt x="207" y="266"/>
                      </a:lnTo>
                      <a:lnTo>
                        <a:pt x="212" y="225"/>
                      </a:lnTo>
                      <a:lnTo>
                        <a:pt x="214" y="213"/>
                      </a:lnTo>
                      <a:lnTo>
                        <a:pt x="214" y="199"/>
                      </a:lnTo>
                      <a:lnTo>
                        <a:pt x="214" y="185"/>
                      </a:lnTo>
                      <a:lnTo>
                        <a:pt x="212" y="167"/>
                      </a:lnTo>
                      <a:lnTo>
                        <a:pt x="208" y="149"/>
                      </a:lnTo>
                      <a:lnTo>
                        <a:pt x="202" y="133"/>
                      </a:lnTo>
                      <a:lnTo>
                        <a:pt x="190" y="109"/>
                      </a:lnTo>
                      <a:lnTo>
                        <a:pt x="196" y="137"/>
                      </a:lnTo>
                      <a:lnTo>
                        <a:pt x="200" y="161"/>
                      </a:lnTo>
                      <a:lnTo>
                        <a:pt x="200" y="181"/>
                      </a:lnTo>
                      <a:lnTo>
                        <a:pt x="198" y="198"/>
                      </a:lnTo>
                      <a:lnTo>
                        <a:pt x="194" y="212"/>
                      </a:lnTo>
                      <a:lnTo>
                        <a:pt x="187" y="231"/>
                      </a:lnTo>
                      <a:lnTo>
                        <a:pt x="170" y="271"/>
                      </a:lnTo>
                      <a:lnTo>
                        <a:pt x="169" y="246"/>
                      </a:lnTo>
                      <a:lnTo>
                        <a:pt x="170" y="224"/>
                      </a:lnTo>
                      <a:lnTo>
                        <a:pt x="172" y="205"/>
                      </a:lnTo>
                      <a:lnTo>
                        <a:pt x="161" y="225"/>
                      </a:lnTo>
                      <a:lnTo>
                        <a:pt x="156" y="242"/>
                      </a:lnTo>
                      <a:lnTo>
                        <a:pt x="152" y="261"/>
                      </a:lnTo>
                      <a:lnTo>
                        <a:pt x="149" y="282"/>
                      </a:lnTo>
                      <a:lnTo>
                        <a:pt x="150" y="309"/>
                      </a:lnTo>
                      <a:lnTo>
                        <a:pt x="154" y="336"/>
                      </a:lnTo>
                      <a:lnTo>
                        <a:pt x="161" y="357"/>
                      </a:lnTo>
                      <a:lnTo>
                        <a:pt x="172" y="384"/>
                      </a:lnTo>
                      <a:lnTo>
                        <a:pt x="188" y="419"/>
                      </a:lnTo>
                      <a:lnTo>
                        <a:pt x="161" y="378"/>
                      </a:lnTo>
                      <a:lnTo>
                        <a:pt x="155" y="368"/>
                      </a:lnTo>
                      <a:lnTo>
                        <a:pt x="144" y="352"/>
                      </a:lnTo>
                      <a:lnTo>
                        <a:pt x="129" y="336"/>
                      </a:lnTo>
                      <a:lnTo>
                        <a:pt x="106" y="316"/>
                      </a:lnTo>
                      <a:lnTo>
                        <a:pt x="120" y="338"/>
                      </a:lnTo>
                      <a:lnTo>
                        <a:pt x="128" y="351"/>
                      </a:lnTo>
                      <a:lnTo>
                        <a:pt x="135" y="364"/>
                      </a:lnTo>
                      <a:lnTo>
                        <a:pt x="150" y="393"/>
                      </a:lnTo>
                      <a:lnTo>
                        <a:pt x="160" y="416"/>
                      </a:lnTo>
                      <a:lnTo>
                        <a:pt x="175" y="455"/>
                      </a:lnTo>
                      <a:lnTo>
                        <a:pt x="156" y="449"/>
                      </a:lnTo>
                      <a:lnTo>
                        <a:pt x="140" y="437"/>
                      </a:lnTo>
                      <a:lnTo>
                        <a:pt x="122" y="422"/>
                      </a:lnTo>
                      <a:lnTo>
                        <a:pt x="107" y="407"/>
                      </a:lnTo>
                      <a:lnTo>
                        <a:pt x="88" y="389"/>
                      </a:lnTo>
                      <a:lnTo>
                        <a:pt x="74" y="378"/>
                      </a:lnTo>
                      <a:lnTo>
                        <a:pt x="61" y="370"/>
                      </a:lnTo>
                      <a:lnTo>
                        <a:pt x="49" y="363"/>
                      </a:lnTo>
                      <a:lnTo>
                        <a:pt x="35" y="360"/>
                      </a:lnTo>
                      <a:lnTo>
                        <a:pt x="23" y="357"/>
                      </a:lnTo>
                      <a:lnTo>
                        <a:pt x="0" y="354"/>
                      </a:lnTo>
                      <a:lnTo>
                        <a:pt x="20" y="361"/>
                      </a:lnTo>
                      <a:lnTo>
                        <a:pt x="41" y="372"/>
                      </a:lnTo>
                      <a:lnTo>
                        <a:pt x="56" y="382"/>
                      </a:lnTo>
                      <a:lnTo>
                        <a:pt x="65" y="390"/>
                      </a:lnTo>
                      <a:lnTo>
                        <a:pt x="83" y="410"/>
                      </a:lnTo>
                      <a:lnTo>
                        <a:pt x="98" y="432"/>
                      </a:lnTo>
                      <a:lnTo>
                        <a:pt x="118" y="457"/>
                      </a:lnTo>
                      <a:lnTo>
                        <a:pt x="133" y="468"/>
                      </a:lnTo>
                      <a:lnTo>
                        <a:pt x="154" y="480"/>
                      </a:lnTo>
                      <a:lnTo>
                        <a:pt x="189" y="495"/>
                      </a:lnTo>
                      <a:lnTo>
                        <a:pt x="219" y="501"/>
                      </a:lnTo>
                      <a:lnTo>
                        <a:pt x="255" y="497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3600360" y="3822840"/>
                  <a:ext cx="587880" cy="784080"/>
                </a:xfrm>
                <a:custGeom>
                  <a:avLst/>
                  <a:gdLst/>
                  <a:ahLst/>
                  <a:rect l="l" t="t" r="r" b="b"/>
                  <a:pathLst>
                    <a:path w="417" h="494">
                      <a:moveTo>
                        <a:pt x="259" y="489"/>
                      </a:moveTo>
                      <a:lnTo>
                        <a:pt x="276" y="486"/>
                      </a:lnTo>
                      <a:lnTo>
                        <a:pt x="302" y="478"/>
                      </a:lnTo>
                      <a:lnTo>
                        <a:pt x="321" y="466"/>
                      </a:lnTo>
                      <a:lnTo>
                        <a:pt x="332" y="454"/>
                      </a:lnTo>
                      <a:lnTo>
                        <a:pt x="340" y="440"/>
                      </a:lnTo>
                      <a:lnTo>
                        <a:pt x="347" y="427"/>
                      </a:lnTo>
                      <a:lnTo>
                        <a:pt x="353" y="410"/>
                      </a:lnTo>
                      <a:lnTo>
                        <a:pt x="356" y="388"/>
                      </a:lnTo>
                      <a:lnTo>
                        <a:pt x="359" y="364"/>
                      </a:lnTo>
                      <a:lnTo>
                        <a:pt x="359" y="348"/>
                      </a:lnTo>
                      <a:lnTo>
                        <a:pt x="362" y="335"/>
                      </a:lnTo>
                      <a:lnTo>
                        <a:pt x="364" y="326"/>
                      </a:lnTo>
                      <a:lnTo>
                        <a:pt x="369" y="316"/>
                      </a:lnTo>
                      <a:lnTo>
                        <a:pt x="375" y="304"/>
                      </a:lnTo>
                      <a:lnTo>
                        <a:pt x="380" y="296"/>
                      </a:lnTo>
                      <a:lnTo>
                        <a:pt x="387" y="288"/>
                      </a:lnTo>
                      <a:lnTo>
                        <a:pt x="392" y="282"/>
                      </a:lnTo>
                      <a:lnTo>
                        <a:pt x="400" y="277"/>
                      </a:lnTo>
                      <a:lnTo>
                        <a:pt x="416" y="266"/>
                      </a:lnTo>
                      <a:lnTo>
                        <a:pt x="396" y="272"/>
                      </a:lnTo>
                      <a:lnTo>
                        <a:pt x="383" y="277"/>
                      </a:lnTo>
                      <a:lnTo>
                        <a:pt x="369" y="284"/>
                      </a:lnTo>
                      <a:lnTo>
                        <a:pt x="359" y="292"/>
                      </a:lnTo>
                      <a:lnTo>
                        <a:pt x="349" y="299"/>
                      </a:lnTo>
                      <a:lnTo>
                        <a:pt x="341" y="310"/>
                      </a:lnTo>
                      <a:lnTo>
                        <a:pt x="331" y="323"/>
                      </a:lnTo>
                      <a:lnTo>
                        <a:pt x="323" y="334"/>
                      </a:lnTo>
                      <a:lnTo>
                        <a:pt x="316" y="345"/>
                      </a:lnTo>
                      <a:lnTo>
                        <a:pt x="322" y="329"/>
                      </a:lnTo>
                      <a:lnTo>
                        <a:pt x="327" y="315"/>
                      </a:lnTo>
                      <a:lnTo>
                        <a:pt x="331" y="299"/>
                      </a:lnTo>
                      <a:lnTo>
                        <a:pt x="332" y="280"/>
                      </a:lnTo>
                      <a:lnTo>
                        <a:pt x="332" y="260"/>
                      </a:lnTo>
                      <a:lnTo>
                        <a:pt x="329" y="241"/>
                      </a:lnTo>
                      <a:lnTo>
                        <a:pt x="325" y="223"/>
                      </a:lnTo>
                      <a:lnTo>
                        <a:pt x="321" y="207"/>
                      </a:lnTo>
                      <a:lnTo>
                        <a:pt x="316" y="192"/>
                      </a:lnTo>
                      <a:lnTo>
                        <a:pt x="310" y="176"/>
                      </a:lnTo>
                      <a:lnTo>
                        <a:pt x="298" y="157"/>
                      </a:lnTo>
                      <a:lnTo>
                        <a:pt x="290" y="145"/>
                      </a:lnTo>
                      <a:lnTo>
                        <a:pt x="279" y="126"/>
                      </a:lnTo>
                      <a:lnTo>
                        <a:pt x="269" y="105"/>
                      </a:lnTo>
                      <a:lnTo>
                        <a:pt x="262" y="87"/>
                      </a:lnTo>
                      <a:lnTo>
                        <a:pt x="257" y="74"/>
                      </a:lnTo>
                      <a:lnTo>
                        <a:pt x="254" y="59"/>
                      </a:lnTo>
                      <a:lnTo>
                        <a:pt x="252" y="44"/>
                      </a:lnTo>
                      <a:lnTo>
                        <a:pt x="252" y="32"/>
                      </a:lnTo>
                      <a:lnTo>
                        <a:pt x="251" y="18"/>
                      </a:lnTo>
                      <a:lnTo>
                        <a:pt x="255" y="0"/>
                      </a:lnTo>
                      <a:lnTo>
                        <a:pt x="246" y="15"/>
                      </a:lnTo>
                      <a:lnTo>
                        <a:pt x="241" y="36"/>
                      </a:lnTo>
                      <a:lnTo>
                        <a:pt x="241" y="58"/>
                      </a:lnTo>
                      <a:lnTo>
                        <a:pt x="240" y="74"/>
                      </a:lnTo>
                      <a:lnTo>
                        <a:pt x="242" y="93"/>
                      </a:lnTo>
                      <a:lnTo>
                        <a:pt x="247" y="108"/>
                      </a:lnTo>
                      <a:lnTo>
                        <a:pt x="252" y="122"/>
                      </a:lnTo>
                      <a:lnTo>
                        <a:pt x="258" y="134"/>
                      </a:lnTo>
                      <a:lnTo>
                        <a:pt x="263" y="150"/>
                      </a:lnTo>
                      <a:lnTo>
                        <a:pt x="264" y="167"/>
                      </a:lnTo>
                      <a:lnTo>
                        <a:pt x="266" y="184"/>
                      </a:lnTo>
                      <a:lnTo>
                        <a:pt x="266" y="201"/>
                      </a:lnTo>
                      <a:lnTo>
                        <a:pt x="266" y="217"/>
                      </a:lnTo>
                      <a:lnTo>
                        <a:pt x="264" y="244"/>
                      </a:lnTo>
                      <a:lnTo>
                        <a:pt x="259" y="260"/>
                      </a:lnTo>
                      <a:lnTo>
                        <a:pt x="245" y="283"/>
                      </a:lnTo>
                      <a:lnTo>
                        <a:pt x="235" y="306"/>
                      </a:lnTo>
                      <a:lnTo>
                        <a:pt x="226" y="329"/>
                      </a:lnTo>
                      <a:lnTo>
                        <a:pt x="220" y="317"/>
                      </a:lnTo>
                      <a:lnTo>
                        <a:pt x="216" y="302"/>
                      </a:lnTo>
                      <a:lnTo>
                        <a:pt x="213" y="288"/>
                      </a:lnTo>
                      <a:lnTo>
                        <a:pt x="211" y="265"/>
                      </a:lnTo>
                      <a:lnTo>
                        <a:pt x="217" y="225"/>
                      </a:lnTo>
                      <a:lnTo>
                        <a:pt x="218" y="213"/>
                      </a:lnTo>
                      <a:lnTo>
                        <a:pt x="218" y="199"/>
                      </a:lnTo>
                      <a:lnTo>
                        <a:pt x="218" y="186"/>
                      </a:lnTo>
                      <a:lnTo>
                        <a:pt x="217" y="168"/>
                      </a:lnTo>
                      <a:lnTo>
                        <a:pt x="213" y="151"/>
                      </a:lnTo>
                      <a:lnTo>
                        <a:pt x="207" y="134"/>
                      </a:lnTo>
                      <a:lnTo>
                        <a:pt x="195" y="111"/>
                      </a:lnTo>
                      <a:lnTo>
                        <a:pt x="202" y="139"/>
                      </a:lnTo>
                      <a:lnTo>
                        <a:pt x="205" y="162"/>
                      </a:lnTo>
                      <a:lnTo>
                        <a:pt x="205" y="181"/>
                      </a:lnTo>
                      <a:lnTo>
                        <a:pt x="203" y="198"/>
                      </a:lnTo>
                      <a:lnTo>
                        <a:pt x="199" y="212"/>
                      </a:lnTo>
                      <a:lnTo>
                        <a:pt x="192" y="230"/>
                      </a:lnTo>
                      <a:lnTo>
                        <a:pt x="176" y="269"/>
                      </a:lnTo>
                      <a:lnTo>
                        <a:pt x="174" y="245"/>
                      </a:lnTo>
                      <a:lnTo>
                        <a:pt x="176" y="224"/>
                      </a:lnTo>
                      <a:lnTo>
                        <a:pt x="178" y="205"/>
                      </a:lnTo>
                      <a:lnTo>
                        <a:pt x="167" y="224"/>
                      </a:lnTo>
                      <a:lnTo>
                        <a:pt x="162" y="241"/>
                      </a:lnTo>
                      <a:lnTo>
                        <a:pt x="158" y="259"/>
                      </a:lnTo>
                      <a:lnTo>
                        <a:pt x="155" y="281"/>
                      </a:lnTo>
                      <a:lnTo>
                        <a:pt x="156" y="306"/>
                      </a:lnTo>
                      <a:lnTo>
                        <a:pt x="160" y="332"/>
                      </a:lnTo>
                      <a:lnTo>
                        <a:pt x="167" y="353"/>
                      </a:lnTo>
                      <a:lnTo>
                        <a:pt x="177" y="379"/>
                      </a:lnTo>
                      <a:lnTo>
                        <a:pt x="193" y="413"/>
                      </a:lnTo>
                      <a:lnTo>
                        <a:pt x="167" y="374"/>
                      </a:lnTo>
                      <a:lnTo>
                        <a:pt x="161" y="363"/>
                      </a:lnTo>
                      <a:lnTo>
                        <a:pt x="150" y="347"/>
                      </a:lnTo>
                      <a:lnTo>
                        <a:pt x="136" y="332"/>
                      </a:lnTo>
                      <a:lnTo>
                        <a:pt x="114" y="314"/>
                      </a:lnTo>
                      <a:lnTo>
                        <a:pt x="127" y="334"/>
                      </a:lnTo>
                      <a:lnTo>
                        <a:pt x="135" y="347"/>
                      </a:lnTo>
                      <a:lnTo>
                        <a:pt x="142" y="360"/>
                      </a:lnTo>
                      <a:lnTo>
                        <a:pt x="156" y="388"/>
                      </a:lnTo>
                      <a:lnTo>
                        <a:pt x="166" y="411"/>
                      </a:lnTo>
                      <a:lnTo>
                        <a:pt x="180" y="448"/>
                      </a:lnTo>
                      <a:lnTo>
                        <a:pt x="162" y="442"/>
                      </a:lnTo>
                      <a:lnTo>
                        <a:pt x="146" y="430"/>
                      </a:lnTo>
                      <a:lnTo>
                        <a:pt x="129" y="416"/>
                      </a:lnTo>
                      <a:lnTo>
                        <a:pt x="114" y="402"/>
                      </a:lnTo>
                      <a:lnTo>
                        <a:pt x="95" y="384"/>
                      </a:lnTo>
                      <a:lnTo>
                        <a:pt x="82" y="374"/>
                      </a:lnTo>
                      <a:lnTo>
                        <a:pt x="70" y="365"/>
                      </a:lnTo>
                      <a:lnTo>
                        <a:pt x="57" y="359"/>
                      </a:lnTo>
                      <a:lnTo>
                        <a:pt x="44" y="356"/>
                      </a:lnTo>
                      <a:lnTo>
                        <a:pt x="31" y="353"/>
                      </a:lnTo>
                      <a:lnTo>
                        <a:pt x="0" y="347"/>
                      </a:lnTo>
                      <a:lnTo>
                        <a:pt x="29" y="357"/>
                      </a:lnTo>
                      <a:lnTo>
                        <a:pt x="50" y="367"/>
                      </a:lnTo>
                      <a:lnTo>
                        <a:pt x="64" y="377"/>
                      </a:lnTo>
                      <a:lnTo>
                        <a:pt x="74" y="385"/>
                      </a:lnTo>
                      <a:lnTo>
                        <a:pt x="90" y="405"/>
                      </a:lnTo>
                      <a:lnTo>
                        <a:pt x="105" y="426"/>
                      </a:lnTo>
                      <a:lnTo>
                        <a:pt x="124" y="450"/>
                      </a:lnTo>
                      <a:lnTo>
                        <a:pt x="139" y="461"/>
                      </a:lnTo>
                      <a:lnTo>
                        <a:pt x="160" y="472"/>
                      </a:lnTo>
                      <a:lnTo>
                        <a:pt x="194" y="487"/>
                      </a:lnTo>
                      <a:lnTo>
                        <a:pt x="223" y="493"/>
                      </a:lnTo>
                      <a:lnTo>
                        <a:pt x="259" y="489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3596040" y="3825720"/>
                  <a:ext cx="584280" cy="781200"/>
                </a:xfrm>
                <a:custGeom>
                  <a:avLst/>
                  <a:gdLst/>
                  <a:ahLst/>
                  <a:rect l="l" t="t" r="r" b="b"/>
                  <a:pathLst>
                    <a:path w="414" h="492">
                      <a:moveTo>
                        <a:pt x="253" y="487"/>
                      </a:moveTo>
                      <a:lnTo>
                        <a:pt x="271" y="483"/>
                      </a:lnTo>
                      <a:lnTo>
                        <a:pt x="297" y="475"/>
                      </a:lnTo>
                      <a:lnTo>
                        <a:pt x="316" y="463"/>
                      </a:lnTo>
                      <a:lnTo>
                        <a:pt x="327" y="450"/>
                      </a:lnTo>
                      <a:lnTo>
                        <a:pt x="336" y="435"/>
                      </a:lnTo>
                      <a:lnTo>
                        <a:pt x="343" y="422"/>
                      </a:lnTo>
                      <a:lnTo>
                        <a:pt x="348" y="404"/>
                      </a:lnTo>
                      <a:lnTo>
                        <a:pt x="352" y="380"/>
                      </a:lnTo>
                      <a:lnTo>
                        <a:pt x="355" y="355"/>
                      </a:lnTo>
                      <a:lnTo>
                        <a:pt x="355" y="338"/>
                      </a:lnTo>
                      <a:lnTo>
                        <a:pt x="358" y="324"/>
                      </a:lnTo>
                      <a:lnTo>
                        <a:pt x="360" y="315"/>
                      </a:lnTo>
                      <a:lnTo>
                        <a:pt x="365" y="305"/>
                      </a:lnTo>
                      <a:lnTo>
                        <a:pt x="371" y="292"/>
                      </a:lnTo>
                      <a:lnTo>
                        <a:pt x="376" y="284"/>
                      </a:lnTo>
                      <a:lnTo>
                        <a:pt x="383" y="275"/>
                      </a:lnTo>
                      <a:lnTo>
                        <a:pt x="389" y="271"/>
                      </a:lnTo>
                      <a:lnTo>
                        <a:pt x="396" y="266"/>
                      </a:lnTo>
                      <a:lnTo>
                        <a:pt x="413" y="259"/>
                      </a:lnTo>
                      <a:lnTo>
                        <a:pt x="392" y="262"/>
                      </a:lnTo>
                      <a:lnTo>
                        <a:pt x="379" y="266"/>
                      </a:lnTo>
                      <a:lnTo>
                        <a:pt x="365" y="273"/>
                      </a:lnTo>
                      <a:lnTo>
                        <a:pt x="355" y="280"/>
                      </a:lnTo>
                      <a:lnTo>
                        <a:pt x="345" y="288"/>
                      </a:lnTo>
                      <a:lnTo>
                        <a:pt x="336" y="298"/>
                      </a:lnTo>
                      <a:lnTo>
                        <a:pt x="326" y="313"/>
                      </a:lnTo>
                      <a:lnTo>
                        <a:pt x="318" y="323"/>
                      </a:lnTo>
                      <a:lnTo>
                        <a:pt x="311" y="335"/>
                      </a:lnTo>
                      <a:lnTo>
                        <a:pt x="318" y="318"/>
                      </a:lnTo>
                      <a:lnTo>
                        <a:pt x="322" y="304"/>
                      </a:lnTo>
                      <a:lnTo>
                        <a:pt x="326" y="288"/>
                      </a:lnTo>
                      <a:lnTo>
                        <a:pt x="327" y="267"/>
                      </a:lnTo>
                      <a:lnTo>
                        <a:pt x="327" y="246"/>
                      </a:lnTo>
                      <a:lnTo>
                        <a:pt x="324" y="227"/>
                      </a:lnTo>
                      <a:lnTo>
                        <a:pt x="321" y="207"/>
                      </a:lnTo>
                      <a:lnTo>
                        <a:pt x="316" y="190"/>
                      </a:lnTo>
                      <a:lnTo>
                        <a:pt x="311" y="174"/>
                      </a:lnTo>
                      <a:lnTo>
                        <a:pt x="305" y="158"/>
                      </a:lnTo>
                      <a:lnTo>
                        <a:pt x="293" y="138"/>
                      </a:lnTo>
                      <a:lnTo>
                        <a:pt x="285" y="125"/>
                      </a:lnTo>
                      <a:lnTo>
                        <a:pt x="273" y="105"/>
                      </a:lnTo>
                      <a:lnTo>
                        <a:pt x="263" y="84"/>
                      </a:lnTo>
                      <a:lnTo>
                        <a:pt x="256" y="64"/>
                      </a:lnTo>
                      <a:lnTo>
                        <a:pt x="252" y="51"/>
                      </a:lnTo>
                      <a:lnTo>
                        <a:pt x="248" y="35"/>
                      </a:lnTo>
                      <a:lnTo>
                        <a:pt x="249" y="21"/>
                      </a:lnTo>
                      <a:lnTo>
                        <a:pt x="251" y="12"/>
                      </a:lnTo>
                      <a:lnTo>
                        <a:pt x="257" y="0"/>
                      </a:lnTo>
                      <a:lnTo>
                        <a:pt x="246" y="14"/>
                      </a:lnTo>
                      <a:lnTo>
                        <a:pt x="241" y="23"/>
                      </a:lnTo>
                      <a:lnTo>
                        <a:pt x="238" y="31"/>
                      </a:lnTo>
                      <a:lnTo>
                        <a:pt x="236" y="40"/>
                      </a:lnTo>
                      <a:lnTo>
                        <a:pt x="236" y="52"/>
                      </a:lnTo>
                      <a:lnTo>
                        <a:pt x="236" y="70"/>
                      </a:lnTo>
                      <a:lnTo>
                        <a:pt x="241" y="86"/>
                      </a:lnTo>
                      <a:lnTo>
                        <a:pt x="246" y="101"/>
                      </a:lnTo>
                      <a:lnTo>
                        <a:pt x="252" y="114"/>
                      </a:lnTo>
                      <a:lnTo>
                        <a:pt x="257" y="131"/>
                      </a:lnTo>
                      <a:lnTo>
                        <a:pt x="259" y="148"/>
                      </a:lnTo>
                      <a:lnTo>
                        <a:pt x="260" y="166"/>
                      </a:lnTo>
                      <a:lnTo>
                        <a:pt x="262" y="184"/>
                      </a:lnTo>
                      <a:lnTo>
                        <a:pt x="262" y="201"/>
                      </a:lnTo>
                      <a:lnTo>
                        <a:pt x="258" y="229"/>
                      </a:lnTo>
                      <a:lnTo>
                        <a:pt x="253" y="246"/>
                      </a:lnTo>
                      <a:lnTo>
                        <a:pt x="240" y="270"/>
                      </a:lnTo>
                      <a:lnTo>
                        <a:pt x="229" y="295"/>
                      </a:lnTo>
                      <a:lnTo>
                        <a:pt x="220" y="319"/>
                      </a:lnTo>
                      <a:lnTo>
                        <a:pt x="214" y="305"/>
                      </a:lnTo>
                      <a:lnTo>
                        <a:pt x="210" y="291"/>
                      </a:lnTo>
                      <a:lnTo>
                        <a:pt x="207" y="275"/>
                      </a:lnTo>
                      <a:lnTo>
                        <a:pt x="205" y="251"/>
                      </a:lnTo>
                      <a:lnTo>
                        <a:pt x="210" y="209"/>
                      </a:lnTo>
                      <a:lnTo>
                        <a:pt x="212" y="197"/>
                      </a:lnTo>
                      <a:lnTo>
                        <a:pt x="213" y="182"/>
                      </a:lnTo>
                      <a:lnTo>
                        <a:pt x="213" y="168"/>
                      </a:lnTo>
                      <a:lnTo>
                        <a:pt x="210" y="150"/>
                      </a:lnTo>
                      <a:lnTo>
                        <a:pt x="207" y="132"/>
                      </a:lnTo>
                      <a:lnTo>
                        <a:pt x="200" y="114"/>
                      </a:lnTo>
                      <a:lnTo>
                        <a:pt x="189" y="90"/>
                      </a:lnTo>
                      <a:lnTo>
                        <a:pt x="195" y="119"/>
                      </a:lnTo>
                      <a:lnTo>
                        <a:pt x="198" y="143"/>
                      </a:lnTo>
                      <a:lnTo>
                        <a:pt x="198" y="164"/>
                      </a:lnTo>
                      <a:lnTo>
                        <a:pt x="197" y="181"/>
                      </a:lnTo>
                      <a:lnTo>
                        <a:pt x="193" y="196"/>
                      </a:lnTo>
                      <a:lnTo>
                        <a:pt x="186" y="215"/>
                      </a:lnTo>
                      <a:lnTo>
                        <a:pt x="169" y="256"/>
                      </a:lnTo>
                      <a:lnTo>
                        <a:pt x="170" y="231"/>
                      </a:lnTo>
                      <a:lnTo>
                        <a:pt x="175" y="210"/>
                      </a:lnTo>
                      <a:lnTo>
                        <a:pt x="178" y="195"/>
                      </a:lnTo>
                      <a:lnTo>
                        <a:pt x="166" y="212"/>
                      </a:lnTo>
                      <a:lnTo>
                        <a:pt x="158" y="226"/>
                      </a:lnTo>
                      <a:lnTo>
                        <a:pt x="152" y="245"/>
                      </a:lnTo>
                      <a:lnTo>
                        <a:pt x="148" y="267"/>
                      </a:lnTo>
                      <a:lnTo>
                        <a:pt x="149" y="295"/>
                      </a:lnTo>
                      <a:lnTo>
                        <a:pt x="153" y="322"/>
                      </a:lnTo>
                      <a:lnTo>
                        <a:pt x="160" y="344"/>
                      </a:lnTo>
                      <a:lnTo>
                        <a:pt x="171" y="372"/>
                      </a:lnTo>
                      <a:lnTo>
                        <a:pt x="187" y="407"/>
                      </a:lnTo>
                      <a:lnTo>
                        <a:pt x="161" y="365"/>
                      </a:lnTo>
                      <a:lnTo>
                        <a:pt x="155" y="355"/>
                      </a:lnTo>
                      <a:lnTo>
                        <a:pt x="143" y="338"/>
                      </a:lnTo>
                      <a:lnTo>
                        <a:pt x="128" y="322"/>
                      </a:lnTo>
                      <a:lnTo>
                        <a:pt x="106" y="302"/>
                      </a:lnTo>
                      <a:lnTo>
                        <a:pt x="120" y="324"/>
                      </a:lnTo>
                      <a:lnTo>
                        <a:pt x="128" y="338"/>
                      </a:lnTo>
                      <a:lnTo>
                        <a:pt x="135" y="351"/>
                      </a:lnTo>
                      <a:lnTo>
                        <a:pt x="149" y="381"/>
                      </a:lnTo>
                      <a:lnTo>
                        <a:pt x="159" y="405"/>
                      </a:lnTo>
                      <a:lnTo>
                        <a:pt x="174" y="444"/>
                      </a:lnTo>
                      <a:lnTo>
                        <a:pt x="155" y="437"/>
                      </a:lnTo>
                      <a:lnTo>
                        <a:pt x="139" y="425"/>
                      </a:lnTo>
                      <a:lnTo>
                        <a:pt x="122" y="409"/>
                      </a:lnTo>
                      <a:lnTo>
                        <a:pt x="107" y="394"/>
                      </a:lnTo>
                      <a:lnTo>
                        <a:pt x="88" y="376"/>
                      </a:lnTo>
                      <a:lnTo>
                        <a:pt x="74" y="365"/>
                      </a:lnTo>
                      <a:lnTo>
                        <a:pt x="62" y="356"/>
                      </a:lnTo>
                      <a:lnTo>
                        <a:pt x="49" y="350"/>
                      </a:lnTo>
                      <a:lnTo>
                        <a:pt x="36" y="347"/>
                      </a:lnTo>
                      <a:lnTo>
                        <a:pt x="23" y="345"/>
                      </a:lnTo>
                      <a:lnTo>
                        <a:pt x="0" y="345"/>
                      </a:lnTo>
                      <a:lnTo>
                        <a:pt x="20" y="349"/>
                      </a:lnTo>
                      <a:lnTo>
                        <a:pt x="30" y="352"/>
                      </a:lnTo>
                      <a:lnTo>
                        <a:pt x="42" y="359"/>
                      </a:lnTo>
                      <a:lnTo>
                        <a:pt x="56" y="369"/>
                      </a:lnTo>
                      <a:lnTo>
                        <a:pt x="66" y="378"/>
                      </a:lnTo>
                      <a:lnTo>
                        <a:pt x="82" y="398"/>
                      </a:lnTo>
                      <a:lnTo>
                        <a:pt x="98" y="420"/>
                      </a:lnTo>
                      <a:lnTo>
                        <a:pt x="118" y="446"/>
                      </a:lnTo>
                      <a:lnTo>
                        <a:pt x="132" y="457"/>
                      </a:lnTo>
                      <a:lnTo>
                        <a:pt x="153" y="469"/>
                      </a:lnTo>
                      <a:lnTo>
                        <a:pt x="188" y="485"/>
                      </a:lnTo>
                      <a:lnTo>
                        <a:pt x="217" y="491"/>
                      </a:lnTo>
                      <a:lnTo>
                        <a:pt x="253" y="48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3617280" y="3859200"/>
                  <a:ext cx="550080" cy="739800"/>
                </a:xfrm>
                <a:custGeom>
                  <a:avLst/>
                  <a:gdLst/>
                  <a:ahLst/>
                  <a:rect l="l" t="t" r="r" b="b"/>
                  <a:pathLst>
                    <a:path w="390" h="466">
                      <a:moveTo>
                        <a:pt x="241" y="461"/>
                      </a:moveTo>
                      <a:lnTo>
                        <a:pt x="257" y="458"/>
                      </a:lnTo>
                      <a:lnTo>
                        <a:pt x="282" y="450"/>
                      </a:lnTo>
                      <a:lnTo>
                        <a:pt x="299" y="440"/>
                      </a:lnTo>
                      <a:lnTo>
                        <a:pt x="310" y="428"/>
                      </a:lnTo>
                      <a:lnTo>
                        <a:pt x="318" y="414"/>
                      </a:lnTo>
                      <a:lnTo>
                        <a:pt x="324" y="402"/>
                      </a:lnTo>
                      <a:lnTo>
                        <a:pt x="330" y="385"/>
                      </a:lnTo>
                      <a:lnTo>
                        <a:pt x="333" y="364"/>
                      </a:lnTo>
                      <a:lnTo>
                        <a:pt x="335" y="342"/>
                      </a:lnTo>
                      <a:lnTo>
                        <a:pt x="336" y="326"/>
                      </a:lnTo>
                      <a:lnTo>
                        <a:pt x="338" y="314"/>
                      </a:lnTo>
                      <a:lnTo>
                        <a:pt x="341" y="306"/>
                      </a:lnTo>
                      <a:lnTo>
                        <a:pt x="345" y="296"/>
                      </a:lnTo>
                      <a:lnTo>
                        <a:pt x="350" y="285"/>
                      </a:lnTo>
                      <a:lnTo>
                        <a:pt x="356" y="277"/>
                      </a:lnTo>
                      <a:lnTo>
                        <a:pt x="362" y="269"/>
                      </a:lnTo>
                      <a:lnTo>
                        <a:pt x="366" y="264"/>
                      </a:lnTo>
                      <a:lnTo>
                        <a:pt x="373" y="258"/>
                      </a:lnTo>
                      <a:lnTo>
                        <a:pt x="389" y="249"/>
                      </a:lnTo>
                      <a:lnTo>
                        <a:pt x="370" y="254"/>
                      </a:lnTo>
                      <a:lnTo>
                        <a:pt x="357" y="259"/>
                      </a:lnTo>
                      <a:lnTo>
                        <a:pt x="345" y="266"/>
                      </a:lnTo>
                      <a:lnTo>
                        <a:pt x="336" y="273"/>
                      </a:lnTo>
                      <a:lnTo>
                        <a:pt x="326" y="280"/>
                      </a:lnTo>
                      <a:lnTo>
                        <a:pt x="319" y="290"/>
                      </a:lnTo>
                      <a:lnTo>
                        <a:pt x="309" y="303"/>
                      </a:lnTo>
                      <a:lnTo>
                        <a:pt x="301" y="313"/>
                      </a:lnTo>
                      <a:lnTo>
                        <a:pt x="295" y="323"/>
                      </a:lnTo>
                      <a:lnTo>
                        <a:pt x="301" y="308"/>
                      </a:lnTo>
                      <a:lnTo>
                        <a:pt x="305" y="295"/>
                      </a:lnTo>
                      <a:lnTo>
                        <a:pt x="309" y="280"/>
                      </a:lnTo>
                      <a:lnTo>
                        <a:pt x="310" y="262"/>
                      </a:lnTo>
                      <a:lnTo>
                        <a:pt x="310" y="243"/>
                      </a:lnTo>
                      <a:lnTo>
                        <a:pt x="307" y="225"/>
                      </a:lnTo>
                      <a:lnTo>
                        <a:pt x="304" y="207"/>
                      </a:lnTo>
                      <a:lnTo>
                        <a:pt x="300" y="192"/>
                      </a:lnTo>
                      <a:lnTo>
                        <a:pt x="295" y="177"/>
                      </a:lnTo>
                      <a:lnTo>
                        <a:pt x="289" y="163"/>
                      </a:lnTo>
                      <a:lnTo>
                        <a:pt x="278" y="145"/>
                      </a:lnTo>
                      <a:lnTo>
                        <a:pt x="271" y="133"/>
                      </a:lnTo>
                      <a:lnTo>
                        <a:pt x="260" y="115"/>
                      </a:lnTo>
                      <a:lnTo>
                        <a:pt x="251" y="96"/>
                      </a:lnTo>
                      <a:lnTo>
                        <a:pt x="244" y="78"/>
                      </a:lnTo>
                      <a:lnTo>
                        <a:pt x="240" y="65"/>
                      </a:lnTo>
                      <a:lnTo>
                        <a:pt x="237" y="51"/>
                      </a:lnTo>
                      <a:lnTo>
                        <a:pt x="235" y="37"/>
                      </a:lnTo>
                      <a:lnTo>
                        <a:pt x="235" y="25"/>
                      </a:lnTo>
                      <a:lnTo>
                        <a:pt x="236" y="15"/>
                      </a:lnTo>
                      <a:lnTo>
                        <a:pt x="236" y="0"/>
                      </a:lnTo>
                      <a:lnTo>
                        <a:pt x="231" y="19"/>
                      </a:lnTo>
                      <a:lnTo>
                        <a:pt x="226" y="36"/>
                      </a:lnTo>
                      <a:lnTo>
                        <a:pt x="224" y="51"/>
                      </a:lnTo>
                      <a:lnTo>
                        <a:pt x="224" y="65"/>
                      </a:lnTo>
                      <a:lnTo>
                        <a:pt x="226" y="83"/>
                      </a:lnTo>
                      <a:lnTo>
                        <a:pt x="230" y="97"/>
                      </a:lnTo>
                      <a:lnTo>
                        <a:pt x="235" y="111"/>
                      </a:lnTo>
                      <a:lnTo>
                        <a:pt x="240" y="123"/>
                      </a:lnTo>
                      <a:lnTo>
                        <a:pt x="245" y="138"/>
                      </a:lnTo>
                      <a:lnTo>
                        <a:pt x="246" y="154"/>
                      </a:lnTo>
                      <a:lnTo>
                        <a:pt x="247" y="170"/>
                      </a:lnTo>
                      <a:lnTo>
                        <a:pt x="249" y="187"/>
                      </a:lnTo>
                      <a:lnTo>
                        <a:pt x="249" y="202"/>
                      </a:lnTo>
                      <a:lnTo>
                        <a:pt x="246" y="227"/>
                      </a:lnTo>
                      <a:lnTo>
                        <a:pt x="241" y="243"/>
                      </a:lnTo>
                      <a:lnTo>
                        <a:pt x="229" y="265"/>
                      </a:lnTo>
                      <a:lnTo>
                        <a:pt x="219" y="287"/>
                      </a:lnTo>
                      <a:lnTo>
                        <a:pt x="210" y="309"/>
                      </a:lnTo>
                      <a:lnTo>
                        <a:pt x="205" y="297"/>
                      </a:lnTo>
                      <a:lnTo>
                        <a:pt x="201" y="283"/>
                      </a:lnTo>
                      <a:lnTo>
                        <a:pt x="198" y="269"/>
                      </a:lnTo>
                      <a:lnTo>
                        <a:pt x="197" y="247"/>
                      </a:lnTo>
                      <a:lnTo>
                        <a:pt x="201" y="209"/>
                      </a:lnTo>
                      <a:lnTo>
                        <a:pt x="203" y="198"/>
                      </a:lnTo>
                      <a:lnTo>
                        <a:pt x="204" y="185"/>
                      </a:lnTo>
                      <a:lnTo>
                        <a:pt x="204" y="172"/>
                      </a:lnTo>
                      <a:lnTo>
                        <a:pt x="201" y="155"/>
                      </a:lnTo>
                      <a:lnTo>
                        <a:pt x="198" y="139"/>
                      </a:lnTo>
                      <a:lnTo>
                        <a:pt x="192" y="123"/>
                      </a:lnTo>
                      <a:lnTo>
                        <a:pt x="182" y="101"/>
                      </a:lnTo>
                      <a:lnTo>
                        <a:pt x="187" y="127"/>
                      </a:lnTo>
                      <a:lnTo>
                        <a:pt x="191" y="149"/>
                      </a:lnTo>
                      <a:lnTo>
                        <a:pt x="190" y="168"/>
                      </a:lnTo>
                      <a:lnTo>
                        <a:pt x="189" y="183"/>
                      </a:lnTo>
                      <a:lnTo>
                        <a:pt x="185" y="197"/>
                      </a:lnTo>
                      <a:lnTo>
                        <a:pt x="179" y="215"/>
                      </a:lnTo>
                      <a:lnTo>
                        <a:pt x="163" y="252"/>
                      </a:lnTo>
                      <a:lnTo>
                        <a:pt x="163" y="228"/>
                      </a:lnTo>
                      <a:lnTo>
                        <a:pt x="164" y="209"/>
                      </a:lnTo>
                      <a:lnTo>
                        <a:pt x="163" y="178"/>
                      </a:lnTo>
                      <a:lnTo>
                        <a:pt x="153" y="208"/>
                      </a:lnTo>
                      <a:lnTo>
                        <a:pt x="149" y="224"/>
                      </a:lnTo>
                      <a:lnTo>
                        <a:pt x="146" y="242"/>
                      </a:lnTo>
                      <a:lnTo>
                        <a:pt x="143" y="262"/>
                      </a:lnTo>
                      <a:lnTo>
                        <a:pt x="144" y="287"/>
                      </a:lnTo>
                      <a:lnTo>
                        <a:pt x="148" y="311"/>
                      </a:lnTo>
                      <a:lnTo>
                        <a:pt x="155" y="331"/>
                      </a:lnTo>
                      <a:lnTo>
                        <a:pt x="164" y="357"/>
                      </a:lnTo>
                      <a:lnTo>
                        <a:pt x="179" y="389"/>
                      </a:lnTo>
                      <a:lnTo>
                        <a:pt x="156" y="351"/>
                      </a:lnTo>
                      <a:lnTo>
                        <a:pt x="150" y="341"/>
                      </a:lnTo>
                      <a:lnTo>
                        <a:pt x="139" y="326"/>
                      </a:lnTo>
                      <a:lnTo>
                        <a:pt x="126" y="311"/>
                      </a:lnTo>
                      <a:lnTo>
                        <a:pt x="97" y="285"/>
                      </a:lnTo>
                      <a:lnTo>
                        <a:pt x="117" y="314"/>
                      </a:lnTo>
                      <a:lnTo>
                        <a:pt x="124" y="326"/>
                      </a:lnTo>
                      <a:lnTo>
                        <a:pt x="131" y="338"/>
                      </a:lnTo>
                      <a:lnTo>
                        <a:pt x="144" y="365"/>
                      </a:lnTo>
                      <a:lnTo>
                        <a:pt x="153" y="386"/>
                      </a:lnTo>
                      <a:lnTo>
                        <a:pt x="168" y="422"/>
                      </a:lnTo>
                      <a:lnTo>
                        <a:pt x="150" y="416"/>
                      </a:lnTo>
                      <a:lnTo>
                        <a:pt x="135" y="405"/>
                      </a:lnTo>
                      <a:lnTo>
                        <a:pt x="119" y="391"/>
                      </a:lnTo>
                      <a:lnTo>
                        <a:pt x="105" y="378"/>
                      </a:lnTo>
                      <a:lnTo>
                        <a:pt x="88" y="361"/>
                      </a:lnTo>
                      <a:lnTo>
                        <a:pt x="75" y="351"/>
                      </a:lnTo>
                      <a:lnTo>
                        <a:pt x="63" y="343"/>
                      </a:lnTo>
                      <a:lnTo>
                        <a:pt x="52" y="337"/>
                      </a:lnTo>
                      <a:lnTo>
                        <a:pt x="42" y="333"/>
                      </a:lnTo>
                      <a:lnTo>
                        <a:pt x="28" y="331"/>
                      </a:lnTo>
                      <a:lnTo>
                        <a:pt x="13" y="329"/>
                      </a:lnTo>
                      <a:lnTo>
                        <a:pt x="0" y="327"/>
                      </a:lnTo>
                      <a:lnTo>
                        <a:pt x="25" y="335"/>
                      </a:lnTo>
                      <a:lnTo>
                        <a:pt x="45" y="345"/>
                      </a:lnTo>
                      <a:lnTo>
                        <a:pt x="58" y="354"/>
                      </a:lnTo>
                      <a:lnTo>
                        <a:pt x="68" y="362"/>
                      </a:lnTo>
                      <a:lnTo>
                        <a:pt x="83" y="381"/>
                      </a:lnTo>
                      <a:lnTo>
                        <a:pt x="97" y="401"/>
                      </a:lnTo>
                      <a:lnTo>
                        <a:pt x="115" y="424"/>
                      </a:lnTo>
                      <a:lnTo>
                        <a:pt x="129" y="434"/>
                      </a:lnTo>
                      <a:lnTo>
                        <a:pt x="148" y="445"/>
                      </a:lnTo>
                      <a:lnTo>
                        <a:pt x="180" y="459"/>
                      </a:lnTo>
                      <a:lnTo>
                        <a:pt x="208" y="465"/>
                      </a:lnTo>
                      <a:lnTo>
                        <a:pt x="241" y="461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3628440" y="3849840"/>
                  <a:ext cx="544680" cy="757080"/>
                </a:xfrm>
                <a:custGeom>
                  <a:avLst/>
                  <a:gdLst/>
                  <a:ahLst/>
                  <a:rect l="l" t="t" r="r" b="b"/>
                  <a:pathLst>
                    <a:path w="386" h="477">
                      <a:moveTo>
                        <a:pt x="227" y="472"/>
                      </a:moveTo>
                      <a:lnTo>
                        <a:pt x="243" y="469"/>
                      </a:lnTo>
                      <a:lnTo>
                        <a:pt x="267" y="461"/>
                      </a:lnTo>
                      <a:lnTo>
                        <a:pt x="284" y="450"/>
                      </a:lnTo>
                      <a:lnTo>
                        <a:pt x="294" y="438"/>
                      </a:lnTo>
                      <a:lnTo>
                        <a:pt x="302" y="424"/>
                      </a:lnTo>
                      <a:lnTo>
                        <a:pt x="308" y="411"/>
                      </a:lnTo>
                      <a:lnTo>
                        <a:pt x="313" y="395"/>
                      </a:lnTo>
                      <a:lnTo>
                        <a:pt x="316" y="374"/>
                      </a:lnTo>
                      <a:lnTo>
                        <a:pt x="318" y="350"/>
                      </a:lnTo>
                      <a:lnTo>
                        <a:pt x="319" y="334"/>
                      </a:lnTo>
                      <a:lnTo>
                        <a:pt x="321" y="321"/>
                      </a:lnTo>
                      <a:lnTo>
                        <a:pt x="324" y="313"/>
                      </a:lnTo>
                      <a:lnTo>
                        <a:pt x="328" y="303"/>
                      </a:lnTo>
                      <a:lnTo>
                        <a:pt x="333" y="291"/>
                      </a:lnTo>
                      <a:lnTo>
                        <a:pt x="338" y="284"/>
                      </a:lnTo>
                      <a:lnTo>
                        <a:pt x="344" y="275"/>
                      </a:lnTo>
                      <a:lnTo>
                        <a:pt x="348" y="270"/>
                      </a:lnTo>
                      <a:lnTo>
                        <a:pt x="355" y="265"/>
                      </a:lnTo>
                      <a:lnTo>
                        <a:pt x="385" y="247"/>
                      </a:lnTo>
                      <a:lnTo>
                        <a:pt x="368" y="252"/>
                      </a:lnTo>
                      <a:lnTo>
                        <a:pt x="352" y="259"/>
                      </a:lnTo>
                      <a:lnTo>
                        <a:pt x="340" y="265"/>
                      </a:lnTo>
                      <a:lnTo>
                        <a:pt x="328" y="272"/>
                      </a:lnTo>
                      <a:lnTo>
                        <a:pt x="319" y="279"/>
                      </a:lnTo>
                      <a:lnTo>
                        <a:pt x="310" y="287"/>
                      </a:lnTo>
                      <a:lnTo>
                        <a:pt x="302" y="297"/>
                      </a:lnTo>
                      <a:lnTo>
                        <a:pt x="293" y="310"/>
                      </a:lnTo>
                      <a:lnTo>
                        <a:pt x="286" y="320"/>
                      </a:lnTo>
                      <a:lnTo>
                        <a:pt x="279" y="331"/>
                      </a:lnTo>
                      <a:lnTo>
                        <a:pt x="286" y="316"/>
                      </a:lnTo>
                      <a:lnTo>
                        <a:pt x="289" y="302"/>
                      </a:lnTo>
                      <a:lnTo>
                        <a:pt x="293" y="287"/>
                      </a:lnTo>
                      <a:lnTo>
                        <a:pt x="294" y="268"/>
                      </a:lnTo>
                      <a:lnTo>
                        <a:pt x="293" y="248"/>
                      </a:lnTo>
                      <a:lnTo>
                        <a:pt x="291" y="230"/>
                      </a:lnTo>
                      <a:lnTo>
                        <a:pt x="288" y="212"/>
                      </a:lnTo>
                      <a:lnTo>
                        <a:pt x="284" y="196"/>
                      </a:lnTo>
                      <a:lnTo>
                        <a:pt x="279" y="182"/>
                      </a:lnTo>
                      <a:lnTo>
                        <a:pt x="273" y="166"/>
                      </a:lnTo>
                      <a:lnTo>
                        <a:pt x="263" y="148"/>
                      </a:lnTo>
                      <a:lnTo>
                        <a:pt x="256" y="136"/>
                      </a:lnTo>
                      <a:lnTo>
                        <a:pt x="246" y="118"/>
                      </a:lnTo>
                      <a:lnTo>
                        <a:pt x="237" y="98"/>
                      </a:lnTo>
                      <a:lnTo>
                        <a:pt x="230" y="79"/>
                      </a:lnTo>
                      <a:lnTo>
                        <a:pt x="226" y="67"/>
                      </a:lnTo>
                      <a:lnTo>
                        <a:pt x="223" y="52"/>
                      </a:lnTo>
                      <a:lnTo>
                        <a:pt x="222" y="37"/>
                      </a:lnTo>
                      <a:lnTo>
                        <a:pt x="222" y="26"/>
                      </a:lnTo>
                      <a:lnTo>
                        <a:pt x="222" y="15"/>
                      </a:lnTo>
                      <a:lnTo>
                        <a:pt x="223" y="0"/>
                      </a:lnTo>
                      <a:lnTo>
                        <a:pt x="217" y="19"/>
                      </a:lnTo>
                      <a:lnTo>
                        <a:pt x="213" y="37"/>
                      </a:lnTo>
                      <a:lnTo>
                        <a:pt x="211" y="52"/>
                      </a:lnTo>
                      <a:lnTo>
                        <a:pt x="211" y="67"/>
                      </a:lnTo>
                      <a:lnTo>
                        <a:pt x="212" y="85"/>
                      </a:lnTo>
                      <a:lnTo>
                        <a:pt x="217" y="100"/>
                      </a:lnTo>
                      <a:lnTo>
                        <a:pt x="221" y="113"/>
                      </a:lnTo>
                      <a:lnTo>
                        <a:pt x="227" y="125"/>
                      </a:lnTo>
                      <a:lnTo>
                        <a:pt x="231" y="141"/>
                      </a:lnTo>
                      <a:lnTo>
                        <a:pt x="233" y="158"/>
                      </a:lnTo>
                      <a:lnTo>
                        <a:pt x="233" y="174"/>
                      </a:lnTo>
                      <a:lnTo>
                        <a:pt x="235" y="191"/>
                      </a:lnTo>
                      <a:lnTo>
                        <a:pt x="235" y="207"/>
                      </a:lnTo>
                      <a:lnTo>
                        <a:pt x="232" y="233"/>
                      </a:lnTo>
                      <a:lnTo>
                        <a:pt x="227" y="248"/>
                      </a:lnTo>
                      <a:lnTo>
                        <a:pt x="216" y="271"/>
                      </a:lnTo>
                      <a:lnTo>
                        <a:pt x="206" y="294"/>
                      </a:lnTo>
                      <a:lnTo>
                        <a:pt x="198" y="316"/>
                      </a:lnTo>
                      <a:lnTo>
                        <a:pt x="192" y="304"/>
                      </a:lnTo>
                      <a:lnTo>
                        <a:pt x="188" y="290"/>
                      </a:lnTo>
                      <a:lnTo>
                        <a:pt x="186" y="276"/>
                      </a:lnTo>
                      <a:lnTo>
                        <a:pt x="185" y="253"/>
                      </a:lnTo>
                      <a:lnTo>
                        <a:pt x="189" y="214"/>
                      </a:lnTo>
                      <a:lnTo>
                        <a:pt x="191" y="202"/>
                      </a:lnTo>
                      <a:lnTo>
                        <a:pt x="191" y="189"/>
                      </a:lnTo>
                      <a:lnTo>
                        <a:pt x="191" y="176"/>
                      </a:lnTo>
                      <a:lnTo>
                        <a:pt x="189" y="159"/>
                      </a:lnTo>
                      <a:lnTo>
                        <a:pt x="186" y="142"/>
                      </a:lnTo>
                      <a:lnTo>
                        <a:pt x="180" y="126"/>
                      </a:lnTo>
                      <a:lnTo>
                        <a:pt x="170" y="104"/>
                      </a:lnTo>
                      <a:lnTo>
                        <a:pt x="176" y="130"/>
                      </a:lnTo>
                      <a:lnTo>
                        <a:pt x="179" y="153"/>
                      </a:lnTo>
                      <a:lnTo>
                        <a:pt x="178" y="171"/>
                      </a:lnTo>
                      <a:lnTo>
                        <a:pt x="177" y="187"/>
                      </a:lnTo>
                      <a:lnTo>
                        <a:pt x="173" y="202"/>
                      </a:lnTo>
                      <a:lnTo>
                        <a:pt x="167" y="220"/>
                      </a:lnTo>
                      <a:lnTo>
                        <a:pt x="152" y="257"/>
                      </a:lnTo>
                      <a:lnTo>
                        <a:pt x="151" y="234"/>
                      </a:lnTo>
                      <a:lnTo>
                        <a:pt x="152" y="213"/>
                      </a:lnTo>
                      <a:lnTo>
                        <a:pt x="154" y="194"/>
                      </a:lnTo>
                      <a:lnTo>
                        <a:pt x="145" y="213"/>
                      </a:lnTo>
                      <a:lnTo>
                        <a:pt x="139" y="230"/>
                      </a:lnTo>
                      <a:lnTo>
                        <a:pt x="136" y="248"/>
                      </a:lnTo>
                      <a:lnTo>
                        <a:pt x="133" y="268"/>
                      </a:lnTo>
                      <a:lnTo>
                        <a:pt x="134" y="294"/>
                      </a:lnTo>
                      <a:lnTo>
                        <a:pt x="138" y="319"/>
                      </a:lnTo>
                      <a:lnTo>
                        <a:pt x="144" y="339"/>
                      </a:lnTo>
                      <a:lnTo>
                        <a:pt x="153" y="365"/>
                      </a:lnTo>
                      <a:lnTo>
                        <a:pt x="168" y="398"/>
                      </a:lnTo>
                      <a:lnTo>
                        <a:pt x="145" y="359"/>
                      </a:lnTo>
                      <a:lnTo>
                        <a:pt x="139" y="349"/>
                      </a:lnTo>
                      <a:lnTo>
                        <a:pt x="129" y="334"/>
                      </a:lnTo>
                      <a:lnTo>
                        <a:pt x="116" y="319"/>
                      </a:lnTo>
                      <a:lnTo>
                        <a:pt x="96" y="300"/>
                      </a:lnTo>
                      <a:lnTo>
                        <a:pt x="108" y="321"/>
                      </a:lnTo>
                      <a:lnTo>
                        <a:pt x="115" y="334"/>
                      </a:lnTo>
                      <a:lnTo>
                        <a:pt x="121" y="346"/>
                      </a:lnTo>
                      <a:lnTo>
                        <a:pt x="134" y="374"/>
                      </a:lnTo>
                      <a:lnTo>
                        <a:pt x="143" y="396"/>
                      </a:lnTo>
                      <a:lnTo>
                        <a:pt x="156" y="432"/>
                      </a:lnTo>
                      <a:lnTo>
                        <a:pt x="140" y="426"/>
                      </a:lnTo>
                      <a:lnTo>
                        <a:pt x="125" y="415"/>
                      </a:lnTo>
                      <a:lnTo>
                        <a:pt x="109" y="401"/>
                      </a:lnTo>
                      <a:lnTo>
                        <a:pt x="96" y="386"/>
                      </a:lnTo>
                      <a:lnTo>
                        <a:pt x="79" y="370"/>
                      </a:lnTo>
                      <a:lnTo>
                        <a:pt x="66" y="359"/>
                      </a:lnTo>
                      <a:lnTo>
                        <a:pt x="55" y="351"/>
                      </a:lnTo>
                      <a:lnTo>
                        <a:pt x="45" y="345"/>
                      </a:lnTo>
                      <a:lnTo>
                        <a:pt x="33" y="341"/>
                      </a:lnTo>
                      <a:lnTo>
                        <a:pt x="21" y="339"/>
                      </a:lnTo>
                      <a:lnTo>
                        <a:pt x="0" y="337"/>
                      </a:lnTo>
                      <a:lnTo>
                        <a:pt x="19" y="343"/>
                      </a:lnTo>
                      <a:lnTo>
                        <a:pt x="38" y="353"/>
                      </a:lnTo>
                      <a:lnTo>
                        <a:pt x="51" y="363"/>
                      </a:lnTo>
                      <a:lnTo>
                        <a:pt x="59" y="371"/>
                      </a:lnTo>
                      <a:lnTo>
                        <a:pt x="74" y="390"/>
                      </a:lnTo>
                      <a:lnTo>
                        <a:pt x="88" y="411"/>
                      </a:lnTo>
                      <a:lnTo>
                        <a:pt x="106" y="434"/>
                      </a:lnTo>
                      <a:lnTo>
                        <a:pt x="119" y="445"/>
                      </a:lnTo>
                      <a:lnTo>
                        <a:pt x="138" y="456"/>
                      </a:lnTo>
                      <a:lnTo>
                        <a:pt x="169" y="470"/>
                      </a:lnTo>
                      <a:lnTo>
                        <a:pt x="196" y="476"/>
                      </a:lnTo>
                      <a:lnTo>
                        <a:pt x="227" y="47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3627000" y="3881520"/>
                  <a:ext cx="543240" cy="722160"/>
                </a:xfrm>
                <a:custGeom>
                  <a:avLst/>
                  <a:gdLst/>
                  <a:ahLst/>
                  <a:rect l="l" t="t" r="r" b="b"/>
                  <a:pathLst>
                    <a:path w="385" h="455">
                      <a:moveTo>
                        <a:pt x="237" y="450"/>
                      </a:moveTo>
                      <a:lnTo>
                        <a:pt x="252" y="447"/>
                      </a:lnTo>
                      <a:lnTo>
                        <a:pt x="276" y="440"/>
                      </a:lnTo>
                      <a:lnTo>
                        <a:pt x="295" y="429"/>
                      </a:lnTo>
                      <a:lnTo>
                        <a:pt x="306" y="417"/>
                      </a:lnTo>
                      <a:lnTo>
                        <a:pt x="313" y="404"/>
                      </a:lnTo>
                      <a:lnTo>
                        <a:pt x="319" y="392"/>
                      </a:lnTo>
                      <a:lnTo>
                        <a:pt x="325" y="376"/>
                      </a:lnTo>
                      <a:lnTo>
                        <a:pt x="328" y="356"/>
                      </a:lnTo>
                      <a:lnTo>
                        <a:pt x="331" y="334"/>
                      </a:lnTo>
                      <a:lnTo>
                        <a:pt x="331" y="318"/>
                      </a:lnTo>
                      <a:lnTo>
                        <a:pt x="333" y="306"/>
                      </a:lnTo>
                      <a:lnTo>
                        <a:pt x="335" y="298"/>
                      </a:lnTo>
                      <a:lnTo>
                        <a:pt x="340" y="289"/>
                      </a:lnTo>
                      <a:lnTo>
                        <a:pt x="345" y="278"/>
                      </a:lnTo>
                      <a:lnTo>
                        <a:pt x="350" y="270"/>
                      </a:lnTo>
                      <a:lnTo>
                        <a:pt x="357" y="263"/>
                      </a:lnTo>
                      <a:lnTo>
                        <a:pt x="361" y="258"/>
                      </a:lnTo>
                      <a:lnTo>
                        <a:pt x="368" y="252"/>
                      </a:lnTo>
                      <a:lnTo>
                        <a:pt x="384" y="243"/>
                      </a:lnTo>
                      <a:lnTo>
                        <a:pt x="365" y="248"/>
                      </a:lnTo>
                      <a:lnTo>
                        <a:pt x="353" y="253"/>
                      </a:lnTo>
                      <a:lnTo>
                        <a:pt x="340" y="259"/>
                      </a:lnTo>
                      <a:lnTo>
                        <a:pt x="331" y="266"/>
                      </a:lnTo>
                      <a:lnTo>
                        <a:pt x="321" y="274"/>
                      </a:lnTo>
                      <a:lnTo>
                        <a:pt x="313" y="283"/>
                      </a:lnTo>
                      <a:lnTo>
                        <a:pt x="304" y="296"/>
                      </a:lnTo>
                      <a:lnTo>
                        <a:pt x="297" y="305"/>
                      </a:lnTo>
                      <a:lnTo>
                        <a:pt x="290" y="316"/>
                      </a:lnTo>
                      <a:lnTo>
                        <a:pt x="296" y="301"/>
                      </a:lnTo>
                      <a:lnTo>
                        <a:pt x="301" y="288"/>
                      </a:lnTo>
                      <a:lnTo>
                        <a:pt x="304" y="274"/>
                      </a:lnTo>
                      <a:lnTo>
                        <a:pt x="306" y="255"/>
                      </a:lnTo>
                      <a:lnTo>
                        <a:pt x="305" y="237"/>
                      </a:lnTo>
                      <a:lnTo>
                        <a:pt x="302" y="219"/>
                      </a:lnTo>
                      <a:lnTo>
                        <a:pt x="298" y="202"/>
                      </a:lnTo>
                      <a:lnTo>
                        <a:pt x="295" y="187"/>
                      </a:lnTo>
                      <a:lnTo>
                        <a:pt x="291" y="173"/>
                      </a:lnTo>
                      <a:lnTo>
                        <a:pt x="284" y="159"/>
                      </a:lnTo>
                      <a:lnTo>
                        <a:pt x="273" y="141"/>
                      </a:lnTo>
                      <a:lnTo>
                        <a:pt x="266" y="129"/>
                      </a:lnTo>
                      <a:lnTo>
                        <a:pt x="255" y="112"/>
                      </a:lnTo>
                      <a:lnTo>
                        <a:pt x="246" y="93"/>
                      </a:lnTo>
                      <a:lnTo>
                        <a:pt x="239" y="75"/>
                      </a:lnTo>
                      <a:lnTo>
                        <a:pt x="235" y="64"/>
                      </a:lnTo>
                      <a:lnTo>
                        <a:pt x="232" y="50"/>
                      </a:lnTo>
                      <a:lnTo>
                        <a:pt x="230" y="36"/>
                      </a:lnTo>
                      <a:lnTo>
                        <a:pt x="230" y="25"/>
                      </a:lnTo>
                      <a:lnTo>
                        <a:pt x="230" y="14"/>
                      </a:lnTo>
                      <a:lnTo>
                        <a:pt x="231" y="0"/>
                      </a:lnTo>
                      <a:lnTo>
                        <a:pt x="226" y="19"/>
                      </a:lnTo>
                      <a:lnTo>
                        <a:pt x="222" y="35"/>
                      </a:lnTo>
                      <a:lnTo>
                        <a:pt x="219" y="50"/>
                      </a:lnTo>
                      <a:lnTo>
                        <a:pt x="219" y="64"/>
                      </a:lnTo>
                      <a:lnTo>
                        <a:pt x="221" y="81"/>
                      </a:lnTo>
                      <a:lnTo>
                        <a:pt x="225" y="95"/>
                      </a:lnTo>
                      <a:lnTo>
                        <a:pt x="230" y="108"/>
                      </a:lnTo>
                      <a:lnTo>
                        <a:pt x="235" y="120"/>
                      </a:lnTo>
                      <a:lnTo>
                        <a:pt x="240" y="135"/>
                      </a:lnTo>
                      <a:lnTo>
                        <a:pt x="241" y="150"/>
                      </a:lnTo>
                      <a:lnTo>
                        <a:pt x="243" y="166"/>
                      </a:lnTo>
                      <a:lnTo>
                        <a:pt x="244" y="182"/>
                      </a:lnTo>
                      <a:lnTo>
                        <a:pt x="244" y="197"/>
                      </a:lnTo>
                      <a:lnTo>
                        <a:pt x="241" y="222"/>
                      </a:lnTo>
                      <a:lnTo>
                        <a:pt x="236" y="237"/>
                      </a:lnTo>
                      <a:lnTo>
                        <a:pt x="224" y="258"/>
                      </a:lnTo>
                      <a:lnTo>
                        <a:pt x="214" y="279"/>
                      </a:lnTo>
                      <a:lnTo>
                        <a:pt x="206" y="301"/>
                      </a:lnTo>
                      <a:lnTo>
                        <a:pt x="200" y="289"/>
                      </a:lnTo>
                      <a:lnTo>
                        <a:pt x="196" y="276"/>
                      </a:lnTo>
                      <a:lnTo>
                        <a:pt x="193" y="263"/>
                      </a:lnTo>
                      <a:lnTo>
                        <a:pt x="192" y="241"/>
                      </a:lnTo>
                      <a:lnTo>
                        <a:pt x="197" y="204"/>
                      </a:lnTo>
                      <a:lnTo>
                        <a:pt x="198" y="193"/>
                      </a:lnTo>
                      <a:lnTo>
                        <a:pt x="199" y="180"/>
                      </a:lnTo>
                      <a:lnTo>
                        <a:pt x="199" y="168"/>
                      </a:lnTo>
                      <a:lnTo>
                        <a:pt x="197" y="151"/>
                      </a:lnTo>
                      <a:lnTo>
                        <a:pt x="193" y="135"/>
                      </a:lnTo>
                      <a:lnTo>
                        <a:pt x="187" y="120"/>
                      </a:lnTo>
                      <a:lnTo>
                        <a:pt x="177" y="99"/>
                      </a:lnTo>
                      <a:lnTo>
                        <a:pt x="183" y="125"/>
                      </a:lnTo>
                      <a:lnTo>
                        <a:pt x="186" y="146"/>
                      </a:lnTo>
                      <a:lnTo>
                        <a:pt x="186" y="163"/>
                      </a:lnTo>
                      <a:lnTo>
                        <a:pt x="184" y="179"/>
                      </a:lnTo>
                      <a:lnTo>
                        <a:pt x="180" y="193"/>
                      </a:lnTo>
                      <a:lnTo>
                        <a:pt x="174" y="209"/>
                      </a:lnTo>
                      <a:lnTo>
                        <a:pt x="158" y="245"/>
                      </a:lnTo>
                      <a:lnTo>
                        <a:pt x="157" y="223"/>
                      </a:lnTo>
                      <a:lnTo>
                        <a:pt x="159" y="203"/>
                      </a:lnTo>
                      <a:lnTo>
                        <a:pt x="161" y="185"/>
                      </a:lnTo>
                      <a:lnTo>
                        <a:pt x="151" y="203"/>
                      </a:lnTo>
                      <a:lnTo>
                        <a:pt x="145" y="219"/>
                      </a:lnTo>
                      <a:lnTo>
                        <a:pt x="142" y="236"/>
                      </a:lnTo>
                      <a:lnTo>
                        <a:pt x="138" y="256"/>
                      </a:lnTo>
                      <a:lnTo>
                        <a:pt x="139" y="280"/>
                      </a:lnTo>
                      <a:lnTo>
                        <a:pt x="143" y="304"/>
                      </a:lnTo>
                      <a:lnTo>
                        <a:pt x="150" y="323"/>
                      </a:lnTo>
                      <a:lnTo>
                        <a:pt x="160" y="348"/>
                      </a:lnTo>
                      <a:lnTo>
                        <a:pt x="175" y="379"/>
                      </a:lnTo>
                      <a:lnTo>
                        <a:pt x="151" y="343"/>
                      </a:lnTo>
                      <a:lnTo>
                        <a:pt x="145" y="333"/>
                      </a:lnTo>
                      <a:lnTo>
                        <a:pt x="134" y="318"/>
                      </a:lnTo>
                      <a:lnTo>
                        <a:pt x="121" y="304"/>
                      </a:lnTo>
                      <a:lnTo>
                        <a:pt x="100" y="286"/>
                      </a:lnTo>
                      <a:lnTo>
                        <a:pt x="112" y="306"/>
                      </a:lnTo>
                      <a:lnTo>
                        <a:pt x="120" y="318"/>
                      </a:lnTo>
                      <a:lnTo>
                        <a:pt x="127" y="330"/>
                      </a:lnTo>
                      <a:lnTo>
                        <a:pt x="139" y="356"/>
                      </a:lnTo>
                      <a:lnTo>
                        <a:pt x="149" y="377"/>
                      </a:lnTo>
                      <a:lnTo>
                        <a:pt x="163" y="412"/>
                      </a:lnTo>
                      <a:lnTo>
                        <a:pt x="146" y="406"/>
                      </a:lnTo>
                      <a:lnTo>
                        <a:pt x="130" y="395"/>
                      </a:lnTo>
                      <a:lnTo>
                        <a:pt x="114" y="381"/>
                      </a:lnTo>
                      <a:lnTo>
                        <a:pt x="101" y="368"/>
                      </a:lnTo>
                      <a:lnTo>
                        <a:pt x="83" y="352"/>
                      </a:lnTo>
                      <a:lnTo>
                        <a:pt x="70" y="342"/>
                      </a:lnTo>
                      <a:lnTo>
                        <a:pt x="59" y="335"/>
                      </a:lnTo>
                      <a:lnTo>
                        <a:pt x="47" y="328"/>
                      </a:lnTo>
                      <a:lnTo>
                        <a:pt x="35" y="325"/>
                      </a:lnTo>
                      <a:lnTo>
                        <a:pt x="23" y="323"/>
                      </a:lnTo>
                      <a:lnTo>
                        <a:pt x="0" y="320"/>
                      </a:lnTo>
                      <a:lnTo>
                        <a:pt x="20" y="327"/>
                      </a:lnTo>
                      <a:lnTo>
                        <a:pt x="40" y="336"/>
                      </a:lnTo>
                      <a:lnTo>
                        <a:pt x="54" y="346"/>
                      </a:lnTo>
                      <a:lnTo>
                        <a:pt x="63" y="353"/>
                      </a:lnTo>
                      <a:lnTo>
                        <a:pt x="78" y="372"/>
                      </a:lnTo>
                      <a:lnTo>
                        <a:pt x="92" y="391"/>
                      </a:lnTo>
                      <a:lnTo>
                        <a:pt x="110" y="414"/>
                      </a:lnTo>
                      <a:lnTo>
                        <a:pt x="124" y="424"/>
                      </a:lnTo>
                      <a:lnTo>
                        <a:pt x="143" y="434"/>
                      </a:lnTo>
                      <a:lnTo>
                        <a:pt x="175" y="448"/>
                      </a:lnTo>
                      <a:lnTo>
                        <a:pt x="204" y="454"/>
                      </a:lnTo>
                      <a:lnTo>
                        <a:pt x="237" y="45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3638520" y="3892680"/>
                  <a:ext cx="521640" cy="726840"/>
                </a:xfrm>
                <a:custGeom>
                  <a:avLst/>
                  <a:gdLst/>
                  <a:ahLst/>
                  <a:rect l="l" t="t" r="r" b="b"/>
                  <a:pathLst>
                    <a:path w="370" h="458">
                      <a:moveTo>
                        <a:pt x="230" y="453"/>
                      </a:moveTo>
                      <a:lnTo>
                        <a:pt x="245" y="450"/>
                      </a:lnTo>
                      <a:lnTo>
                        <a:pt x="269" y="443"/>
                      </a:lnTo>
                      <a:lnTo>
                        <a:pt x="286" y="432"/>
                      </a:lnTo>
                      <a:lnTo>
                        <a:pt x="296" y="420"/>
                      </a:lnTo>
                      <a:lnTo>
                        <a:pt x="305" y="407"/>
                      </a:lnTo>
                      <a:lnTo>
                        <a:pt x="310" y="395"/>
                      </a:lnTo>
                      <a:lnTo>
                        <a:pt x="315" y="379"/>
                      </a:lnTo>
                      <a:lnTo>
                        <a:pt x="319" y="358"/>
                      </a:lnTo>
                      <a:lnTo>
                        <a:pt x="321" y="336"/>
                      </a:lnTo>
                      <a:lnTo>
                        <a:pt x="321" y="320"/>
                      </a:lnTo>
                      <a:lnTo>
                        <a:pt x="324" y="308"/>
                      </a:lnTo>
                      <a:lnTo>
                        <a:pt x="326" y="300"/>
                      </a:lnTo>
                      <a:lnTo>
                        <a:pt x="331" y="290"/>
                      </a:lnTo>
                      <a:lnTo>
                        <a:pt x="336" y="280"/>
                      </a:lnTo>
                      <a:lnTo>
                        <a:pt x="341" y="272"/>
                      </a:lnTo>
                      <a:lnTo>
                        <a:pt x="347" y="264"/>
                      </a:lnTo>
                      <a:lnTo>
                        <a:pt x="351" y="259"/>
                      </a:lnTo>
                      <a:lnTo>
                        <a:pt x="356" y="254"/>
                      </a:lnTo>
                      <a:lnTo>
                        <a:pt x="369" y="244"/>
                      </a:lnTo>
                      <a:lnTo>
                        <a:pt x="355" y="248"/>
                      </a:lnTo>
                      <a:lnTo>
                        <a:pt x="343" y="254"/>
                      </a:lnTo>
                      <a:lnTo>
                        <a:pt x="331" y="261"/>
                      </a:lnTo>
                      <a:lnTo>
                        <a:pt x="321" y="268"/>
                      </a:lnTo>
                      <a:lnTo>
                        <a:pt x="312" y="275"/>
                      </a:lnTo>
                      <a:lnTo>
                        <a:pt x="305" y="285"/>
                      </a:lnTo>
                      <a:lnTo>
                        <a:pt x="295" y="298"/>
                      </a:lnTo>
                      <a:lnTo>
                        <a:pt x="288" y="308"/>
                      </a:lnTo>
                      <a:lnTo>
                        <a:pt x="282" y="318"/>
                      </a:lnTo>
                      <a:lnTo>
                        <a:pt x="288" y="303"/>
                      </a:lnTo>
                      <a:lnTo>
                        <a:pt x="292" y="290"/>
                      </a:lnTo>
                      <a:lnTo>
                        <a:pt x="295" y="275"/>
                      </a:lnTo>
                      <a:lnTo>
                        <a:pt x="296" y="257"/>
                      </a:lnTo>
                      <a:lnTo>
                        <a:pt x="296" y="238"/>
                      </a:lnTo>
                      <a:lnTo>
                        <a:pt x="293" y="221"/>
                      </a:lnTo>
                      <a:lnTo>
                        <a:pt x="290" y="204"/>
                      </a:lnTo>
                      <a:lnTo>
                        <a:pt x="286" y="189"/>
                      </a:lnTo>
                      <a:lnTo>
                        <a:pt x="282" y="175"/>
                      </a:lnTo>
                      <a:lnTo>
                        <a:pt x="276" y="160"/>
                      </a:lnTo>
                      <a:lnTo>
                        <a:pt x="265" y="142"/>
                      </a:lnTo>
                      <a:lnTo>
                        <a:pt x="258" y="130"/>
                      </a:lnTo>
                      <a:lnTo>
                        <a:pt x="248" y="113"/>
                      </a:lnTo>
                      <a:lnTo>
                        <a:pt x="239" y="94"/>
                      </a:lnTo>
                      <a:lnTo>
                        <a:pt x="232" y="76"/>
                      </a:lnTo>
                      <a:lnTo>
                        <a:pt x="228" y="64"/>
                      </a:lnTo>
                      <a:lnTo>
                        <a:pt x="225" y="50"/>
                      </a:lnTo>
                      <a:lnTo>
                        <a:pt x="224" y="36"/>
                      </a:lnTo>
                      <a:lnTo>
                        <a:pt x="224" y="24"/>
                      </a:lnTo>
                      <a:lnTo>
                        <a:pt x="224" y="14"/>
                      </a:lnTo>
                      <a:lnTo>
                        <a:pt x="225" y="0"/>
                      </a:lnTo>
                      <a:lnTo>
                        <a:pt x="219" y="19"/>
                      </a:lnTo>
                      <a:lnTo>
                        <a:pt x="215" y="35"/>
                      </a:lnTo>
                      <a:lnTo>
                        <a:pt x="213" y="50"/>
                      </a:lnTo>
                      <a:lnTo>
                        <a:pt x="213" y="64"/>
                      </a:lnTo>
                      <a:lnTo>
                        <a:pt x="214" y="81"/>
                      </a:lnTo>
                      <a:lnTo>
                        <a:pt x="219" y="96"/>
                      </a:lnTo>
                      <a:lnTo>
                        <a:pt x="223" y="108"/>
                      </a:lnTo>
                      <a:lnTo>
                        <a:pt x="229" y="121"/>
                      </a:lnTo>
                      <a:lnTo>
                        <a:pt x="233" y="136"/>
                      </a:lnTo>
                      <a:lnTo>
                        <a:pt x="235" y="151"/>
                      </a:lnTo>
                      <a:lnTo>
                        <a:pt x="236" y="167"/>
                      </a:lnTo>
                      <a:lnTo>
                        <a:pt x="237" y="183"/>
                      </a:lnTo>
                      <a:lnTo>
                        <a:pt x="237" y="199"/>
                      </a:lnTo>
                      <a:lnTo>
                        <a:pt x="234" y="223"/>
                      </a:lnTo>
                      <a:lnTo>
                        <a:pt x="230" y="238"/>
                      </a:lnTo>
                      <a:lnTo>
                        <a:pt x="217" y="260"/>
                      </a:lnTo>
                      <a:lnTo>
                        <a:pt x="208" y="281"/>
                      </a:lnTo>
                      <a:lnTo>
                        <a:pt x="200" y="304"/>
                      </a:lnTo>
                      <a:lnTo>
                        <a:pt x="194" y="291"/>
                      </a:lnTo>
                      <a:lnTo>
                        <a:pt x="190" y="278"/>
                      </a:lnTo>
                      <a:lnTo>
                        <a:pt x="187" y="265"/>
                      </a:lnTo>
                      <a:lnTo>
                        <a:pt x="186" y="243"/>
                      </a:lnTo>
                      <a:lnTo>
                        <a:pt x="191" y="205"/>
                      </a:lnTo>
                      <a:lnTo>
                        <a:pt x="192" y="194"/>
                      </a:lnTo>
                      <a:lnTo>
                        <a:pt x="193" y="181"/>
                      </a:lnTo>
                      <a:lnTo>
                        <a:pt x="193" y="169"/>
                      </a:lnTo>
                      <a:lnTo>
                        <a:pt x="191" y="152"/>
                      </a:lnTo>
                      <a:lnTo>
                        <a:pt x="187" y="136"/>
                      </a:lnTo>
                      <a:lnTo>
                        <a:pt x="182" y="121"/>
                      </a:lnTo>
                      <a:lnTo>
                        <a:pt x="172" y="99"/>
                      </a:lnTo>
                      <a:lnTo>
                        <a:pt x="177" y="125"/>
                      </a:lnTo>
                      <a:lnTo>
                        <a:pt x="181" y="147"/>
                      </a:lnTo>
                      <a:lnTo>
                        <a:pt x="181" y="165"/>
                      </a:lnTo>
                      <a:lnTo>
                        <a:pt x="178" y="180"/>
                      </a:lnTo>
                      <a:lnTo>
                        <a:pt x="175" y="194"/>
                      </a:lnTo>
                      <a:lnTo>
                        <a:pt x="169" y="211"/>
                      </a:lnTo>
                      <a:lnTo>
                        <a:pt x="153" y="247"/>
                      </a:lnTo>
                      <a:lnTo>
                        <a:pt x="152" y="224"/>
                      </a:lnTo>
                      <a:lnTo>
                        <a:pt x="154" y="205"/>
                      </a:lnTo>
                      <a:lnTo>
                        <a:pt x="155" y="187"/>
                      </a:lnTo>
                      <a:lnTo>
                        <a:pt x="146" y="205"/>
                      </a:lnTo>
                      <a:lnTo>
                        <a:pt x="141" y="220"/>
                      </a:lnTo>
                      <a:lnTo>
                        <a:pt x="137" y="238"/>
                      </a:lnTo>
                      <a:lnTo>
                        <a:pt x="134" y="257"/>
                      </a:lnTo>
                      <a:lnTo>
                        <a:pt x="135" y="282"/>
                      </a:lnTo>
                      <a:lnTo>
                        <a:pt x="139" y="306"/>
                      </a:lnTo>
                      <a:lnTo>
                        <a:pt x="145" y="326"/>
                      </a:lnTo>
                      <a:lnTo>
                        <a:pt x="155" y="351"/>
                      </a:lnTo>
                      <a:lnTo>
                        <a:pt x="170" y="381"/>
                      </a:lnTo>
                      <a:lnTo>
                        <a:pt x="146" y="345"/>
                      </a:lnTo>
                      <a:lnTo>
                        <a:pt x="141" y="335"/>
                      </a:lnTo>
                      <a:lnTo>
                        <a:pt x="130" y="320"/>
                      </a:lnTo>
                      <a:lnTo>
                        <a:pt x="117" y="306"/>
                      </a:lnTo>
                      <a:lnTo>
                        <a:pt x="107" y="294"/>
                      </a:lnTo>
                      <a:lnTo>
                        <a:pt x="91" y="280"/>
                      </a:lnTo>
                      <a:lnTo>
                        <a:pt x="109" y="308"/>
                      </a:lnTo>
                      <a:lnTo>
                        <a:pt x="116" y="320"/>
                      </a:lnTo>
                      <a:lnTo>
                        <a:pt x="123" y="332"/>
                      </a:lnTo>
                      <a:lnTo>
                        <a:pt x="135" y="358"/>
                      </a:lnTo>
                      <a:lnTo>
                        <a:pt x="144" y="380"/>
                      </a:lnTo>
                      <a:lnTo>
                        <a:pt x="158" y="415"/>
                      </a:lnTo>
                      <a:lnTo>
                        <a:pt x="141" y="408"/>
                      </a:lnTo>
                      <a:lnTo>
                        <a:pt x="127" y="398"/>
                      </a:lnTo>
                      <a:lnTo>
                        <a:pt x="111" y="384"/>
                      </a:lnTo>
                      <a:lnTo>
                        <a:pt x="98" y="371"/>
                      </a:lnTo>
                      <a:lnTo>
                        <a:pt x="80" y="355"/>
                      </a:lnTo>
                      <a:lnTo>
                        <a:pt x="67" y="345"/>
                      </a:lnTo>
                      <a:lnTo>
                        <a:pt x="57" y="336"/>
                      </a:lnTo>
                      <a:lnTo>
                        <a:pt x="46" y="329"/>
                      </a:lnTo>
                      <a:lnTo>
                        <a:pt x="37" y="325"/>
                      </a:lnTo>
                      <a:lnTo>
                        <a:pt x="23" y="321"/>
                      </a:lnTo>
                      <a:lnTo>
                        <a:pt x="0" y="316"/>
                      </a:lnTo>
                      <a:lnTo>
                        <a:pt x="22" y="327"/>
                      </a:lnTo>
                      <a:lnTo>
                        <a:pt x="39" y="337"/>
                      </a:lnTo>
                      <a:lnTo>
                        <a:pt x="51" y="348"/>
                      </a:lnTo>
                      <a:lnTo>
                        <a:pt x="60" y="355"/>
                      </a:lnTo>
                      <a:lnTo>
                        <a:pt x="75" y="374"/>
                      </a:lnTo>
                      <a:lnTo>
                        <a:pt x="89" y="394"/>
                      </a:lnTo>
                      <a:lnTo>
                        <a:pt x="107" y="417"/>
                      </a:lnTo>
                      <a:lnTo>
                        <a:pt x="120" y="426"/>
                      </a:lnTo>
                      <a:lnTo>
                        <a:pt x="139" y="437"/>
                      </a:lnTo>
                      <a:lnTo>
                        <a:pt x="170" y="451"/>
                      </a:lnTo>
                      <a:lnTo>
                        <a:pt x="197" y="457"/>
                      </a:lnTo>
                      <a:lnTo>
                        <a:pt x="230" y="45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8" name=""/>
            <p:cNvGrpSpPr/>
            <p:nvPr/>
          </p:nvGrpSpPr>
          <p:grpSpPr>
            <a:xfrm>
              <a:off x="3659760" y="4130640"/>
              <a:ext cx="452880" cy="725400"/>
              <a:chOff x="3659760" y="4130640"/>
              <a:chExt cx="452880" cy="725400"/>
            </a:xfrm>
          </p:grpSpPr>
          <p:sp>
            <p:nvSpPr>
              <p:cNvPr id="3889" name=""/>
              <p:cNvSpPr/>
              <p:nvPr/>
            </p:nvSpPr>
            <p:spPr>
              <a:xfrm>
                <a:off x="3803760" y="4130640"/>
                <a:ext cx="308880" cy="514440"/>
              </a:xfrm>
              <a:custGeom>
                <a:avLst/>
                <a:gdLst/>
                <a:ahLst/>
                <a:rect l="l" t="t" r="r" b="b"/>
                <a:pathLst>
                  <a:path w="219" h="324">
                    <a:moveTo>
                      <a:pt x="0" y="182"/>
                    </a:moveTo>
                    <a:lnTo>
                      <a:pt x="9" y="190"/>
                    </a:lnTo>
                    <a:lnTo>
                      <a:pt x="14" y="199"/>
                    </a:lnTo>
                    <a:lnTo>
                      <a:pt x="19" y="212"/>
                    </a:lnTo>
                    <a:lnTo>
                      <a:pt x="25" y="226"/>
                    </a:lnTo>
                    <a:lnTo>
                      <a:pt x="25" y="235"/>
                    </a:lnTo>
                    <a:lnTo>
                      <a:pt x="25" y="247"/>
                    </a:lnTo>
                    <a:lnTo>
                      <a:pt x="23" y="258"/>
                    </a:lnTo>
                    <a:lnTo>
                      <a:pt x="22" y="268"/>
                    </a:lnTo>
                    <a:lnTo>
                      <a:pt x="22" y="278"/>
                    </a:lnTo>
                    <a:lnTo>
                      <a:pt x="24" y="287"/>
                    </a:lnTo>
                    <a:lnTo>
                      <a:pt x="26" y="297"/>
                    </a:lnTo>
                    <a:lnTo>
                      <a:pt x="31" y="304"/>
                    </a:lnTo>
                    <a:lnTo>
                      <a:pt x="38" y="310"/>
                    </a:lnTo>
                    <a:lnTo>
                      <a:pt x="45" y="315"/>
                    </a:lnTo>
                    <a:lnTo>
                      <a:pt x="54" y="319"/>
                    </a:lnTo>
                    <a:lnTo>
                      <a:pt x="63" y="321"/>
                    </a:lnTo>
                    <a:lnTo>
                      <a:pt x="73" y="323"/>
                    </a:lnTo>
                    <a:lnTo>
                      <a:pt x="83" y="323"/>
                    </a:lnTo>
                    <a:lnTo>
                      <a:pt x="93" y="321"/>
                    </a:lnTo>
                    <a:lnTo>
                      <a:pt x="103" y="319"/>
                    </a:lnTo>
                    <a:lnTo>
                      <a:pt x="113" y="317"/>
                    </a:lnTo>
                    <a:lnTo>
                      <a:pt x="123" y="314"/>
                    </a:lnTo>
                    <a:lnTo>
                      <a:pt x="133" y="310"/>
                    </a:lnTo>
                    <a:lnTo>
                      <a:pt x="139" y="305"/>
                    </a:lnTo>
                    <a:lnTo>
                      <a:pt x="147" y="300"/>
                    </a:lnTo>
                    <a:lnTo>
                      <a:pt x="154" y="294"/>
                    </a:lnTo>
                    <a:lnTo>
                      <a:pt x="159" y="288"/>
                    </a:lnTo>
                    <a:lnTo>
                      <a:pt x="163" y="282"/>
                    </a:lnTo>
                    <a:lnTo>
                      <a:pt x="168" y="273"/>
                    </a:lnTo>
                    <a:lnTo>
                      <a:pt x="171" y="266"/>
                    </a:lnTo>
                    <a:lnTo>
                      <a:pt x="175" y="259"/>
                    </a:lnTo>
                    <a:lnTo>
                      <a:pt x="179" y="253"/>
                    </a:lnTo>
                    <a:lnTo>
                      <a:pt x="188" y="244"/>
                    </a:lnTo>
                    <a:lnTo>
                      <a:pt x="192" y="240"/>
                    </a:lnTo>
                    <a:lnTo>
                      <a:pt x="199" y="235"/>
                    </a:lnTo>
                    <a:lnTo>
                      <a:pt x="218" y="228"/>
                    </a:lnTo>
                    <a:lnTo>
                      <a:pt x="202" y="228"/>
                    </a:lnTo>
                    <a:lnTo>
                      <a:pt x="193" y="231"/>
                    </a:lnTo>
                    <a:lnTo>
                      <a:pt x="186" y="232"/>
                    </a:lnTo>
                    <a:lnTo>
                      <a:pt x="178" y="237"/>
                    </a:lnTo>
                    <a:lnTo>
                      <a:pt x="175" y="239"/>
                    </a:lnTo>
                    <a:lnTo>
                      <a:pt x="168" y="245"/>
                    </a:lnTo>
                    <a:lnTo>
                      <a:pt x="163" y="251"/>
                    </a:lnTo>
                    <a:lnTo>
                      <a:pt x="151" y="269"/>
                    </a:lnTo>
                    <a:lnTo>
                      <a:pt x="143" y="276"/>
                    </a:lnTo>
                    <a:lnTo>
                      <a:pt x="135" y="281"/>
                    </a:lnTo>
                    <a:lnTo>
                      <a:pt x="124" y="287"/>
                    </a:lnTo>
                    <a:lnTo>
                      <a:pt x="114" y="291"/>
                    </a:lnTo>
                    <a:lnTo>
                      <a:pt x="121" y="282"/>
                    </a:lnTo>
                    <a:lnTo>
                      <a:pt x="127" y="274"/>
                    </a:lnTo>
                    <a:lnTo>
                      <a:pt x="134" y="265"/>
                    </a:lnTo>
                    <a:lnTo>
                      <a:pt x="138" y="252"/>
                    </a:lnTo>
                    <a:lnTo>
                      <a:pt x="145" y="232"/>
                    </a:lnTo>
                    <a:lnTo>
                      <a:pt x="163" y="207"/>
                    </a:lnTo>
                    <a:lnTo>
                      <a:pt x="143" y="225"/>
                    </a:lnTo>
                    <a:lnTo>
                      <a:pt x="138" y="230"/>
                    </a:lnTo>
                    <a:lnTo>
                      <a:pt x="126" y="252"/>
                    </a:lnTo>
                    <a:lnTo>
                      <a:pt x="134" y="217"/>
                    </a:lnTo>
                    <a:lnTo>
                      <a:pt x="138" y="198"/>
                    </a:lnTo>
                    <a:lnTo>
                      <a:pt x="138" y="182"/>
                    </a:lnTo>
                    <a:lnTo>
                      <a:pt x="138" y="171"/>
                    </a:lnTo>
                    <a:lnTo>
                      <a:pt x="134" y="161"/>
                    </a:lnTo>
                    <a:lnTo>
                      <a:pt x="130" y="149"/>
                    </a:lnTo>
                    <a:lnTo>
                      <a:pt x="125" y="137"/>
                    </a:lnTo>
                    <a:lnTo>
                      <a:pt x="128" y="161"/>
                    </a:lnTo>
                    <a:lnTo>
                      <a:pt x="127" y="178"/>
                    </a:lnTo>
                    <a:lnTo>
                      <a:pt x="114" y="150"/>
                    </a:lnTo>
                    <a:lnTo>
                      <a:pt x="109" y="137"/>
                    </a:lnTo>
                    <a:lnTo>
                      <a:pt x="108" y="125"/>
                    </a:lnTo>
                    <a:lnTo>
                      <a:pt x="109" y="113"/>
                    </a:lnTo>
                    <a:lnTo>
                      <a:pt x="110" y="101"/>
                    </a:lnTo>
                    <a:lnTo>
                      <a:pt x="113" y="89"/>
                    </a:lnTo>
                    <a:lnTo>
                      <a:pt x="109" y="95"/>
                    </a:lnTo>
                    <a:lnTo>
                      <a:pt x="106" y="102"/>
                    </a:lnTo>
                    <a:lnTo>
                      <a:pt x="102" y="117"/>
                    </a:lnTo>
                    <a:lnTo>
                      <a:pt x="100" y="126"/>
                    </a:lnTo>
                    <a:lnTo>
                      <a:pt x="100" y="137"/>
                    </a:lnTo>
                    <a:lnTo>
                      <a:pt x="103" y="152"/>
                    </a:lnTo>
                    <a:lnTo>
                      <a:pt x="107" y="184"/>
                    </a:lnTo>
                    <a:lnTo>
                      <a:pt x="100" y="214"/>
                    </a:lnTo>
                    <a:lnTo>
                      <a:pt x="81" y="167"/>
                    </a:lnTo>
                    <a:lnTo>
                      <a:pt x="77" y="156"/>
                    </a:lnTo>
                    <a:lnTo>
                      <a:pt x="74" y="142"/>
                    </a:lnTo>
                    <a:lnTo>
                      <a:pt x="73" y="128"/>
                    </a:lnTo>
                    <a:lnTo>
                      <a:pt x="74" y="113"/>
                    </a:lnTo>
                    <a:lnTo>
                      <a:pt x="76" y="101"/>
                    </a:lnTo>
                    <a:lnTo>
                      <a:pt x="79" y="90"/>
                    </a:lnTo>
                    <a:lnTo>
                      <a:pt x="83" y="78"/>
                    </a:lnTo>
                    <a:lnTo>
                      <a:pt x="87" y="68"/>
                    </a:lnTo>
                    <a:lnTo>
                      <a:pt x="88" y="57"/>
                    </a:lnTo>
                    <a:lnTo>
                      <a:pt x="89" y="46"/>
                    </a:lnTo>
                    <a:lnTo>
                      <a:pt x="88" y="33"/>
                    </a:lnTo>
                    <a:lnTo>
                      <a:pt x="86" y="18"/>
                    </a:lnTo>
                    <a:lnTo>
                      <a:pt x="80" y="0"/>
                    </a:lnTo>
                    <a:lnTo>
                      <a:pt x="81" y="18"/>
                    </a:lnTo>
                    <a:lnTo>
                      <a:pt x="82" y="28"/>
                    </a:lnTo>
                    <a:lnTo>
                      <a:pt x="81" y="42"/>
                    </a:lnTo>
                    <a:lnTo>
                      <a:pt x="77" y="56"/>
                    </a:lnTo>
                    <a:lnTo>
                      <a:pt x="72" y="68"/>
                    </a:lnTo>
                    <a:lnTo>
                      <a:pt x="67" y="80"/>
                    </a:lnTo>
                    <a:lnTo>
                      <a:pt x="61" y="91"/>
                    </a:lnTo>
                    <a:lnTo>
                      <a:pt x="54" y="105"/>
                    </a:lnTo>
                    <a:lnTo>
                      <a:pt x="47" y="123"/>
                    </a:lnTo>
                    <a:lnTo>
                      <a:pt x="43" y="138"/>
                    </a:lnTo>
                    <a:lnTo>
                      <a:pt x="39" y="190"/>
                    </a:lnTo>
                    <a:lnTo>
                      <a:pt x="41" y="202"/>
                    </a:lnTo>
                    <a:lnTo>
                      <a:pt x="47" y="221"/>
                    </a:lnTo>
                    <a:lnTo>
                      <a:pt x="25" y="1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3659760" y="4587840"/>
                <a:ext cx="433080" cy="268200"/>
              </a:xfrm>
              <a:custGeom>
                <a:avLst/>
                <a:gdLst/>
                <a:ahLst/>
                <a:rect l="l" t="t" r="r" b="b"/>
                <a:pathLst>
                  <a:path w="307" h="169">
                    <a:moveTo>
                      <a:pt x="152" y="7"/>
                    </a:moveTo>
                    <a:lnTo>
                      <a:pt x="0" y="59"/>
                    </a:lnTo>
                    <a:lnTo>
                      <a:pt x="149" y="0"/>
                    </a:lnTo>
                    <a:lnTo>
                      <a:pt x="184" y="1"/>
                    </a:lnTo>
                    <a:lnTo>
                      <a:pt x="219" y="7"/>
                    </a:lnTo>
                    <a:lnTo>
                      <a:pt x="306" y="78"/>
                    </a:lnTo>
                    <a:lnTo>
                      <a:pt x="204" y="12"/>
                    </a:lnTo>
                    <a:lnTo>
                      <a:pt x="291" y="168"/>
                    </a:lnTo>
                    <a:lnTo>
                      <a:pt x="192" y="12"/>
                    </a:lnTo>
                    <a:lnTo>
                      <a:pt x="184" y="21"/>
                    </a:lnTo>
                    <a:lnTo>
                      <a:pt x="161" y="93"/>
                    </a:lnTo>
                    <a:lnTo>
                      <a:pt x="172" y="18"/>
                    </a:lnTo>
                    <a:lnTo>
                      <a:pt x="63" y="161"/>
                    </a:lnTo>
                    <a:lnTo>
                      <a:pt x="162" y="10"/>
                    </a:lnTo>
                    <a:lnTo>
                      <a:pt x="152" y="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3817800" y="4194000"/>
                <a:ext cx="259560" cy="425520"/>
              </a:xfrm>
              <a:custGeom>
                <a:avLst/>
                <a:gdLst/>
                <a:ahLst/>
                <a:rect l="l" t="t" r="r" b="b"/>
                <a:pathLst>
                  <a:path w="184" h="268">
                    <a:moveTo>
                      <a:pt x="0" y="147"/>
                    </a:moveTo>
                    <a:lnTo>
                      <a:pt x="8" y="154"/>
                    </a:lnTo>
                    <a:lnTo>
                      <a:pt x="12" y="163"/>
                    </a:lnTo>
                    <a:lnTo>
                      <a:pt x="16" y="175"/>
                    </a:lnTo>
                    <a:lnTo>
                      <a:pt x="21" y="188"/>
                    </a:lnTo>
                    <a:lnTo>
                      <a:pt x="21" y="197"/>
                    </a:lnTo>
                    <a:lnTo>
                      <a:pt x="21" y="208"/>
                    </a:lnTo>
                    <a:lnTo>
                      <a:pt x="24" y="220"/>
                    </a:lnTo>
                    <a:lnTo>
                      <a:pt x="25" y="229"/>
                    </a:lnTo>
                    <a:lnTo>
                      <a:pt x="28" y="237"/>
                    </a:lnTo>
                    <a:lnTo>
                      <a:pt x="31" y="244"/>
                    </a:lnTo>
                    <a:lnTo>
                      <a:pt x="35" y="251"/>
                    </a:lnTo>
                    <a:lnTo>
                      <a:pt x="40" y="255"/>
                    </a:lnTo>
                    <a:lnTo>
                      <a:pt x="47" y="260"/>
                    </a:lnTo>
                    <a:lnTo>
                      <a:pt x="55" y="264"/>
                    </a:lnTo>
                    <a:lnTo>
                      <a:pt x="66" y="266"/>
                    </a:lnTo>
                    <a:lnTo>
                      <a:pt x="77" y="267"/>
                    </a:lnTo>
                    <a:lnTo>
                      <a:pt x="88" y="265"/>
                    </a:lnTo>
                    <a:lnTo>
                      <a:pt x="98" y="263"/>
                    </a:lnTo>
                    <a:lnTo>
                      <a:pt x="110" y="260"/>
                    </a:lnTo>
                    <a:lnTo>
                      <a:pt x="120" y="254"/>
                    </a:lnTo>
                    <a:lnTo>
                      <a:pt x="127" y="247"/>
                    </a:lnTo>
                    <a:lnTo>
                      <a:pt x="133" y="239"/>
                    </a:lnTo>
                    <a:lnTo>
                      <a:pt x="138" y="231"/>
                    </a:lnTo>
                    <a:lnTo>
                      <a:pt x="144" y="221"/>
                    </a:lnTo>
                    <a:lnTo>
                      <a:pt x="150" y="212"/>
                    </a:lnTo>
                    <a:lnTo>
                      <a:pt x="157" y="203"/>
                    </a:lnTo>
                    <a:lnTo>
                      <a:pt x="167" y="195"/>
                    </a:lnTo>
                    <a:lnTo>
                      <a:pt x="183" y="189"/>
                    </a:lnTo>
                    <a:lnTo>
                      <a:pt x="170" y="190"/>
                    </a:lnTo>
                    <a:lnTo>
                      <a:pt x="162" y="192"/>
                    </a:lnTo>
                    <a:lnTo>
                      <a:pt x="154" y="197"/>
                    </a:lnTo>
                    <a:lnTo>
                      <a:pt x="149" y="202"/>
                    </a:lnTo>
                    <a:lnTo>
                      <a:pt x="142" y="210"/>
                    </a:lnTo>
                    <a:lnTo>
                      <a:pt x="133" y="221"/>
                    </a:lnTo>
                    <a:lnTo>
                      <a:pt x="127" y="228"/>
                    </a:lnTo>
                    <a:lnTo>
                      <a:pt x="121" y="235"/>
                    </a:lnTo>
                    <a:lnTo>
                      <a:pt x="113" y="240"/>
                    </a:lnTo>
                    <a:lnTo>
                      <a:pt x="105" y="246"/>
                    </a:lnTo>
                    <a:lnTo>
                      <a:pt x="96" y="249"/>
                    </a:lnTo>
                    <a:lnTo>
                      <a:pt x="102" y="240"/>
                    </a:lnTo>
                    <a:lnTo>
                      <a:pt x="106" y="234"/>
                    </a:lnTo>
                    <a:lnTo>
                      <a:pt x="112" y="225"/>
                    </a:lnTo>
                    <a:lnTo>
                      <a:pt x="116" y="213"/>
                    </a:lnTo>
                    <a:lnTo>
                      <a:pt x="122" y="194"/>
                    </a:lnTo>
                    <a:lnTo>
                      <a:pt x="137" y="170"/>
                    </a:lnTo>
                    <a:lnTo>
                      <a:pt x="120" y="186"/>
                    </a:lnTo>
                    <a:lnTo>
                      <a:pt x="116" y="192"/>
                    </a:lnTo>
                    <a:lnTo>
                      <a:pt x="106" y="212"/>
                    </a:lnTo>
                    <a:lnTo>
                      <a:pt x="113" y="180"/>
                    </a:lnTo>
                    <a:lnTo>
                      <a:pt x="116" y="162"/>
                    </a:lnTo>
                    <a:lnTo>
                      <a:pt x="116" y="147"/>
                    </a:lnTo>
                    <a:lnTo>
                      <a:pt x="113" y="127"/>
                    </a:lnTo>
                    <a:lnTo>
                      <a:pt x="110" y="116"/>
                    </a:lnTo>
                    <a:lnTo>
                      <a:pt x="106" y="109"/>
                    </a:lnTo>
                    <a:lnTo>
                      <a:pt x="107" y="127"/>
                    </a:lnTo>
                    <a:lnTo>
                      <a:pt x="106" y="143"/>
                    </a:lnTo>
                    <a:lnTo>
                      <a:pt x="96" y="115"/>
                    </a:lnTo>
                    <a:lnTo>
                      <a:pt x="93" y="105"/>
                    </a:lnTo>
                    <a:lnTo>
                      <a:pt x="92" y="92"/>
                    </a:lnTo>
                    <a:lnTo>
                      <a:pt x="93" y="81"/>
                    </a:lnTo>
                    <a:lnTo>
                      <a:pt x="96" y="59"/>
                    </a:lnTo>
                    <a:lnTo>
                      <a:pt x="88" y="85"/>
                    </a:lnTo>
                    <a:lnTo>
                      <a:pt x="86" y="97"/>
                    </a:lnTo>
                    <a:lnTo>
                      <a:pt x="86" y="109"/>
                    </a:lnTo>
                    <a:lnTo>
                      <a:pt x="87" y="120"/>
                    </a:lnTo>
                    <a:lnTo>
                      <a:pt x="89" y="133"/>
                    </a:lnTo>
                    <a:lnTo>
                      <a:pt x="90" y="149"/>
                    </a:lnTo>
                    <a:lnTo>
                      <a:pt x="84" y="176"/>
                    </a:lnTo>
                    <a:lnTo>
                      <a:pt x="65" y="132"/>
                    </a:lnTo>
                    <a:lnTo>
                      <a:pt x="63" y="123"/>
                    </a:lnTo>
                    <a:lnTo>
                      <a:pt x="62" y="110"/>
                    </a:lnTo>
                    <a:lnTo>
                      <a:pt x="62" y="97"/>
                    </a:lnTo>
                    <a:lnTo>
                      <a:pt x="65" y="85"/>
                    </a:lnTo>
                    <a:lnTo>
                      <a:pt x="68" y="71"/>
                    </a:lnTo>
                    <a:lnTo>
                      <a:pt x="72" y="60"/>
                    </a:lnTo>
                    <a:lnTo>
                      <a:pt x="75" y="49"/>
                    </a:lnTo>
                    <a:lnTo>
                      <a:pt x="76" y="37"/>
                    </a:lnTo>
                    <a:lnTo>
                      <a:pt x="76" y="28"/>
                    </a:lnTo>
                    <a:lnTo>
                      <a:pt x="75" y="15"/>
                    </a:lnTo>
                    <a:lnTo>
                      <a:pt x="70" y="0"/>
                    </a:lnTo>
                    <a:lnTo>
                      <a:pt x="70" y="16"/>
                    </a:lnTo>
                    <a:lnTo>
                      <a:pt x="69" y="29"/>
                    </a:lnTo>
                    <a:lnTo>
                      <a:pt x="66" y="42"/>
                    </a:lnTo>
                    <a:lnTo>
                      <a:pt x="62" y="53"/>
                    </a:lnTo>
                    <a:lnTo>
                      <a:pt x="55" y="68"/>
                    </a:lnTo>
                    <a:lnTo>
                      <a:pt x="45" y="91"/>
                    </a:lnTo>
                    <a:lnTo>
                      <a:pt x="40" y="105"/>
                    </a:lnTo>
                    <a:lnTo>
                      <a:pt x="33" y="154"/>
                    </a:lnTo>
                    <a:lnTo>
                      <a:pt x="35" y="165"/>
                    </a:lnTo>
                    <a:lnTo>
                      <a:pt x="40" y="183"/>
                    </a:lnTo>
                    <a:lnTo>
                      <a:pt x="21" y="155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2" name=""/>
          <p:cNvGrpSpPr/>
          <p:nvPr/>
        </p:nvGrpSpPr>
        <p:grpSpPr>
          <a:xfrm>
            <a:off x="6318360" y="2673360"/>
            <a:ext cx="837720" cy="690480"/>
            <a:chOff x="6318360" y="2673360"/>
            <a:chExt cx="837720" cy="690480"/>
          </a:xfrm>
        </p:grpSpPr>
        <p:grpSp>
          <p:nvGrpSpPr>
            <p:cNvPr id="3893" name=""/>
            <p:cNvGrpSpPr/>
            <p:nvPr/>
          </p:nvGrpSpPr>
          <p:grpSpPr>
            <a:xfrm>
              <a:off x="6318360" y="2673360"/>
              <a:ext cx="837720" cy="690480"/>
              <a:chOff x="6318360" y="2673360"/>
              <a:chExt cx="837720" cy="690480"/>
            </a:xfrm>
          </p:grpSpPr>
          <p:sp>
            <p:nvSpPr>
              <p:cNvPr id="3894" name=""/>
              <p:cNvSpPr/>
              <p:nvPr/>
            </p:nvSpPr>
            <p:spPr>
              <a:xfrm>
                <a:off x="6581880" y="2693880"/>
                <a:ext cx="1976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752880" y="267336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903720" y="28670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411240" y="299232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827760" y="3033720"/>
                <a:ext cx="21420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336360" y="305748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318360" y="290664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394320" y="273852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620040" y="307800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941880" y="275760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6885360" y="267336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381720" y="2724120"/>
                <a:ext cx="73224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6495840" y="2841480"/>
              <a:ext cx="537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6699240" y="3435480"/>
            <a:ext cx="837720" cy="690480"/>
            <a:chOff x="6699240" y="3435480"/>
            <a:chExt cx="837720" cy="690480"/>
          </a:xfrm>
        </p:grpSpPr>
        <p:grpSp>
          <p:nvGrpSpPr>
            <p:cNvPr id="3908" name=""/>
            <p:cNvGrpSpPr/>
            <p:nvPr/>
          </p:nvGrpSpPr>
          <p:grpSpPr>
            <a:xfrm>
              <a:off x="6699240" y="3435480"/>
              <a:ext cx="837720" cy="690480"/>
              <a:chOff x="6699240" y="3435480"/>
              <a:chExt cx="837720" cy="690480"/>
            </a:xfrm>
          </p:grpSpPr>
          <p:sp>
            <p:nvSpPr>
              <p:cNvPr id="3909" name=""/>
              <p:cNvSpPr/>
              <p:nvPr/>
            </p:nvSpPr>
            <p:spPr>
              <a:xfrm>
                <a:off x="6963120" y="3456000"/>
                <a:ext cx="19728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133760" y="3435480"/>
                <a:ext cx="159120" cy="1807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284600" y="3629160"/>
                <a:ext cx="25236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792120" y="375444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208280" y="3795840"/>
                <a:ext cx="21456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717600" y="3819600"/>
                <a:ext cx="16056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699240" y="3668760"/>
                <a:ext cx="15948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775200" y="350028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000920" y="384012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322400" y="3519360"/>
                <a:ext cx="1958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266240" y="343548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762600" y="3486240"/>
                <a:ext cx="73188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1" name=""/>
            <p:cNvSpPr/>
            <p:nvPr/>
          </p:nvSpPr>
          <p:spPr>
            <a:xfrm>
              <a:off x="6877080" y="3605040"/>
              <a:ext cx="537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6546960" y="4197240"/>
            <a:ext cx="837720" cy="690840"/>
            <a:chOff x="6546960" y="4197240"/>
            <a:chExt cx="837720" cy="690840"/>
          </a:xfrm>
        </p:grpSpPr>
        <p:grpSp>
          <p:nvGrpSpPr>
            <p:cNvPr id="3923" name=""/>
            <p:cNvGrpSpPr/>
            <p:nvPr/>
          </p:nvGrpSpPr>
          <p:grpSpPr>
            <a:xfrm>
              <a:off x="6546960" y="4197240"/>
              <a:ext cx="837720" cy="690840"/>
              <a:chOff x="6546960" y="4197240"/>
              <a:chExt cx="837720" cy="690840"/>
            </a:xfrm>
          </p:grpSpPr>
          <p:sp>
            <p:nvSpPr>
              <p:cNvPr id="3924" name=""/>
              <p:cNvSpPr/>
              <p:nvPr/>
            </p:nvSpPr>
            <p:spPr>
              <a:xfrm>
                <a:off x="6810840" y="4218120"/>
                <a:ext cx="19728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6981480" y="4197240"/>
                <a:ext cx="15948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2320" y="439092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639840" y="4516560"/>
                <a:ext cx="291960" cy="3315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056360" y="4557600"/>
                <a:ext cx="214200" cy="2462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564960" y="458136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546960" y="443088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622920" y="4262400"/>
                <a:ext cx="25272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849000" y="460224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170480" y="428148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114320" y="4197240"/>
                <a:ext cx="177480" cy="1987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610320" y="4248000"/>
                <a:ext cx="731880" cy="55584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6" name=""/>
            <p:cNvSpPr/>
            <p:nvPr/>
          </p:nvSpPr>
          <p:spPr>
            <a:xfrm>
              <a:off x="6724800" y="4367160"/>
              <a:ext cx="537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7" name=""/>
          <p:cNvGrpSpPr/>
          <p:nvPr/>
        </p:nvGrpSpPr>
        <p:grpSpPr>
          <a:xfrm>
            <a:off x="1670040" y="2765160"/>
            <a:ext cx="1537560" cy="2029680"/>
            <a:chOff x="1670040" y="2765160"/>
            <a:chExt cx="1537560" cy="2029680"/>
          </a:xfrm>
        </p:grpSpPr>
        <p:sp>
          <p:nvSpPr>
            <p:cNvPr id="3938" name=""/>
            <p:cNvSpPr/>
            <p:nvPr/>
          </p:nvSpPr>
          <p:spPr>
            <a:xfrm rot="10680000">
              <a:off x="2455920" y="3182040"/>
              <a:ext cx="158040" cy="20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rot="10680000">
              <a:off x="2350800" y="324144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rot="10680000">
              <a:off x="2145960" y="297144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rot="10680000">
              <a:off x="2508480" y="2797920"/>
              <a:ext cx="234720" cy="303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rot="10680000">
              <a:off x="2231640" y="2854080"/>
              <a:ext cx="1738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rot="10680000">
              <a:off x="2677680" y="2874960"/>
              <a:ext cx="1270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rot="10680000">
              <a:off x="2697480" y="301104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rot="10680000">
              <a:off x="2562120" y="3075120"/>
              <a:ext cx="2019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rot="10680000">
              <a:off x="2366280" y="2768760"/>
              <a:ext cx="2088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rot="10680000">
              <a:off x="2165400" y="3131280"/>
              <a:ext cx="15660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rot="10680000">
              <a:off x="2224440" y="3230280"/>
              <a:ext cx="145080" cy="18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180880" y="2843280"/>
              <a:ext cx="595800" cy="522360"/>
            </a:xfrm>
            <a:custGeom>
              <a:avLst/>
              <a:gdLst/>
              <a:ahLst/>
              <a:rect l="l" t="t" r="r" b="b"/>
              <a:pathLst>
                <a:path w="422" h="329">
                  <a:moveTo>
                    <a:pt x="294" y="291"/>
                  </a:moveTo>
                  <a:lnTo>
                    <a:pt x="277" y="314"/>
                  </a:lnTo>
                  <a:lnTo>
                    <a:pt x="199" y="315"/>
                  </a:lnTo>
                  <a:lnTo>
                    <a:pt x="144" y="328"/>
                  </a:lnTo>
                  <a:lnTo>
                    <a:pt x="72" y="292"/>
                  </a:lnTo>
                  <a:lnTo>
                    <a:pt x="38" y="304"/>
                  </a:lnTo>
                  <a:lnTo>
                    <a:pt x="19" y="300"/>
                  </a:lnTo>
                  <a:lnTo>
                    <a:pt x="12" y="204"/>
                  </a:lnTo>
                  <a:lnTo>
                    <a:pt x="0" y="189"/>
                  </a:lnTo>
                  <a:lnTo>
                    <a:pt x="30" y="113"/>
                  </a:lnTo>
                  <a:lnTo>
                    <a:pt x="67" y="164"/>
                  </a:lnTo>
                  <a:lnTo>
                    <a:pt x="76" y="138"/>
                  </a:lnTo>
                  <a:lnTo>
                    <a:pt x="122" y="33"/>
                  </a:lnTo>
                  <a:lnTo>
                    <a:pt x="286" y="0"/>
                  </a:lnTo>
                  <a:lnTo>
                    <a:pt x="373" y="17"/>
                  </a:lnTo>
                  <a:lnTo>
                    <a:pt x="403" y="79"/>
                  </a:lnTo>
                  <a:lnTo>
                    <a:pt x="405" y="143"/>
                  </a:lnTo>
                  <a:lnTo>
                    <a:pt x="421" y="197"/>
                  </a:lnTo>
                  <a:lnTo>
                    <a:pt x="294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rot="10680000">
              <a:off x="2766600" y="3583800"/>
              <a:ext cx="15948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rot="10680000">
              <a:off x="2662560" y="364608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rot="10680000">
              <a:off x="2458080" y="3379320"/>
              <a:ext cx="20448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rot="10680000">
              <a:off x="2819520" y="3206520"/>
              <a:ext cx="236880" cy="30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rot="10680000">
              <a:off x="2545200" y="3258720"/>
              <a:ext cx="1738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rot="10680000">
              <a:off x="2991600" y="327960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rot="10680000">
              <a:off x="3009600" y="3416400"/>
              <a:ext cx="1270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rot="10680000">
              <a:off x="2874600" y="34815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rot="10680000">
              <a:off x="2680920" y="317340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rot="10680000">
              <a:off x="2476080" y="353448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rot="10680000">
              <a:off x="2539800" y="3633840"/>
              <a:ext cx="142200" cy="18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493360" y="3247920"/>
              <a:ext cx="597240" cy="52416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295" y="291"/>
                  </a:moveTo>
                  <a:lnTo>
                    <a:pt x="278" y="315"/>
                  </a:lnTo>
                  <a:lnTo>
                    <a:pt x="199" y="316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7" y="304"/>
                  </a:lnTo>
                  <a:lnTo>
                    <a:pt x="17" y="301"/>
                  </a:lnTo>
                  <a:lnTo>
                    <a:pt x="11" y="204"/>
                  </a:lnTo>
                  <a:lnTo>
                    <a:pt x="0" y="189"/>
                  </a:lnTo>
                  <a:lnTo>
                    <a:pt x="30" y="115"/>
                  </a:lnTo>
                  <a:lnTo>
                    <a:pt x="66" y="164"/>
                  </a:lnTo>
                  <a:lnTo>
                    <a:pt x="75" y="138"/>
                  </a:lnTo>
                  <a:lnTo>
                    <a:pt x="122" y="34"/>
                  </a:lnTo>
                  <a:lnTo>
                    <a:pt x="287" y="0"/>
                  </a:lnTo>
                  <a:lnTo>
                    <a:pt x="374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2" y="197"/>
                  </a:lnTo>
                  <a:lnTo>
                    <a:pt x="295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rot="10680000">
              <a:off x="2783880" y="409500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rot="10680000">
              <a:off x="2679120" y="4155840"/>
              <a:ext cx="12708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rot="10680000">
              <a:off x="2470680" y="3890880"/>
              <a:ext cx="20592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rot="10680000">
              <a:off x="2836440" y="3715920"/>
              <a:ext cx="235440" cy="30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rot="10680000">
              <a:off x="2562480" y="3765240"/>
              <a:ext cx="173520" cy="22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rot="10680000">
              <a:off x="3005280" y="3787560"/>
              <a:ext cx="12708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rot="10680000">
              <a:off x="3026880" y="392400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rot="10680000">
              <a:off x="2889720" y="3989520"/>
              <a:ext cx="2048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rot="10680000">
              <a:off x="2693880" y="368100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rot="10680000">
              <a:off x="2492640" y="4044600"/>
              <a:ext cx="15660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rot="10680000">
              <a:off x="2556720" y="4145040"/>
              <a:ext cx="14256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507400" y="3759120"/>
              <a:ext cx="598680" cy="523800"/>
            </a:xfrm>
            <a:custGeom>
              <a:avLst/>
              <a:gdLst/>
              <a:ahLst/>
              <a:rect l="l" t="t" r="r" b="b"/>
              <a:pathLst>
                <a:path w="424" h="330">
                  <a:moveTo>
                    <a:pt x="296" y="290"/>
                  </a:moveTo>
                  <a:lnTo>
                    <a:pt x="279" y="315"/>
                  </a:lnTo>
                  <a:lnTo>
                    <a:pt x="199" y="315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8" y="304"/>
                  </a:lnTo>
                  <a:lnTo>
                    <a:pt x="19" y="301"/>
                  </a:lnTo>
                  <a:lnTo>
                    <a:pt x="12" y="205"/>
                  </a:lnTo>
                  <a:lnTo>
                    <a:pt x="0" y="189"/>
                  </a:lnTo>
                  <a:lnTo>
                    <a:pt x="30" y="114"/>
                  </a:lnTo>
                  <a:lnTo>
                    <a:pt x="67" y="164"/>
                  </a:lnTo>
                  <a:lnTo>
                    <a:pt x="76" y="137"/>
                  </a:lnTo>
                  <a:lnTo>
                    <a:pt x="123" y="33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8"/>
                  </a:lnTo>
                  <a:lnTo>
                    <a:pt x="407" y="144"/>
                  </a:lnTo>
                  <a:lnTo>
                    <a:pt x="423" y="198"/>
                  </a:lnTo>
                  <a:lnTo>
                    <a:pt x="296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rot="10680000">
              <a:off x="2836440" y="4555440"/>
              <a:ext cx="1594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rot="10680000">
              <a:off x="2730240" y="4621320"/>
              <a:ext cx="12708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rot="10680000">
              <a:off x="2523240" y="4349880"/>
              <a:ext cx="20592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rot="10680000">
              <a:off x="2889000" y="417600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rot="10680000">
              <a:off x="2614680" y="4230000"/>
              <a:ext cx="172080" cy="222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rot="10680000">
              <a:off x="3057840" y="4253040"/>
              <a:ext cx="12708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rot="10680000">
              <a:off x="3076560" y="4389480"/>
              <a:ext cx="12816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rot="10680000">
              <a:off x="2941200" y="445140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rot="10680000">
              <a:off x="2748600" y="4144680"/>
              <a:ext cx="2048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rot="10680000">
              <a:off x="2545200" y="4508280"/>
              <a:ext cx="156600" cy="20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rot="10680000">
              <a:off x="2609280" y="460944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59600" y="4219560"/>
              <a:ext cx="598680" cy="525600"/>
            </a:xfrm>
            <a:custGeom>
              <a:avLst/>
              <a:gdLst/>
              <a:ahLst/>
              <a:rect l="l" t="t" r="r" b="b"/>
              <a:pathLst>
                <a:path w="424" h="331">
                  <a:moveTo>
                    <a:pt x="296" y="291"/>
                  </a:moveTo>
                  <a:lnTo>
                    <a:pt x="279" y="315"/>
                  </a:lnTo>
                  <a:lnTo>
                    <a:pt x="199" y="316"/>
                  </a:lnTo>
                  <a:lnTo>
                    <a:pt x="144" y="330"/>
                  </a:lnTo>
                  <a:lnTo>
                    <a:pt x="72" y="293"/>
                  </a:lnTo>
                  <a:lnTo>
                    <a:pt x="38" y="305"/>
                  </a:lnTo>
                  <a:lnTo>
                    <a:pt x="19" y="301"/>
                  </a:lnTo>
                  <a:lnTo>
                    <a:pt x="12" y="205"/>
                  </a:lnTo>
                  <a:lnTo>
                    <a:pt x="0" y="190"/>
                  </a:lnTo>
                  <a:lnTo>
                    <a:pt x="30" y="115"/>
                  </a:lnTo>
                  <a:lnTo>
                    <a:pt x="67" y="165"/>
                  </a:lnTo>
                  <a:lnTo>
                    <a:pt x="76" y="138"/>
                  </a:lnTo>
                  <a:lnTo>
                    <a:pt x="122" y="33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3" y="198"/>
                  </a:lnTo>
                  <a:lnTo>
                    <a:pt x="296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rot="10680000">
              <a:off x="2493000" y="4382640"/>
              <a:ext cx="15804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rot="10680000">
              <a:off x="2386440" y="4447800"/>
              <a:ext cx="1285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rot="10680000">
              <a:off x="2182680" y="417816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10680000">
              <a:off x="2545200" y="4002840"/>
              <a:ext cx="23436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10680000">
              <a:off x="2268720" y="405720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rot="10680000">
              <a:off x="2714400" y="4080960"/>
              <a:ext cx="12708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rot="10680000">
              <a:off x="2734560" y="4218120"/>
              <a:ext cx="12420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rot="10680000">
              <a:off x="2599200" y="4281120"/>
              <a:ext cx="2016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rot="10680000">
              <a:off x="2401200" y="3973680"/>
              <a:ext cx="21024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rot="10680000">
              <a:off x="2202480" y="4334760"/>
              <a:ext cx="1576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rot="10680000">
              <a:off x="2261160" y="4431960"/>
              <a:ext cx="145080" cy="19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217960" y="4046400"/>
              <a:ext cx="595800" cy="525600"/>
            </a:xfrm>
            <a:custGeom>
              <a:avLst/>
              <a:gdLst/>
              <a:ahLst/>
              <a:rect l="l" t="t" r="r" b="b"/>
              <a:pathLst>
                <a:path w="422" h="331">
                  <a:moveTo>
                    <a:pt x="294" y="291"/>
                  </a:moveTo>
                  <a:lnTo>
                    <a:pt x="277" y="314"/>
                  </a:lnTo>
                  <a:lnTo>
                    <a:pt x="199" y="316"/>
                  </a:lnTo>
                  <a:lnTo>
                    <a:pt x="144" y="330"/>
                  </a:lnTo>
                  <a:lnTo>
                    <a:pt x="72" y="294"/>
                  </a:lnTo>
                  <a:lnTo>
                    <a:pt x="38" y="305"/>
                  </a:lnTo>
                  <a:lnTo>
                    <a:pt x="19" y="302"/>
                  </a:lnTo>
                  <a:lnTo>
                    <a:pt x="12" y="204"/>
                  </a:lnTo>
                  <a:lnTo>
                    <a:pt x="0" y="191"/>
                  </a:lnTo>
                  <a:lnTo>
                    <a:pt x="30" y="114"/>
                  </a:lnTo>
                  <a:lnTo>
                    <a:pt x="67" y="164"/>
                  </a:lnTo>
                  <a:lnTo>
                    <a:pt x="76" y="137"/>
                  </a:lnTo>
                  <a:lnTo>
                    <a:pt x="122" y="33"/>
                  </a:lnTo>
                  <a:lnTo>
                    <a:pt x="286" y="0"/>
                  </a:lnTo>
                  <a:lnTo>
                    <a:pt x="373" y="17"/>
                  </a:lnTo>
                  <a:lnTo>
                    <a:pt x="403" y="79"/>
                  </a:lnTo>
                  <a:lnTo>
                    <a:pt x="405" y="144"/>
                  </a:lnTo>
                  <a:lnTo>
                    <a:pt x="421" y="198"/>
                  </a:lnTo>
                  <a:lnTo>
                    <a:pt x="294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rot="10680000">
              <a:off x="2365920" y="3920760"/>
              <a:ext cx="1580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rot="10680000">
              <a:off x="2258640" y="398268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10680000">
              <a:off x="2052720" y="371484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10680000">
              <a:off x="2418120" y="3540960"/>
              <a:ext cx="23436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rot="10680000">
              <a:off x="2141640" y="359532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rot="10680000">
              <a:off x="2587320" y="3615840"/>
              <a:ext cx="1285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10680000">
              <a:off x="2606760" y="3749760"/>
              <a:ext cx="12564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10680000">
              <a:off x="2472120" y="381636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10680000">
              <a:off x="2278800" y="3510000"/>
              <a:ext cx="20448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rot="10680000">
              <a:off x="2075040" y="3871440"/>
              <a:ext cx="1594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rot="10680000">
              <a:off x="2135880" y="3968280"/>
              <a:ext cx="14400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089440" y="3583080"/>
              <a:ext cx="597240" cy="520560"/>
            </a:xfrm>
            <a:custGeom>
              <a:avLst/>
              <a:gdLst/>
              <a:ahLst/>
              <a:rect l="l" t="t" r="r" b="b"/>
              <a:pathLst>
                <a:path w="423" h="328">
                  <a:moveTo>
                    <a:pt x="295" y="290"/>
                  </a:moveTo>
                  <a:lnTo>
                    <a:pt x="278" y="313"/>
                  </a:lnTo>
                  <a:lnTo>
                    <a:pt x="199" y="314"/>
                  </a:lnTo>
                  <a:lnTo>
                    <a:pt x="144" y="327"/>
                  </a:lnTo>
                  <a:lnTo>
                    <a:pt x="72" y="291"/>
                  </a:lnTo>
                  <a:lnTo>
                    <a:pt x="38" y="303"/>
                  </a:lnTo>
                  <a:lnTo>
                    <a:pt x="19" y="299"/>
                  </a:lnTo>
                  <a:lnTo>
                    <a:pt x="11" y="203"/>
                  </a:lnTo>
                  <a:lnTo>
                    <a:pt x="0" y="188"/>
                  </a:lnTo>
                  <a:lnTo>
                    <a:pt x="30" y="113"/>
                  </a:lnTo>
                  <a:lnTo>
                    <a:pt x="66" y="163"/>
                  </a:lnTo>
                  <a:lnTo>
                    <a:pt x="76" y="137"/>
                  </a:lnTo>
                  <a:lnTo>
                    <a:pt x="122" y="33"/>
                  </a:lnTo>
                  <a:lnTo>
                    <a:pt x="287" y="0"/>
                  </a:lnTo>
                  <a:lnTo>
                    <a:pt x="375" y="16"/>
                  </a:lnTo>
                  <a:lnTo>
                    <a:pt x="405" y="78"/>
                  </a:lnTo>
                  <a:lnTo>
                    <a:pt x="407" y="143"/>
                  </a:lnTo>
                  <a:lnTo>
                    <a:pt x="422" y="196"/>
                  </a:lnTo>
                  <a:lnTo>
                    <a:pt x="295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0680000">
              <a:off x="2281680" y="355680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10680000">
              <a:off x="2173680" y="3622320"/>
              <a:ext cx="12852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rot="10680000">
              <a:off x="1966320" y="335088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10680000">
              <a:off x="2331000" y="3174480"/>
              <a:ext cx="235440" cy="30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rot="10680000">
              <a:off x="2055600" y="3233520"/>
              <a:ext cx="17496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rot="10680000">
              <a:off x="2499120" y="3254040"/>
              <a:ext cx="12960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rot="10680000">
              <a:off x="2520360" y="3390480"/>
              <a:ext cx="1296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rot="10680000">
              <a:off x="2386080" y="3450960"/>
              <a:ext cx="2044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rot="10680000">
              <a:off x="2192400" y="3147480"/>
              <a:ext cx="2059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rot="10680000">
              <a:off x="1987200" y="3509640"/>
              <a:ext cx="1580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rot="10680000">
              <a:off x="2053800" y="3608280"/>
              <a:ext cx="14220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003400" y="3219480"/>
              <a:ext cx="59724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295" y="290"/>
                  </a:moveTo>
                  <a:lnTo>
                    <a:pt x="278" y="315"/>
                  </a:lnTo>
                  <a:lnTo>
                    <a:pt x="199" y="316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8" y="305"/>
                  </a:lnTo>
                  <a:lnTo>
                    <a:pt x="19" y="301"/>
                  </a:lnTo>
                  <a:lnTo>
                    <a:pt x="11" y="205"/>
                  </a:lnTo>
                  <a:lnTo>
                    <a:pt x="0" y="190"/>
                  </a:lnTo>
                  <a:lnTo>
                    <a:pt x="30" y="115"/>
                  </a:lnTo>
                  <a:lnTo>
                    <a:pt x="67" y="165"/>
                  </a:lnTo>
                  <a:lnTo>
                    <a:pt x="76" y="138"/>
                  </a:lnTo>
                  <a:lnTo>
                    <a:pt x="122" y="34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2" y="198"/>
                  </a:lnTo>
                  <a:lnTo>
                    <a:pt x="295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2" name=""/>
            <p:cNvGrpSpPr/>
            <p:nvPr/>
          </p:nvGrpSpPr>
          <p:grpSpPr>
            <a:xfrm>
              <a:off x="1670040" y="3892680"/>
              <a:ext cx="838440" cy="690480"/>
              <a:chOff x="1670040" y="3892680"/>
              <a:chExt cx="838440" cy="690480"/>
            </a:xfrm>
          </p:grpSpPr>
          <p:grpSp>
            <p:nvGrpSpPr>
              <p:cNvPr id="4023" name=""/>
              <p:cNvGrpSpPr/>
              <p:nvPr/>
            </p:nvGrpSpPr>
            <p:grpSpPr>
              <a:xfrm>
                <a:off x="1670040" y="3892680"/>
                <a:ext cx="838440" cy="690480"/>
                <a:chOff x="1670040" y="3892680"/>
                <a:chExt cx="838440" cy="69048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1933920" y="3913200"/>
                  <a:ext cx="19728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2104920" y="3892680"/>
                  <a:ext cx="159480" cy="180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2256120" y="4086360"/>
                  <a:ext cx="252360" cy="2854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1762920" y="4211640"/>
                  <a:ext cx="292320" cy="3319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2179800" y="4253040"/>
                  <a:ext cx="214560" cy="2458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1688040" y="4276800"/>
                  <a:ext cx="160920" cy="177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1670040" y="4125960"/>
                  <a:ext cx="159480" cy="182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1746000" y="3957480"/>
                  <a:ext cx="25272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1972080" y="4297320"/>
                  <a:ext cx="2541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2294280" y="3976560"/>
                  <a:ext cx="194760" cy="2224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2237760" y="3892680"/>
                  <a:ext cx="177480" cy="198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1733760" y="3943440"/>
                  <a:ext cx="732600" cy="555480"/>
                </a:xfrm>
                <a:custGeom>
                  <a:avLst/>
                  <a:gdLst/>
                  <a:ahLst/>
                  <a:rect l="l" t="t" r="r" b="b"/>
                  <a:pathLst>
                    <a:path w="519" h="350">
                      <a:moveTo>
                        <a:pt x="159" y="34"/>
                      </a:moveTo>
                      <a:lnTo>
                        <a:pt x="181" y="9"/>
                      </a:lnTo>
                      <a:lnTo>
                        <a:pt x="278" y="11"/>
                      </a:lnTo>
                      <a:lnTo>
                        <a:pt x="346" y="0"/>
                      </a:lnTo>
                      <a:lnTo>
                        <a:pt x="432" y="41"/>
                      </a:lnTo>
                      <a:lnTo>
                        <a:pt x="476" y="29"/>
                      </a:lnTo>
                      <a:lnTo>
                        <a:pt x="499" y="34"/>
                      </a:lnTo>
                      <a:lnTo>
                        <a:pt x="504" y="138"/>
                      </a:lnTo>
                      <a:lnTo>
                        <a:pt x="518" y="155"/>
                      </a:lnTo>
                      <a:lnTo>
                        <a:pt x="477" y="235"/>
                      </a:lnTo>
                      <a:lnTo>
                        <a:pt x="434" y="180"/>
                      </a:lnTo>
                      <a:lnTo>
                        <a:pt x="422" y="208"/>
                      </a:lnTo>
                      <a:lnTo>
                        <a:pt x="361" y="318"/>
                      </a:lnTo>
                      <a:lnTo>
                        <a:pt x="156" y="349"/>
                      </a:lnTo>
                      <a:lnTo>
                        <a:pt x="49" y="327"/>
                      </a:lnTo>
                      <a:lnTo>
                        <a:pt x="16" y="258"/>
                      </a:lnTo>
                      <a:lnTo>
                        <a:pt x="16" y="188"/>
                      </a:lnTo>
                      <a:lnTo>
                        <a:pt x="0" y="130"/>
                      </a:lnTo>
                      <a:lnTo>
                        <a:pt x="159" y="34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6" name=""/>
              <p:cNvSpPr/>
              <p:nvPr/>
            </p:nvSpPr>
            <p:spPr>
              <a:xfrm>
                <a:off x="1847880" y="4062240"/>
                <a:ext cx="53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7" name=""/>
            <p:cNvGrpSpPr/>
            <p:nvPr/>
          </p:nvGrpSpPr>
          <p:grpSpPr>
            <a:xfrm>
              <a:off x="1670040" y="2825640"/>
              <a:ext cx="838440" cy="690840"/>
              <a:chOff x="1670040" y="2825640"/>
              <a:chExt cx="838440" cy="690840"/>
            </a:xfrm>
          </p:grpSpPr>
          <p:grpSp>
            <p:nvGrpSpPr>
              <p:cNvPr id="4038" name=""/>
              <p:cNvGrpSpPr/>
              <p:nvPr/>
            </p:nvGrpSpPr>
            <p:grpSpPr>
              <a:xfrm>
                <a:off x="1670040" y="2825640"/>
                <a:ext cx="838440" cy="690840"/>
                <a:chOff x="1670040" y="2825640"/>
                <a:chExt cx="838440" cy="690840"/>
              </a:xfrm>
            </p:grpSpPr>
            <p:sp>
              <p:nvSpPr>
                <p:cNvPr id="4039" name=""/>
                <p:cNvSpPr/>
                <p:nvPr/>
              </p:nvSpPr>
              <p:spPr>
                <a:xfrm>
                  <a:off x="1933920" y="2846520"/>
                  <a:ext cx="19728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2104920" y="2825640"/>
                  <a:ext cx="159480" cy="1810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2256120" y="3019320"/>
                  <a:ext cx="2523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1762920" y="3144960"/>
                  <a:ext cx="292320" cy="3315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2179800" y="3186000"/>
                  <a:ext cx="214560" cy="2462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1688040" y="3209760"/>
                  <a:ext cx="160920" cy="177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1670040" y="3059280"/>
                  <a:ext cx="159480" cy="182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1746000" y="2890800"/>
                  <a:ext cx="25272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>
                  <a:off x="1972080" y="3230640"/>
                  <a:ext cx="2541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2294280" y="2909880"/>
                  <a:ext cx="19476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2237760" y="2825640"/>
                  <a:ext cx="177480" cy="198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1733760" y="2876400"/>
                  <a:ext cx="732600" cy="555840"/>
                </a:xfrm>
                <a:custGeom>
                  <a:avLst/>
                  <a:gdLst/>
                  <a:ahLst/>
                  <a:rect l="l" t="t" r="r" b="b"/>
                  <a:pathLst>
                    <a:path w="519" h="350">
                      <a:moveTo>
                        <a:pt x="159" y="34"/>
                      </a:moveTo>
                      <a:lnTo>
                        <a:pt x="181" y="9"/>
                      </a:lnTo>
                      <a:lnTo>
                        <a:pt x="278" y="11"/>
                      </a:lnTo>
                      <a:lnTo>
                        <a:pt x="346" y="0"/>
                      </a:lnTo>
                      <a:lnTo>
                        <a:pt x="432" y="41"/>
                      </a:lnTo>
                      <a:lnTo>
                        <a:pt x="476" y="29"/>
                      </a:lnTo>
                      <a:lnTo>
                        <a:pt x="499" y="34"/>
                      </a:lnTo>
                      <a:lnTo>
                        <a:pt x="504" y="138"/>
                      </a:lnTo>
                      <a:lnTo>
                        <a:pt x="518" y="155"/>
                      </a:lnTo>
                      <a:lnTo>
                        <a:pt x="477" y="235"/>
                      </a:lnTo>
                      <a:lnTo>
                        <a:pt x="434" y="180"/>
                      </a:lnTo>
                      <a:lnTo>
                        <a:pt x="422" y="208"/>
                      </a:lnTo>
                      <a:lnTo>
                        <a:pt x="361" y="318"/>
                      </a:lnTo>
                      <a:lnTo>
                        <a:pt x="156" y="349"/>
                      </a:lnTo>
                      <a:lnTo>
                        <a:pt x="49" y="327"/>
                      </a:lnTo>
                      <a:lnTo>
                        <a:pt x="16" y="258"/>
                      </a:lnTo>
                      <a:lnTo>
                        <a:pt x="16" y="188"/>
                      </a:lnTo>
                      <a:lnTo>
                        <a:pt x="0" y="130"/>
                      </a:lnTo>
                      <a:lnTo>
                        <a:pt x="159" y="34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1" name=""/>
              <p:cNvSpPr/>
              <p:nvPr/>
            </p:nvSpPr>
            <p:spPr>
              <a:xfrm>
                <a:off x="1847880" y="2994120"/>
                <a:ext cx="53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2" name=""/>
          <p:cNvSpPr/>
          <p:nvPr/>
        </p:nvSpPr>
        <p:spPr>
          <a:xfrm>
            <a:off x="2680200" y="6049800"/>
            <a:ext cx="37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 to End IPv6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unnels can be used to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ink Expanding IPv6 Intranet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utting the IT Director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back in control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Address 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addresses are GLOB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s are Link or Site LOC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ing Plan also controls network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iguration Policy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l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ful (DHCPv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Dictate the Configuration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Managers are “in control” of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s also dictate MTU size for the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94320" y="2058840"/>
            <a:ext cx="0" cy="449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89080" y="2058840"/>
            <a:ext cx="0" cy="449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26960" y="2149560"/>
          <a:ext cx="8037720" cy="92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214956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36800" y="1295280"/>
            <a:ext cx="720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a4ff"/>
                </a:solidFill>
                <a:latin typeface="Arial"/>
              </a:rPr>
              <a:t>665,570,793,348,866,943,898,599 IPv6 Addresses /</a:t>
            </a:r>
            <a:r>
              <a:rPr b="1" lang="en-GB" sz="1600" spc="-1" strike="noStrike" baseline="30000">
                <a:solidFill>
                  <a:srgbClr val="01a4ff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1a4ff"/>
                </a:solidFill>
                <a:latin typeface="Times New Roman"/>
              </a:rPr>
              <a:t>m</a:t>
            </a:r>
            <a:r>
              <a:rPr b="1" lang="en-GB" sz="1600" spc="-1" strike="noStrike" baseline="30000">
                <a:solidFill>
                  <a:srgbClr val="01a4ff"/>
                </a:solidFill>
                <a:latin typeface="Times New Roman"/>
              </a:rPr>
              <a:t>2 </a:t>
            </a:r>
            <a:r>
              <a:rPr b="1" lang="en-GB" sz="1600" spc="-1" strike="noStrike">
                <a:solidFill>
                  <a:srgbClr val="01a4ff"/>
                </a:solidFill>
                <a:latin typeface="Arial"/>
              </a:rPr>
              <a:t>of the Earth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3132000"/>
          <a:ext cx="8418600" cy="1405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3132000"/>
                    <a:ext cx="84186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26960" y="4587840"/>
          <a:ext cx="8037720" cy="925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458784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6960" y="5121360"/>
          <a:ext cx="8037720" cy="925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960" y="512136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26960" y="5730840"/>
          <a:ext cx="8037720" cy="925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960" y="573084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0120" y="3024360"/>
            <a:ext cx="74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1720" y="4471920"/>
            <a:ext cx="75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1720" y="508176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720" y="569124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6720" y="645336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7240" y="1630440"/>
            <a:ext cx="70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920" y="1630440"/>
            <a:ext cx="70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 versus IPv6 Key Features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"/>
          <p:cNvSpPr/>
          <p:nvPr/>
        </p:nvSpPr>
        <p:spPr>
          <a:xfrm>
            <a:off x="0" y="4025880"/>
            <a:ext cx="1795320" cy="380880"/>
          </a:xfrm>
          <a:prstGeom prst="rightArrow">
            <a:avLst>
              <a:gd name="adj1" fmla="val 50000"/>
              <a:gd name="adj2" fmla="val 83950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0" y="4432320"/>
            <a:ext cx="2585880" cy="380880"/>
          </a:xfrm>
          <a:prstGeom prst="rightArrow">
            <a:avLst>
              <a:gd name="adj1" fmla="val 50000"/>
              <a:gd name="adj2" fmla="val 82382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0" y="4800600"/>
            <a:ext cx="3363840" cy="380880"/>
          </a:xfrm>
          <a:prstGeom prst="rightArrow">
            <a:avLst>
              <a:gd name="adj1" fmla="val 50000"/>
              <a:gd name="adj2" fmla="val 82634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ecurity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4 relies on ‘add on’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’s no network level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Provides Network Layer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tandardised and Mand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Authent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Security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ative Network Layer Secur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andates the ability to do end-to-end network layer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DH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IPv6 Mo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End-to-End traffic over IPv4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xt wave of IPv6 Standar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Transition and Interoperation IPv4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(should be proposed standard by Oct 9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Png (proposed standard n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4 for IPv6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Mobility (proposed standard by Oct 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Renumbering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AAAA Record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Listener Discovery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for IPv6 (proposed standard in proces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Header Compression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o can help you get there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i="1" lang="en-GB" sz="2400" spc="-1" strike="noStrike">
                <a:solidFill>
                  <a:srgbClr val="fc0128"/>
                </a:solidFill>
                <a:latin typeface="Arial"/>
              </a:rPr>
              <a:t>(this is the marketing bit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family of protocols optimised for 64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es are 128 bits long (two 64 bit word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 is 64 bi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4 bit implementation offers faster routing tha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70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IPv6 features compute-intensiv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e.g. authentication and encryp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 world’s fastes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al server platform for secure applications such as finance, defense, law enforcement, E-commerce, or medical rec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enables demanding real-time applications (e.g. audio and video conferenc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Server is world’s fastes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4 bit hardware and software enable Very Large Memory (VLM) applications for fast response time (e.g. Oracle video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IPv6  Pointers and Contacts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verything you need for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q IPv6 Home P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digital.com/info/ipv6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hnical Journal (Vol 3 No 8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digital.com/dt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otypes running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v6 for Compaq’s Alpha DIGITAL UNIX - DIGITAL UNIX V4.0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v6 for Compaq’s Alpha DIGITAL OpenVMS - OpenVMS V7.1 &amp; V7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e the IPv6 Home Page for prototype access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q IPv6 Contac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X Business, Dave Carte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dcarter@zk3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X Engineering, Jim Bou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bound@zk3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VMS Business,  Bette Ruyffelaer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ruyffelaert@mail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VMS Engineer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att Muggeridg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matt.muggeridge@digital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"/>
          <p:cNvSpPr/>
          <p:nvPr/>
        </p:nvSpPr>
        <p:spPr>
          <a:xfrm>
            <a:off x="2221920" y="4264200"/>
            <a:ext cx="467028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©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6" name="" descr=""/>
          <p:cNvPicPr/>
          <p:nvPr/>
        </p:nvPicPr>
        <p:blipFill>
          <a:blip r:embed="rId1"/>
          <a:stretch/>
        </p:blipFill>
        <p:spPr>
          <a:xfrm>
            <a:off x="1147680" y="2789280"/>
            <a:ext cx="68612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ry link must support of at least ~1500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mentation at Routers is NOT permit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nodes must be able to create a Link-Lo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addresses come from Providers not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will no longer OWN your IP addresses like 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supports the dynamic 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More 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requires Multicast Support and allows Anycast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tion Options can alter a node’s Addressing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ow Label in the IP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gestion Experienced bits in the IP Head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1a4ff"/>
                </a:solidFill>
                <a:latin typeface="Arial"/>
              </a:rPr>
              <a:t>(Still under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- Radical Internet Surge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133720" y="5581800"/>
            <a:ext cx="4335120" cy="927000"/>
            <a:chOff x="2133720" y="5581800"/>
            <a:chExt cx="4335120" cy="927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5050440" y="5581800"/>
              <a:ext cx="14184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133720" y="5835600"/>
              <a:ext cx="275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heck Out t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yth or Realit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s IPv6 really going to happen?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Good Question!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Protocol in development since 6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domain ‘test’ network since 2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lots of “clever” solutions for IPv4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aybe part of th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’s the Industry do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 : 6Bo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Public Testbed for IPv6 and it’s related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Assist in the Evolution and Deployment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Sites are connected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 IPv4 (IPv6 tunnelled in IPv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 (some) native IPv6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5:20:36Z</dcterms:created>
  <dc:creator>Sue Yarger</dc:creator>
  <dc:description/>
  <dc:language>en-US</dc:language>
  <cp:lastModifiedBy>Robert Watson</cp:lastModifiedBy>
  <dcterms:modified xsi:type="dcterms:W3CDTF">1998-10-02T17:59:09Z</dcterms:modified>
  <cp:revision>40</cp:revision>
  <dc:subject/>
  <dc:title>No Slide Title</dc:title>
</cp:coreProperties>
</file>