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974-734E-4576-BDE2-8E183A09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BF1-10BC-4066-901C-F6568F0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C60-E3FE-4225-B551-774556D0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970-AC74-461E-A095-7804345A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28C7-DD8B-4D42-BF7A-2AD9AEB2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AEC-B1A3-41C4-9B11-C9BB0CE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7C4-60AD-41D0-9EDF-FCAD0637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219-98A9-4764-9BB0-478FC20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E36E-6DDC-4C65-BA05-5D5B33B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A270-0408-4A2F-997F-16D11638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EA49-DE58-4A12-9337-5D3EED9F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B79-F852-4461-802C-8712EDA1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6C7D-80E1-48D6-8491-9839A967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D83-2083-46C7-99C8-73658A5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5ACA-E24E-47D4-AB8C-D471312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2849-7CDF-41E1-9469-FE1302D6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F8E8-8000-41B1-99C9-34BAF094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653-CDC5-4DB9-BB18-B29DDD6E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398-D928-4BB9-AA4A-652028A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BDC-09BB-4525-9811-50FB4207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E34-18DA-44C1-A62C-13A43AE3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AA6-EC06-4A25-B264-28B58E81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167-829A-4487-A5B1-3FC2CB9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4F8-3137-418E-BB92-C21E8712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CampusWide: Overview and Exploits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id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Acidus@resnet.gatech.ed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yak.net/acidu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z0ne Conference 9/27/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frastru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s RS-48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n’t have protocol defined in stand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to control devices on factory assembly l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ust, has 2 data lines; uses difference between the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rt dist: 10 Mbit, Nearly a mile: 9600 baud. Repeaters extend r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frastructure continu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Conver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by Blackbo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existing Ethernet, ATT said this was bad idea (Any duplex network can wor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oks 16 devices to a box (Pentium w/ NIC), which encrypts, sends out TCP/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s can be updated remote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unknown. High end: DES, Low end: XOR, key around 8 by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frastructure Continued stil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rchant Dial-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ckboard also created the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Cost, monthly f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fore expensive lines needed to be r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ically just a modem in a bo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s you talk directly to the NP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ar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ins your standard ABA Track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ard simply holds an account number which appears on the 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are printed on site using Polaroid card printers, just like at the DM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ard - GT Buzzcard Cent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6" name="Cameras%20and%20card%20printers%20in%20buzz%20center" descr=""/>
          <p:cNvPicPr/>
          <p:nvPr/>
        </p:nvPicPr>
        <p:blipFill>
          <a:blip r:embed="rId1"/>
          <a:stretch/>
        </p:blipFill>
        <p:spPr>
          <a:xfrm>
            <a:off x="304920" y="1916280"/>
            <a:ext cx="853416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ard - GT Buzzcard Cent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8" name="Value%20Transfer%20in%20the%20Buzzcenter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1829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ard - GT Buzzcard Cent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0" name="Women%20in%20the%20buzzcard%20center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Card - GT Buzzcard Cent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2" name="Credit%20card%20machines%20etc%20etc%20in%20buzzcard%20center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01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-Vending readers (The bulk of th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or entry r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 of Sale (PO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ll, Black with either the ATT or Blackboard Log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de of metal or plas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data out of a reader is in RS-485, so it is backward compati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mits at 9600 bau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/O: 2x16 LCD with 16 key keyboard and activation LED'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action systems 10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y 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 Spe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er (AP/NP/Databas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Overview continu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store offline transactions in NV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e is in boot ROM and Flashable 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ot very quickly, normally under 15 seco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Self Ven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common reader and most vari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undry, Vending, Copy mach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iest to hack because they are isola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work basically the same. Talk to NP, confirm or deny transaction, then send signals to devic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tell if Off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Self Vend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Reader%20in%20snake%20Machine%20in%20van%20leer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402000" cy="4527720"/>
          </a:xfrm>
          <a:prstGeom prst="rect">
            <a:avLst/>
          </a:prstGeom>
          <a:ln w="0">
            <a:noFill/>
          </a:ln>
        </p:spPr>
      </p:pic>
      <p:pic>
        <p:nvPicPr>
          <p:cNvPr id="133" name="Copy%20Reader%20in%20STUCEN" descr=""/>
          <p:cNvPicPr/>
          <p:nvPr/>
        </p:nvPicPr>
        <p:blipFill>
          <a:blip r:embed="rId2"/>
          <a:stretch/>
        </p:blipFill>
        <p:spPr>
          <a:xfrm>
            <a:off x="4495680" y="2362320"/>
            <a:ext cx="374976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Door Ent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ll and trick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’t tell they are off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hold a local database of 4000-16000 card numbers in NV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s this if it can’t reach N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s just like vending, when confirmation received from NP, tell the magnetic door lock to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Door Ent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ard%20Swipe%20Door%20reader%20to%20Van%20leer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P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complex and lar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re compared to oth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will normally be restricted since they are almost always man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- Value Transfer S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“Holy Grail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VTS%20Outside%20Close%20up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759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aders - Value Transfer St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s you deposit money on 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ed in all of your dollar bills, then it sends the sign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so allow temp cards (very ba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 Simple Transa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t to buy a load of was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washer on laundry reader then swipe 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er takes account number off card and sends along with reader ID  to the NP through RS-485 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Converter may be in between reader and NP, but it doesn’t know and doesn’t car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 Simple Transaction Continu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P receives signal (be it IP or RS-485) and converts it to a query for the A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 looks in account, deducts $1, sends back a confirmation and new balance to N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P sends this info back to re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er displays new bal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 Continu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Trans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lo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er to Device Explo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er to Server Explo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d Based Explo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ng an existing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tos of GT Worthless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really protect the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 Simple Transaction Continu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er talks to device. This is device specific. The Device has no idea it is attached to a network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Laundry, Reader sends coin pulses to board in washer where coin validation normally attach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undry machine thinks 4 quarters dropped in and gives you a load of was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 is relatively secure provided that the data lines are protec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, dial-up could be hacked or phone number social engineered out of stupid pizza bo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Converter releases packets into the wild. Careful analysis of traffic could show their IP address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De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ice is stupid, doesn’t know its on a network, so reader must simulate what that device is used for (in this case, quarter puls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ompromise, simply access lines from reader to device, and then simulate quarter pulses yoursel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way for machine to know the differ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De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low risk: By their nature these are isol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easy to hack: Most devices attached to these are coin bas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 is always 1 way from reader to device so there’s no complex handshaking to spoo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De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be difficult/impossible to get at date lines between reader and device (ex: coke reader is mounted inside coke machin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ves physical evidence in the way of stripped wire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ders are stupid and can be fooled Ex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ach laptop to back to coke machine, grab all raw data after swiping ca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ug laptop to wall, send data to NP, record all that comes b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ach laptop to coke machine, play NP’s response, get a co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ay NP’s response, get another co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-485 doesn’t define standard, but who cares? Signal may be encrypted, but again, who car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 get the raw data, that doesn’t mat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TS comes in here. It doesn’t send the “x $ was deposited onto y account” until you tell it 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uzzcard Director confirmed that this can be d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uld require analysis of packet, but, by depositing known $ on known account, it could easily be d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low risk: By their nature these are isol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-485 to RS-232 adapters relatively cheap ($50-$1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physical evidence: Most readers contain plugs into RS-485 networks, so no cut wi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ster than Reader to Device spoof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way to spoof coke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confirmed, have not personally tes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er could be smart, and wonder why it got a reply from server when none was sent. (Note: Even this is easily remedied. Swipe card, have you laptop ignore all data it receives from the reader, wait a second, and then send confir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action Systems 101- What they a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Card solutions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t Card (Bookstore, food cour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l 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(Copy Machines, checking out boo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 Access (Computer Labs, Offices, Lab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Sporting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! - Not just a debit card, it is the key to the whole school net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 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dumps from NP to reader would most likely only work on that reader, since packet most likely contains reader 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Converter Spoof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address could be found by monitoring build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Reader to 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Converter Spoofing 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in normal packets as well as swiping the multiple machines (up to 16) that the converter is on would allow the IP Packet Structure to be deciph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ets could then be sent from anywhere, making machines v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all coke machines in library to all spit out a cok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loits - Card bas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ds are ABA Standard, normal card capture tool will capture th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d contains basically just a number, which can be clo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number could also be obtained by building a monitoring device on a RS-485 line, and let it harv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one card would work everywhere normal card wou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GT Styl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Data lines from server to reader and from reader to device are so important, they must be really protected righ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ll, not at Georgia Tech! Metal conduit protecting lines commonly stops at hanging cei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MW/MHWMEN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nels containing equipment normally held on by flat head scre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Lock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97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MW/MHWMEN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’s ins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ers to boost Sign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xes to talk to all the Laundry mach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inside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359712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Laundry Mach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ils protecting data lines, attached with flat head scre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metal_tubing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886200" cy="3303720"/>
          </a:xfrm>
          <a:prstGeom prst="rect">
            <a:avLst/>
          </a:prstGeom>
          <a:ln w="0">
            <a:noFill/>
          </a:ln>
        </p:spPr>
      </p:pic>
      <p:pic>
        <p:nvPicPr>
          <p:cNvPr id="186" name="metal%20tubing%20in%208th%20street%20west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7864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Door R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s for the door readers held on by flat head scre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ard%20Swipe%20Door%20reader%20to%20Van%20leer" descr=""/>
          <p:cNvPicPr/>
          <p:nvPr/>
        </p:nvPicPr>
        <p:blipFill>
          <a:blip r:embed="rId1"/>
          <a:stretch/>
        </p:blipFill>
        <p:spPr>
          <a:xfrm>
            <a:off x="2362320" y="3276720"/>
            <a:ext cx="380988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Coke Mach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485 totally unprotec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Focus%20on%20wires%20behind%20coke%20in%20Van%20Leer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495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Coke Mach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th Convenient plugs no les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Wire%20plug%20that%20comes%20out%20of%20the%20back%20of%20a%20coke%20machine%20in%20van%20leer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action Systems 101 - Histor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Teams (1984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ollege (Envis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&amp;T (CampusWid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: BlackBoard Transaction System (Unix and N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ology basically remains unchanged since 1984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Coke Machin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971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plugs into a hub inside that box, which has no lo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lastic%20Netowrk%20holder%20behind%20coke%20in%20Vanleer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381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Copy Mach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y didn’t even try with this one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the reader is attached to the shelf with… That’s Right! FLAT HEAD SCREW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Copy%20Reader%20in%20STUCEN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7494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V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small%20inside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7909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V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lose up of the let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Focus%20on%20Letters%20in%20VTS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257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- Really securing the syste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 the data lin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rid of IP Conver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god sakes, you take $9000 from me a year, buy some god damn Torx Screw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os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www.yak.net/acid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much more technical inf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e me for copies of slides or the 2600 Artic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ll your school about how insecure the system 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them change 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ystem Specs -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al Server with a data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work inter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b spaced Network of data l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isy-chained Re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rv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s Processor (A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ds Database dbvista or Orac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ork Processor (N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 to all incoming data (RS-485, Ethernet, mode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 to commands the AP can understan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rver - Spec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P9000, but any RISC processor will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ttery back-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 gig Tape drive for backu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ly Isolated from rest of net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rver - Interfac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iginally only from console, or 19,200 serial 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third party GUI’s to the datab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change from school to school. No standar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T uses ?”Osiris”? For Door En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22:03:48Z</dcterms:created>
  <dc:creator>Billy Hoffman</dc:creator>
  <dc:description/>
  <dc:language>en-US</dc:language>
  <cp:lastModifiedBy>Billy Hoffman</cp:lastModifiedBy>
  <dcterms:modified xsi:type="dcterms:W3CDTF">2003-02-25T08:00:41Z</dcterms:modified>
  <cp:revision>23</cp:revision>
  <dc:subject/>
  <dc:title>CampusWide: Overview and Exploits</dc:title>
</cp:coreProperties>
</file>