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430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430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430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74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743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430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430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430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93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430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430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43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430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32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32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72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72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80320" y="12600"/>
            <a:ext cx="6116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BFD5-2DDF-4895-8707-94FAF528103A}" type="slidenum">
              <a:rPr b="1" lang="en-US" sz="700" spc="-1" strike="noStrike">
                <a:solidFill>
                  <a:srgbClr val="23232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372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0" y="6283440"/>
            <a:ext cx="9142560" cy="0"/>
          </a:xfrm>
          <a:prstGeom prst="line">
            <a:avLst/>
          </a:prstGeom>
          <a:ln w="12600">
            <a:solidFill>
              <a:srgbClr val="94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72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760" y="6359400"/>
            <a:ext cx="1098720" cy="3175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297080" y="6537240"/>
            <a:ext cx="3124080" cy="177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0880" y="12600"/>
            <a:ext cx="8312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232323"/>
                </a:solidFill>
                <a:latin typeface="Arial"/>
              </a:rPr>
              <a:t>ControlNumber</a:t>
            </a:r>
            <a:endParaRPr b="0" lang="en-US" sz="700" spc="-1" strike="noStrike">
              <a:solidFill>
                <a:srgbClr val="372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56680" y="0"/>
            <a:ext cx="81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87FF-978A-4A1A-AC80-877C98AD0836}" type="datetime">
              <a:rPr b="0" lang="en-US" sz="800" spc="-1" strike="noStrike">
                <a:solidFill>
                  <a:srgbClr val="372000"/>
                </a:solidFill>
                <a:latin typeface="Times New Roman"/>
              </a:rPr>
              <a:t>07/28/26</a:t>
            </a:fld>
            <a:r>
              <a:rPr b="0" lang="en-US" sz="800" spc="-1" strike="noStrike">
                <a:solidFill>
                  <a:srgbClr val="372000"/>
                </a:solidFill>
                <a:latin typeface="Times New Roman"/>
              </a:rPr>
              <a:t> </a:t>
            </a:r>
            <a:fld id="{4EE34A9F-5632-45E6-A4BE-6941007C1B4B}" type="datetime10">
              <a:rPr b="0" lang="en-US" sz="800" spc="-1" strike="noStrike">
                <a:solidFill>
                  <a:srgbClr val="372000"/>
                </a:solidFill>
                <a:latin typeface="Times New Roman"/>
              </a:rPr>
              <a:t>21:11</a:t>
            </a:fld>
            <a:endParaRPr b="0" lang="en-US" sz="800" spc="-1" strike="noStrike">
              <a:solidFill>
                <a:srgbClr val="37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2323"/>
                </a:solidFill>
                <a:latin typeface="Times New Roman"/>
              </a:rPr>
              <a:t>USENIX NT LISA Conference Report</a:t>
            </a:r>
            <a:endParaRPr b="1" lang="en-US" sz="40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Times New Roman"/>
              </a:rPr>
              <a:t>September 28, 1999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32323"/>
                </a:solidFill>
                <a:latin typeface="Times New Roman"/>
              </a:rPr>
              <a:t>Arthur T McClinton Jr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5920" y="174600"/>
            <a:ext cx="1168200" cy="336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24160" y="378000"/>
            <a:ext cx="3124080" cy="177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0" y="590400"/>
            <a:ext cx="9142560" cy="0"/>
          </a:xfrm>
          <a:prstGeom prst="line">
            <a:avLst/>
          </a:prstGeom>
          <a:ln w="12600">
            <a:solidFill>
              <a:srgbClr val="94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7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T in the Firewall Environm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Elizabeth Zwicky attempted to give a Bill Hancock style humorous comparison of NT and Unix on the Firewall host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he felt both were good and ba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Keep on top of the bug fixes and security patches issued by your vendor. Both operating system and Firewall vendor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heck every day.  The hackers are!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T resourc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istserv@listserv.ntbugtraq.com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ajordomo@iss.ne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T Network Plumbing, Routers, Proxies and Web Services by Anthony Northrup, JDG Books, 1998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Building NT Baston Hosts, Stephen Norber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 Conclusion</a:t>
            </a: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s with DECUS found a very helpful group of NT users that were very willing to suggest solutions to the various NT administration issues of others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st was slightly higher than DECU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ttp://www.usenix.org/events/bytopic/lisa-nt.html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ttp://www.usenix.org/publications/library/proceedings/lisa-nt99/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NIX NT LISA Conference is a conference for NT Large Installation System Administrators and other administrators who have a need to maintain highly reliable systems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nference papers primarily from the early adopters of Windows 2000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igh variability of paper qualit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ost attendees had 1,000 - 14,000 syst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nference Organization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maller than DECUS- 150 Peopl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eld in conjunction with NT Training sessio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Only one Stream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Friday and Saturda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echnical papers as well as presentatio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Keynotes begin each day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Birds of Feather sessions in evening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apers and slides available on the ne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mbining WNT &amp; Legacy Systems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More than the sum of the par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nference Keynote - Dave Rodgers VP Strategic Partners, COMPAQ Corpor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Businesses need predictable eBusiness service need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o user visible downtim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ecur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nsistent quality of servic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zero-latency busines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W2K has shown ability to reach 99.9% availability (500 min)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hose needing higher need to use UNIX Cluster (99.99), OVMS or Tandem (99.999) which give 50 min and 5 min downtime per year respectively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Also discussed Data Replication and COMPAQ suppor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T At Argone National Laborator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ow to allow open research without compromising classified information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ultiple Firewall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ools to look for break-i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nstall PERL on every machin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ake resource kit available from every machin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L and Boeing Paper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Early adopters of W2K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Provide identical workstations and software to each group of user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No user installed softwar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f user gets permission to install his own software then can not get suppor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Every time load another service pak all security changes are remov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Microsoft provided overview W2K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mproved security model including ACL’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resolves several NT4 administrator security probl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icrosoft DNS replaces WIN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WINS still available if have W9x machines  but at a security risk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Too much to cover here, with several Beta’s out most users have already tried out W2K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How to support W2K on DMZ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Microsoft paper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write a plan for each group who will have machine outlining support to be given. Some power only up to full support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Use SMS or some other remote manager to control system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Basic NT has 97% uptime, with monitoring can increase to 99.9% uptim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Look for specific events and perform auto reboot if find a “crash” precursor. 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11,000 NT boxes on DMZ in 8 data center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2 operators, 3 perl programmers, 4 SQL experts to modify data bases, and 1-5 IIS experts per data center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ecuring Windows NT Servic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avid Leblanc, Microsoft Information Servic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Step by step talk going through all of the services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Identifying which are not needed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ow to protect the res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2323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Where the pitfalls exist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Distributed Security issues - security of a service user account depends upon every server being secure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How not to write a service and what to do to secure distributed systems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323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2323"/>
                </a:solidFill>
                <a:latin typeface="Arial"/>
              </a:rPr>
              <a:t>Conclusions (beyond the 80 slides he tried to cover in 1 hour) were: understand services; evaluate security implications of runnign services under user account; and understand how vendors install services.</a:t>
            </a:r>
            <a:endParaRPr b="1" lang="en-US" sz="2000" spc="-1" strike="noStrike">
              <a:solidFill>
                <a:srgbClr val="232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00:33:54Z</dcterms:created>
  <dc:creator>Arthur T McClinton Jr</dc:creator>
  <dc:description/>
  <dc:language>en-US</dc:language>
  <cp:lastModifiedBy>POES PROJECT // CODE 480</cp:lastModifiedBy>
  <cp:lastPrinted>1998-04-16T18:05:48Z</cp:lastPrinted>
  <dcterms:modified xsi:type="dcterms:W3CDTF">1999-09-28T13:53:14Z</dcterms:modified>
  <cp:revision>3</cp:revision>
  <dc:subject/>
  <dc:title>USENIX NT LISA Conference Report</dc:title>
</cp:coreProperties>
</file>