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48488" cy="9053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5703-28E6-4FCA-ADF1-D6EC444DF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C4D7-3921-4664-8888-A360EC3E9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B30C-6DB6-4F55-BF9E-09B717D49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3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224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3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224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E99E-9536-4993-8DF2-391A6EADE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F34D-E071-46E6-85D5-4D79F02FB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83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2224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83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2224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4EF1-7554-49EC-A7B9-4D5E70E03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EF5C-6A51-4ADA-9401-23BA079CB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08A9-B685-4CB4-9621-BBB5B12EB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A345-4BB3-4DA6-A194-FABFCC164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C119-D8B4-4AE6-8838-F384E3097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CD68-A296-44FF-867C-C25384FE8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390D-C9F6-4D7C-A33D-07228C643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spcBef>
                <a:spcPts val="64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649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649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649"/>
              </a:spcBef>
              <a:buClr>
                <a:srgbClr val="00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64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64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867280" y="5943600"/>
            <a:ext cx="2997360" cy="50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429000" y="624816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7B32-AAC8-4335-8E9F-CE2F1292ED97}" type="slidenum">
              <a:rPr b="0" lang="en-US" sz="14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371600" y="990720"/>
            <a:ext cx="68835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867280" y="5972040"/>
            <a:ext cx="299736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755040" cy="1206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7400" y="380988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Red Hat  Linux 5.2 on Alpha</a:t>
            </a: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Fred Deady </a:t>
            </a: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Words To The Wise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8160" y="1600200"/>
            <a:ext cx="7156440" cy="37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lnSpc>
                <a:spcPct val="95000"/>
              </a:lnSpc>
              <a:spcBef>
                <a:spcPts val="64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Installing Red Hat Linux on an Alpha system is slightly more complex than installing Red Hat Linux/Intel, mostly due to differences in machine architecture, and the variety of different models supported. In general, the main steps to a successful install are...”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lnSpc>
                <a:spcPct val="95000"/>
              </a:lnSpc>
              <a:spcBef>
                <a:spcPts val="400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rom Alpha Installation Addendum Section 1.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44800" y="774720"/>
            <a:ext cx="552600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Differences In Installation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ifferent Kit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RM (System Reference Manual) vs ARC (Advanced RISC Console) vs AlphaBio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disk (BSD or Linux fdisk) vs Disk D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EB Brows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8035920" cy="106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ystem Options  </a:t>
            </a:r>
            <a:r>
              <a:rPr b="0" lang="en-US" sz="2400" spc="-1" strike="noStrike">
                <a:solidFill>
                  <a:srgbClr val="ff8f2b"/>
                </a:solidFill>
                <a:latin typeface="Times New Roman"/>
              </a:rPr>
              <a:t>ARC / ALPHABIOS</a:t>
            </a:r>
            <a:endParaRPr b="0" lang="en-US" sz="24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676520"/>
            <a:ext cx="65930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Family/Model              Aliases          MILO       Kernel      Boot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=============        =======      =====      ======   =========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                         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600                       ALCOR       xlt-alcor    alcor.gz    alcor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500 5/5xx              BRET         xlt-alcor    alcor.gz    alcor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50 4/*                  M3              avanti       xl.gz         xl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55 4/*                  LX3+           avanti       xl.gz         xl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433a or 433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500a or 500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600a or 600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Table Provided By Jay Estabrook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609480"/>
            <a:ext cx="8035920" cy="106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ystem Options  </a:t>
            </a:r>
            <a:r>
              <a:rPr b="0" lang="en-US" sz="2400" spc="-1" strike="noStrike">
                <a:solidFill>
                  <a:srgbClr val="ff8f2b"/>
                </a:solidFill>
                <a:latin typeface="Times New Roman"/>
              </a:rPr>
              <a:t>SRM</a:t>
            </a:r>
            <a:endParaRPr b="0" lang="en-US" sz="24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76520"/>
            <a:ext cx="659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447920"/>
            <a:ext cx="7402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Family/Model                Aliases              Kernel              Boot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=============          =======           ======            =========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                           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000 5/xxx            MIKASA          mikasa-s-5.gz    mikasa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000A 5/xxx          NORITAKE     noritake-s-5.gz   noritak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600                       ALCOR            alcor-s.gz           alcor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800 5/xxx              CORELLE       noritake-s-5.gz   noritak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4000                     DURANGO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4100                     DODGE     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200                     TINCUP     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100 5/xxx            SABLE            sable-s-5.gz       sabl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000 5/xxx            SABLE            sable-s-5.gz       sabl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Table Provided By Jay Estabrook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Disk Setup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5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disk (DOS) or BSD - SRM Must Be BSD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SD Style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c Partition As Full Disk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a Partition As Type Swap (128MB &lt;)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Offset Start Of Partition by 1-3 Cylinders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b Partition As Type ext2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t End of Install Use writeboot To Write Boot File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BOOT TERMS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9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oot Disks  MILO, Boot, and Ramdisk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ILO (Mini Loader) Must Be On A DOS Partition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Firmware That Sets Up The System For Booting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Loads The Linux Kernel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ot For SRM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boot 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Writes Boot Block And Allows Booting From Disk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RM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Where To Go For Help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103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linux.org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alphalinux.org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redhat.com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linuxmall.com 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compaq.com/alphaserver/linux/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2814480"/>
            <a:ext cx="6755040" cy="120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17:48:33Z</dcterms:created>
  <dc:creator>Tim Carlson</dc:creator>
  <dc:description/>
  <dc:language>en-US</dc:language>
  <cp:lastModifiedBy>Deady</cp:lastModifiedBy>
  <cp:lastPrinted>1998-11-17T23:50:28Z</cp:lastPrinted>
  <dcterms:modified xsi:type="dcterms:W3CDTF">1999-05-25T16:53:30Z</dcterms:modified>
  <cp:revision>64</cp:revision>
  <dc:subject/>
  <dc:title>North America Benchmark Program</dc:title>
</cp:coreProperties>
</file>