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95E-3C71-4B00-B315-8D62A002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DCC-39C0-4F35-A949-EF21531F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E3A-2126-4AF5-AF40-1628E98B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014-9B11-4D99-83E1-93F5F7E8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EC25-0A56-4234-BB7B-EFECC77F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095F-5F1B-41DD-9CF3-C61216FA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73C0-88B0-44B0-9D9A-EDE13157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337-875F-4333-AAFE-FB7B0461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B3B9-1E48-4646-A6CD-926F9F29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6CF1-B197-4145-8D64-CF93CC32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C591-9420-4DC9-BB3B-12E8C141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F3C-9244-45F9-A9A0-F21BB348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E594-BB53-43FE-AE3B-26406F14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1151-5DD3-4E84-819F-7249C0C4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C70D-F1BA-4C70-95D4-AC230C2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5190-17D3-4095-8594-51000323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A446-1F82-401B-8F49-A10A8B01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781-18CA-45B1-A99C-208B79D4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522-178A-4C37-B3E8-CC93286B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E8A-7D07-4D08-AF47-E4AAB214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B9E-E077-4999-83E2-CF074AA8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54A-EDDA-4E5B-9652-B8BED21B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287-DF35-423A-AFCF-57B56B2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4FE-99DF-44B4-8974-06E1ABDD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A3F8-20C5-4377-ABAD-0BDAE29D7F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DF0B-A1DE-424F-8820-486FB7C790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: Preparing for Them and Living With Th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im Beck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stem Solutions Incorpora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US ESILU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mple Firewall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have a single Internet connec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firewall governs access between internal and external network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 NIC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lic services reside elsewhere (e.g., ISP) or on external networ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2844720"/>
          <a:ext cx="380988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844720"/>
                    <a:ext cx="380988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ypical Policies: Simple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ewall imposes no restrictions on internal us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ewall allows no externally initiated connections to internal serv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ypical exception: e-mail deliv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ewall doesn’t protect external network from Inter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MZ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have a single Internet connec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firewall governs access between internal and external networ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N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lic services reside on the DMZ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48320" y="2844720"/>
          <a:ext cx="380988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844720"/>
                    <a:ext cx="380988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ypical Policies: DMZ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imposes no restrictions on internal us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allows no externally initiated connections to internal ser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ical exception: e-mail delivery (e-mail server(s) on internal network or DMZ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allows no DMZ-initiated connections to internal ser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allows selected access to DMZ services (http, ftp, etc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ultiple Firewa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enario: multiple s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ltiple sites with independent Internet connectiv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ewalls managed centrally or at each s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ewall appliances at remote si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enario: special internal security environ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e firewall to protect internal network from Intern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other firewall to protect a special subnet from the rest of your internal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 Access Polic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y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urce: host, network, group of hosts or networks, “any,” authentication requir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stination: host, network, group of hosts or networks, “any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rvice: http, ftp, smtp, “any,” group of service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pt, reject, dr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udits, ala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llect Policy Information Earl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ho needs access to wha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ho should be blocked from wha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sider: internal, external, DMZ 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sider: internal, external, DMZ destin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jection vs. bit buck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uthentication requir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y or time restric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cryption requir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uditing nee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larm nee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gn-Off from Manag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t decisions (itemized) on wants and needs you coll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t general statement of organization’s security polic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nd out who needs to be notified of incid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bove info helps you deal with policy questions that come 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can’t I use ____ any more??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HTT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ndard http port: 8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ndard https port: 44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sible use of non-standard po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consider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RL filte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ent insp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xy to be noted in individual web browser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FT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ftp ports: 20, 2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rnames and passwords transmitted in clear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V support may be required in ftp cli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ication: “425 can't establish data connection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ent insp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urit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t the Good Guys do Good Th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p the Good Guys from doing Bad Things (accidentally or intentionall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p the Bad Guys from doing any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llen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tinguishing Good Guys from Bad Gu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tinguishing Good Things from Bad Th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ding an acceptable set of compromi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Telnet, SS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telnet port: 2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e: telnet usernames and passwords transmitted in cleartex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SSH port: 2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ility to separate internal DNS, external D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andles queries from 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nows only what the Internet needs to kn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andles internal qu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nows what the internal users need to kn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might run DNS services (internal and/or extern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D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E-Ma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ndard smtp port: 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ndard pop3 port: 110 (995 with SS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ndard IMAP port: 143 (993 with SS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nsider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tent insp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ze limit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ddress hid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lformed head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xchange Server: see Microsoft Knowledge Base articles Q176466, Q15583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Services to Consi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lAudio, RealVideo - high traff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tiveX - control of internal h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cAnywhere - control of internal h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P telephony, confere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twork Address Translat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FC163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upported in many firewalls (and some router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 all NATs are created equal (some more thorough than other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bound translation: source IP address replaced with an alternate IP addr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bound translation: destination IP address replaced with an alternate IP addr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cenari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ny-to-one translation: most/all internal hosts map to one address presented to outside world (port assignment lets NAT keep track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One-to-one translation: some internal hosts map to distinct addresses presented to outside worl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AT Benef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AT hides your internal addres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ny-to-one translation: External hosts can’t initiate contact to internal syste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ress regist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AT lets you use large numbers of unregistered addresses internally, and perhaps only a small number of registered addresses external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ypically, you’d use the RFC1918 private addres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0.0.0.0 - 10.255.255.255 (10/8 prefix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72.16.0.0 - 172.31.255.255 (172.16/12 prefix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92.168.0.0 - 192.168.255.255 (192.168/16 prefix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ssible NAT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 might not translate addresses that appear within the packet’s 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ome implementations translate address found inside  the packet for well-known cases (http, ftp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 might cause problems with addressed based authent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ny-to-one translation: Some services can’t handle “funny” port assign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you need mostly one-to-one translation, you haven’t gained much by using N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Firewall Capabiliti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(in some products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te blocking in http, ft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rus scan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ra layer(s) of authent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ssion encry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PN (Virtual Private Networking): letting Good Guys do Good Things over an encrypted Internet conn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uter manag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ad-balanc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ssorted Traps &amp; Pitfa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can’t I use ____ any more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ng: tends to be disabled by defaul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protocols: passed through without inspec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up/shutdown (NIC responding, firewall service not running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 Misconce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t &amp; Forget: After I’ve configured the firewall, I can ignore i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rong. You need to review the audit trails and polici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ltimate Safety: After I’ve configured the firewall, I don’t have to worry about security on protected syste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ron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firewall is a set of compromises between security and convenien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firewall isn’t the only means of accessing da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urity vs. Conveni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00% security: Nobody has any access to any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00% convenience: Everybody has full access to every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thing in between: The Real Worl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ommodating the Good Guys often accommodates the Bad Guys t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pping the Bad Guys often stops the Good Guys t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utsourcing the Firewal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can manage your firewall yourself, or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ISPs (or other service providers) will manage the firewall for you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ewall system at your site or at ISP’s s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rvice provider installs, configures, monitors (24x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submit policy requirements &amp; changes to service provi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asic Purposes of a Firewal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 access to selected services in a controlled mann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lock the 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t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nitor activity for signs of trou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ep an audit trail if you later suspect a breach has occur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CP/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if I don’t use a firewall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ysical secur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the router to the Inter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host protocol st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host ser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host operating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the appl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.S. All of the above apply even if you use a firew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es a firewall do for m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dit trai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tection from IP spoof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tection from various denial-of-service atta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layer of authent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ress trans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 Typ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cket filter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ccess decisions based on source, destination, serv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tatel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roxy-bas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ccess decisions based on application-specific proxy softwa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pplication le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tatefu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teful insp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et filtering (network leve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ome application-level inspec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tatefu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verall Guideli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at which is not expressly permitted is prohibited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firewall is the firewall, the whole firewall, and nothing but the firewal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on’t run anything on the firewall that wasn’t intended to be part of the firewal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Watch out for back doors that bypass the firewall (modems, extra NICs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 ready to pull the plug in a crisi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ght the urge to poke holes through the firewal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Your business requirements might require you to poke holes anyway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e.g., e-mail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Only a trusted few manage the firewal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nal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Your organization’s private networ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orth protec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ernal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twork between the firewall and the 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o firewall protection from outside wor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deally, no hosts except the firewall and the Internet rou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MZ (Demilitarized Zone) — opt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parate network housed at your orga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tended for public access (in a controlled manne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8:09:37Z</dcterms:created>
  <dc:creator>jbecker</dc:creator>
  <dc:description/>
  <dc:language>en-US</dc:language>
  <cp:lastModifiedBy>jbecker</cp:lastModifiedBy>
  <dcterms:modified xsi:type="dcterms:W3CDTF">1999-12-17T21:00:47Z</dcterms:modified>
  <cp:revision>20</cp:revision>
  <dc:subject/>
  <dc:title>Firewalls: Preparing for Them and Living With Them</dc:title>
</cp:coreProperties>
</file>