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3812-2530-4753-92B3-CA300303D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BDD5-CD93-49F6-BC69-27A38C245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0F2D-86FC-44E8-897E-92A9C54B9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D1B1-23CB-4A74-B562-B79045D8A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443B-27AE-4444-AD59-30D15E202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BE59-8591-4ECE-8D1C-75CC7BDED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A9F7-1C2C-4A90-8890-82DA41022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DF33-AC3B-4FB0-8530-C1BD9C838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6C82-AFC6-408C-B64E-2C44B3A61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D746-0DBB-4C05-A152-49AEEE743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B11D-27F0-4463-8C20-452EA9DB4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4875-2140-45CE-88E3-CD9EE04D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438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0" y="6451200"/>
            <a:ext cx="56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E6CC-870A-4D1A-A6B8-6581FF5125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final%20template%20red%20text%20bar%20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TS%20template%20NEW%20copy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190476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190476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c1c"/>
                </a:solidFill>
                <a:latin typeface="Arial"/>
              </a:rPr>
              <a:t>Remote Administration of Microsoft Windows NT</a:t>
            </a:r>
            <a:endParaRPr b="0" lang="en-US" sz="36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81080" y="33526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Microsoft NT Resource K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alm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rn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the Schedule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rver Mana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Resource Kit Ut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 with common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may be sharing more than you intend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 5.0 and Windows 2000 change in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must visit the system once to set up to run commands from remote with a domain accou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mote creation of Servic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files to remote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rvice Control Utility (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to create th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egistry editor to fix 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ither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rver Mana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start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Using the Schedule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\\computername time “\\server\share\path\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\\computername delay “\\server\share\path\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need to be in close time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timeserv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ice or NET TIME comma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s are given in local time, not the remot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for paths when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ain other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build a cookbook of small batch file fra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Samples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RES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OR_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Limitation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can only see system environment variables that are in effect at boo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nsate by having scheduled tasks execute a file local_information.bat that just defines a few useful global environment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More informa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d User and local differ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d User can be set through control pan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T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KiX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Path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xplorer does not see environment variables set in login scri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T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KiX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Path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hang up when combined with some other services like Exchange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lative Pathnames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%0\.. Instead of absolute p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irectories for different executable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 variables can help improve read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path=%0\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exe=%0\..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hecking the resul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 status is in %errorlevel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finds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ter for testing text values retu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| findstr /b /c:”   %service_name%” &gt; 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- Save as .txt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ng a p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arget dire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running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ing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ing a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ing file can be installed remotely using the schedule service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 use of the Resource Kit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command file programming techniques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make the tools available on a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an administrative workstation that allows multiple logged in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File: Install_rkillsvc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This procedure installs the remote kil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This can be installed remotely by usi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“SOON” command from the NT Resource 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ex: soon \\target 30 “UNC name of this fi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06-Aug-1997 J. Malm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locate source of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path=%0\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exe=%0\..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create a destination directory if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ist %systools% goto systools_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t exist %SystemDrive%\systools mkdir %SystemDrive%\sys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ystools=%SystemDrive%\sys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systools_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Stop the service if it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ervice_name=rkillsr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| findstr /b /c:”   %service_name% &gt; 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rrorlevel 1 goto not_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op “%service_name%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not_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file=rkillsrv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ist %systools%\%tfile% del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%utilexe%\%tfile%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Add and start th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instsrv %service_name%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“%service_name%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Issues with adding accou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net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 will create an account in the target computer’s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batch procedure through the schedule service to create accounts on the PDC of the account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s created are not visible to commands until they have been replicated to the BD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slee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retries until succe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ly set service passwords to not ex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program fragme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an ACL on a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ls %tfile% /g “%MDOM%\Domain Admins”:c &lt; %utilpath%\y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ervice Control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sc.exe config %service_name% obj=%MDOM%\%srvacc% password=%pswd% start= a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fragme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ng if a B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etdom bdc | find “%computername% &gt;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ing a right to an account (non-B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trights +r SeServiceLogonRight -u %MDOM%\%srvacc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C must redirect command to the P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 %\ntrights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-m %mypdc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r SeServiceLogonRight -U %MDOM%\%srvacc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- Finding the PDC for a BDC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you need to build a command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etdom bdc | find “PDC for domain” &gt;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munge %utilpath%\set_cpudom.munge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Microsoft Windows NT Resource Kit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urce Kit utilities are are part of the Microsoft Windows NT Resource Kit sold separately or as part of Microsoft Tech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utilities are not suppor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ilities are a combination of licensed software and free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- String Substitu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mu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utility to do string substitution in a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munge %utilpath%\set_cpudom.munge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_cpudom.munge is a text file contain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PDC for domain “ “SET CPUDOM=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…” “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rving the NT Resource Kit Utilities on a Network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access to authorized users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clude the utilities that are w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anual setup and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Onlin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Su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\shortc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e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almost all non-executable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setup and maintenance command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needs user environment variable %NTRESKIT% to be set to this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graphics for an HTML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Onlin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to the Online Documentation in the base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eper directories to organize by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Su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short cuts that use the Super User (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utility to launch selected pro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specific executables and help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matches %processor_architecture%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“%ntreskit%\%processor_architecture% to the user %path% environment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\shortc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to utilities for the Start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Shortcu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shortcut from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he path to the utility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ge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%ntreskit%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i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%homeshare%%homepath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Ic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hange the path to be %ntreskit%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Shortcu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default to being “sm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need to be made stupid using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hortc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 -s -n “shortcut_file.ln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ynamically adding the NT Resource Kit utilities to your start menu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the main Start M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the profile Start Menu location.  This is for use with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VDE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%userprofile%\Start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nvironment variables for Super User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%privuser%=%username%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n Administrator’s Workstation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you do not to only use an Administrator level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s may inadvertently update global templa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are not running the same day to day environment as your us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one workstation instead of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rtual Desktop (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VDES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and Super User (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SU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Featured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, VDESK, Super User, Setx, soon, Remote Kill, regback, regrest srvany, ntrights, instsrv, pathman, timeserv, service controller, monitor service, localgroup, mu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ther utilities than can be covered in this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n Administrator’s Worksta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System Recommend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8 MB of RAM for Windows NT 4.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GB of disk space on the system dis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at at least 300 Mb is free on the system disk with everything inst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s always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VDESK - Virtual Desktop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multiple desktops to be active under multiple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Control + F1 through F9 to select deskt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ntrol + Alt + Insert to login a second u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ntrol + Escape to launch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“Explorer” as that program to get a second shell in an alternate deskto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VDESK - Issu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omain non-privileged account as primar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omain administrator level account on the second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programs will run on the second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ly Microsoft Foundation Classes and MM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vileged user is logged in even if you logoff the primar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uper User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run single programs as a different u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on the primary session of VDE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ith programs that VDESK will n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s convenient as VDE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based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unknown set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 Super User Shortcu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the same as a normal short cut for a DOS comm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 runs SU and takes the application name as a par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nvironment variables to fill in username and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ntreskit%\%processor_architecture%\SU.EX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%prvuser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%ntreskit%\%processor_architecture%\dhcpadmn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%domain% -e -cb 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some of the Ut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file programm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for network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ministrative station to save physical desk space, and P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or attending m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almberg, Saturn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: John.Malmberg@gm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: Malmberg@eisner.decus.o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white%20compaq%20logo%20copy" descr=""/>
          <p:cNvPicPr/>
          <p:nvPr/>
        </p:nvPicPr>
        <p:blipFill>
          <a:blip r:embed="rId2"/>
          <a:stretch/>
        </p:blipFill>
        <p:spPr>
          <a:xfrm>
            <a:off x="3619440" y="3321000"/>
            <a:ext cx="1903320" cy="4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Most Useful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regb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reg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ements backup, Just in c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universal status watcher service that can be configured to send ale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Monitor Service Us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or Threads Not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Memory runn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 space runn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y Qu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Watson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cripting option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 Scripting (V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X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mote command execution servic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 (security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ONS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NE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Giving commands to a remote server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 was designed for remot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commands allow designation of target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hedul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mmand can cause DOS command files to execute on target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8:20:43Z</dcterms:created>
  <dc:creator/>
  <dc:description/>
  <dc:language>en-US</dc:language>
  <cp:lastModifiedBy>Windows Client</cp:lastModifiedBy>
  <cp:lastPrinted>2000-08-07T17:25:55Z</cp:lastPrinted>
  <dcterms:modified xsi:type="dcterms:W3CDTF">2000-08-22T21:04:16Z</dcterms:modified>
  <cp:revision>11</cp:revision>
  <dc:subject/>
  <dc:title>Compaq Enterprise Technical Symposium 2000</dc:title>
</cp:coreProperties>
</file>