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25A7-2B56-48F8-8AEB-B0525602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lides are just a graphical representation of the contents in the firewall-seen.html F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ill be spent on figuring out the meanings of these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out the full information of the machine, from computer name to platform to key to monitor resolution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e if the user is working on encrypted files on the file server. Logging the keystrokes still gets the user all the information, though it may not be formatted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cker can forward attacks through the system into the corporation, including reconnaissance like port scanning or direct attacks.The redirector allows a compromised desktop to attack oth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can find and read any file, including those on mapped (shared) dr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up logins including VPN pass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number of ways to install into the system and can “morph” in order to avoid scanners (it can be recompiled to avoid detection by anti-virus apps) and allows for random port start.  Also send email notification every time compromised desktop start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recap of the OS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212-DB8F-4A69-B12D-D0B7560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A42-A0D2-4420-9098-BCB45A1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C39-0176-4634-AA4F-A496C2F2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40A-26C4-4997-8EE5-B9916030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B55-AACC-4EE9-BA53-352D43C8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5D1-77C8-4327-BC8F-924D3D79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D47-CED9-49E5-86C6-0C7FB8B8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0DA-DF92-47F6-91DF-B9866C55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63C-6B98-4895-8B32-D5154A1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0D9-6124-41E1-8467-63B73AF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FF1-5198-40A5-BF73-D2BDE80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8CF-8BC9-4745-880E-FDED0A3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B05-CE4A-4341-941F-01719839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bertgraham.com/pubs/firewall-seen.html" TargetMode="External"/><Relationship Id="rId2" Type="http://schemas.openxmlformats.org/officeDocument/2006/relationships/hyperlink" Target="http://www.robertgraham.com/slides/first2k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si.edu/in-notes/iana/assignments/port-numbers" TargetMode="External"/><Relationship Id="rId2" Type="http://schemas.openxmlformats.org/officeDocument/2006/relationships/hyperlink" Target="http://www.isi.edu/in-notes/iana/assignments/port-numbers" TargetMode="External"/><Relationship Id="rId3" Type="http://schemas.openxmlformats.org/officeDocument/2006/relationships/hyperlink" Target="http://www.isi.edu/in-notes/iana/assignments/port-numbers" TargetMode="External"/><Relationship Id="rId4" Type="http://schemas.openxmlformats.org/officeDocument/2006/relationships/hyperlink" Target="http://www.isi.edu/in-notes/iana/assignments/port-numbers" TargetMode="External"/><Relationship Id="rId5" Type="http://schemas.openxmlformats.org/officeDocument/2006/relationships/hyperlink" Target="http://www.isi.edu/in-notes/iana/assignments/port-numbers" TargetMode="External"/><Relationship Id="rId6" Type="http://schemas.openxmlformats.org/officeDocument/2006/relationships/hyperlink" Target="http://www.isi.edu/in-notes/iana/assignments/port-numbers" TargetMode="External"/><Relationship Id="rId7" Type="http://schemas.openxmlformats.org/officeDocument/2006/relationships/hyperlink" Target="http://www.isi.edu/in-notes/iana/assignments/port-numbers" TargetMode="External"/><Relationship Id="rId8" Type="http://schemas.openxmlformats.org/officeDocument/2006/relationships/hyperlink" Target="http://advice.networkice.com/advice/Exploits/Ports/" TargetMode="External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ewall Foren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phering firewall logs in order to figure out what is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0EE-45D3-44FE-9615-ACE0044BDC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7-L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1600200"/>
            <a:ext cx="1600200" cy="3657600"/>
            <a:chOff x="3200400" y="1600200"/>
            <a:chExt cx="1600200" cy="3657600"/>
          </a:xfrm>
        </p:grpSpPr>
        <p:sp>
          <p:nvSpPr>
            <p:cNvPr id="115" name=""/>
            <p:cNvSpPr/>
            <p:nvPr/>
          </p:nvSpPr>
          <p:spPr>
            <a:xfrm>
              <a:off x="3200400" y="16002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0400" y="1600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21337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266688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32004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7339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426708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48006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2004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4800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04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2133720"/>
              <a:ext cx="160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808080"/>
                  </a:solidFill>
                  <a:latin typeface="Arial"/>
                </a:rPr>
                <a:t>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1080"/>
            <a:ext cx="254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c = 10.10.0.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t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9.31.36.212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 = 17 (TC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Length = 7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= 11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/flags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 = 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440" y="48006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er = et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4495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00600" y="27428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62320" y="4114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3760" y="2362320"/>
            <a:ext cx="26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c port = 137 (nb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t port = 137 (nb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3B4-E8E5-49B8-979C-E9517EEC78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packet 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5248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X...@..y2.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N.U....6D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 $......:...r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  00 00 00 00 00 00 20 43 4B 41 41 41 41 41 41 41 .......CK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41 41 41 41 41 41 41 41 41 41 41 41 41 41 41 41 AAAAAAAAA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0  41 41 41 41 41 41 41 00 00 21 00 01             AAAAAAA..!.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33520" y="3657240"/>
            <a:ext cx="304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92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934320" y="3657240"/>
            <a:ext cx="304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0160" y="5257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200040" y="37339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3120" y="4267080"/>
            <a:ext cx="293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 dum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hex-digits == 1-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9B4-4473-4EA6-A7ED-4BB08D122C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#2: Just h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75248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00 00 00 00 00 20 43 4B 41 41 41 41 41 41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41 41 41 41 41 41 41 41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00 00 21 00 01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6F7-06D0-4E7D-B4F3-2CE8B4D6FD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#3: OSI break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752480"/>
            <a:ext cx="74678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40 05 A4 79 32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head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4 55 00 00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80 11 36 44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A 0A 00 09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 head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0 72 00 00 00 01 00 00 00 00 00 00 20 43 4B 4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41 41 41 41 41 41 41 41 4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41 41 41 41 41 41 00 00 2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01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EBE-E847-4AF3-BD53-4DC1973A72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4120" y="3733920"/>
            <a:ext cx="2057400" cy="2209680"/>
          </a:xfrm>
          <a:prstGeom prst="line">
            <a:avLst/>
          </a:prstGeom>
          <a:ln cap="rnd" w="763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5791320"/>
            <a:ext cx="99072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505320"/>
            <a:ext cx="167652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666880"/>
            <a:ext cx="4038840" cy="1067040"/>
          </a:xfrm>
          <a:prstGeom prst="line">
            <a:avLst/>
          </a:prstGeom>
          <a:ln cap="rnd" w="763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#4: IP break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1981080"/>
            <a:ext cx="6705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Version|  IHL  |Type of Service|          Total Length  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       Identification        |Flags|      Fragment Offset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Time to Live |    Protocol   |         Header Checksum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 Addr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                  Destination Address                 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362320"/>
            <a:ext cx="15238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75248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4 55 00 00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80 11 36 44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0A 0A 00 09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043-688E-4B72-954B-4A4E64CF0B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Network Layer: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752480"/>
            <a:ext cx="815328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Version|  IHL  |Type of Service| 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Total Length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Identificatio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|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Flag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Fragment Offse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Time to Liv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|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Protocol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Header Checksum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Source Addres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Destination Addres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Options                    |    Padding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5520" y="14479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7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032-1091-40AD-86F3-6704D84A21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Network Layer: IC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752480"/>
            <a:ext cx="81532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Type      |       Code    |            Checksum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                                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5520" y="14479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7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8560" y="339408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ata follows, depending upon type and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a ping (type=8) will contain a data field of opaqu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B25-2FF4-497E-B4CE-DDB080E1B2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Transport Layer: 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752480"/>
            <a:ext cx="815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Source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|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Destination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          Sequence Number  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      Acknowledgment Number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Data |           |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U|A|P|R|S|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Offset| Reserved  |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R|C|S|S|Y|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Window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|           |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G|K|H|T|N|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Checksum            |         Urgent Pointer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      Options                    |    Padding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5520" y="14479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DC2-C058-4B74-8E07-F1A513814B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Transport Layer: 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52480"/>
            <a:ext cx="8153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Source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|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Destination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Length             |           Checksum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A47-F049-4BC9-90A4-AF3B9A4976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S vs. Fire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asses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orts and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icious looking packets regardless of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atterns all throughout the packet a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 are normal, so IDS is noisier, especially outside a 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7C6-D891-4C72-B007-42A4CB9AB3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ewall forensics FA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st FAQ at:</a:t>
            </a:r>
            <a:br>
              <a:rPr sz="3200"/>
            </a:b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robertgraham.com/pubs/firewall-seen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lides at: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robertgraham.com/slides/first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lides are just a guided presentation of the F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EE6-EE04-4206-ABD0-5EF26281CD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from 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firewalls do you use (ipchains, Checkpoint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uses sniff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uses 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other techniques (e.g. honeypot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718-A81E-440F-B172-44CC9DF111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0E6-5FAC-4CFC-A342-D749A7971E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1 Destination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important indicator of what’s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A2E-5461-40DE-AFEE-F359AB4956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</a:t>
            </a:r>
            <a:br>
              <a:rPr sz="32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tp://ftp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s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in-notes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ian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assignments/port-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ial list inaccurate more often than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advice.networkice.com/advice/Exploits/Port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lot of info on what ports are being used in the real world, often with hyperlinks to relevant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853-3ED0-4AFF-85A6-A04E400920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7 Smurf/Frag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189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935680" y="359424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202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64080" y="4446720"/>
            <a:ext cx="2994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ping 192.0.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Or UDP port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Or other UDP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poof vic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922480" y="3429000"/>
            <a:ext cx="2898720" cy="954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800" y="4522680"/>
            <a:ext cx="311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uses MAC address FF:FF:FF:FF:FF:FF for IP address 192.0.2.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351160" y="3097080"/>
            <a:ext cx="566640" cy="663480"/>
            <a:chOff x="2351160" y="3097080"/>
            <a:chExt cx="566640" cy="663480"/>
          </a:xfrm>
        </p:grpSpPr>
        <p:sp>
          <p:nvSpPr>
            <p:cNvPr id="212" name=""/>
            <p:cNvSpPr/>
            <p:nvPr/>
          </p:nvSpPr>
          <p:spPr>
            <a:xfrm>
              <a:off x="2351160" y="309708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41520" y="318276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873000" y="1569960"/>
            <a:ext cx="19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= 192.0.2.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960560" y="3359160"/>
            <a:ext cx="4809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190512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05120" y="2133360"/>
            <a:ext cx="3657600" cy="5331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286000"/>
            <a:ext cx="3809880" cy="838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2438280"/>
            <a:ext cx="3886200" cy="15242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905120" y="2438280"/>
            <a:ext cx="4419360" cy="1981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E0E-FDE4-4EB9-9CA9-8D348D6523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1 F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ez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test for read/write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ov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compress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ne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8880" y="5243400"/>
            <a:ext cx="84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0 rh5.robertgraham.com FTP server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rsion wu-2.4.2-academ[BETA-15](1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t Nov 1 03:08:32 EST 1997) read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5E4-FD89-4975-9B54-34318A3B54E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3 Tel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co routers, APC UPSs, Ascend dial-ups, Solaris servers, Ethernet switch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 crackable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1320" y="4952880"/>
            <a:ext cx="458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 Hat Linux release 5.0 (Hurrican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rne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.0.3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n an i48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i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109-C4A0-45C7-9944-6816B62EEF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310760" y="3429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s 67,68 BOOTP,DH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231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62520" y="3949560"/>
            <a:ext cx="127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47920" y="3083040"/>
            <a:ext cx="566640" cy="663480"/>
            <a:chOff x="1447920" y="3083040"/>
            <a:chExt cx="566640" cy="663480"/>
          </a:xfrm>
        </p:grpSpPr>
        <p:sp>
          <p:nvSpPr>
            <p:cNvPr id="244" name=""/>
            <p:cNvSpPr/>
            <p:nvPr/>
          </p:nvSpPr>
          <p:spPr>
            <a:xfrm>
              <a:off x="1447920" y="308304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38280" y="316872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57200" y="1523880"/>
            <a:ext cx="19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-mo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42800" y="3233880"/>
            <a:ext cx="868320" cy="512640"/>
            <a:chOff x="442800" y="3233880"/>
            <a:chExt cx="868320" cy="512640"/>
          </a:xfrm>
        </p:grpSpPr>
        <p:sp>
          <p:nvSpPr>
            <p:cNvPr id="248" name=""/>
            <p:cNvSpPr/>
            <p:nvPr/>
          </p:nvSpPr>
          <p:spPr>
            <a:xfrm>
              <a:off x="1006560" y="3673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2800" y="323388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38120" y="3870360"/>
            <a:ext cx="868320" cy="512640"/>
            <a:chOff x="438120" y="3870360"/>
            <a:chExt cx="868320" cy="512640"/>
          </a:xfrm>
        </p:grpSpPr>
        <p:sp>
          <p:nvSpPr>
            <p:cNvPr id="251" name=""/>
            <p:cNvSpPr/>
            <p:nvPr/>
          </p:nvSpPr>
          <p:spPr>
            <a:xfrm>
              <a:off x="1001880" y="4309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120" y="38703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42800" y="4465800"/>
            <a:ext cx="868320" cy="512640"/>
            <a:chOff x="442800" y="4465800"/>
            <a:chExt cx="868320" cy="512640"/>
          </a:xfrm>
        </p:grpSpPr>
        <p:sp>
          <p:nvSpPr>
            <p:cNvPr id="254" name=""/>
            <p:cNvSpPr/>
            <p:nvPr/>
          </p:nvSpPr>
          <p:spPr>
            <a:xfrm>
              <a:off x="1006560" y="4905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800" y="44658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38120" y="5105520"/>
            <a:ext cx="868320" cy="512640"/>
            <a:chOff x="438120" y="5105520"/>
            <a:chExt cx="868320" cy="512640"/>
          </a:xfrm>
        </p:grpSpPr>
        <p:sp>
          <p:nvSpPr>
            <p:cNvPr id="257" name=""/>
            <p:cNvSpPr/>
            <p:nvPr/>
          </p:nvSpPr>
          <p:spPr>
            <a:xfrm>
              <a:off x="1001880" y="554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8120" y="510552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2800" y="2622600"/>
            <a:ext cx="868320" cy="512640"/>
            <a:chOff x="442800" y="2622600"/>
            <a:chExt cx="868320" cy="512640"/>
          </a:xfrm>
        </p:grpSpPr>
        <p:sp>
          <p:nvSpPr>
            <p:cNvPr id="260" name=""/>
            <p:cNvSpPr/>
            <p:nvPr/>
          </p:nvSpPr>
          <p:spPr>
            <a:xfrm>
              <a:off x="1006560" y="3062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800" y="26226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38120" y="2027160"/>
            <a:ext cx="868320" cy="512640"/>
            <a:chOff x="438120" y="2027160"/>
            <a:chExt cx="868320" cy="512640"/>
          </a:xfrm>
        </p:grpSpPr>
        <p:sp>
          <p:nvSpPr>
            <p:cNvPr id="263" name=""/>
            <p:cNvSpPr/>
            <p:nvPr/>
          </p:nvSpPr>
          <p:spPr>
            <a:xfrm>
              <a:off x="1001880" y="2466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120" y="20271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306440" y="2467080"/>
            <a:ext cx="0" cy="30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57200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SL, cable-modems, users share a single virtual Ethernet where broadcasts ar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DB9-6D13-430C-AC55-8C17A5363D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11/135 portmap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62520" y="1981080"/>
            <a:ext cx="2742480" cy="2662920"/>
            <a:chOff x="3962520" y="1981080"/>
            <a:chExt cx="2742480" cy="2662920"/>
          </a:xfrm>
        </p:grpSpPr>
        <p:sp>
          <p:nvSpPr>
            <p:cNvPr id="269" name=""/>
            <p:cNvSpPr/>
            <p:nvPr/>
          </p:nvSpPr>
          <p:spPr>
            <a:xfrm>
              <a:off x="524520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2220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8240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808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944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1116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0220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52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844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2528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396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9480" y="1600200"/>
            <a:ext cx="2210040" cy="3886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76520" y="1981080"/>
            <a:ext cx="1218960" cy="457200"/>
            <a:chOff x="1676520" y="1981080"/>
            <a:chExt cx="1218960" cy="457200"/>
          </a:xfrm>
        </p:grpSpPr>
        <p:sp>
          <p:nvSpPr>
            <p:cNvPr id="282" name=""/>
            <p:cNvSpPr/>
            <p:nvPr/>
          </p:nvSpPr>
          <p:spPr>
            <a:xfrm>
              <a:off x="1676520" y="198108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19810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t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76520" y="2895480"/>
            <a:ext cx="1218960" cy="457200"/>
            <a:chOff x="1676520" y="2895480"/>
            <a:chExt cx="1218960" cy="457200"/>
          </a:xfrm>
        </p:grpSpPr>
        <p:sp>
          <p:nvSpPr>
            <p:cNvPr id="285" name=""/>
            <p:cNvSpPr/>
            <p:nvPr/>
          </p:nvSpPr>
          <p:spPr>
            <a:xfrm>
              <a:off x="1676520" y="289548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76520" y="2895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676520" y="3505320"/>
            <a:ext cx="1218960" cy="457200"/>
            <a:chOff x="1676520" y="3505320"/>
            <a:chExt cx="1218960" cy="457200"/>
          </a:xfrm>
        </p:grpSpPr>
        <p:sp>
          <p:nvSpPr>
            <p:cNvPr id="288" name=""/>
            <p:cNvSpPr/>
            <p:nvPr/>
          </p:nvSpPr>
          <p:spPr>
            <a:xfrm>
              <a:off x="1676520" y="350532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652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unt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676520" y="4114800"/>
            <a:ext cx="1218960" cy="457200"/>
            <a:chOff x="1676520" y="4114800"/>
            <a:chExt cx="1218960" cy="457200"/>
          </a:xfrm>
        </p:grpSpPr>
        <p:sp>
          <p:nvSpPr>
            <p:cNvPr id="291" name=""/>
            <p:cNvSpPr/>
            <p:nvPr/>
          </p:nvSpPr>
          <p:spPr>
            <a:xfrm>
              <a:off x="1676520" y="411480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6520" y="4114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s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676520" y="4800600"/>
            <a:ext cx="1218960" cy="457200"/>
            <a:chOff x="1676520" y="4800600"/>
            <a:chExt cx="1218960" cy="457200"/>
          </a:xfrm>
        </p:grpSpPr>
        <p:sp>
          <p:nvSpPr>
            <p:cNvPr id="294" name=""/>
            <p:cNvSpPr/>
            <p:nvPr/>
          </p:nvSpPr>
          <p:spPr>
            <a:xfrm>
              <a:off x="1676520" y="480060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765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ty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819520" y="1905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8195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429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4038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8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4648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8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71200">
            <a:off x="3580920" y="2286000"/>
            <a:ext cx="26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Where is cms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895480" y="2209680"/>
            <a:ext cx="37339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895480" y="2361960"/>
            <a:ext cx="373392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871200">
            <a:off x="3428640" y="2895480"/>
            <a:ext cx="26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t port 328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895480" y="3581280"/>
            <a:ext cx="373392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0891400">
            <a:off x="4648320" y="3657240"/>
            <a:ext cx="26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Exploi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7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 is looking for a specific service to exploit, or dump all mappings to find any service that might be explo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D22-360F-4147-80F6-8E7A5758FA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13 identd/a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31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935680" y="3038400"/>
            <a:ext cx="1276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32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328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67040" y="2513160"/>
            <a:ext cx="3870360" cy="7189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07640" y="2700360"/>
            <a:ext cx="3883320" cy="72864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contacts e-mail server on port 110,143,25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log the connection, the e-mail server connects back to port 113. Usually allows access regardless if this succeeds, but it slows down e-mail transfer if blocked by fire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A53-8F11-4397-8A3C-90ED3952C4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 will get out of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~70% of the entries you see in your firewall reject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for figuring out the other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nderstanding of what hackers are up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CA9-546D-43CB-A1AB-6E11AE427F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9 Net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340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935680" y="3038400"/>
            <a:ext cx="127620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n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95560" y="3735360"/>
            <a:ext cx="190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ve IP w/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ve IP w/NetB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354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357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3892680"/>
            <a:ext cx="81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7040" y="2513160"/>
            <a:ext cx="3870360" cy="7189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173400" y="4089240"/>
            <a:ext cx="2664000" cy="37656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1907640" y="2700000"/>
            <a:ext cx="3791160" cy="22525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23E-88C1-4030-B53C-D42AE599B38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s 109, 110, 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 and I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based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on with username/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s in many, many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95D-CB4B-417B-81BD-61B32934D6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9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be running windows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utilities that auto-resolve (ping, trac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T web servers (e.g. I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file analyzers (e.g. WebTr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firewalls (e.g. BlackICE Defe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 appear due to failure of 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449-8331-42F6-9899-D0676175E6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flipH="1">
            <a:off x="1310760" y="3429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080 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374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4560" y="461160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IRC wa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Online gam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Trojan s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447920" y="3083040"/>
            <a:ext cx="566640" cy="663480"/>
            <a:chOff x="1447920" y="3083040"/>
            <a:chExt cx="566640" cy="663480"/>
          </a:xfrm>
        </p:grpSpPr>
        <p:sp>
          <p:nvSpPr>
            <p:cNvPr id="388" name=""/>
            <p:cNvSpPr/>
            <p:nvPr/>
          </p:nvSpPr>
          <p:spPr>
            <a:xfrm>
              <a:off x="1447920" y="308304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38280" y="316872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57200" y="1523880"/>
            <a:ext cx="19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-mo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42800" y="3233880"/>
            <a:ext cx="868320" cy="512640"/>
            <a:chOff x="442800" y="3233880"/>
            <a:chExt cx="868320" cy="512640"/>
          </a:xfrm>
        </p:grpSpPr>
        <p:sp>
          <p:nvSpPr>
            <p:cNvPr id="392" name=""/>
            <p:cNvSpPr/>
            <p:nvPr/>
          </p:nvSpPr>
          <p:spPr>
            <a:xfrm>
              <a:off x="1006560" y="3673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2800" y="323388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38120" y="3870360"/>
            <a:ext cx="868320" cy="512640"/>
            <a:chOff x="438120" y="3870360"/>
            <a:chExt cx="868320" cy="512640"/>
          </a:xfrm>
        </p:grpSpPr>
        <p:sp>
          <p:nvSpPr>
            <p:cNvPr id="395" name=""/>
            <p:cNvSpPr/>
            <p:nvPr/>
          </p:nvSpPr>
          <p:spPr>
            <a:xfrm>
              <a:off x="1001880" y="4309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8120" y="38703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42800" y="4465800"/>
            <a:ext cx="868320" cy="512640"/>
            <a:chOff x="442800" y="4465800"/>
            <a:chExt cx="868320" cy="512640"/>
          </a:xfrm>
        </p:grpSpPr>
        <p:sp>
          <p:nvSpPr>
            <p:cNvPr id="398" name=""/>
            <p:cNvSpPr/>
            <p:nvPr/>
          </p:nvSpPr>
          <p:spPr>
            <a:xfrm>
              <a:off x="1006560" y="4905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0" y="44658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8120" y="5105520"/>
            <a:ext cx="868320" cy="512640"/>
            <a:chOff x="438120" y="5105520"/>
            <a:chExt cx="868320" cy="512640"/>
          </a:xfrm>
        </p:grpSpPr>
        <p:sp>
          <p:nvSpPr>
            <p:cNvPr id="401" name=""/>
            <p:cNvSpPr/>
            <p:nvPr/>
          </p:nvSpPr>
          <p:spPr>
            <a:xfrm>
              <a:off x="1001880" y="554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120" y="510552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2800" y="2622600"/>
            <a:ext cx="868320" cy="512640"/>
            <a:chOff x="442800" y="2622600"/>
            <a:chExt cx="868320" cy="512640"/>
          </a:xfrm>
        </p:grpSpPr>
        <p:sp>
          <p:nvSpPr>
            <p:cNvPr id="404" name=""/>
            <p:cNvSpPr/>
            <p:nvPr/>
          </p:nvSpPr>
          <p:spPr>
            <a:xfrm>
              <a:off x="1006560" y="3062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2800" y="26226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38120" y="2027160"/>
            <a:ext cx="868320" cy="512640"/>
            <a:chOff x="438120" y="2027160"/>
            <a:chExt cx="868320" cy="512640"/>
          </a:xfrm>
        </p:grpSpPr>
        <p:sp>
          <p:nvSpPr>
            <p:cNvPr id="407" name=""/>
            <p:cNvSpPr/>
            <p:nvPr/>
          </p:nvSpPr>
          <p:spPr>
            <a:xfrm>
              <a:off x="1001880" y="2466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8120" y="20271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306440" y="2467080"/>
            <a:ext cx="0" cy="30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8280" y="3349800"/>
            <a:ext cx="4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k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43160" y="443880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37200" y="2027160"/>
            <a:ext cx="1276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ho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001880" y="2091960"/>
            <a:ext cx="4135320" cy="125748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200" y="3284640"/>
            <a:ext cx="5226120" cy="1211040"/>
          </a:xfrm>
          <a:custGeom>
            <a:avLst/>
            <a:gdLst/>
            <a:ahLst/>
            <a:rect l="l" t="t" r="r" b="b"/>
            <a:pathLst>
              <a:path w="3292" h="763">
                <a:moveTo>
                  <a:pt x="3292" y="667"/>
                </a:moveTo>
                <a:cubicBezTo>
                  <a:pt x="2787" y="566"/>
                  <a:pt x="807" y="145"/>
                  <a:pt x="260" y="61"/>
                </a:cubicBezTo>
                <a:cubicBezTo>
                  <a:pt x="260" y="61"/>
                  <a:pt x="0" y="0"/>
                  <a:pt x="6" y="161"/>
                </a:cubicBezTo>
                <a:cubicBezTo>
                  <a:pt x="12" y="322"/>
                  <a:pt x="79" y="249"/>
                  <a:pt x="287" y="289"/>
                </a:cubicBezTo>
                <a:cubicBezTo>
                  <a:pt x="495" y="329"/>
                  <a:pt x="956" y="664"/>
                  <a:pt x="1132" y="763"/>
                </a:cubicBezTo>
              </a:path>
            </a:pathLst>
          </a:custGeom>
          <a:noFill/>
          <a:ln w="3168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32080" y="4842000"/>
            <a:ext cx="435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ack on IRC server tunneled within SOCKS on the way to the bounce machine, who then creates the real IRC connection to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671400">
            <a:off x="2755440" y="3363840"/>
            <a:ext cx="16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s(</a:t>
            </a:r>
            <a:r>
              <a:rPr b="1" lang="en-US" sz="2400" spc="-1" strike="noStrike">
                <a:solidFill>
                  <a:srgbClr val="000000"/>
                </a:solidFill>
                <a:latin typeface="Westminster"/>
              </a:rPr>
              <a:t>I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46800">
            <a:off x="1463040" y="411444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stminster"/>
              </a:rPr>
              <a:t>I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44197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6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3080" y="160020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CKS user continues to surf net unaware that this is going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409-2D8F-4D81-A53E-A1BE019FA7A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3128 sq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267080" y="2036880"/>
            <a:ext cx="3123720" cy="2991600"/>
            <a:chOff x="4267080" y="2036880"/>
            <a:chExt cx="3123720" cy="2991600"/>
          </a:xfrm>
        </p:grpSpPr>
        <p:sp>
          <p:nvSpPr>
            <p:cNvPr id="422" name=""/>
            <p:cNvSpPr/>
            <p:nvPr/>
          </p:nvSpPr>
          <p:spPr>
            <a:xfrm>
              <a:off x="5728320" y="209952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1200" y="246924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3720" y="321336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41600" y="381852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16280" y="402048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2040" y="402048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26200" y="364608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321336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01440" y="257040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2000" y="203688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1160" y="2633040"/>
              <a:ext cx="2232360" cy="210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6781680" y="449568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2133720"/>
            <a:ext cx="1276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ho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44400" y="2543040"/>
            <a:ext cx="609480" cy="2057400"/>
            <a:chOff x="644400" y="2543040"/>
            <a:chExt cx="609480" cy="2057400"/>
          </a:xfrm>
        </p:grpSpPr>
        <p:sp>
          <p:nvSpPr>
            <p:cNvPr id="436" name=""/>
            <p:cNvSpPr/>
            <p:nvPr/>
          </p:nvSpPr>
          <p:spPr>
            <a:xfrm>
              <a:off x="948960" y="284292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4400" y="31255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3720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4400" y="42321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4400" y="25430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304640" y="3200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yahoo.com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3200400"/>
            <a:ext cx="685800" cy="68580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35812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343400" y="2514240"/>
            <a:ext cx="29718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0424600">
            <a:off x="5033880" y="2743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590920"/>
            <a:ext cx="3581280" cy="2133360"/>
          </a:xfrm>
          <a:custGeom>
            <a:avLst/>
            <a:gdLst/>
            <a:ahLst/>
            <a:rect l="l" t="t" r="r" b="b"/>
            <a:pathLst>
              <a:path w="2256" h="1344">
                <a:moveTo>
                  <a:pt x="1680" y="1344"/>
                </a:moveTo>
                <a:cubicBezTo>
                  <a:pt x="1416" y="1248"/>
                  <a:pt x="0" y="992"/>
                  <a:pt x="96" y="768"/>
                </a:cubicBezTo>
                <a:cubicBezTo>
                  <a:pt x="192" y="544"/>
                  <a:pt x="1806" y="160"/>
                  <a:pt x="2256" y="0"/>
                </a:cubicBezTo>
              </a:path>
            </a:pathLst>
          </a:custGeom>
          <a:noFill/>
          <a:ln w="540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84360" y="4384800"/>
            <a:ext cx="291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 wants to forward all his requests through your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5181480"/>
            <a:ext cx="21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ca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attac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C2F-62E8-4C84-9B9A-85BF3AB3168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524 ingres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many typical ports on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er breaks into machine, then creates a “root shell” listening at a port, then connects to the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ompromise the machine on a public port like 110/POP, the attempt to connect on this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9B4-DBCD-4F85-AE9A-AD02E65072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6970 Real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454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57150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467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470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981080" y="312408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9320" y="529920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goes to server (url = pnm://server/foo.r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creates a real-time stream of UDP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2514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going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971800" y="3276720"/>
            <a:ext cx="2743200" cy="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352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UDP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D1B-3983-45E4-9B43-400B4D56BC3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flipH="1">
            <a:off x="1310760" y="3429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5632 pcANYW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187720" y="2036880"/>
            <a:ext cx="4440600" cy="2229480"/>
            <a:chOff x="2187720" y="2036880"/>
            <a:chExt cx="4440600" cy="2229480"/>
          </a:xfrm>
        </p:grpSpPr>
        <p:sp>
          <p:nvSpPr>
            <p:cNvPr id="483" name=""/>
            <p:cNvSpPr/>
            <p:nvPr/>
          </p:nvSpPr>
          <p:spPr>
            <a:xfrm>
              <a:off x="4264920" y="208368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37120" y="235908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95960" y="29138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2440" y="336456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3600" y="35150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76200" y="35150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14160" y="323604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87720" y="29138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21080" y="243432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60880" y="203688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18880" y="2481120"/>
              <a:ext cx="3173400" cy="156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54560" y="461160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pcANYWHERE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447920" y="3083040"/>
            <a:ext cx="566640" cy="663480"/>
            <a:chOff x="1447920" y="3083040"/>
            <a:chExt cx="566640" cy="663480"/>
          </a:xfrm>
        </p:grpSpPr>
        <p:sp>
          <p:nvSpPr>
            <p:cNvPr id="497" name=""/>
            <p:cNvSpPr/>
            <p:nvPr/>
          </p:nvSpPr>
          <p:spPr>
            <a:xfrm>
              <a:off x="1447920" y="308304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38280" y="316872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57200" y="1523880"/>
            <a:ext cx="19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-mo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2800" y="3233880"/>
            <a:ext cx="868320" cy="512640"/>
            <a:chOff x="442800" y="3233880"/>
            <a:chExt cx="868320" cy="512640"/>
          </a:xfrm>
        </p:grpSpPr>
        <p:sp>
          <p:nvSpPr>
            <p:cNvPr id="501" name=""/>
            <p:cNvSpPr/>
            <p:nvPr/>
          </p:nvSpPr>
          <p:spPr>
            <a:xfrm>
              <a:off x="1006560" y="3673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2800" y="323388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38120" y="3870360"/>
            <a:ext cx="868320" cy="512640"/>
            <a:chOff x="438120" y="3870360"/>
            <a:chExt cx="868320" cy="512640"/>
          </a:xfrm>
        </p:grpSpPr>
        <p:sp>
          <p:nvSpPr>
            <p:cNvPr id="504" name=""/>
            <p:cNvSpPr/>
            <p:nvPr/>
          </p:nvSpPr>
          <p:spPr>
            <a:xfrm>
              <a:off x="1001880" y="4309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120" y="38703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42800" y="4465800"/>
            <a:ext cx="868320" cy="512640"/>
            <a:chOff x="442800" y="4465800"/>
            <a:chExt cx="868320" cy="512640"/>
          </a:xfrm>
        </p:grpSpPr>
        <p:sp>
          <p:nvSpPr>
            <p:cNvPr id="507" name=""/>
            <p:cNvSpPr/>
            <p:nvPr/>
          </p:nvSpPr>
          <p:spPr>
            <a:xfrm>
              <a:off x="1006560" y="4905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2800" y="44658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38120" y="5105520"/>
            <a:ext cx="868320" cy="512640"/>
            <a:chOff x="438120" y="5105520"/>
            <a:chExt cx="868320" cy="512640"/>
          </a:xfrm>
        </p:grpSpPr>
        <p:sp>
          <p:nvSpPr>
            <p:cNvPr id="510" name=""/>
            <p:cNvSpPr/>
            <p:nvPr/>
          </p:nvSpPr>
          <p:spPr>
            <a:xfrm>
              <a:off x="1001880" y="554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120" y="510552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42800" y="2622600"/>
            <a:ext cx="868320" cy="512640"/>
            <a:chOff x="442800" y="2622600"/>
            <a:chExt cx="868320" cy="512640"/>
          </a:xfrm>
        </p:grpSpPr>
        <p:sp>
          <p:nvSpPr>
            <p:cNvPr id="513" name=""/>
            <p:cNvSpPr/>
            <p:nvPr/>
          </p:nvSpPr>
          <p:spPr>
            <a:xfrm>
              <a:off x="1006560" y="3062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800" y="26226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38120" y="2027160"/>
            <a:ext cx="868320" cy="512640"/>
            <a:chOff x="438120" y="2027160"/>
            <a:chExt cx="868320" cy="512640"/>
          </a:xfrm>
        </p:grpSpPr>
        <p:sp>
          <p:nvSpPr>
            <p:cNvPr id="516" name=""/>
            <p:cNvSpPr/>
            <p:nvPr/>
          </p:nvSpPr>
          <p:spPr>
            <a:xfrm>
              <a:off x="1001880" y="2466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8120" y="20271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306440" y="2467080"/>
            <a:ext cx="0" cy="30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85680" y="3583080"/>
            <a:ext cx="551160" cy="685800"/>
          </a:xfrm>
          <a:custGeom>
            <a:avLst/>
            <a:gdLst/>
            <a:ahLst/>
            <a:rect l="l" t="t" r="r" b="b"/>
            <a:pathLst>
              <a:path w="347" h="432">
                <a:moveTo>
                  <a:pt x="0" y="0"/>
                </a:moveTo>
                <a:cubicBezTo>
                  <a:pt x="58" y="24"/>
                  <a:pt x="347" y="71"/>
                  <a:pt x="347" y="143"/>
                </a:cubicBezTo>
                <a:cubicBezTo>
                  <a:pt x="347" y="215"/>
                  <a:pt x="72" y="372"/>
                  <a:pt x="0" y="432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358128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48" y="0"/>
                </a:moveTo>
                <a:cubicBezTo>
                  <a:pt x="136" y="40"/>
                  <a:pt x="584" y="120"/>
                  <a:pt x="576" y="240"/>
                </a:cubicBezTo>
                <a:cubicBezTo>
                  <a:pt x="568" y="360"/>
                  <a:pt x="120" y="620"/>
                  <a:pt x="0" y="72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3581280"/>
            <a:ext cx="1320840" cy="1752840"/>
          </a:xfrm>
          <a:custGeom>
            <a:avLst/>
            <a:gdLst/>
            <a:ahLst/>
            <a:rect l="l" t="t" r="r" b="b"/>
            <a:pathLst>
              <a:path w="832" h="1104">
                <a:moveTo>
                  <a:pt x="0" y="0"/>
                </a:moveTo>
                <a:cubicBezTo>
                  <a:pt x="136" y="56"/>
                  <a:pt x="800" y="152"/>
                  <a:pt x="816" y="336"/>
                </a:cubicBezTo>
                <a:cubicBezTo>
                  <a:pt x="832" y="520"/>
                  <a:pt x="246" y="944"/>
                  <a:pt x="96" y="110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895480"/>
            <a:ext cx="546120" cy="685800"/>
          </a:xfrm>
          <a:custGeom>
            <a:avLst/>
            <a:gdLst/>
            <a:ahLst/>
            <a:rect l="l" t="t" r="r" b="b"/>
            <a:pathLst>
              <a:path w="344" h="432">
                <a:moveTo>
                  <a:pt x="0" y="432"/>
                </a:moveTo>
                <a:cubicBezTo>
                  <a:pt x="56" y="392"/>
                  <a:pt x="328" y="264"/>
                  <a:pt x="336" y="192"/>
                </a:cubicBezTo>
                <a:cubicBezTo>
                  <a:pt x="344" y="120"/>
                  <a:pt x="108" y="40"/>
                  <a:pt x="48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2362320"/>
            <a:ext cx="939960" cy="1218960"/>
          </a:xfrm>
          <a:custGeom>
            <a:avLst/>
            <a:gdLst/>
            <a:ahLst/>
            <a:rect l="l" t="t" r="r" b="b"/>
            <a:pathLst>
              <a:path w="592" h="768">
                <a:moveTo>
                  <a:pt x="0" y="768"/>
                </a:moveTo>
                <a:cubicBezTo>
                  <a:pt x="96" y="704"/>
                  <a:pt x="560" y="512"/>
                  <a:pt x="576" y="384"/>
                </a:cubicBezTo>
                <a:cubicBezTo>
                  <a:pt x="592" y="256"/>
                  <a:pt x="196" y="80"/>
                  <a:pt x="96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7080" y="3500280"/>
            <a:ext cx="228600" cy="155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263760"/>
            <a:ext cx="4876920" cy="851040"/>
          </a:xfrm>
          <a:custGeom>
            <a:avLst/>
            <a:gdLst/>
            <a:ahLst/>
            <a:rect l="l" t="t" r="r" b="b"/>
            <a:pathLst>
              <a:path w="3072" h="536">
                <a:moveTo>
                  <a:pt x="3072" y="488"/>
                </a:moveTo>
                <a:cubicBezTo>
                  <a:pt x="2888" y="408"/>
                  <a:pt x="2480" y="0"/>
                  <a:pt x="1968" y="8"/>
                </a:cubicBezTo>
                <a:cubicBezTo>
                  <a:pt x="1456" y="16"/>
                  <a:pt x="410" y="426"/>
                  <a:pt x="0" y="53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00200" y="4800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users unintentionally scan their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s scan people inten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C80-632E-4A52-9E78-DF06A3E32B7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223 PowW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529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57200" y="152388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-up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29718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2800" y="323388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8120" y="387036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2800" y="44658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8120" y="5105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8120" y="2027160"/>
            <a:ext cx="716040" cy="51300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752480" y="3276720"/>
            <a:ext cx="533520" cy="533160"/>
            <a:chOff x="1752480" y="3276720"/>
            <a:chExt cx="533520" cy="533160"/>
          </a:xfrm>
        </p:grpSpPr>
        <p:sp>
          <p:nvSpPr>
            <p:cNvPr id="548" name=""/>
            <p:cNvSpPr/>
            <p:nvPr/>
          </p:nvSpPr>
          <p:spPr>
            <a:xfrm>
              <a:off x="1752480" y="3276720"/>
              <a:ext cx="533520" cy="533160"/>
            </a:xfrm>
            <a:prstGeom prst="hexagon">
              <a:avLst>
                <a:gd name="adj" fmla="val 25017"/>
                <a:gd name="vf" fmla="val 1154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93160" y="3321000"/>
              <a:ext cx="451800" cy="444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335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19051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67280" y="2819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5000" y="38862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7080" y="2211480"/>
            <a:ext cx="4570560" cy="1485720"/>
          </a:xfrm>
          <a:custGeom>
            <a:avLst/>
            <a:gdLst/>
            <a:ahLst/>
            <a:rect l="l" t="t" r="r" b="b"/>
            <a:pathLst>
              <a:path w="2879" h="936">
                <a:moveTo>
                  <a:pt x="2879" y="0"/>
                </a:moveTo>
                <a:cubicBezTo>
                  <a:pt x="2527" y="144"/>
                  <a:pt x="1248" y="792"/>
                  <a:pt x="768" y="864"/>
                </a:cubicBezTo>
                <a:cubicBezTo>
                  <a:pt x="288" y="936"/>
                  <a:pt x="160" y="522"/>
                  <a:pt x="0" y="432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2971800"/>
            <a:ext cx="5410080" cy="635040"/>
          </a:xfrm>
          <a:custGeom>
            <a:avLst/>
            <a:gdLst/>
            <a:ahLst/>
            <a:rect l="l" t="t" r="r" b="b"/>
            <a:pathLst>
              <a:path w="3408" h="400">
                <a:moveTo>
                  <a:pt x="3408" y="96"/>
                </a:moveTo>
                <a:cubicBezTo>
                  <a:pt x="2968" y="144"/>
                  <a:pt x="1336" y="400"/>
                  <a:pt x="768" y="384"/>
                </a:cubicBezTo>
                <a:cubicBezTo>
                  <a:pt x="200" y="368"/>
                  <a:pt x="160" y="80"/>
                  <a:pt x="0" y="0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3048120"/>
            <a:ext cx="5257800" cy="1143000"/>
          </a:xfrm>
          <a:custGeom>
            <a:avLst/>
            <a:gdLst/>
            <a:ahLst/>
            <a:rect l="l" t="t" r="r" b="b"/>
            <a:pathLst>
              <a:path w="3312" h="720">
                <a:moveTo>
                  <a:pt x="3312" y="720"/>
                </a:moveTo>
                <a:cubicBezTo>
                  <a:pt x="2896" y="672"/>
                  <a:pt x="1368" y="552"/>
                  <a:pt x="816" y="432"/>
                </a:cubicBezTo>
                <a:cubicBezTo>
                  <a:pt x="264" y="312"/>
                  <a:pt x="170" y="90"/>
                  <a:pt x="0" y="0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2800" y="26226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5880" y="220968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Wow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5BF-1D33-4C47-8DDC-E06014A48BB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223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562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57200" y="152388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-up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62120" y="35809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2800" y="323388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38120" y="387036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2800" y="44658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8120" y="5105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8120" y="2027160"/>
            <a:ext cx="716040" cy="51300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52480" y="3276720"/>
            <a:ext cx="533520" cy="533160"/>
            <a:chOff x="1752480" y="3276720"/>
            <a:chExt cx="533520" cy="533160"/>
          </a:xfrm>
        </p:grpSpPr>
        <p:sp>
          <p:nvSpPr>
            <p:cNvPr id="581" name=""/>
            <p:cNvSpPr/>
            <p:nvPr/>
          </p:nvSpPr>
          <p:spPr>
            <a:xfrm>
              <a:off x="1752480" y="3276720"/>
              <a:ext cx="533520" cy="533160"/>
            </a:xfrm>
            <a:prstGeom prst="hexagon">
              <a:avLst>
                <a:gd name="adj" fmla="val 25017"/>
                <a:gd name="vf" fmla="val 1154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93160" y="3321000"/>
              <a:ext cx="451800" cy="444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5335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29200" y="19051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67280" y="2819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15000" y="38862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2211480"/>
            <a:ext cx="4489560" cy="2144520"/>
          </a:xfrm>
          <a:custGeom>
            <a:avLst/>
            <a:gdLst/>
            <a:ahLst/>
            <a:rect l="l" t="t" r="r" b="b"/>
            <a:pathLst>
              <a:path w="2828" h="1351">
                <a:moveTo>
                  <a:pt x="2828" y="0"/>
                </a:moveTo>
                <a:cubicBezTo>
                  <a:pt x="2466" y="125"/>
                  <a:pt x="1127" y="526"/>
                  <a:pt x="656" y="751"/>
                </a:cubicBezTo>
                <a:cubicBezTo>
                  <a:pt x="176" y="823"/>
                  <a:pt x="137" y="1226"/>
                  <a:pt x="0" y="1351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01800" y="3124080"/>
            <a:ext cx="5270400" cy="1282680"/>
          </a:xfrm>
          <a:custGeom>
            <a:avLst/>
            <a:gdLst/>
            <a:ahLst/>
            <a:rect l="l" t="t" r="r" b="b"/>
            <a:pathLst>
              <a:path w="3320" h="808">
                <a:moveTo>
                  <a:pt x="3320" y="0"/>
                </a:moveTo>
                <a:cubicBezTo>
                  <a:pt x="2880" y="48"/>
                  <a:pt x="1233" y="153"/>
                  <a:pt x="680" y="288"/>
                </a:cubicBezTo>
                <a:cubicBezTo>
                  <a:pt x="112" y="272"/>
                  <a:pt x="142" y="700"/>
                  <a:pt x="0" y="808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15920" y="3543480"/>
            <a:ext cx="5004000" cy="888840"/>
          </a:xfrm>
          <a:custGeom>
            <a:avLst/>
            <a:gdLst/>
            <a:ahLst/>
            <a:rect l="l" t="t" r="r" b="b"/>
            <a:pathLst>
              <a:path w="3152" h="560">
                <a:moveTo>
                  <a:pt x="3152" y="408"/>
                </a:moveTo>
                <a:cubicBezTo>
                  <a:pt x="2736" y="360"/>
                  <a:pt x="1181" y="95"/>
                  <a:pt x="656" y="120"/>
                </a:cubicBezTo>
                <a:cubicBezTo>
                  <a:pt x="104" y="0"/>
                  <a:pt x="137" y="468"/>
                  <a:pt x="0" y="560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2800" y="26226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220968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Wow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08040" y="4613400"/>
            <a:ext cx="634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hangs up, release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 dials up, and is assigned A’s ol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users try to reconnect to A, thereby flooding B with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551-F34F-4A5F-91ED-7EDF8306782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:30am – 12:30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around fire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model, sniffers, packet headers,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t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the real meaning of thes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7BA-21D7-4514-AEC0-1CDCFA635D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 flipH="1">
            <a:off x="949320" y="35672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33460 trace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981080" y="1500120"/>
            <a:ext cx="4775760" cy="4442040"/>
            <a:chOff x="1981080" y="1500120"/>
            <a:chExt cx="4775760" cy="4442040"/>
          </a:xfrm>
        </p:grpSpPr>
        <p:sp>
          <p:nvSpPr>
            <p:cNvPr id="597" name=""/>
            <p:cNvSpPr/>
            <p:nvPr/>
          </p:nvSpPr>
          <p:spPr>
            <a:xfrm>
              <a:off x="4214880" y="1593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45400" y="2142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2404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46680" y="414576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9124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3652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24440" y="388944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8108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39640" y="2292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5240" y="1500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7320" y="2385720"/>
              <a:ext cx="3412800" cy="311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478560" y="490860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44400" y="2543040"/>
            <a:ext cx="609480" cy="2057400"/>
            <a:chOff x="644400" y="2543040"/>
            <a:chExt cx="609480" cy="2057400"/>
          </a:xfrm>
        </p:grpSpPr>
        <p:sp>
          <p:nvSpPr>
            <p:cNvPr id="610" name=""/>
            <p:cNvSpPr/>
            <p:nvPr/>
          </p:nvSpPr>
          <p:spPr>
            <a:xfrm>
              <a:off x="948960" y="284292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4400" y="31255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4400" y="3720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4400" y="42321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4400" y="25430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5745240" y="557676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CR A Extended"/>
              </a:rPr>
              <a:t>traceroute 192.0.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240600" y="4059360"/>
            <a:ext cx="474480" cy="387360"/>
            <a:chOff x="6240600" y="4059360"/>
            <a:chExt cx="474480" cy="387360"/>
          </a:xfrm>
        </p:grpSpPr>
        <p:sp>
          <p:nvSpPr>
            <p:cNvPr id="617" name=""/>
            <p:cNvSpPr/>
            <p:nvPr/>
          </p:nvSpPr>
          <p:spPr>
            <a:xfrm>
              <a:off x="6240600" y="405936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6200" y="4109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312560" y="3376440"/>
            <a:ext cx="648000" cy="380880"/>
            <a:chOff x="1312560" y="3376440"/>
            <a:chExt cx="648000" cy="380880"/>
          </a:xfrm>
        </p:grpSpPr>
        <p:sp>
          <p:nvSpPr>
            <p:cNvPr id="620" name=""/>
            <p:cNvSpPr/>
            <p:nvPr/>
          </p:nvSpPr>
          <p:spPr>
            <a:xfrm rot="16200000">
              <a:off x="1612080" y="340884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rot="5400000">
              <a:off x="1279440" y="340884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60760" y="3235320"/>
            <a:ext cx="474480" cy="387360"/>
            <a:chOff x="2660760" y="3235320"/>
            <a:chExt cx="474480" cy="387360"/>
          </a:xfrm>
        </p:grpSpPr>
        <p:sp>
          <p:nvSpPr>
            <p:cNvPr id="623" name=""/>
            <p:cNvSpPr/>
            <p:nvPr/>
          </p:nvSpPr>
          <p:spPr>
            <a:xfrm>
              <a:off x="2660760" y="323532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36360" y="328536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419640" y="2803680"/>
            <a:ext cx="474480" cy="387360"/>
            <a:chOff x="3419640" y="2803680"/>
            <a:chExt cx="474480" cy="387360"/>
          </a:xfrm>
        </p:grpSpPr>
        <p:sp>
          <p:nvSpPr>
            <p:cNvPr id="626" name=""/>
            <p:cNvSpPr/>
            <p:nvPr/>
          </p:nvSpPr>
          <p:spPr>
            <a:xfrm>
              <a:off x="3419640" y="280368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95240" y="285372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495600" y="3816360"/>
            <a:ext cx="474840" cy="387360"/>
            <a:chOff x="3495600" y="3816360"/>
            <a:chExt cx="474840" cy="387360"/>
          </a:xfrm>
        </p:grpSpPr>
        <p:sp>
          <p:nvSpPr>
            <p:cNvPr id="629" name=""/>
            <p:cNvSpPr/>
            <p:nvPr/>
          </p:nvSpPr>
          <p:spPr>
            <a:xfrm>
              <a:off x="3495600" y="381636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71560" y="3866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568760" y="4521240"/>
            <a:ext cx="474840" cy="387360"/>
            <a:chOff x="4568760" y="4521240"/>
            <a:chExt cx="474840" cy="387360"/>
          </a:xfrm>
        </p:grpSpPr>
        <p:sp>
          <p:nvSpPr>
            <p:cNvPr id="632" name=""/>
            <p:cNvSpPr/>
            <p:nvPr/>
          </p:nvSpPr>
          <p:spPr>
            <a:xfrm>
              <a:off x="4568760" y="452124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44720" y="457128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173560" y="3597120"/>
            <a:ext cx="474840" cy="387360"/>
            <a:chOff x="5173560" y="3597120"/>
            <a:chExt cx="474840" cy="387360"/>
          </a:xfrm>
        </p:grpSpPr>
        <p:sp>
          <p:nvSpPr>
            <p:cNvPr id="635" name=""/>
            <p:cNvSpPr/>
            <p:nvPr/>
          </p:nvSpPr>
          <p:spPr>
            <a:xfrm>
              <a:off x="5173560" y="3597120"/>
              <a:ext cx="474840" cy="387360"/>
            </a:xfrm>
            <a:prstGeom prst="diamond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49880" y="36482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2000160" y="3433680"/>
            <a:ext cx="67968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073320" y="3092400"/>
            <a:ext cx="41760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365760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3838680" y="4211280"/>
            <a:ext cx="75240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6637320" y="439560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046840" y="43419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078000" y="3137040"/>
            <a:ext cx="41760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370368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361152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3894120" y="4135320"/>
            <a:ext cx="75240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3819600" y="4163760"/>
            <a:ext cx="75240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3838680" y="4146120"/>
            <a:ext cx="75240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046840" y="43419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051520" y="43671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051520" y="43959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051520" y="441792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051520" y="444672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6637320" y="436536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6578640" y="4441680"/>
            <a:ext cx="35712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637320" y="4290840"/>
            <a:ext cx="35712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6637320" y="426204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578640" y="439560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214880" y="3286080"/>
            <a:ext cx="474480" cy="387360"/>
            <a:chOff x="4214880" y="3286080"/>
            <a:chExt cx="474480" cy="387360"/>
          </a:xfrm>
        </p:grpSpPr>
        <p:sp>
          <p:nvSpPr>
            <p:cNvPr id="660" name=""/>
            <p:cNvSpPr/>
            <p:nvPr/>
          </p:nvSpPr>
          <p:spPr>
            <a:xfrm>
              <a:off x="4214880" y="3286080"/>
              <a:ext cx="474480" cy="38736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90840" y="333720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51520" y="2703600"/>
            <a:ext cx="474480" cy="387360"/>
            <a:chOff x="5051520" y="2703600"/>
            <a:chExt cx="474480" cy="387360"/>
          </a:xfrm>
        </p:grpSpPr>
        <p:sp>
          <p:nvSpPr>
            <p:cNvPr id="663" name=""/>
            <p:cNvSpPr/>
            <p:nvPr/>
          </p:nvSpPr>
          <p:spPr>
            <a:xfrm>
              <a:off x="5051520" y="2703600"/>
              <a:ext cx="474480" cy="387360"/>
            </a:xfrm>
            <a:prstGeom prst="diamond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27480" y="27547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052880" y="2316240"/>
            <a:ext cx="474840" cy="387360"/>
            <a:chOff x="4052880" y="2316240"/>
            <a:chExt cx="474840" cy="387360"/>
          </a:xfrm>
        </p:grpSpPr>
        <p:sp>
          <p:nvSpPr>
            <p:cNvPr id="666" name=""/>
            <p:cNvSpPr/>
            <p:nvPr/>
          </p:nvSpPr>
          <p:spPr>
            <a:xfrm>
              <a:off x="4052880" y="2316240"/>
              <a:ext cx="474840" cy="387360"/>
            </a:xfrm>
            <a:prstGeom prst="diamond">
              <a:avLst/>
            </a:prstGeom>
            <a:blipFill rotWithShape="0">
              <a:blip r:embed="rId4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29200" y="23673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36720" y="4172040"/>
            <a:ext cx="474840" cy="387360"/>
            <a:chOff x="2736720" y="4172040"/>
            <a:chExt cx="474840" cy="387360"/>
          </a:xfrm>
        </p:grpSpPr>
        <p:sp>
          <p:nvSpPr>
            <p:cNvPr id="669" name=""/>
            <p:cNvSpPr/>
            <p:nvPr/>
          </p:nvSpPr>
          <p:spPr>
            <a:xfrm>
              <a:off x="2736720" y="4172040"/>
              <a:ext cx="474840" cy="387360"/>
            </a:xfrm>
            <a:prstGeom prst="diamond">
              <a:avLst/>
            </a:prstGeom>
            <a:blipFill rotWithShape="0">
              <a:blip r:embed="rId5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13040" y="42231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14600" y="4714920"/>
            <a:ext cx="474840" cy="387360"/>
            <a:chOff x="3414600" y="4714920"/>
            <a:chExt cx="474840" cy="387360"/>
          </a:xfrm>
        </p:grpSpPr>
        <p:sp>
          <p:nvSpPr>
            <p:cNvPr id="672" name=""/>
            <p:cNvSpPr/>
            <p:nvPr/>
          </p:nvSpPr>
          <p:spPr>
            <a:xfrm>
              <a:off x="3414600" y="4714920"/>
              <a:ext cx="474840" cy="387360"/>
            </a:xfrm>
            <a:prstGeom prst="diamond">
              <a:avLst/>
            </a:prstGeom>
            <a:blipFill rotWithShape="0">
              <a:blip r:embed="rId6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90920" y="47660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527720" y="5189400"/>
            <a:ext cx="474480" cy="387360"/>
            <a:chOff x="4527720" y="5189400"/>
            <a:chExt cx="474480" cy="387360"/>
          </a:xfrm>
        </p:grpSpPr>
        <p:sp>
          <p:nvSpPr>
            <p:cNvPr id="675" name=""/>
            <p:cNvSpPr/>
            <p:nvPr/>
          </p:nvSpPr>
          <p:spPr>
            <a:xfrm>
              <a:off x="4527720" y="5189400"/>
              <a:ext cx="474480" cy="387360"/>
            </a:xfrm>
            <a:prstGeom prst="diamond">
              <a:avLst/>
            </a:prstGeom>
            <a:blipFill rotWithShape="0">
              <a:blip r:embed="rId7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03680" y="52405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 flipV="1">
            <a:off x="6535800" y="444636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051520" y="447192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3914280" y="4109760"/>
            <a:ext cx="75276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4796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133800" y="3149640"/>
            <a:ext cx="41760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000160" y="3414600"/>
            <a:ext cx="67968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1253880" y="3286080"/>
            <a:ext cx="2156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7240" y="4648320"/>
            <a:ext cx="334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se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rd TT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MP TTL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ports around 334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E92-BE74-41E2-9722-3501B9732FE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ports that people have seen on their firewall that you would like discus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7EB-F931-4F85-9E0E-8F3F41621C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Source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, ports are random and are meaning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, the pattern can indicate the source of th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53E-5F42-4067-85A8-0DDF1776BD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0 F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69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57150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70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708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981080" y="312408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7240" y="5299200"/>
            <a:ext cx="76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 client programs open a port for the server to connect to, then tell the server this port using the “PORT” com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RT 192,0,2,73,4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71800" y="3276720"/>
            <a:ext cx="274320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33526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client in order to send the requeste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63A-6701-4718-9A73-CEC1E4CC112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0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721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57150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734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737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981080" y="312408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4876920"/>
            <a:ext cx="76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 use PASV mode instead, which passes through firewalls. Some FTP clients cannot support PASV mode, such as Windows FTP command-lin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A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327672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3352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SV, server tells client another port to conn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B4E-1021-49D0-9C1E-A17EF907DA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53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750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762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765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57200" y="4952880"/>
            <a:ext cx="59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packet filters allow any packet with source address of 53 in order to allow for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90720" y="152388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src=53 to receive DNS re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154560" y="461160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ends all packet w/ src=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17524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28800" y="2133720"/>
            <a:ext cx="2743200" cy="1447560"/>
          </a:xfrm>
          <a:custGeom>
            <a:avLst/>
            <a:gdLst/>
            <a:ahLst/>
            <a:rect l="l" t="t" r="r" b="b"/>
            <a:pathLst>
              <a:path w="1728" h="912">
                <a:moveTo>
                  <a:pt x="0" y="720"/>
                </a:moveTo>
                <a:cubicBezTo>
                  <a:pt x="88" y="744"/>
                  <a:pt x="176" y="912"/>
                  <a:pt x="528" y="864"/>
                </a:cubicBezTo>
                <a:cubicBezTo>
                  <a:pt x="880" y="816"/>
                  <a:pt x="1478" y="180"/>
                  <a:pt x="1728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1905120"/>
            <a:ext cx="2743200" cy="1447560"/>
          </a:xfrm>
          <a:custGeom>
            <a:avLst/>
            <a:gdLst/>
            <a:ahLst/>
            <a:rect l="l" t="t" r="r" b="b"/>
            <a:pathLst>
              <a:path w="1728" h="912">
                <a:moveTo>
                  <a:pt x="0" y="720"/>
                </a:moveTo>
                <a:cubicBezTo>
                  <a:pt x="88" y="744"/>
                  <a:pt x="176" y="912"/>
                  <a:pt x="528" y="864"/>
                </a:cubicBezTo>
                <a:cubicBezTo>
                  <a:pt x="880" y="816"/>
                  <a:pt x="1478" y="180"/>
                  <a:pt x="1728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1523880" y="3352680"/>
            <a:ext cx="4572000" cy="15242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8C1-282B-4921-ADA8-93C7F964D6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61000 IP Masque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733920" y="2057400"/>
            <a:ext cx="2742480" cy="2662920"/>
            <a:chOff x="3733920" y="2057400"/>
            <a:chExt cx="2742480" cy="2662920"/>
          </a:xfrm>
        </p:grpSpPr>
        <p:sp>
          <p:nvSpPr>
            <p:cNvPr id="780" name=""/>
            <p:cNvSpPr/>
            <p:nvPr/>
          </p:nvSpPr>
          <p:spPr>
            <a:xfrm>
              <a:off x="5016600" y="211320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93600" y="244224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53800" y="31046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79480" y="364356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30840" y="382320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82560" y="382320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73600" y="348984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733920" y="31046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39840" y="253224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96680" y="205740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85360" y="258840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553080" y="304812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838080" y="2362320"/>
            <a:ext cx="609480" cy="2057400"/>
            <a:chOff x="838080" y="2362320"/>
            <a:chExt cx="609480" cy="2057400"/>
          </a:xfrm>
        </p:grpSpPr>
        <p:sp>
          <p:nvSpPr>
            <p:cNvPr id="793" name=""/>
            <p:cNvSpPr/>
            <p:nvPr/>
          </p:nvSpPr>
          <p:spPr>
            <a:xfrm>
              <a:off x="1142640" y="266220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8080" y="29448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8080" y="35402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8080" y="40514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8080" y="23623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600200" y="3352680"/>
            <a:ext cx="49528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7240" y="5299200"/>
            <a:ext cx="76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are assigned “private” addresses, the NAT changes the source address to be that of the NAT; also changes source ports to above 6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1676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x.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x.x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3124080"/>
            <a:ext cx="609480" cy="53352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76720" y="3581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98.231.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8CE-E167-43BC-884A-CC22E63D2AD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Windows Troj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chance that a port probe you’ve never seen before is from somebody scanning for a Windows remote admin trojan like Back Ori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trojan to IRC/usenet/chatrooms/mass-em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net for infected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7E7-8F99-4E35-BF01-96DA81F658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Get PC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88120" cy="54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C4E-7F2D-4EE7-A3CC-87FF9C36269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Keylogger/Redir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305240" cy="38102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670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6C2-ED2E-4AC7-9A61-1027C3A4B369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[CONTEXT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w packets from sni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FBB-029E-4295-8D43-EF060C2543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Find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303120" y="1600200"/>
            <a:ext cx="4046760" cy="50292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95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542-979E-44D9-98D7-5D0A6BF699C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Read Pass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1907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8765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-site cached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up log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lo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niff network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64F-E166-4A42-B083-BF7F85B77B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Tracking Mobile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477120" cy="449568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7009920" y="1904760"/>
            <a:ext cx="21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tact hacker every time user logs in; Allows hacker to find mobile note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094-0DCD-4300-9310-6B14217129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creen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control over mouse and keyboard to insert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when user steps away from des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oad further programs to system and run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1EF-12E9-4FB4-8C89-2B74504CFF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estimate that there are at least 10,000 hackers who play with these troj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BCC-AEE8-4FB1-A103-8C9A6F99B1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13 Trapping the hac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eciphering persistent s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 sniffer to capture the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etcat to accept the TCP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AT to shunt to honeypo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439-DCDC-4F7E-A9D0-7519A3427F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people found trojans in their networ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15B-162D-48F7-82BA-0940C7F963C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IC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MP is not a transpor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rojans/rootkits can car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break in directly with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M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-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hackers can reset som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irewalls map type/code to src/ds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saves on log format; they aren’t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4DF-7D13-4307-ABD9-C3CC229ACD0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0 Echo Re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83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844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523880" y="270036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2982960"/>
            <a:ext cx="6094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219320" y="357840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19320" y="408924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19320" y="240048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71800" y="556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s often accept ping re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154560" y="4611600"/>
            <a:ext cx="253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ends ping reply with command in data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0" y="17524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1523880" y="3352680"/>
            <a:ext cx="4572000" cy="15242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3520" y="472428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compromised with DDoS tools like Trin00/TF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85800" y="32767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905120" y="1828440"/>
            <a:ext cx="2666880" cy="12193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905120" y="1905120"/>
            <a:ext cx="2666880" cy="121896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905120" y="1980720"/>
            <a:ext cx="2666880" cy="12193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905120" y="2057040"/>
            <a:ext cx="2666880" cy="12193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2895480" y="3657240"/>
            <a:ext cx="6098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43600" y="1447920"/>
            <a:ext cx="253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Victim is flooded from this and other DDoS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B79-7A92-427D-928A-F3520DE35A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3 Destination Unreach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copy of the original packet that went in the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s don’t log it; so you should probably use a sniffer if you see these on an ongoing basis and need to figure out what they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491-B8D0-49C4-8270-18834A03B6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iza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 broken down into packets. A firewall log entry represents a single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886200"/>
            <a:ext cx="7772400" cy="228600"/>
          </a:xfrm>
          <a:prstGeom prst="rightArrow">
            <a:avLst>
              <a:gd name="adj1" fmla="val 50000"/>
              <a:gd name="adj2" fmla="val 1103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724280"/>
            <a:ext cx="7772400" cy="228600"/>
          </a:xfrm>
          <a:prstGeom prst="rightArrow">
            <a:avLst>
              <a:gd name="adj1" fmla="val 50000"/>
              <a:gd name="adj2" fmla="val 1103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" y="3544920"/>
            <a:ext cx="57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 to us as a smooth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1840" y="426708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wire, it is a stream of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80720" y="48769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4100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8769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666880" y="4876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876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864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922-E39C-47C3-92C0-D296FCF26D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3 code 3 Port Unreach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y UDP s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respons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Window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route when it reaches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DDF-C70E-4DD9-B512-460CCF46B1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3 code 4 Frag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path MTU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better handled at TCP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DF on all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uters must fragment, informs TCP to lower its packe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nternal links have small packet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e ICMP you need to al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E80-6D96-4FF2-8F18-20902E8565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8 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ng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te normal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g sweeps heavily used to map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often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niffer or IDS to track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70E-974F-4CDA-A2E8-14F29F2A23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 flipH="1">
            <a:off x="949320" y="35672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 Source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981080" y="1500120"/>
            <a:ext cx="4775760" cy="4442040"/>
            <a:chOff x="1981080" y="1500120"/>
            <a:chExt cx="4775760" cy="4442040"/>
          </a:xfrm>
        </p:grpSpPr>
        <p:sp>
          <p:nvSpPr>
            <p:cNvPr id="875" name=""/>
            <p:cNvSpPr/>
            <p:nvPr/>
          </p:nvSpPr>
          <p:spPr>
            <a:xfrm>
              <a:off x="4214880" y="1593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45400" y="2142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2404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46680" y="414576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9124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3652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24440" y="388944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8108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39640" y="2292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5240" y="1500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67320" y="2385720"/>
              <a:ext cx="3412800" cy="311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478560" y="490860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644400" y="2543040"/>
            <a:ext cx="609480" cy="2057400"/>
            <a:chOff x="644400" y="2543040"/>
            <a:chExt cx="609480" cy="2057400"/>
          </a:xfrm>
        </p:grpSpPr>
        <p:sp>
          <p:nvSpPr>
            <p:cNvPr id="888" name=""/>
            <p:cNvSpPr/>
            <p:nvPr/>
          </p:nvSpPr>
          <p:spPr>
            <a:xfrm>
              <a:off x="948960" y="284292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4400" y="31255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400" y="3720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4400" y="42321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4400" y="25430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240600" y="4059360"/>
            <a:ext cx="474480" cy="387360"/>
            <a:chOff x="6240600" y="4059360"/>
            <a:chExt cx="474480" cy="387360"/>
          </a:xfrm>
        </p:grpSpPr>
        <p:sp>
          <p:nvSpPr>
            <p:cNvPr id="894" name=""/>
            <p:cNvSpPr/>
            <p:nvPr/>
          </p:nvSpPr>
          <p:spPr>
            <a:xfrm>
              <a:off x="6240600" y="405936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16200" y="4109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312560" y="3376440"/>
            <a:ext cx="648000" cy="380880"/>
            <a:chOff x="1312560" y="3376440"/>
            <a:chExt cx="648000" cy="380880"/>
          </a:xfrm>
        </p:grpSpPr>
        <p:sp>
          <p:nvSpPr>
            <p:cNvPr id="897" name=""/>
            <p:cNvSpPr/>
            <p:nvPr/>
          </p:nvSpPr>
          <p:spPr>
            <a:xfrm rot="16200000">
              <a:off x="1612080" y="340884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5400000">
              <a:off x="1279440" y="340884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660760" y="3235320"/>
            <a:ext cx="474480" cy="387360"/>
            <a:chOff x="2660760" y="3235320"/>
            <a:chExt cx="474480" cy="387360"/>
          </a:xfrm>
        </p:grpSpPr>
        <p:sp>
          <p:nvSpPr>
            <p:cNvPr id="900" name=""/>
            <p:cNvSpPr/>
            <p:nvPr/>
          </p:nvSpPr>
          <p:spPr>
            <a:xfrm>
              <a:off x="2660760" y="323532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36360" y="328536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419640" y="2803680"/>
            <a:ext cx="474480" cy="387360"/>
            <a:chOff x="3419640" y="2803680"/>
            <a:chExt cx="474480" cy="387360"/>
          </a:xfrm>
        </p:grpSpPr>
        <p:sp>
          <p:nvSpPr>
            <p:cNvPr id="903" name=""/>
            <p:cNvSpPr/>
            <p:nvPr/>
          </p:nvSpPr>
          <p:spPr>
            <a:xfrm>
              <a:off x="3419640" y="280368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95240" y="285372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495600" y="3816360"/>
            <a:ext cx="474840" cy="387360"/>
            <a:chOff x="3495600" y="3816360"/>
            <a:chExt cx="474840" cy="387360"/>
          </a:xfrm>
        </p:grpSpPr>
        <p:sp>
          <p:nvSpPr>
            <p:cNvPr id="906" name=""/>
            <p:cNvSpPr/>
            <p:nvPr/>
          </p:nvSpPr>
          <p:spPr>
            <a:xfrm>
              <a:off x="3495600" y="381636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1560" y="3866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568760" y="4521240"/>
            <a:ext cx="474840" cy="387360"/>
            <a:chOff x="4568760" y="4521240"/>
            <a:chExt cx="474840" cy="387360"/>
          </a:xfrm>
        </p:grpSpPr>
        <p:sp>
          <p:nvSpPr>
            <p:cNvPr id="909" name=""/>
            <p:cNvSpPr/>
            <p:nvPr/>
          </p:nvSpPr>
          <p:spPr>
            <a:xfrm>
              <a:off x="4568760" y="452124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44720" y="457128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173560" y="3597120"/>
            <a:ext cx="474840" cy="387360"/>
            <a:chOff x="5173560" y="3597120"/>
            <a:chExt cx="474840" cy="387360"/>
          </a:xfrm>
        </p:grpSpPr>
        <p:sp>
          <p:nvSpPr>
            <p:cNvPr id="912" name=""/>
            <p:cNvSpPr/>
            <p:nvPr/>
          </p:nvSpPr>
          <p:spPr>
            <a:xfrm>
              <a:off x="5173560" y="3597120"/>
              <a:ext cx="474840" cy="387360"/>
            </a:xfrm>
            <a:prstGeom prst="diamond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49880" y="36482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 flipH="1">
            <a:off x="2000160" y="3433680"/>
            <a:ext cx="67968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073320" y="3092400"/>
            <a:ext cx="41760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3809880" y="3123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638320" y="38095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4723920" y="3505320"/>
            <a:ext cx="60012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6578640" y="4441680"/>
            <a:ext cx="35712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214880" y="3286080"/>
            <a:ext cx="474480" cy="387360"/>
            <a:chOff x="4214880" y="3286080"/>
            <a:chExt cx="474480" cy="387360"/>
          </a:xfrm>
        </p:grpSpPr>
        <p:sp>
          <p:nvSpPr>
            <p:cNvPr id="921" name=""/>
            <p:cNvSpPr/>
            <p:nvPr/>
          </p:nvSpPr>
          <p:spPr>
            <a:xfrm>
              <a:off x="4214880" y="3286080"/>
              <a:ext cx="474480" cy="38736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90840" y="333720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051520" y="2703600"/>
            <a:ext cx="474480" cy="387360"/>
            <a:chOff x="5051520" y="2703600"/>
            <a:chExt cx="474480" cy="387360"/>
          </a:xfrm>
        </p:grpSpPr>
        <p:sp>
          <p:nvSpPr>
            <p:cNvPr id="924" name=""/>
            <p:cNvSpPr/>
            <p:nvPr/>
          </p:nvSpPr>
          <p:spPr>
            <a:xfrm>
              <a:off x="5051520" y="2703600"/>
              <a:ext cx="474480" cy="387360"/>
            </a:xfrm>
            <a:prstGeom prst="diamond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27480" y="27547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4052880" y="2316240"/>
            <a:ext cx="474840" cy="387360"/>
            <a:chOff x="4052880" y="2316240"/>
            <a:chExt cx="474840" cy="387360"/>
          </a:xfrm>
        </p:grpSpPr>
        <p:sp>
          <p:nvSpPr>
            <p:cNvPr id="927" name=""/>
            <p:cNvSpPr/>
            <p:nvPr/>
          </p:nvSpPr>
          <p:spPr>
            <a:xfrm>
              <a:off x="4052880" y="2316240"/>
              <a:ext cx="474840" cy="387360"/>
            </a:xfrm>
            <a:prstGeom prst="diamond">
              <a:avLst/>
            </a:prstGeom>
            <a:blipFill rotWithShape="0">
              <a:blip r:embed="rId4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129200" y="23673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2736720" y="4172040"/>
            <a:ext cx="474840" cy="387360"/>
            <a:chOff x="2736720" y="4172040"/>
            <a:chExt cx="474840" cy="387360"/>
          </a:xfrm>
        </p:grpSpPr>
        <p:sp>
          <p:nvSpPr>
            <p:cNvPr id="930" name=""/>
            <p:cNvSpPr/>
            <p:nvPr/>
          </p:nvSpPr>
          <p:spPr>
            <a:xfrm>
              <a:off x="2736720" y="4172040"/>
              <a:ext cx="474840" cy="387360"/>
            </a:xfrm>
            <a:prstGeom prst="diamond">
              <a:avLst/>
            </a:prstGeom>
            <a:blipFill rotWithShape="0">
              <a:blip r:embed="rId5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13040" y="42231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3414600" y="4714920"/>
            <a:ext cx="474840" cy="387360"/>
            <a:chOff x="3414600" y="4714920"/>
            <a:chExt cx="474840" cy="387360"/>
          </a:xfrm>
        </p:grpSpPr>
        <p:sp>
          <p:nvSpPr>
            <p:cNvPr id="933" name=""/>
            <p:cNvSpPr/>
            <p:nvPr/>
          </p:nvSpPr>
          <p:spPr>
            <a:xfrm>
              <a:off x="3414600" y="4714920"/>
              <a:ext cx="474840" cy="387360"/>
            </a:xfrm>
            <a:prstGeom prst="diamond">
              <a:avLst/>
            </a:prstGeom>
            <a:blipFill rotWithShape="0">
              <a:blip r:embed="rId6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90920" y="47660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527720" y="5189400"/>
            <a:ext cx="474480" cy="387360"/>
            <a:chOff x="4527720" y="5189400"/>
            <a:chExt cx="474480" cy="387360"/>
          </a:xfrm>
        </p:grpSpPr>
        <p:sp>
          <p:nvSpPr>
            <p:cNvPr id="936" name=""/>
            <p:cNvSpPr/>
            <p:nvPr/>
          </p:nvSpPr>
          <p:spPr>
            <a:xfrm>
              <a:off x="4527720" y="5189400"/>
              <a:ext cx="474480" cy="387360"/>
            </a:xfrm>
            <a:prstGeom prst="diamond">
              <a:avLst/>
            </a:prstGeom>
            <a:blipFill rotWithShape="0">
              <a:blip r:embed="rId7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52405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 flipH="1" flipV="1">
            <a:off x="1253880" y="3286080"/>
            <a:ext cx="2156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5440" y="4648320"/>
            <a:ext cx="348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pecifies route the packet should take by listing the routers along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144-DB07-4363-8FCD-9FA2FC3FF23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685800" y="19051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 Source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981080" y="1500120"/>
            <a:ext cx="4775760" cy="4442040"/>
            <a:chOff x="1981080" y="1500120"/>
            <a:chExt cx="4775760" cy="4442040"/>
          </a:xfrm>
        </p:grpSpPr>
        <p:sp>
          <p:nvSpPr>
            <p:cNvPr id="943" name=""/>
            <p:cNvSpPr/>
            <p:nvPr/>
          </p:nvSpPr>
          <p:spPr>
            <a:xfrm>
              <a:off x="4214880" y="1593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45400" y="2142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2404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46680" y="414576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9124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3652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24440" y="388944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8108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39640" y="2292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35240" y="1500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767320" y="2385720"/>
              <a:ext cx="3412800" cy="311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6478560" y="490860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447920" y="3733920"/>
            <a:ext cx="685440" cy="533160"/>
            <a:chOff x="1447920" y="3733920"/>
            <a:chExt cx="685440" cy="533160"/>
          </a:xfrm>
        </p:grpSpPr>
        <p:sp>
          <p:nvSpPr>
            <p:cNvPr id="956" name=""/>
            <p:cNvSpPr/>
            <p:nvPr/>
          </p:nvSpPr>
          <p:spPr>
            <a:xfrm>
              <a:off x="1447920" y="3733920"/>
              <a:ext cx="685440" cy="5331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557360" y="3802680"/>
              <a:ext cx="464400" cy="3942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 flipV="1">
            <a:off x="2514600" y="457164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90720" y="22096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.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90720" y="3048120"/>
            <a:ext cx="609480" cy="53316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8544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854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8544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9240" y="358128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.23.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3320" y="289548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130840" y="41148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.23.45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94240" y="17938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10.x.x.x is not reachable from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55627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CR A Extended"/>
              </a:rPr>
              <a:t>Send to 10.1.2.3 through 63.23.45.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038480" y="4191120"/>
            <a:ext cx="685440" cy="533160"/>
            <a:chOff x="4038480" y="4191120"/>
            <a:chExt cx="685440" cy="533160"/>
          </a:xfrm>
        </p:grpSpPr>
        <p:sp>
          <p:nvSpPr>
            <p:cNvPr id="970" name=""/>
            <p:cNvSpPr/>
            <p:nvPr/>
          </p:nvSpPr>
          <p:spPr>
            <a:xfrm>
              <a:off x="4038480" y="4191120"/>
              <a:ext cx="685440" cy="5331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47920" y="4259880"/>
              <a:ext cx="464400" cy="3942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28600" y="518148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routers do not know how to route to 10.x.x.x, but they do know how to get to 63.x.x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2514600"/>
            <a:ext cx="6096240" cy="2666880"/>
          </a:xfrm>
          <a:custGeom>
            <a:avLst/>
            <a:gdLst/>
            <a:ahLst/>
            <a:rect l="l" t="t" r="r" b="b"/>
            <a:pathLst>
              <a:path w="3840" h="1680">
                <a:moveTo>
                  <a:pt x="3840" y="1680"/>
                </a:moveTo>
                <a:lnTo>
                  <a:pt x="864" y="960"/>
                </a:lnTo>
                <a:lnTo>
                  <a:pt x="0" y="912"/>
                </a:lnTo>
                <a:lnTo>
                  <a:pt x="0" y="48"/>
                </a:lnTo>
                <a:lnTo>
                  <a:pt x="384" y="0"/>
                </a:ln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7FC-6E8A-423B-88A6-C67E5FDB9C26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x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5.255.255.255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9.254.x.x are Windows failed DH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7.x.x.x are “localhost”, should never appear on th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.0.2.x are for “exampl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.0.0 sometimes comes from hac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689-8B2F-42E1-964A-9BAAA27AEB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x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x.x.x, 192.168.x.x.x, 172.16.x.x-172.31.x.x are “local”: internet routers refuse to rou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ever see this as a destination coming in from the Internet, unless you are on a VLAN like DSL or cable-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ometimes see these as source addresses when doing a trace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9A9-AF83-4646-8561-C7EED74935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x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x.x.x is from a cable mo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9.x.x.x, 63.x.x.x, 216.x.x.x are newer CIDR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a lot from these ranges just for norm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059-603A-4EC0-A18B-5EC0F6FBBB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9 Decoy 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983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99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523880" y="270036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19320" y="298296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57840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408924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19320" y="240048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560" y="4611600"/>
            <a:ext cx="253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poofs own address to hide among many other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17524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3429000" y="2057400"/>
            <a:ext cx="1143000" cy="45720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33520" y="472428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ee replies back from victim back to many of you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3352680" y="1828800"/>
            <a:ext cx="1219320" cy="38088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800600" y="2209320"/>
            <a:ext cx="228600" cy="8384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410080" y="2285640"/>
            <a:ext cx="0" cy="7621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43600" y="1447920"/>
            <a:ext cx="253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Victim sees requests from all over net and replies to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267080" y="2209320"/>
            <a:ext cx="457200" cy="7621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5638680" y="2209320"/>
            <a:ext cx="457200" cy="17528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905120" y="1905120"/>
            <a:ext cx="266688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828800" y="2133360"/>
            <a:ext cx="2743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343400" y="2209320"/>
            <a:ext cx="45720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876920" y="2209320"/>
            <a:ext cx="22860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48640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5715000" y="2209320"/>
            <a:ext cx="457200" cy="175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8A8-3412-438A-9B88-5B4C8096171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2 Strobe/scan/n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102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5764320" y="392580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103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1038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59400" y="464508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scan 192.0.2.2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 flipV="1">
            <a:off x="1828440" y="3925800"/>
            <a:ext cx="3630600" cy="71928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9040" y="5299200"/>
            <a:ext cx="67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for some well known ports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2 23 25 53 79 110 111 143 1114 2766 6000 313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D28-F233-4525-9BE2-70FDBA46420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is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nly get a small glimpse into 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o act as detectives reconstructing the crime from a limited number of c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on’t always b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0BD-3332-402B-A04E-6EAA5ECCE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0A8-DA7C-4C75-9696-7F83B9D78B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log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1988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9EF-8DDA-4FBF-91CF-46F0C76AD20D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H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numbers are usually base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2345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x is base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234567890abc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4-bit number has 16-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-bit byte has two 4-bit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9D8-BD75-4CEA-B37C-0178729B41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57200" y="19051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1  2  3  4  5  6  7  8  9 10 11 12 13 14 15 16 17 18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7200" y="23623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1  2  3  4  5  6  7  8  9  a  b  c  d  e  f 10 11 12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3200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16840" y="3699000"/>
            <a:ext cx="47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mother calculates her age in h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= 48 (I.e. 3*16)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o 37 (hex)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6CE-0F6C-4766-9801-C42D9017C5DC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880" y="190512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X...@..y2.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N.U....6D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 $......:...r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  00 00 00 00 00 00 20 43 4B 41 41 41 41 41 41 41 .......CK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41 41 41 41 41 41 41 41 41 41 41 41 41 41 41 41 AAAAAAAAA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0  41 41 41 41 41 41 41 00 00 21 00 01             AAAAAAA..!.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62520" y="2209680"/>
            <a:ext cx="1371600" cy="304920"/>
          </a:xfrm>
          <a:prstGeom prst="ellipse">
            <a:avLst/>
          </a:prstGeom>
          <a:noFill/>
          <a:ln cap="rnd" w="540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98560" y="4384800"/>
            <a:ext cx="58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re pretty easy to read. Above, the 4 bytes 0a 0a 00 09 you can read as 10.10.0.9 (it’s the location of the IP add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0C0-6BF5-47B4-B798-34894D5DD14C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read from right to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 is hundred-twenty-three, not three-hundred-one (3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can read numbers in either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 byte-by-byte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B28-64C4-45EE-BB0A-A6596748C12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0880" y="190512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X...@..y2.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N.U....6D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 $......:...r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  00 00 00 00 00 00 20 43 4B 41 41 41 41 41 41 41 .......CK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41 41 41 41 41 41 41 41 41 41 41 41 41 41 41 41 AAAAAAAAA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0  41 41 41 41 41 41 41 00 00 21 00 01             AAAAAAA..!.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371600" y="2209680"/>
            <a:ext cx="990720" cy="381240"/>
          </a:xfrm>
          <a:prstGeom prst="ellipse">
            <a:avLst/>
          </a:prstGeom>
          <a:noFill/>
          <a:ln cap="rnd" w="540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69960" y="407988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 55 = 4*256 + 5*16 + 5 = 11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440" y="487692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 55 = 5*4096 + 5*256 + 0*16 + 4 = 216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D5E-FACA-4614-BCDA-C16EF763EE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I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0880" y="1752480"/>
            <a:ext cx="8153640" cy="1371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13 gandalf kernel: Packet log: input DENY eth1 PROTO=17 10.10.0.9:137 209.31.36.212:137 L=78 S=0x00 I=1365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23 gandalf kernel: Packet log: input DENY eth1 PROTO=17 10.10.0.9:137 209.31.36.212:137 L=78 S=0x00 I=1621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17680" y="3394080"/>
            <a:ext cx="74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numbers increase by 256 eac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x sequenc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6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dicates the packets were sent by a Windows machine, which bytes swaps many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3ED-8881-411B-B769-B5D91A79BF2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TL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TL field is decremented by 1 by each router (occasionally by more on slow lin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 start with 255, 128, or 64. Thus, a TL of 110 indicates the packet came from 18 hops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wise, bizarre TTLs indicate possible spoof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C16-33C6-4819-8E94-68C84B941AF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AE0-AD89-43D2-8DAA-CEBE1CD1107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ewall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57600" y="2590560"/>
            <a:ext cx="1751400" cy="989640"/>
            <a:chOff x="3657600" y="2590560"/>
            <a:chExt cx="1751400" cy="989640"/>
          </a:xfrm>
        </p:grpSpPr>
        <p:sp>
          <p:nvSpPr>
            <p:cNvPr id="85" name=""/>
            <p:cNvSpPr/>
            <p:nvPr/>
          </p:nvSpPr>
          <p:spPr>
            <a:xfrm rot="16200000">
              <a:off x="4486680" y="2657880"/>
              <a:ext cx="989640" cy="854640"/>
            </a:xfrm>
            <a:custGeom>
              <a:avLst/>
              <a:gdLst>
                <a:gd name="textAreaLeft" fmla="*/ 217440 w 989640"/>
                <a:gd name="textAreaRight" fmla="*/ 772200 w 989640"/>
                <a:gd name="textAreaTop" fmla="*/ 187920 h 854640"/>
                <a:gd name="textAreaBottom" fmla="*/ 666720 h 85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3589560" y="2658240"/>
              <a:ext cx="989640" cy="853920"/>
            </a:xfrm>
            <a:custGeom>
              <a:avLst/>
              <a:gdLst>
                <a:gd name="textAreaLeft" fmla="*/ 217440 w 989640"/>
                <a:gd name="textAreaRight" fmla="*/ 772200 w 989640"/>
                <a:gd name="textAreaTop" fmla="*/ 187560 h 853920"/>
                <a:gd name="textAreaBottom" fmla="*/ 66636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905120" y="3200400"/>
            <a:ext cx="5181480" cy="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04760" y="2971800"/>
            <a:ext cx="5181480" cy="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8108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432"/>
                </a:moveTo>
                <a:lnTo>
                  <a:pt x="0" y="432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1905120" y="350496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432"/>
                </a:moveTo>
                <a:lnTo>
                  <a:pt x="0" y="432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495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that pass rules are allowed in, packets that don’t match the rules are rejected. We generally are interested in looking at the reject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A04-D6F8-4E11-8874-7820BB2F98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[FIN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4DC-2837-4E39-96B0-951DC792DA2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ime, go back and discuss ones that were skippe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SM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mmes hunting for you, missing 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 Linux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3/500 SSL/Ip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9 NN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Home scans their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E4F-8A67-47C0-B551-0E1659CF288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pcANYWHERE, heavily scanned for by hackers but also done inadver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7/513 xdmcp/r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UNIX broad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BF2-7CCD-415B-8EAF-D0AEE4D0886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7-L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90720" y="1676520"/>
            <a:ext cx="1600200" cy="3657600"/>
            <a:chOff x="990720" y="1676520"/>
            <a:chExt cx="1600200" cy="3657600"/>
          </a:xfrm>
        </p:grpSpPr>
        <p:sp>
          <p:nvSpPr>
            <p:cNvPr id="94" name=""/>
            <p:cNvSpPr/>
            <p:nvPr/>
          </p:nvSpPr>
          <p:spPr>
            <a:xfrm>
              <a:off x="990720" y="16765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0720" y="1676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221004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27432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32767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90720" y="381024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43434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720" y="48769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90720" y="3276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0720" y="38102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43434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210040"/>
              <a:ext cx="160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808080"/>
                  </a:solidFill>
                  <a:latin typeface="Arial"/>
                </a:rPr>
                <a:t>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2743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16640" y="3809880"/>
            <a:ext cx="39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betwe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5200" y="32767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betwee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7360" y="43434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to the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7720" y="48769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to th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7720" y="16765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A76-0C16-4276-BA56-E7B2929358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21:55:09Z</dcterms:created>
  <dc:creator>RobertGraham.com</dc:creator>
  <dc:description/>
  <dc:language>en-US</dc:language>
  <cp:lastModifiedBy>Joe Farinella</cp:lastModifiedBy>
  <dcterms:modified xsi:type="dcterms:W3CDTF">2000-06-26T05:18:44Z</dcterms:modified>
  <cp:revision>35</cp:revision>
  <dc:subject/>
  <dc:title>FIRST2k - Firewall Forensics</dc:title>
</cp:coreProperties>
</file>